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1FC-1ECE-4404-B0AF-FFB166EB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B86-33DE-4231-9684-2D71CCCB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812-2B64-4925-B68F-6676FFAE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CC5-54F6-4AB5-B628-F044F89B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EEF-8372-4741-B6A5-61AF1831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CF5-8EBD-45B2-8E3E-400C02D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B3F-ECB9-472E-8C91-31583BB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CCB-D51F-456E-AC0D-C8CE6032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8A6-D583-4BA1-9DD5-FDF0C85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366-DCEA-4494-9A80-9D2D391E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AF8-7EC4-4A32-9267-9DC07E5A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7B8-26D8-490B-9B1F-9B18F7F5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456-BD98-4F17-B454-4CFF92521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2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8.jpeg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3;&#1072;&#1090;&#1086;&#1085;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2.xm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ravels.co.ua/rus/greece/athens/index.htm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5;&#1085;&#1072;" TargetMode="External"/><Relationship Id="rId2" Type="http://schemas.openxmlformats.org/officeDocument/2006/relationships/hyperlink" Target="http://ru.wikipedia.org/wiki/&#1055;&#1072;&#1074;&#1089;&#1072;&#1085;&#1080;&#1081;_(&#1075;&#1077;&#1086;&#1075;&#1088;&#1072;&#1092;)" TargetMode="External"/><Relationship Id="rId3" Type="http://schemas.openxmlformats.org/officeDocument/2006/relationships/hyperlink" Target="http://ru.wikipedia.org/wiki/&#1053;&#1080;&#1082;&#1072;_(&#1084;&#1080;&#1092;&#1086;&#1083;&#1086;&#1075;&#1080;&#1103;)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392904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857160" y="164304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городе богини Афи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0040" y="214200"/>
            <a:ext cx="217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8001000" y="357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Файл:Areopagus from the Acropolis.jpg"/>
          <p:cNvPicPr/>
          <p:nvPr/>
        </p:nvPicPr>
        <p:blipFill>
          <a:blip r:embed="rId3"/>
          <a:stretch/>
        </p:blipFill>
        <p:spPr>
          <a:xfrm>
            <a:off x="1785960" y="2714760"/>
            <a:ext cx="5353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643120" y="35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йон Кера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159_ancient-agora-4"/>
          <p:cNvPicPr/>
          <p:nvPr/>
        </p:nvPicPr>
        <p:blipFill>
          <a:blip r:embed="rId1"/>
          <a:stretch/>
        </p:blipFill>
        <p:spPr>
          <a:xfrm>
            <a:off x="2214720" y="1000080"/>
            <a:ext cx="5143320" cy="3429000"/>
          </a:xfrm>
          <a:prstGeom prst="rect">
            <a:avLst/>
          </a:prstGeom>
          <a:ln w="0">
            <a:noFill/>
          </a:ln>
        </p:spPr>
      </p:pic>
      <p:sp>
        <p:nvSpPr>
          <p:cNvPr id="82" name="Овал 5"/>
          <p:cNvSpPr/>
          <p:nvPr/>
        </p:nvSpPr>
        <p:spPr>
          <a:xfrm>
            <a:off x="214200" y="3714840"/>
            <a:ext cx="3357720" cy="23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Я иду по району Кера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6"/>
          <p:cNvSpPr/>
          <p:nvPr/>
        </p:nvSpPr>
        <p:spPr>
          <a:xfrm>
            <a:off x="5500800" y="4286160"/>
            <a:ext cx="3000240" cy="1557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Я - м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85840" y="5000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7358040" y="35712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amfora"/>
          <p:cNvPicPr/>
          <p:nvPr/>
        </p:nvPicPr>
        <p:blipFill>
          <a:blip r:embed="rId1"/>
          <a:stretch/>
        </p:blipFill>
        <p:spPr>
          <a:xfrm>
            <a:off x="214200" y="1714680"/>
            <a:ext cx="2362320" cy="312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gidriya"/>
          <p:cNvPicPr/>
          <p:nvPr/>
        </p:nvPicPr>
        <p:blipFill>
          <a:blip r:embed="rId2"/>
          <a:stretch/>
        </p:blipFill>
        <p:spPr>
          <a:xfrm>
            <a:off x="2428920" y="3857760"/>
            <a:ext cx="285264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kanfar"/>
          <p:cNvPicPr/>
          <p:nvPr/>
        </p:nvPicPr>
        <p:blipFill>
          <a:blip r:embed="rId3"/>
          <a:stretch/>
        </p:blipFill>
        <p:spPr>
          <a:xfrm>
            <a:off x="6643800" y="1500120"/>
            <a:ext cx="218124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kiaf"/>
          <p:cNvPicPr/>
          <p:nvPr/>
        </p:nvPicPr>
        <p:blipFill>
          <a:blip r:embed="rId4"/>
          <a:stretch/>
        </p:blipFill>
        <p:spPr>
          <a:xfrm>
            <a:off x="5857920" y="3571920"/>
            <a:ext cx="255096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214200" y="28584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тера расписывали вазы, изображая на них многие события из жизни гре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что бы вы изобразили на вазе, будь вы масте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история античности"/>
          <p:cNvPicPr/>
          <p:nvPr/>
        </p:nvPicPr>
        <p:blipFill>
          <a:blip r:embed="rId5"/>
          <a:stretch/>
        </p:blipFill>
        <p:spPr>
          <a:xfrm>
            <a:off x="3429000" y="1571760"/>
            <a:ext cx="2009880" cy="1946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9"/>
          <p:cNvSpPr/>
          <p:nvPr/>
        </p:nvSpPr>
        <p:spPr>
          <a:xfrm>
            <a:off x="7500960" y="714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17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14200" y="214200"/>
            <a:ext cx="884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попадаю в ремесленную мастерскую.  Из простого куска глины мастер лепит  вазу. Он использует  две техники. Какие это техники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Svetlana\Pictures\536px-Exekias_Dionysos_Staatliche_Antikensammlungen_2044.jpg"/>
          <p:cNvPicPr/>
          <p:nvPr/>
        </p:nvPicPr>
        <p:blipFill>
          <a:blip r:embed="rId1"/>
          <a:stretch/>
        </p:blipFill>
        <p:spPr>
          <a:xfrm>
            <a:off x="6215040" y="1857240"/>
            <a:ext cx="2357640" cy="250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upload.wikimedia.org/wikipedia/commons/thumb/1/15/Athena_Herakles_Staatliche_Antikensammlungen_2301_A.jpg/220px-Athena_Herakles_Staatliche_Antikensammlungen_2301_A.jpg"/>
          <p:cNvPicPr/>
          <p:nvPr/>
        </p:nvPicPr>
        <p:blipFill>
          <a:blip r:embed="rId2"/>
          <a:stretch/>
        </p:blipFill>
        <p:spPr>
          <a:xfrm>
            <a:off x="642960" y="1785960"/>
            <a:ext cx="3714840" cy="235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upload.wikimedia.org/wikipedia/commons/thumb/d/d6/Altes_Museum_Berlin_-_Antikensammlung39.jpg/220px-Altes_Museum_Berlin_-_Antikensammlung39.jpg"/>
          <p:cNvPicPr/>
          <p:nvPr/>
        </p:nvPicPr>
        <p:blipFill>
          <a:blip r:embed="rId3"/>
          <a:stretch/>
        </p:blipFill>
        <p:spPr>
          <a:xfrm>
            <a:off x="2857680" y="428616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7858080" y="1214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17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3429000" y="71424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г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14240" y="28584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14200" y="25002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Я - рассказ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7072200" y="26431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Я -  о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714840" y="5500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Я - зн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thensagora"/>
          <p:cNvPicPr/>
          <p:nvPr/>
        </p:nvPicPr>
        <p:blipFill>
          <a:blip r:embed="rId4"/>
          <a:stretch/>
        </p:blipFill>
        <p:spPr>
          <a:xfrm>
            <a:off x="1990800" y="1571760"/>
            <a:ext cx="5143320" cy="3214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7858080" y="214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4"/>
          <p:cNvSpPr/>
          <p:nvPr/>
        </p:nvSpPr>
        <p:spPr>
          <a:xfrm>
            <a:off x="285840" y="214200"/>
            <a:ext cx="74293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кажите о том, что происходило на Агоре, используя текст с пропусками. По утрам здесь было….Торговцы зазывали покупателей криками:…В одном месте покупали….., в другом -… Особое место было отведено…Были и развлечения:.. Женщины на рынок…. После покупок мужчины отдыхали в тени….Также на Агоре находилис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00040" y="3071880"/>
            <a:ext cx="72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бъясните понятия: Агора, Народное собрание, гражданин, раб, смотрители ры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85840" y="442908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едставьте, что вы присутствуете на Народном собрании. Какие вопросы общественной жизни Афин вы бы предложили обсуд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8072280" y="2142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214200" y="285840"/>
            <a:ext cx="7000920" cy="27144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конечная звезда 8"/>
          <p:cNvSpPr/>
          <p:nvPr/>
        </p:nvSpPr>
        <p:spPr>
          <a:xfrm>
            <a:off x="7643880" y="1071720"/>
            <a:ext cx="571320" cy="500040"/>
          </a:xfrm>
          <a:custGeom>
            <a:avLst/>
            <a:gdLst>
              <a:gd name="textAreaLeft" fmla="*/ 176400 w 571320"/>
              <a:gd name="textAreaRight" fmla="*/ 394920 w 571320"/>
              <a:gd name="textAreaTop" fmla="*/ 190800 h 500040"/>
              <a:gd name="textAreaBottom" fmla="*/ 381960 h 500040"/>
            </a:gdLst>
            <a:ahLst/>
            <a:rect l="textAreaLeft" t="textAreaTop" r="textAreaRight" b="textAreaBottom"/>
            <a:pathLst>
              <a:path w="571500" h="500062">
                <a:moveTo>
                  <a:pt x="1" y="191006"/>
                </a:moveTo>
                <a:lnTo>
                  <a:pt x="218295" y="191008"/>
                </a:lnTo>
                <a:lnTo>
                  <a:pt x="285750" y="0"/>
                </a:lnTo>
                <a:lnTo>
                  <a:pt x="353205" y="191008"/>
                </a:lnTo>
                <a:lnTo>
                  <a:pt x="571499" y="191006"/>
                </a:lnTo>
                <a:lnTo>
                  <a:pt x="394895" y="309054"/>
                </a:lnTo>
                <a:lnTo>
                  <a:pt x="462353" y="500060"/>
                </a:lnTo>
                <a:lnTo>
                  <a:pt x="285750" y="382011"/>
                </a:lnTo>
                <a:lnTo>
                  <a:pt x="109147" y="500060"/>
                </a:lnTo>
                <a:lnTo>
                  <a:pt x="176605" y="30905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-конечная звезда 10"/>
          <p:cNvSpPr/>
          <p:nvPr/>
        </p:nvSpPr>
        <p:spPr>
          <a:xfrm>
            <a:off x="7643880" y="2000160"/>
            <a:ext cx="642960" cy="571680"/>
          </a:xfrm>
          <a:custGeom>
            <a:avLst/>
            <a:gdLst>
              <a:gd name="textAreaLeft" fmla="*/ 198720 w 642960"/>
              <a:gd name="textAreaRight" fmla="*/ 444240 w 642960"/>
              <a:gd name="textAreaTop" fmla="*/ 218160 h 571680"/>
              <a:gd name="textAreaBottom" fmla="*/ 436680 h 571680"/>
            </a:gdLst>
            <a:ahLst/>
            <a:rect l="textAreaLeft" t="textAreaTop" r="textAreaRight" b="textAreaBottom"/>
            <a:pathLst>
              <a:path w="642937" h="571500">
                <a:moveTo>
                  <a:pt x="1" y="218293"/>
                </a:moveTo>
                <a:lnTo>
                  <a:pt x="245581" y="218295"/>
                </a:lnTo>
                <a:lnTo>
                  <a:pt x="321469" y="0"/>
                </a:lnTo>
                <a:lnTo>
                  <a:pt x="397356" y="218295"/>
                </a:lnTo>
                <a:lnTo>
                  <a:pt x="642936" y="218293"/>
                </a:lnTo>
                <a:lnTo>
                  <a:pt x="444256" y="353205"/>
                </a:lnTo>
                <a:lnTo>
                  <a:pt x="520147" y="571498"/>
                </a:lnTo>
                <a:lnTo>
                  <a:pt x="321469" y="436584"/>
                </a:lnTo>
                <a:lnTo>
                  <a:pt x="122790" y="571498"/>
                </a:lnTo>
                <a:lnTo>
                  <a:pt x="198681" y="35320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938880" y="5716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143160" y="785880"/>
            <a:ext cx="265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р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athens2"/>
          <p:cNvPicPr/>
          <p:nvPr/>
        </p:nvPicPr>
        <p:blipFill>
          <a:blip r:embed="rId1"/>
          <a:stretch/>
        </p:blipFill>
        <p:spPr>
          <a:xfrm>
            <a:off x="2071800" y="1643040"/>
            <a:ext cx="4929120" cy="35719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7"/>
          <p:cNvSpPr/>
          <p:nvPr/>
        </p:nvSpPr>
        <p:spPr>
          <a:xfrm>
            <a:off x="652320" y="2214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рой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357120" y="3857760"/>
            <a:ext cx="20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у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428760" y="557208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- 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3720960" y="5643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- экскурсо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7362720" y="571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14200" y="35712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рисуйте  герб Афин, используя знания, которые вы получили ранее то теме «Геральд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t1.gstatic.com/images?q=tbn:ANd9GcTwNEwzmJ_mQQoyu5-D36iCpQiNXkvDd-OJvbatW3D2HxKfnR3d"/>
          <p:cNvPicPr/>
          <p:nvPr/>
        </p:nvPicPr>
        <p:blipFill>
          <a:blip r:embed="rId1"/>
          <a:stretch/>
        </p:blipFill>
        <p:spPr>
          <a:xfrm>
            <a:off x="5767560" y="1500120"/>
            <a:ext cx="167148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2.gstatic.com/images?q=tbn:ANd9GcRa_CT8ZK7iZqOawePq52ZX73IQPEKfWXlZ3_X5MAcL2xK-FrTD"/>
          <p:cNvPicPr/>
          <p:nvPr/>
        </p:nvPicPr>
        <p:blipFill>
          <a:blip r:embed="rId2"/>
          <a:stretch/>
        </p:blipFill>
        <p:spPr>
          <a:xfrm>
            <a:off x="428760" y="2000160"/>
            <a:ext cx="3143160" cy="4595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8001000" y="1285920"/>
            <a:ext cx="9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Афины"/>
          <p:cNvPicPr/>
          <p:nvPr/>
        </p:nvPicPr>
        <p:blipFill>
          <a:blip r:embed="rId3"/>
          <a:stretch/>
        </p:blipFill>
        <p:spPr>
          <a:xfrm>
            <a:off x="4714920" y="3214800"/>
            <a:ext cx="3071880" cy="30718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8"/>
          <p:cNvSpPr/>
          <p:nvPr/>
        </p:nvSpPr>
        <p:spPr>
          <a:xfrm>
            <a:off x="4572000" y="3000240"/>
            <a:ext cx="3643200" cy="3500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hotheadlines.ru/images/greece/acropolis_greece_athens_5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6"/>
          <p:cNvSpPr/>
          <p:nvPr/>
        </p:nvSpPr>
        <p:spPr>
          <a:xfrm>
            <a:off x="4929120" y="2286000"/>
            <a:ext cx="42876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8"/>
          <p:cNvSpPr/>
          <p:nvPr/>
        </p:nvSpPr>
        <p:spPr>
          <a:xfrm>
            <a:off x="6286680" y="4429080"/>
            <a:ext cx="500040" cy="428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9"/>
          <p:cNvSpPr/>
          <p:nvPr/>
        </p:nvSpPr>
        <p:spPr>
          <a:xfrm>
            <a:off x="1928880" y="2786040"/>
            <a:ext cx="35712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0"/>
          <p:cNvSpPr/>
          <p:nvPr/>
        </p:nvSpPr>
        <p:spPr>
          <a:xfrm>
            <a:off x="7500960" y="5000760"/>
            <a:ext cx="28584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1"/>
          <p:cNvSpPr/>
          <p:nvPr/>
        </p:nvSpPr>
        <p:spPr>
          <a:xfrm>
            <a:off x="4071960" y="3929040"/>
            <a:ext cx="21420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5357880" y="2000160"/>
            <a:ext cx="15573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арф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1000080" y="2286000"/>
            <a:ext cx="12859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рехте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5500800" y="4143240"/>
            <a:ext cx="142848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пил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2928960" y="33577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уя 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>
            <a:off x="7929720" y="4786200"/>
            <a:ext cx="91440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рам 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7643880" y="85716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1428840" y="71424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статуи находились на Акро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fidij_Afina_Parfenos"/>
          <p:cNvPicPr/>
          <p:nvPr/>
        </p:nvPicPr>
        <p:blipFill>
          <a:blip r:embed="rId1"/>
          <a:stretch/>
        </p:blipFill>
        <p:spPr>
          <a:xfrm>
            <a:off x="928800" y="2000160"/>
            <a:ext cx="2971800" cy="447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ФИДИЙ, древнегреческий скульптор периода высокой классики. Главный помощник Перикла при реконструкции Акрополя. Грандиозные статуи — Афины Промахос на Акрополе, Зевса Олимпийского и Афины Парфенос (обе — золото, слоновая кость) — не сохранились. Под его руководством исполнено скульптурное убранство Парфенона."/>
          <p:cNvPicPr/>
          <p:nvPr/>
        </p:nvPicPr>
        <p:blipFill>
          <a:blip r:embed="rId2"/>
          <a:stretch/>
        </p:blipFill>
        <p:spPr>
          <a:xfrm>
            <a:off x="5857920" y="1501920"/>
            <a:ext cx="2600280" cy="50511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219800" y="571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cropolis-landmark_321"/>
          <p:cNvPicPr/>
          <p:nvPr/>
        </p:nvPicPr>
        <p:blipFill>
          <a:blip r:embed="rId1"/>
          <a:stretch/>
        </p:blipFill>
        <p:spPr>
          <a:xfrm>
            <a:off x="2286000" y="1143000"/>
            <a:ext cx="4876920" cy="382896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5"/>
          <p:cNvSpPr/>
          <p:nvPr/>
        </p:nvSpPr>
        <p:spPr>
          <a:xfrm>
            <a:off x="2000160" y="857160"/>
            <a:ext cx="5929560" cy="4643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857160" y="364320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785880" y="52149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8072280" y="4287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ерамик – это район ремесленных мастерски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нчарная мастерская представляла собой жилой дом с большим двором, обустроенным навесами от дождя и полками для сохнущей керамики и инструменто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 дворе также хранились инструменты, дрова, глина, гончарные круги, стояли печи и баки для замачивания глины. Во двор также была подведена в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нчарные мастерские пользовались печами, источниками воды и цистернами совместно. Не сохранилось сведений о количестве работников гончарной мастерской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Плато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упоминает, что гончары обучали своему ремеслу дете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Файл:Kerameikos 3.jpg"/>
          <p:cNvPicPr/>
          <p:nvPr/>
        </p:nvPicPr>
        <p:blipFill>
          <a:blip r:embed="rId2"/>
          <a:stretch/>
        </p:blipFill>
        <p:spPr>
          <a:xfrm>
            <a:off x="4038480" y="3048120"/>
            <a:ext cx="4800600" cy="358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Файл:Athens Kerameikos 1.jpg"/>
          <p:cNvPicPr/>
          <p:nvPr/>
        </p:nvPicPr>
        <p:blipFill>
          <a:blip r:embed="rId3"/>
          <a:stretch/>
        </p:blipFill>
        <p:spPr>
          <a:xfrm>
            <a:off x="214200" y="2857680"/>
            <a:ext cx="388944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такие сосуды создавались греческими масте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нфар, кратер, килик, гидр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kanfar"/>
          <p:cNvPicPr/>
          <p:nvPr/>
        </p:nvPicPr>
        <p:blipFill>
          <a:blip r:embed="rId1"/>
          <a:stretch/>
        </p:blipFill>
        <p:spPr>
          <a:xfrm>
            <a:off x="152280" y="12193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%D0%BA%D1%80%D0%B0%D1%82%D0%B5%D1%80"/>
          <p:cNvPicPr/>
          <p:nvPr/>
        </p:nvPicPr>
        <p:blipFill>
          <a:blip r:embed="rId2"/>
          <a:stretch/>
        </p:blipFill>
        <p:spPr>
          <a:xfrm>
            <a:off x="5105520" y="60948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6_1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657600"/>
            <a:ext cx="335268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m88_0_0_12_0"/>
          <p:cNvPicPr/>
          <p:nvPr/>
        </p:nvPicPr>
        <p:blipFill>
          <a:blip r:embed="rId5"/>
          <a:stretch/>
        </p:blipFill>
        <p:spPr>
          <a:xfrm>
            <a:off x="6248520" y="38098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история античности"/>
          <p:cNvPicPr/>
          <p:nvPr/>
        </p:nvPicPr>
        <p:blipFill>
          <a:blip r:embed="rId6"/>
          <a:stretch/>
        </p:blipFill>
        <p:spPr>
          <a:xfrm>
            <a:off x="3048120" y="2362320"/>
            <a:ext cx="2438280" cy="23619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4"/>
          <p:cNvSpPr/>
          <p:nvPr/>
        </p:nvSpPr>
        <p:spPr>
          <a:xfrm>
            <a:off x="228600" y="6248520"/>
            <a:ext cx="533520" cy="433440"/>
          </a:xfrm>
          <a:custGeom>
            <a:avLst/>
            <a:gdLst>
              <a:gd name="textAreaLeft" fmla="*/ 28080 w 533520"/>
              <a:gd name="textAreaRight" fmla="*/ 505440 w 5335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83" h="21600">
                <a:moveTo>
                  <a:pt x="0" y="0"/>
                </a:moveTo>
                <a:lnTo>
                  <a:pt x="26583" y="0"/>
                </a:lnTo>
                <a:lnTo>
                  <a:pt x="26583" y="21600"/>
                </a:lnTo>
                <a:lnTo>
                  <a:pt x="0" y="21600"/>
                </a:lnTo>
                <a:close/>
              </a:path>
              <a:path fill="lightenLess" w="26583" h="21600">
                <a:moveTo>
                  <a:pt x="0" y="0"/>
                </a:moveTo>
                <a:lnTo>
                  <a:pt x="26583" y="0"/>
                </a:lnTo>
                <a:lnTo>
                  <a:pt x="25183" y="1400"/>
                </a:lnTo>
                <a:lnTo>
                  <a:pt x="1400" y="1400"/>
                </a:lnTo>
                <a:close/>
              </a:path>
              <a:path fill="darken" w="26583" h="21600">
                <a:moveTo>
                  <a:pt x="26583" y="0"/>
                </a:moveTo>
                <a:lnTo>
                  <a:pt x="26583" y="21600"/>
                </a:lnTo>
                <a:lnTo>
                  <a:pt x="25183" y="20200"/>
                </a:lnTo>
                <a:lnTo>
                  <a:pt x="25183" y="1400"/>
                </a:lnTo>
                <a:close/>
              </a:path>
              <a:path fill="darkenLess" w="26583" h="21600">
                <a:moveTo>
                  <a:pt x="26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3" y="20200"/>
                </a:lnTo>
                <a:close/>
              </a:path>
              <a:path fill="lighten" w="26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3" h="21600">
                <a:moveTo>
                  <a:pt x="6285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3296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ГОРА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от гр. «агиро» – складываю) – рыночная площадь античного город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428480"/>
            <a:ext cx="3786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ревности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го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являлась сердцем общественной жизни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фин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Это было основным местом торговли, а также местом сбора афинян, где они собирались, чтобы узнать и обсудить последние нов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находились все общественные службы, суд, монетный двор, театры, школы и множество памят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ерритории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гор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господствует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рам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священный богу Гефесту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ам очень хорошо сохранился. Его постройка датируется серединой 5 века до н.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athensagora"/>
          <p:cNvPicPr/>
          <p:nvPr/>
        </p:nvPicPr>
        <p:blipFill>
          <a:blip r:embed="rId2"/>
          <a:stretch/>
        </p:blipFill>
        <p:spPr>
          <a:xfrm>
            <a:off x="4000680" y="1285920"/>
            <a:ext cx="4929120" cy="350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10"/>
          <p:cNvPicPr/>
          <p:nvPr/>
        </p:nvPicPr>
        <p:blipFill>
          <a:blip r:embed="rId3"/>
          <a:stretch/>
        </p:blipFill>
        <p:spPr>
          <a:xfrm>
            <a:off x="5429160" y="4071960"/>
            <a:ext cx="334332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инский Акроп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ропо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греч. от akros – верхний и polis – город), возвышенная и укрепленная часть древнегреческого города, крепость, убежище на случай вой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Акрополе обычно строили храмы в честь божеств-покровителей данного гор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самбль Акрополя, созданный под общим руководством Фидия, состоит из парадного входа -  Пропилей, храма Афины Нике, главного храма Акрополя и Афин Парфенона, храма Эрехтейон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Propylaea"/>
          <p:cNvPicPr/>
          <p:nvPr/>
        </p:nvPicPr>
        <p:blipFill>
          <a:blip r:embed="rId1"/>
          <a:stretch/>
        </p:blipFill>
        <p:spPr>
          <a:xfrm>
            <a:off x="304920" y="3505320"/>
            <a:ext cx="3881160" cy="2990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athens2"/>
          <p:cNvPicPr/>
          <p:nvPr/>
        </p:nvPicPr>
        <p:blipFill>
          <a:blip r:embed="rId2"/>
          <a:stretch/>
        </p:blipFill>
        <p:spPr>
          <a:xfrm>
            <a:off x="4495680" y="3429000"/>
            <a:ext cx="4276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714240" y="3297240"/>
          <a:ext cx="7929720" cy="334656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3346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северной стороне Акрополя возвышается Эрехтейон. Именно здесь разрешился спор двух божеств за право покровительства городу. Афиняне в целях их примирения построили два храма – посвященных Афине и Посейдону – под одной крышей. Сооружение получило название Эрехтейон. Восточная часть храма была посвящена Афине – там хранилась древнейшая деревянная статуя богини, упавшая, как верили, с неба. На 12 ступеней ниже находился храм Посейдона. На полу этой части храма, там, где отсутствует плиточное покрытие пола, видны в скале три отверстия – следы трезубца Посейдона. В соответствующем месте – на крыше храма – имеется отверстие от рукоятки трезубца, сделанное при его подъеме для уд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Rectangle 4"/>
          <p:cNvSpPr/>
          <p:nvPr/>
        </p:nvSpPr>
        <p:spPr>
          <a:xfrm>
            <a:off x="2160" y="-123120"/>
            <a:ext cx="24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t771unit2.pbworks.com/f/erechtheum.jpg"/>
          <p:cNvPicPr/>
          <p:nvPr/>
        </p:nvPicPr>
        <p:blipFill>
          <a:blip r:embed="rId1"/>
          <a:stretch/>
        </p:blipFill>
        <p:spPr>
          <a:xfrm>
            <a:off x="214200" y="214200"/>
            <a:ext cx="49593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4143240" y="214200"/>
            <a:ext cx="4643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амой высокой точке скалистого холма находится венец Акрополя –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фено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еликолепное сооружение, имеющее 69,5 метров в длину и 30,9 метров в ширину, окружают 46 десятиметровых колонн. Храм не имеет внутренней декорации,  для поклонения богу и принесения жертв люди собирались около храма, где и находился жертвенник. Поэтому великолепие и величие храмов отражалось в основном на их внешнем облике, а внутри храма находилась лишь статуя божества. В Парфеноне это, конечно же, была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фина - великолепная 12-метровая статуя, выполненная Фидием из золота и слоновой к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о времена Византийской империи статуя была перевезена в Константинополь, где погибла во время пож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ekskurs-tur.ru/wp-content/uploads/318.jpg"/>
          <p:cNvPicPr/>
          <p:nvPr/>
        </p:nvPicPr>
        <p:blipFill>
          <a:blip r:embed="rId1"/>
          <a:stretch/>
        </p:blipFill>
        <p:spPr>
          <a:xfrm>
            <a:off x="214200" y="171468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ина Парфен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840" y="1571760"/>
            <a:ext cx="46436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ыла выполнена из золота и слоновой  кости. Золото (около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он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и слоновая кость покрывали деревянный остов статуи высотой в 13 мет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еплаватель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авса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писывает ее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ама Афина сделана из слоновой кости и золота… Статуя изображает ее во весь рост в хитоне до самых ступней ног, у нее на груди голова Медузы  из слоновой кости, в руке она держит изображ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иблизительно в четыре локтя, а в другой руке — копье. В ногах у нее лежит щит, а около копья зме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fidij_Afina_Parfenos"/>
          <p:cNvPicPr/>
          <p:nvPr/>
        </p:nvPicPr>
        <p:blipFill>
          <a:blip r:embed="rId4"/>
          <a:stretch/>
        </p:blipFill>
        <p:spPr>
          <a:xfrm>
            <a:off x="5000760" y="1214280"/>
            <a:ext cx="35431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428760" y="35712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858080" y="21420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85840" y="1500120"/>
            <a:ext cx="27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6215040" y="14288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Район Кера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 flipV="1" rot="10800000">
            <a:off x="2571480" y="51073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Акроп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acropolisimage"/>
          <p:cNvPicPr/>
          <p:nvPr/>
        </p:nvPicPr>
        <p:blipFill>
          <a:blip r:embed="rId4"/>
          <a:stretch/>
        </p:blipFill>
        <p:spPr>
          <a:xfrm>
            <a:off x="2071800" y="1143000"/>
            <a:ext cx="48574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8:41:22Z</dcterms:created>
  <dc:creator>Svetlana</dc:creator>
  <dc:description/>
  <dc:language>en-US</dc:language>
  <cp:lastModifiedBy>hacker</cp:lastModifiedBy>
  <dcterms:modified xsi:type="dcterms:W3CDTF">2013-02-14T16:59:55Z</dcterms:modified>
  <cp:revision>74</cp:revision>
  <dc:subject/>
  <dc:title>Слайд 1</dc:title>
</cp:coreProperties>
</file>