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38F-A4BA-4E01-A585-3CE347B8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719-0D6E-4A41-8EC5-798E57C5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EBC1-F7EF-46D6-BE5C-0648346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B78-D05F-4FFA-A50A-FEFE7CD2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D377-436F-460F-8C39-607D41F7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CDFC-2592-4701-A06C-4E6D8492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49E5-28CC-4F0E-B1F0-DEB25F14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8F9B-AB04-4FFB-9BEB-43B90FB0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40D6-7945-44B2-B3BF-5A0EE6B7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4E7A-475C-44BB-9FD8-FD92BF6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47E6-7BA2-462F-BB3E-72B2291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B56-F8C8-4964-9CD7-9843595C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2222-6785-4B35-8A35-CA1C972B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63C8-9195-4A38-A599-F41E0222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52C-8F66-4906-97A0-D2ABC89A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D87-B0FA-49B7-8A37-9C0E666B9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11EA-0132-4ABF-ADF7-5C9624B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577-EE17-410D-BEDC-C790C05F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C7F-3CF0-41A1-A4CC-F05161C9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030-EFD0-498B-9846-88C9091B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CAE-7812-4887-81E9-3DD8364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837-4773-49A2-A370-F6D5C13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6BA-1DC8-4E70-A145-176C871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715-0F08-4F33-ACA9-B189D4EA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DB9-8B1E-40A6-A1FC-4D4A1D3EEF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367C-6252-4EAA-A4AB-04A256A4AF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51470012.gif" TargetMode="Externa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начало"/>
          <p:cNvPicPr/>
          <p:nvPr/>
        </p:nvPicPr>
        <p:blipFill>
          <a:blip r:embed="rId1"/>
          <a:srcRect l="14928" t="17967" r="0" b="19552"/>
          <a:stretch/>
        </p:blipFill>
        <p:spPr>
          <a:xfrm>
            <a:off x="2700360" y="1773360"/>
            <a:ext cx="4228920" cy="4653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56960" cy="1189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1977" t="34852" r="40211" b="27008"/>
          <a:stretch/>
        </p:blipFill>
        <p:spPr>
          <a:xfrm>
            <a:off x="231840" y="1214280"/>
            <a:ext cx="4626000" cy="2500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rcRect l="58238" t="17673" r="-410" b="9839"/>
          <a:stretch/>
        </p:blipFill>
        <p:spPr>
          <a:xfrm>
            <a:off x="4857840" y="1114560"/>
            <a:ext cx="3929040" cy="55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0" t="6017" r="0" b="64938"/>
          <a:stretch/>
        </p:blipFill>
        <p:spPr>
          <a:xfrm>
            <a:off x="285840" y="428760"/>
            <a:ext cx="8572320" cy="21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rcRect l="12498" t="35073" r="7812" b="6826"/>
          <a:stretch/>
        </p:blipFill>
        <p:spPr>
          <a:xfrm>
            <a:off x="1643040" y="2786040"/>
            <a:ext cx="5929200" cy="3720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ак зовут мальчика, о котором говорится в следующих строчках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3126" t="30663" r="41353" b="4410"/>
          <a:stretch/>
        </p:blipFill>
        <p:spPr>
          <a:xfrm>
            <a:off x="692280" y="2571840"/>
            <a:ext cx="3808440" cy="385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rcRect l="60742" t="30663" r="4686" b="4410"/>
          <a:stretch/>
        </p:blipFill>
        <p:spPr>
          <a:xfrm>
            <a:off x="5857920" y="2000160"/>
            <a:ext cx="3014640" cy="490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7676" r="0" b="2352"/>
          <a:stretch/>
        </p:blipFill>
        <p:spPr>
          <a:xfrm>
            <a:off x="-55440" y="357120"/>
            <a:ext cx="91994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МОЛОДЦЫ!!!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4" descr="514700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276640"/>
            <a:ext cx="37432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КТО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доме восемь дробь од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заставы Ильич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л высокий граждани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прозванью Каланч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 фамилии Степанов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 по имени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Степан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стёпа"/>
          <p:cNvPicPr/>
          <p:nvPr/>
        </p:nvPicPr>
        <p:blipFill>
          <a:blip r:embed="rId1"/>
          <a:srcRect l="14248" t="17466" r="8755" b="25860"/>
          <a:stretch/>
        </p:blipFill>
        <p:spPr>
          <a:xfrm>
            <a:off x="5651640" y="2133720"/>
            <a:ext cx="3492360" cy="43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Кого спас дядя Стёпа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случ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за крик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Это тонет ученик!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Дядя Стёпа в этот ра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топающего спас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Вася Бородин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р2"/>
          <p:cNvPicPr/>
          <p:nvPr/>
        </p:nvPicPr>
        <p:blipFill>
          <a:blip r:embed="rId1"/>
          <a:srcRect l="18634" t="9486" r="29244" b="45928"/>
          <a:stretch/>
        </p:blipFill>
        <p:spPr>
          <a:xfrm>
            <a:off x="5111640" y="1197000"/>
            <a:ext cx="4032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Кем был Дядя Стёпа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«Знают все, что Дядя Стёп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ыл когда-то…»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(Моряком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п"/>
          <p:cNvPicPr/>
          <p:nvPr/>
        </p:nvPicPr>
        <p:blipFill>
          <a:blip r:embed="rId1"/>
          <a:srcRect l="20830" t="7519" r="10060" b="37118"/>
          <a:stretch/>
        </p:blipFill>
        <p:spPr>
          <a:xfrm>
            <a:off x="6084720" y="2637000"/>
            <a:ext cx="26784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к прозвали Дядю Стёпу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Нам ребята рассказал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Степана с этих п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лыши в Москве прозва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 «Маяк», а …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Светофор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светофор"/>
          <p:cNvPicPr/>
          <p:nvPr/>
        </p:nvPicPr>
        <p:blipFill>
          <a:blip r:embed="rId1"/>
          <a:srcRect l="10548" t="8048" r="8317" b="30334"/>
          <a:stretch/>
        </p:blipFill>
        <p:spPr>
          <a:xfrm>
            <a:off x="6371640" y="1844640"/>
            <a:ext cx="27716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очему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Но зато на стадио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ходил бесплатно он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был чемпионо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р4"/>
          <p:cNvPicPr/>
          <p:nvPr/>
        </p:nvPicPr>
        <p:blipFill>
          <a:blip r:embed="rId1"/>
          <a:srcRect l="12789" t="9018" r="30380" b="15242"/>
          <a:stretch/>
        </p:blipFill>
        <p:spPr>
          <a:xfrm>
            <a:off x="5940360" y="1125360"/>
            <a:ext cx="3203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Кем был дядя Стёпа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ядя Стёпа с тротуа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стаёт до черда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возь огонь и дым пожа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янется его ру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Пожарны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р1"/>
          <p:cNvPicPr/>
          <p:nvPr/>
        </p:nvPicPr>
        <p:blipFill>
          <a:blip r:embed="rId1"/>
          <a:srcRect l="52255" t="2727" r="0" b="40433"/>
          <a:stretch/>
        </p:blipFill>
        <p:spPr>
          <a:xfrm>
            <a:off x="6227640" y="1700280"/>
            <a:ext cx="291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Куда пришёл дядя Стёпа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Дайте мне такую маску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б никто не узнавал!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На карнава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р3"/>
          <p:cNvPicPr/>
          <p:nvPr/>
        </p:nvPicPr>
        <p:blipFill>
          <a:blip r:embed="rId1"/>
          <a:srcRect l="11215" t="6235" r="22250" b="31905"/>
          <a:stretch/>
        </p:blipFill>
        <p:spPr>
          <a:xfrm>
            <a:off x="5650920" y="1196280"/>
            <a:ext cx="349236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26252" r="51945" b="5754"/>
          <a:stretch/>
        </p:blipFill>
        <p:spPr>
          <a:xfrm>
            <a:off x="214200" y="214200"/>
            <a:ext cx="4572000" cy="558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rcRect l="51236" t="26252" r="0" b="5754"/>
          <a:stretch/>
        </p:blipFill>
        <p:spPr>
          <a:xfrm>
            <a:off x="4643280" y="1500120"/>
            <a:ext cx="43372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9:17:47Z</dcterms:created>
  <dc:creator>Admin</dc:creator>
  <dc:description/>
  <dc:language>en-US</dc:language>
  <cp:lastModifiedBy>User</cp:lastModifiedBy>
  <dcterms:modified xsi:type="dcterms:W3CDTF">2013-02-14T11:26:13Z</dcterms:modified>
  <cp:revision>12</cp:revision>
  <dc:subject/>
  <dc:title>ВИКТОРИНА ПО СТИХОТВОРЕНИЮ «ДЯДЯ СТЁПА»</dc:title>
</cp:coreProperties>
</file>