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415-34AD-4C78-9EC2-2B86020C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A1D-2789-4680-B7D9-FCA9188D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839-CBDB-4C6C-9762-E57143A7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D7F-905E-447F-856D-93E72E30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CBBF-7D72-4A96-9A91-2F1E1366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F34-4769-4D98-85DB-12A0DBC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D42-F0FA-4EA5-9868-9DED2AC2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519D-6F8B-421D-AE33-3A3EC64F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D1B-546A-49B2-886D-AE82CB2A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DF65-496D-4A0B-B22F-C6144E42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A64-DE6B-4A59-86D8-E94B94F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E2E-7E07-4ED1-9EC3-5FB324C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DF9A-0A5D-472E-868D-61DA69C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3E9-A65B-42EA-9E21-4FDF9A8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8BE-16A8-4B3F-859E-021454DE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5C00-D942-40BE-8C22-6A41CAE2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F67-C36D-4806-AD9C-8F45EAA8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038-3B37-4552-8284-70802174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074-1B6C-42B6-969E-B0F23EB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4E7-2848-4490-9D6E-E96891CA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084-0569-471B-8782-E08D18F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7F6-890A-414A-8FB3-45E0CB6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228-E9D9-42B7-BE01-2D17375B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0AF-E205-45FA-85A9-5CE1944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352-50C9-46CE-824E-1C9D963762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6345-1A41-434F-8A4B-E0CD5EFE6D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51470012.gif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начало"/>
          <p:cNvPicPr/>
          <p:nvPr/>
        </p:nvPicPr>
        <p:blipFill>
          <a:blip r:embed="rId1"/>
          <a:srcRect l="14928" t="17967" r="0" b="19552"/>
          <a:stretch/>
        </p:blipFill>
        <p:spPr>
          <a:xfrm>
            <a:off x="2700360" y="1773360"/>
            <a:ext cx="4228920" cy="4653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569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1977" t="34852" r="40211" b="27008"/>
          <a:stretch/>
        </p:blipFill>
        <p:spPr>
          <a:xfrm>
            <a:off x="231840" y="1214280"/>
            <a:ext cx="4626000" cy="250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rcRect l="58238" t="17673" r="-410" b="9839"/>
          <a:stretch/>
        </p:blipFill>
        <p:spPr>
          <a:xfrm>
            <a:off x="4857840" y="1114560"/>
            <a:ext cx="3929040" cy="55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0" t="6017" r="0" b="64938"/>
          <a:stretch/>
        </p:blipFill>
        <p:spPr>
          <a:xfrm>
            <a:off x="285840" y="428760"/>
            <a:ext cx="8572320" cy="21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rcRect l="12498" t="35073" r="7812" b="6826"/>
          <a:stretch/>
        </p:blipFill>
        <p:spPr>
          <a:xfrm>
            <a:off x="1643040" y="2786040"/>
            <a:ext cx="5929200" cy="372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к зовут мальчика, о котором говорится в следующих строчках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3126" t="30663" r="41353" b="4410"/>
          <a:stretch/>
        </p:blipFill>
        <p:spPr>
          <a:xfrm>
            <a:off x="692280" y="2571840"/>
            <a:ext cx="3808440" cy="385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rcRect l="60742" t="30663" r="4686" b="4410"/>
          <a:stretch/>
        </p:blipFill>
        <p:spPr>
          <a:xfrm>
            <a:off x="5857920" y="2000160"/>
            <a:ext cx="3014640" cy="490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7676" r="0" b="2352"/>
          <a:stretch/>
        </p:blipFill>
        <p:spPr>
          <a:xfrm>
            <a:off x="-55440" y="357120"/>
            <a:ext cx="91994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МОЛОДЦЫ!!!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4" descr="51470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276640"/>
            <a:ext cx="37432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КТО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доме восемь дробь од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заставы Ильич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л высокий граждан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прозванью Каланч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фамилии Степано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по имени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Степан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стёпа"/>
          <p:cNvPicPr/>
          <p:nvPr/>
        </p:nvPicPr>
        <p:blipFill>
          <a:blip r:embed="rId1"/>
          <a:srcRect l="14248" t="17466" r="8755" b="25860"/>
          <a:stretch/>
        </p:blipFill>
        <p:spPr>
          <a:xfrm>
            <a:off x="5651640" y="2133720"/>
            <a:ext cx="3492360" cy="43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Кого спас дядя Стёпа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случ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за кр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Это тонет ученик!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Дядя Стёпа в этот р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топающего спас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Вася Бородин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р2"/>
          <p:cNvPicPr/>
          <p:nvPr/>
        </p:nvPicPr>
        <p:blipFill>
          <a:blip r:embed="rId1"/>
          <a:srcRect l="18634" t="9486" r="29244" b="45928"/>
          <a:stretch/>
        </p:blipFill>
        <p:spPr>
          <a:xfrm>
            <a:off x="5111640" y="1197000"/>
            <a:ext cx="4032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Кем был Дядя Стёпа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Знают все, что Дядя Стё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ыл когда-то…»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Моряком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п"/>
          <p:cNvPicPr/>
          <p:nvPr/>
        </p:nvPicPr>
        <p:blipFill>
          <a:blip r:embed="rId1"/>
          <a:srcRect l="20830" t="7519" r="10060" b="37118"/>
          <a:stretch/>
        </p:blipFill>
        <p:spPr>
          <a:xfrm>
            <a:off x="6084720" y="2637000"/>
            <a:ext cx="2678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к прозвали Дядю Стёпу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Нам ребята рассказал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Степана с этих п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лыши в Москве прозва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«Маяк», а …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Светофор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светофор"/>
          <p:cNvPicPr/>
          <p:nvPr/>
        </p:nvPicPr>
        <p:blipFill>
          <a:blip r:embed="rId1"/>
          <a:srcRect l="10548" t="8048" r="8317" b="30334"/>
          <a:stretch/>
        </p:blipFill>
        <p:spPr>
          <a:xfrm>
            <a:off x="6371640" y="1844640"/>
            <a:ext cx="2771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очему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Но зато на стади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ходил бесплатно он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был чемпионо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р4"/>
          <p:cNvPicPr/>
          <p:nvPr/>
        </p:nvPicPr>
        <p:blipFill>
          <a:blip r:embed="rId1"/>
          <a:srcRect l="12789" t="9018" r="30380" b="15242"/>
          <a:stretch/>
        </p:blipFill>
        <p:spPr>
          <a:xfrm>
            <a:off x="5940360" y="1125360"/>
            <a:ext cx="3203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Кем был дядя Стёпа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ядя Стёпа с тротуа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стаёт до черда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возь огонь и дым пожа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янется его ру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Пожарны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р1"/>
          <p:cNvPicPr/>
          <p:nvPr/>
        </p:nvPicPr>
        <p:blipFill>
          <a:blip r:embed="rId1"/>
          <a:srcRect l="52255" t="2727" r="0" b="40433"/>
          <a:stretch/>
        </p:blipFill>
        <p:spPr>
          <a:xfrm>
            <a:off x="6227640" y="1700280"/>
            <a:ext cx="291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Куда пришёл дядя Стёпа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Дайте мне такую маск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б никто не узнавал!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На карнава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р3"/>
          <p:cNvPicPr/>
          <p:nvPr/>
        </p:nvPicPr>
        <p:blipFill>
          <a:blip r:embed="rId1"/>
          <a:srcRect l="11215" t="6235" r="22250" b="31905"/>
          <a:stretch/>
        </p:blipFill>
        <p:spPr>
          <a:xfrm>
            <a:off x="5650920" y="1196280"/>
            <a:ext cx="349236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26252" r="51945" b="5754"/>
          <a:stretch/>
        </p:blipFill>
        <p:spPr>
          <a:xfrm>
            <a:off x="214200" y="214200"/>
            <a:ext cx="4572000" cy="558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rcRect l="51236" t="26252" r="0" b="5754"/>
          <a:stretch/>
        </p:blipFill>
        <p:spPr>
          <a:xfrm>
            <a:off x="4643280" y="1500120"/>
            <a:ext cx="43372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9:17:47Z</dcterms:created>
  <dc:creator>Admin</dc:creator>
  <dc:description/>
  <dc:language>en-US</dc:language>
  <cp:lastModifiedBy>User</cp:lastModifiedBy>
  <dcterms:modified xsi:type="dcterms:W3CDTF">2013-02-14T11:26:13Z</dcterms:modified>
  <cp:revision>12</cp:revision>
  <dc:subject/>
  <dc:title>ВИКТОРИНА ПО СТИХОТВОРЕНИЮ «ДЯДЯ СТЁПА»</dc:title>
</cp:coreProperties>
</file>