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FD3-61C0-4171-AE02-FA7D6BE1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6E9-5C69-4E7E-9688-281E0A9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011-CCE8-4690-AEDA-A4116DCC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703-4976-46EB-B797-FD99EDBE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C8D-0E93-461C-82BC-CCC9385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B9E-5690-4823-96D1-C89105BF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D3B-0DF5-4A09-B2CA-4E7A8DB0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B9B-BBD7-4ED6-979F-B0E547B7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7DE-D27E-4EDA-BB1B-8586D1C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FBB-C322-469B-8128-4BF045D9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F97-6E1E-4BE6-B588-66E5C593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07A-DEF6-4198-996C-B6002956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600D-170E-4AE3-8D4E-AC16037D6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14560" y="714240"/>
            <a:ext cx="7129440" cy="192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Окружающий мир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«Вода и её свойства»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571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5857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7200" y="2642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УМК «Школа2100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000160" y="3857760"/>
            <a:ext cx="5286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Алдохина И.М. МОУ «СОШ№5» г. Ланге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о шаблону, размещённому на сайте: </a:t>
            </a:r>
            <a:r>
              <a:rPr b="0" lang="en-US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http://www.nachalka.com/test_shab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D:\Для создания презентаций\Картинки Word'а\AN00790_.WMF"/>
          <p:cNvPicPr/>
          <p:nvPr/>
        </p:nvPicPr>
        <p:blipFill>
          <a:blip r:embed="rId1"/>
          <a:stretch/>
        </p:blipFill>
        <p:spPr>
          <a:xfrm>
            <a:off x="0" y="571680"/>
            <a:ext cx="2610000" cy="27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Найди верное опреде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3071880" y="342900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а – это вещество, которое находится на Земле в трёх состоя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571680" y="21430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а – это  смесь пара и пы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4429080" y="471492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а – это смесь г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Что такое иней, измороз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57120" y="1643040"/>
            <a:ext cx="550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вращение пара в кристаллики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1643040" y="3214800"/>
            <a:ext cx="5572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мёрзший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000240" y="4786200"/>
            <a:ext cx="550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стаявший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Укажи «лишнее» в этапах круговорота воды в природ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714240" y="5000760"/>
            <a:ext cx="3643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мена времён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2286000" y="3143160"/>
            <a:ext cx="4214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спарение и образование обл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5"/>
          <p:cNvSpPr/>
          <p:nvPr/>
        </p:nvSpPr>
        <p:spPr>
          <a:xfrm>
            <a:off x="4572000" y="500076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сачивание и 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Укажи искусственный водо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3071880" y="342900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р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571680" y="21430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4429080" y="471492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3071880" y="485784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3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D:\Для создания презентаций\6_1.jpg"/>
          <p:cNvPicPr/>
          <p:nvPr/>
        </p:nvPicPr>
        <p:blipFill>
          <a:blip r:embed="rId1"/>
          <a:stretch/>
        </p:blipFill>
        <p:spPr>
          <a:xfrm>
            <a:off x="0" y="0"/>
            <a:ext cx="1785960" cy="17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 верное свойство в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643040" y="178596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прозрачная, бесцветная 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1643040" y="435780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бесцветная, мутная 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1643040" y="30718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прозрачная, голубая 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1571760" y="44290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 не имеет вкуса и за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1571760" y="30718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 не имеет запаха , но имеет 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/>
          <p:cNvSpPr/>
          <p:nvPr/>
        </p:nvSpPr>
        <p:spPr>
          <a:xfrm>
            <a:off x="1571760" y="164304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 имеет вкус и за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Испарение воды – это …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1571760" y="44290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вращение воды в п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1571760" y="30718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вращение пара в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1571760" y="164304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вращение воды в 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Выбери лишне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1714680" y="228600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1785960" y="3857760"/>
            <a:ext cx="221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5"/>
          <p:cNvSpPr/>
          <p:nvPr/>
        </p:nvSpPr>
        <p:spPr>
          <a:xfrm>
            <a:off x="5072040" y="228600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6"/>
          <p:cNvSpPr/>
          <p:nvPr/>
        </p:nvSpPr>
        <p:spPr>
          <a:xfrm>
            <a:off x="5072040" y="385776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Превращается ли вода в пар в любое время года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5429160" y="2357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1500120" y="2357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2928960" y="371484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лько л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1214280"/>
            <a:ext cx="123336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3"/>
          <p:cNvSpPr/>
          <p:nvPr/>
        </p:nvSpPr>
        <p:spPr>
          <a:xfrm>
            <a:off x="5214960" y="4000680"/>
            <a:ext cx="3071880" cy="1428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лить водой, размешать, процедить и выпа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714240" y="4000680"/>
            <a:ext cx="3143520" cy="13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сыпать в воду. Песок осядет, а соль будет свер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5"/>
          <p:cNvSpPr/>
          <p:nvPr/>
        </p:nvSpPr>
        <p:spPr>
          <a:xfrm>
            <a:off x="2928960" y="2571840"/>
            <a:ext cx="3286080" cy="13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сеять через си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1071720" y="714240"/>
            <a:ext cx="714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  <a:ea typeface="Arial"/>
              </a:rPr>
              <a:t>Соль смешали с речным песком. Как отделить соль от пес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Почему в морях вода никогда не высыхае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4572000" y="478620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тому, что существует круговорот воды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571680" y="21430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тому, что в них тают айсбер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3429000" y="342900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тому, что моря глубо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0-01-03T09:02:58Z</dcterms:modified>
  <cp:revision>728</cp:revision>
  <dc:subject/>
  <dc:title>Слайд 1</dc:title>
</cp:coreProperties>
</file>