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41A-E969-460A-900E-7C75D794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0F0-EB63-4A01-9328-5933A383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3E4-82AF-4E7C-A41A-2E0CCE2E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C4C-E780-4CAB-923F-A32A80A9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B80-D964-4600-A124-DB0FDD63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B5E-37DD-4322-97E6-90A8554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6FD-0E03-484C-B7C3-21F8C9A7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03E-1C32-4A5E-94C1-47F778DE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5A3-2FFA-4786-9DBF-7380FB3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AB5-23A5-4D7B-A56C-F4EA332C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A29-32FB-489A-99A1-9F92AAB6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BAB-CCFC-4D23-9C8A-A327DBE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D9F2-1157-413C-A51C-382F44136D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14560" y="714240"/>
            <a:ext cx="7129440" cy="192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Окружающий мир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«Вода и её свойства»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1285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571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6"/>
          <p:cNvSpPr/>
          <p:nvPr/>
        </p:nvSpPr>
        <p:spPr>
          <a:xfrm>
            <a:off x="5857920" y="59421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7"/>
          <p:cNvSpPr/>
          <p:nvPr/>
        </p:nvSpPr>
        <p:spPr>
          <a:xfrm>
            <a:off x="3071880" y="50133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57200" y="2642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УМК «Школа2100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933c"/>
                </a:solidFill>
                <a:latin typeface="Calibri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2000160" y="3857760"/>
            <a:ext cx="5286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Алдохина И.М. МОУ «СОШ№5» г. Лангеп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о шаблону, размещённому на сайте: </a:t>
            </a:r>
            <a:r>
              <a:rPr b="0" lang="en-US" sz="1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http://www.nachalka.com/test_shab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D:\Для создания презентаций\Картинки Word'а\AN00790_.WMF"/>
          <p:cNvPicPr/>
          <p:nvPr/>
        </p:nvPicPr>
        <p:blipFill>
          <a:blip r:embed="rId1"/>
          <a:stretch/>
        </p:blipFill>
        <p:spPr>
          <a:xfrm>
            <a:off x="0" y="571680"/>
            <a:ext cx="2610000" cy="27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Найди верное опреде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3"/>
          <p:cNvSpPr/>
          <p:nvPr/>
        </p:nvSpPr>
        <p:spPr>
          <a:xfrm>
            <a:off x="3071880" y="34290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а – это вещество, которое находится на Земле в трёх состоя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/>
          <p:cNvSpPr/>
          <p:nvPr/>
        </p:nvSpPr>
        <p:spPr>
          <a:xfrm>
            <a:off x="571680" y="21430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а – это  смесь пара и пы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/>
          <p:cNvSpPr/>
          <p:nvPr/>
        </p:nvSpPr>
        <p:spPr>
          <a:xfrm>
            <a:off x="4429080" y="471492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ода – это смесь г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Что такое иней, измороз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57120" y="1643040"/>
            <a:ext cx="550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пара в кристаллики ль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1643040" y="3214800"/>
            <a:ext cx="5572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мёрзший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000240" y="4786200"/>
            <a:ext cx="550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стаявший 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Укажи «лишнее» в этапах круговорота воды в природ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714240" y="5000760"/>
            <a:ext cx="3643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мена времён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2286000" y="3143160"/>
            <a:ext cx="4214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спарение и образование обл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5"/>
          <p:cNvSpPr/>
          <p:nvPr/>
        </p:nvSpPr>
        <p:spPr>
          <a:xfrm>
            <a:off x="4572000" y="500076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сачивание и 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Укажи искусственный водо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Скругленный прямоугольник 3"/>
          <p:cNvSpPr/>
          <p:nvPr/>
        </p:nvSpPr>
        <p:spPr>
          <a:xfrm>
            <a:off x="3071880" y="34290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р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571680" y="21430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4429080" y="471492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9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3071880" y="485784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13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D:\Для создания презентаций\6_1.jpg"/>
          <p:cNvPicPr/>
          <p:nvPr/>
        </p:nvPicPr>
        <p:blipFill>
          <a:blip r:embed="rId1"/>
          <a:stretch/>
        </p:blipFill>
        <p:spPr>
          <a:xfrm>
            <a:off x="0" y="0"/>
            <a:ext cx="1785960" cy="17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айди верное свойство 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1643040" y="178596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прозрачная, бесцветная 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1643040" y="435780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бесцветная, мутная 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1643040" y="30718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прозрачная, голубая жид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ыбери правильный отв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1571760" y="44290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 не имеет вкуса и за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1571760" y="30718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 не имеет запаха , но имеет 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/>
          <p:cNvSpPr/>
          <p:nvPr/>
        </p:nvSpPr>
        <p:spPr>
          <a:xfrm>
            <a:off x="1571760" y="164304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  имеет вкус и з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Испарение воды – это …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1571760" y="44290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воды в п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4"/>
          <p:cNvSpPr/>
          <p:nvPr/>
        </p:nvSpPr>
        <p:spPr>
          <a:xfrm>
            <a:off x="1571760" y="307188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пара в в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5"/>
          <p:cNvSpPr/>
          <p:nvPr/>
        </p:nvSpPr>
        <p:spPr>
          <a:xfrm>
            <a:off x="1571760" y="1643040"/>
            <a:ext cx="621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вращение воды в 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Выбери лишне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3"/>
          <p:cNvSpPr/>
          <p:nvPr/>
        </p:nvSpPr>
        <p:spPr>
          <a:xfrm>
            <a:off x="1714680" y="228600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1785960" y="3857760"/>
            <a:ext cx="221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5"/>
          <p:cNvSpPr/>
          <p:nvPr/>
        </p:nvSpPr>
        <p:spPr>
          <a:xfrm>
            <a:off x="5072040" y="228600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6"/>
          <p:cNvSpPr/>
          <p:nvPr/>
        </p:nvSpPr>
        <p:spPr>
          <a:xfrm>
            <a:off x="5072040" y="3857760"/>
            <a:ext cx="2286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Превращается ли вода в пар в любое время года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Скругленный прямоугольник 3"/>
          <p:cNvSpPr/>
          <p:nvPr/>
        </p:nvSpPr>
        <p:spPr>
          <a:xfrm>
            <a:off x="5429160" y="2357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/>
          <p:cNvSpPr/>
          <p:nvPr/>
        </p:nvSpPr>
        <p:spPr>
          <a:xfrm>
            <a:off x="1500120" y="2357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2928960" y="3714840"/>
            <a:ext cx="314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олько л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1214280"/>
            <a:ext cx="123336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Скругленный прямоугольник 3"/>
          <p:cNvSpPr/>
          <p:nvPr/>
        </p:nvSpPr>
        <p:spPr>
          <a:xfrm>
            <a:off x="5214960" y="4000680"/>
            <a:ext cx="3071880" cy="1428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лить водой, размешать, процедить и выпа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4"/>
          <p:cNvSpPr/>
          <p:nvPr/>
        </p:nvSpPr>
        <p:spPr>
          <a:xfrm>
            <a:off x="714240" y="4000680"/>
            <a:ext cx="3143520" cy="13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асыпать в воду. Песок осядет, а соль будет свер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5"/>
          <p:cNvSpPr/>
          <p:nvPr/>
        </p:nvSpPr>
        <p:spPr>
          <a:xfrm>
            <a:off x="2928960" y="2571840"/>
            <a:ext cx="3286080" cy="13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осеять через си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1071720" y="714240"/>
            <a:ext cx="714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  <a:ea typeface="Arial"/>
              </a:rPr>
              <a:t>Соль смешали с речным песком. Как отделить соль от пес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1233720" cy="27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  <a:ea typeface="Arial"/>
              </a:rPr>
              <a:t>Почему в морях вода никогда не высыхает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4572000" y="47862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тому, что существует круговорот воды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571680" y="21430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тому, что в них тают айсбер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3429000" y="342900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тому, что моря глубо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Admin</cp:lastModifiedBy>
  <dcterms:modified xsi:type="dcterms:W3CDTF">2010-01-03T09:02:58Z</dcterms:modified>
  <cp:revision>728</cp:revision>
  <dc:subject/>
  <dc:title>Слайд 1</dc:title>
</cp:coreProperties>
</file>