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11D-41B5-4C3C-93C5-F8F9890E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3F0-C0AE-4774-8B1B-6A48C95A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55A-3EC9-4C42-9044-F60333E2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7F9-2847-4FBF-8B32-538209E4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0C6-D164-4B46-81B6-70687FF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23C-5F55-4983-9291-CCFC7731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7680-CF97-4E79-8399-C7E5F24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4F6-E4D6-49FC-8793-A64801D9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CB0-D3F6-4D57-B147-A4AD6A5F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CC1-AACE-41D8-B489-FF79C9C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B5C-3093-4AB4-8A10-B95389D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AD4-5C91-4232-BC59-9DD04313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BFBA-38C6-413F-AE36-D0610DF57B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chalka.com/test_shablon" TargetMode="External"/><Relationship Id="rId3" Type="http://schemas.openxmlformats.org/officeDocument/2006/relationships/hyperlink" Target="http://www.nachalka.com/test_shablon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81200" y="853920"/>
            <a:ext cx="778320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571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5857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2428920" y="33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УМК «Школа21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933c"/>
                </a:solidFill>
                <a:latin typeface="Arial"/>
              </a:rPr>
              <a:t>4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00680"/>
            <a:ext cx="428616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Алдохина И.М. МОУ «СОШ№5» г. Лангепас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 шаблону, размещённому на сайте: </a:t>
            </a:r>
            <a:r>
              <a:rPr b="0" lang="en-US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http://www.nachalka.com/test_shablon</a:t>
            </a:r>
            <a:endParaRPr b="0" lang="en-US" sz="16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584360" y="480960"/>
            <a:ext cx="5870520" cy="2238480"/>
          </a:xfrm>
          <a:prstGeom prst="rect">
            <a:avLst/>
          </a:prstGeom>
          <a:ln w="0">
            <a:noFill/>
          </a:ln>
        </p:spPr>
      </p:pic>
      <p:sp>
        <p:nvSpPr>
          <p:cNvPr id="89" name="Скругленный прямоугольник 3"/>
          <p:cNvSpPr/>
          <p:nvPr/>
        </p:nvSpPr>
        <p:spPr>
          <a:xfrm>
            <a:off x="78588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личный терм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3571920" y="3357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тутный терм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ий терм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2139840" y="407880"/>
            <a:ext cx="4797360" cy="2189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жид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твёрдое т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Его нельзя ни во что прев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139840" y="762120"/>
            <a:ext cx="4797360" cy="174312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3"/>
          <p:cNvSpPr/>
          <p:nvPr/>
        </p:nvSpPr>
        <p:spPr>
          <a:xfrm>
            <a:off x="3500280" y="3714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000080" y="29289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000840" y="442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ичего не пров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2139840" y="73080"/>
            <a:ext cx="4889520" cy="17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28760" y="16430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500040" y="2500200"/>
            <a:ext cx="2500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абрики и заводы должны иметь уловители пыли и вредны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2"/>
          <p:cNvSpPr/>
          <p:nvPr/>
        </p:nvSpPr>
        <p:spPr>
          <a:xfrm>
            <a:off x="357120" y="392904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 необходимо сделать экологически чи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3"/>
          <p:cNvSpPr/>
          <p:nvPr/>
        </p:nvSpPr>
        <p:spPr>
          <a:xfrm>
            <a:off x="3286080" y="250020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городах и вокруг  высаживать побольше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4"/>
          <p:cNvSpPr/>
          <p:nvPr/>
        </p:nvSpPr>
        <p:spPr>
          <a:xfrm>
            <a:off x="3286080" y="3929040"/>
            <a:ext cx="2643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становить все фабрики и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15"/>
          <p:cNvSpPr/>
          <p:nvPr/>
        </p:nvSpPr>
        <p:spPr>
          <a:xfrm>
            <a:off x="6286680" y="250020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претить пользоваться автотранспор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16"/>
          <p:cNvSpPr/>
          <p:nvPr/>
        </p:nvSpPr>
        <p:spPr>
          <a:xfrm>
            <a:off x="6286680" y="392904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вратить Землю в один огромный 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1566720" y="225360"/>
            <a:ext cx="6004080" cy="220680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3"/>
          <p:cNvSpPr/>
          <p:nvPr/>
        </p:nvSpPr>
        <p:spPr>
          <a:xfrm>
            <a:off x="1357200" y="371484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здух плохо проводит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1357200" y="250020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 нагревании воздух расши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1357200" y="492912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и охлаждении воздух сж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2139840" y="268200"/>
            <a:ext cx="47973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8</a:t>
            </a:r>
            <a:endParaRPr b="0" lang="en-US" sz="4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1</a:t>
            </a:r>
            <a:endParaRPr b="0" lang="en-US" sz="4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3</a:t>
            </a:r>
            <a:endParaRPr b="0" lang="en-US" sz="4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4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2139840" y="268200"/>
            <a:ext cx="47973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Скругленный прямоугольник 3"/>
          <p:cNvSpPr/>
          <p:nvPr/>
        </p:nvSpPr>
        <p:spPr>
          <a:xfrm>
            <a:off x="714240" y="3929040"/>
            <a:ext cx="328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месь г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/>
          <p:cNvSpPr/>
          <p:nvPr/>
        </p:nvSpPr>
        <p:spPr>
          <a:xfrm>
            <a:off x="2428920" y="2500200"/>
            <a:ext cx="328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уст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4071960" y="3929040"/>
            <a:ext cx="328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о, что нас окруж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39840" y="255600"/>
            <a:ext cx="4797360" cy="174924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3"/>
          <p:cNvSpPr/>
          <p:nvPr/>
        </p:nvSpPr>
        <p:spPr>
          <a:xfrm>
            <a:off x="4143240" y="3929040"/>
            <a:ext cx="328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, азот, 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2428920" y="2500200"/>
            <a:ext cx="328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ород, медь, 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714240" y="3929040"/>
            <a:ext cx="328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хлор, фтор, й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2060640" y="328680"/>
            <a:ext cx="5059440" cy="1701720"/>
          </a:xfrm>
          <a:prstGeom prst="rect">
            <a:avLst/>
          </a:prstGeom>
          <a:ln w="0">
            <a:noFill/>
          </a:ln>
        </p:spPr>
      </p:pic>
      <p:sp>
        <p:nvSpPr>
          <p:cNvPr id="63" name="Скругленный прямоугольник 3"/>
          <p:cNvSpPr/>
          <p:nvPr/>
        </p:nvSpPr>
        <p:spPr>
          <a:xfrm>
            <a:off x="5286240" y="40719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тм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4"/>
          <p:cNvSpPr/>
          <p:nvPr/>
        </p:nvSpPr>
        <p:spPr>
          <a:xfrm>
            <a:off x="1285920" y="40719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ит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5"/>
          <p:cNvSpPr/>
          <p:nvPr/>
        </p:nvSpPr>
        <p:spPr>
          <a:xfrm>
            <a:off x="328608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идро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139840" y="500040"/>
            <a:ext cx="4810320" cy="121932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3"/>
          <p:cNvSpPr/>
          <p:nvPr/>
        </p:nvSpPr>
        <p:spPr>
          <a:xfrm>
            <a:off x="5143680" y="40006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сшир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42900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жим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714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лету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968480" y="517680"/>
            <a:ext cx="5254560" cy="218916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3"/>
          <p:cNvSpPr/>
          <p:nvPr/>
        </p:nvSpPr>
        <p:spPr>
          <a:xfrm>
            <a:off x="5786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з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3286080" y="314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глекисл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2030400" y="328680"/>
            <a:ext cx="5119560" cy="1701720"/>
          </a:xfrm>
          <a:prstGeom prst="rect">
            <a:avLst/>
          </a:prstGeom>
          <a:ln w="0">
            <a:noFill/>
          </a:ln>
        </p:spPr>
      </p:pic>
      <p:sp>
        <p:nvSpPr>
          <p:cNvPr id="75" name="Скругленный прямоугольник 3"/>
          <p:cNvSpPr/>
          <p:nvPr/>
        </p:nvSpPr>
        <p:spPr>
          <a:xfrm>
            <a:off x="62866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азообраз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зрач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5"/>
          <p:cNvSpPr/>
          <p:nvPr/>
        </p:nvSpPr>
        <p:spPr>
          <a:xfrm>
            <a:off x="3571920" y="2571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твёр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133720" y="49320"/>
            <a:ext cx="4956120" cy="151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несколькими правильными ответа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6286680" y="39290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зра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12"/>
          <p:cNvSpPr/>
          <p:nvPr/>
        </p:nvSpPr>
        <p:spPr>
          <a:xfrm>
            <a:off x="1000080" y="38577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сцв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13"/>
          <p:cNvSpPr/>
          <p:nvPr/>
        </p:nvSpPr>
        <p:spPr>
          <a:xfrm>
            <a:off x="3643200" y="25002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ез за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14"/>
          <p:cNvSpPr/>
          <p:nvPr/>
        </p:nvSpPr>
        <p:spPr>
          <a:xfrm>
            <a:off x="3643200" y="39290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у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15"/>
          <p:cNvSpPr/>
          <p:nvPr/>
        </p:nvSpPr>
        <p:spPr>
          <a:xfrm>
            <a:off x="628668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ет з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6"/>
          <p:cNvSpPr/>
          <p:nvPr/>
        </p:nvSpPr>
        <p:spPr>
          <a:xfrm>
            <a:off x="1000080" y="25002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меет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0-01-04T08:47:05Z</dcterms:modified>
  <cp:revision>720</cp:revision>
  <dc:subject/>
  <dc:title>Слайд 1</dc:title>
</cp:coreProperties>
</file>