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263-1596-4FDA-9926-F90A83D8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085-3FFD-4827-AA23-5BF9CF86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148-F4D7-4913-B38E-F829CF1A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E5D-60D9-4494-B5D1-1CEF6286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76C-7B9B-47DC-AEBE-C1F2FB08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046-9554-48FF-9EF9-2FECAA0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CAD-CD15-4469-A72B-E2A06272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7C5-1DC6-4C4B-8AA7-645AD93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E81-7913-491A-B71D-534D861B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CE7-B58C-41E0-A4DD-BD6C7F0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9FD-0884-44DA-906B-5686DAD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344-A106-42E2-92FC-9EB5E3A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F230-8AB9-48FB-ADA5-BBA94A0E55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81200" y="853920"/>
            <a:ext cx="778320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571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5857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2428920" y="33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УМК «Школа21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00680"/>
            <a:ext cx="428616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Алдохина И.М. МОУ «СОШ№5» г. Лангепас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 шаблону, размещённому на сайте: </a:t>
            </a:r>
            <a:r>
              <a:rPr b="0" lang="en-US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http://www.nachalka.com/test_shablon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584360" y="480960"/>
            <a:ext cx="5870520" cy="223848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3"/>
          <p:cNvSpPr/>
          <p:nvPr/>
        </p:nvSpPr>
        <p:spPr>
          <a:xfrm>
            <a:off x="78588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личный терм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3571920" y="3357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тутный терм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ий терм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139840" y="407880"/>
            <a:ext cx="4797360" cy="2189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твёрд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го нельзя ни во что прев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139840" y="762120"/>
            <a:ext cx="4797360" cy="174312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3"/>
          <p:cNvSpPr/>
          <p:nvPr/>
        </p:nvSpPr>
        <p:spPr>
          <a:xfrm>
            <a:off x="3500280" y="3714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000080" y="29289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000840" y="442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ичего не пров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2139840" y="73080"/>
            <a:ext cx="4889520" cy="17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28760" y="1643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500040" y="250020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абрики и заводы должны иметь уловители пыли и вред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2"/>
          <p:cNvSpPr/>
          <p:nvPr/>
        </p:nvSpPr>
        <p:spPr>
          <a:xfrm>
            <a:off x="357120" y="392904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 необходимо сделать экологически чи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3"/>
          <p:cNvSpPr/>
          <p:nvPr/>
        </p:nvSpPr>
        <p:spPr>
          <a:xfrm>
            <a:off x="3286080" y="250020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городах и вокруг  высаживать побольше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4"/>
          <p:cNvSpPr/>
          <p:nvPr/>
        </p:nvSpPr>
        <p:spPr>
          <a:xfrm>
            <a:off x="3286080" y="392904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тановить все фабрики и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5"/>
          <p:cNvSpPr/>
          <p:nvPr/>
        </p:nvSpPr>
        <p:spPr>
          <a:xfrm>
            <a:off x="6286680" y="250020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претить пользоваться автотранспор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6"/>
          <p:cNvSpPr/>
          <p:nvPr/>
        </p:nvSpPr>
        <p:spPr>
          <a:xfrm>
            <a:off x="6286680" y="392904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вратить Землю в один огромный 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566720" y="225360"/>
            <a:ext cx="6004080" cy="220680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3"/>
          <p:cNvSpPr/>
          <p:nvPr/>
        </p:nvSpPr>
        <p:spPr>
          <a:xfrm>
            <a:off x="1357200" y="371484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ух плохо проводит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1357200" y="250020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 нагревании воздух расши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1357200" y="492912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 охлаждении воздух сж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139840" y="268200"/>
            <a:ext cx="47973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8</a:t>
            </a:r>
            <a:endParaRPr b="0" lang="en-US" sz="4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1</a:t>
            </a:r>
            <a:endParaRPr b="0" lang="en-US" sz="4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4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2139840" y="268200"/>
            <a:ext cx="47973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ый прямоугольник 3"/>
          <p:cNvSpPr/>
          <p:nvPr/>
        </p:nvSpPr>
        <p:spPr>
          <a:xfrm>
            <a:off x="714240" y="3929040"/>
            <a:ext cx="328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месь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2428920" y="2500200"/>
            <a:ext cx="328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уст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4071960" y="3929040"/>
            <a:ext cx="328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о, что нас окру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39840" y="255600"/>
            <a:ext cx="4797360" cy="174924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3"/>
          <p:cNvSpPr/>
          <p:nvPr/>
        </p:nvSpPr>
        <p:spPr>
          <a:xfrm>
            <a:off x="4143240" y="3929040"/>
            <a:ext cx="328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, азот, 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2428920" y="2500200"/>
            <a:ext cx="328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ород, медь, 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714240" y="3929040"/>
            <a:ext cx="328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хлор, фтор, й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2060640" y="328680"/>
            <a:ext cx="5059440" cy="170172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3"/>
          <p:cNvSpPr/>
          <p:nvPr/>
        </p:nvSpPr>
        <p:spPr>
          <a:xfrm>
            <a:off x="5286240" y="40719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тм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1285920" y="40719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т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328608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идр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139840" y="500040"/>
            <a:ext cx="4810320" cy="121932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3"/>
          <p:cNvSpPr/>
          <p:nvPr/>
        </p:nvSpPr>
        <p:spPr>
          <a:xfrm>
            <a:off x="514368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сши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42900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ж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714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лету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968480" y="517680"/>
            <a:ext cx="5254560" cy="218916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3"/>
          <p:cNvSpPr/>
          <p:nvPr/>
        </p:nvSpPr>
        <p:spPr>
          <a:xfrm>
            <a:off x="5786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з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328608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2030400" y="328680"/>
            <a:ext cx="5119560" cy="170172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3"/>
          <p:cNvSpPr/>
          <p:nvPr/>
        </p:nvSpPr>
        <p:spPr>
          <a:xfrm>
            <a:off x="62866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азообраз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зрач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357192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вёр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133720" y="49320"/>
            <a:ext cx="4956120" cy="151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зра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1000080" y="38577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сцв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з за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5"/>
          <p:cNvSpPr/>
          <p:nvPr/>
        </p:nvSpPr>
        <p:spPr>
          <a:xfrm>
            <a:off x="628668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ет 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6"/>
          <p:cNvSpPr/>
          <p:nvPr/>
        </p:nvSpPr>
        <p:spPr>
          <a:xfrm>
            <a:off x="100008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ет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0-01-04T08:47:05Z</dcterms:modified>
  <cp:revision>720</cp:revision>
  <dc:subject/>
  <dc:title>Слайд 1</dc:title>
</cp:coreProperties>
</file>