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BABB-A3DF-44CE-84AD-2BA5C721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37E-9499-4230-9357-5458EAAB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311-ADA2-4A51-B622-021E3D34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EF0-8241-4D4C-BC91-9AB5FBA0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DD19-91ED-415D-91D6-2532B0D4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7893-9434-4532-A0E8-377057FC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BF2A-4519-4F1D-85C1-60EEC943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118A-E720-45E8-B0FC-D2AA803B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1695-A84B-4F9B-88E1-A6DAAEA6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3C80-49CA-491B-9AC4-83B4A972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7EAD-9719-4C86-AEE0-859618EC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AF0-3D86-4B70-B5D6-B891A551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D81C-9C85-4AC9-AA07-6C055B96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909C-92FC-4834-BF18-0459B288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E2DB-2ADE-4C61-82BA-D861D0E1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B02B-CAFF-452A-9D26-4786E0A0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38CA-F064-48DA-9E19-A764CA91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1C5-4519-4940-8244-D67E115D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B1D3-C3E8-4E75-A298-EAB11E09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76BA-CE19-45A6-BAC5-37E4B0E2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091-1A82-4436-B04B-DBF26CA3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381-737E-469B-8417-F10E6661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0A3C-185C-4F9F-9667-CF2AF50A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8AE-182E-431B-8AF7-80CC6D6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CCCF-03EB-40AC-A357-24EF188124A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E25F-4EBF-4A5A-BB51-823EECD3968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6400800" cy="3308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Использование информационно-коммуникационных технологий на уроках русского языка в 8 класс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755640" y="4051080"/>
            <a:ext cx="78487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стенко Галина Эдуардовн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У СОШ № 2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за внимани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1835280" y="6237360"/>
            <a:ext cx="576000" cy="43164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ма урока: «Понятие о вводных словах, знаки препинания при них, их группы по значению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 вы можете сказать об этих предложениях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рузья, будем строить до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 моем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оект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реставрируем, отремонтируем и сделаем все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-мое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По-моем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знания условий строительства просто необходи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ак ли у вас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ложнено обращением, по моему  (определение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ложнено однородными сказуемыми, по-моему (обстоятельство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ложнено по-моему 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)  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5582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авл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Organization Chart 7"/>
          <p:cNvGrpSpPr/>
          <p:nvPr/>
        </p:nvGrpSpPr>
        <p:grpSpPr>
          <a:xfrm>
            <a:off x="760320" y="1968480"/>
            <a:ext cx="7464240" cy="3505680"/>
            <a:chOff x="760320" y="1968480"/>
            <a:chExt cx="7464240" cy="350568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47520" y="2414160"/>
              <a:ext cx="701640" cy="26128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492440" y="3369960"/>
              <a:ext cx="3600" cy="701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835000" y="2414520"/>
              <a:ext cx="701640" cy="26128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372840" y="1968480"/>
              <a:ext cx="2239200" cy="1402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водные слова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760320" y="4071960"/>
              <a:ext cx="2239200" cy="1402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е являются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членам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редложения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372840" y="4071960"/>
              <a:ext cx="2239200" cy="1402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выделяются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паузой в устной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речи и запятым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на письме.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5985360" y="4071960"/>
              <a:ext cx="2239200" cy="14022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тадия 3.Возвращение к схеме (дополнение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rganization Chart 6"/>
          <p:cNvGrpSpPr/>
          <p:nvPr/>
        </p:nvGrpSpPr>
        <p:grpSpPr>
          <a:xfrm>
            <a:off x="431640" y="1844640"/>
            <a:ext cx="8208360" cy="4536000"/>
            <a:chOff x="431640" y="1844640"/>
            <a:chExt cx="8208360" cy="4536000"/>
          </a:xfrm>
        </p:grpSpPr>
        <p:cxnSp>
          <p:nvCxnSpPr>
            <p:cNvPr id="171" name="_s2052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518440" y="2675520"/>
              <a:ext cx="907920" cy="2873520"/>
            </a:xfrm>
            <a:prstGeom prst="bentConnector3">
              <a:avLst>
                <a:gd name="adj1" fmla="val 12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2053"/>
            <p:cNvCxnSpPr>
              <a:stCxn id="175" idx="0"/>
              <a:endCxn id="173" idx="2"/>
            </p:cNvCxnSpPr>
            <p:nvPr/>
          </p:nvCxnSpPr>
          <p:spPr>
            <a:xfrm flipV="1">
              <a:off x="4536000" y="3658680"/>
              <a:ext cx="3600" cy="90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4"/>
            <p:cNvCxnSpPr>
              <a:stCxn id="177" idx="0"/>
              <a:endCxn id="173" idx="2"/>
            </p:cNvCxnSpPr>
            <p:nvPr/>
          </p:nvCxnSpPr>
          <p:spPr>
            <a:xfrm flipH="1" flipV="1" rot="5400000">
              <a:off x="2645280" y="2675880"/>
              <a:ext cx="907920" cy="2873520"/>
            </a:xfrm>
            <a:prstGeom prst="bentConnector3">
              <a:avLst>
                <a:gd name="adj1" fmla="val 127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2055"/>
            <p:cNvSpPr/>
            <p:nvPr/>
          </p:nvSpPr>
          <p:spPr>
            <a:xfrm>
              <a:off x="3304440" y="1844640"/>
              <a:ext cx="2462400" cy="181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водные слова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2056"/>
            <p:cNvSpPr/>
            <p:nvPr/>
          </p:nvSpPr>
          <p:spPr>
            <a:xfrm>
              <a:off x="431640" y="4566240"/>
              <a:ext cx="2462400" cy="181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е являются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членами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ложения.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_s2057"/>
            <p:cNvSpPr/>
            <p:nvPr/>
          </p:nvSpPr>
          <p:spPr>
            <a:xfrm>
              <a:off x="3304440" y="4566240"/>
              <a:ext cx="2462400" cy="181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ыделяются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аузой в устной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чи, а на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исьме запятыми.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_s2058"/>
            <p:cNvSpPr/>
            <p:nvPr/>
          </p:nvSpPr>
          <p:spPr>
            <a:xfrm>
              <a:off x="6177600" y="4566240"/>
              <a:ext cx="2462400" cy="181440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выражают </a:t>
              </a:r>
              <a:r>
                <a:rPr b="0" lang="ru-RU" sz="2100" spc="-1" strike="noStrike" u="sng">
                  <a:solidFill>
                    <a:srgbClr val="00b200"/>
                  </a:solidFill>
                  <a:uFillTx/>
                  <a:latin typeface="Arial"/>
                  <a:hlinkClick r:id="rId1" action="ppaction://hlinksldjump"/>
                </a:rPr>
                <a:t>отно</a:t>
              </a:r>
              <a:r>
                <a:rPr b="0" lang="ru-RU" sz="2100" spc="-1" strike="noStrike" u="sng">
                  <a:solidFill>
                    <a:srgbClr val="00b200"/>
                  </a:solidFill>
                  <a:uFillTx/>
                  <a:latin typeface="Arial"/>
                  <a:hlinkClick r:id="rId2" action="ppaction://hlinksldjump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00b200"/>
                  </a:solidFill>
                  <a:uFillTx/>
                  <a:latin typeface="Arial"/>
                  <a:hlinkClick r:id="rId3" action="ppaction://hlinksldjump"/>
                </a:rPr>
                <a:t>шение</a:t>
              </a: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  к сооб-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щаемому;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*делятся на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группы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Стадия 4. Выполнение</a:t>
            </a:r>
            <a:br>
              <a:rPr sz="28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 практических зад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пользуя вводные слова, выразите различное отношение к тому сообщению, которое содержится в предложения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в. Завтра будет хорошая погод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в. Эта повесть нам понравила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в. Экскурсия будет интересно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 в. Дорога была ровна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. Корабль причалил к пристан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 в. Сегодня на улице будет тепл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та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сожале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 счасть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ким образ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-перв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о-втор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 Различная степень уверен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 Различные чув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 Источник сообщ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 Порядок мыслей и их связ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2:25:23Z</dcterms:created>
  <dc:creator>Учитель</dc:creator>
  <dc:description/>
  <dc:language>en-US</dc:language>
  <cp:lastModifiedBy>Учитель</cp:lastModifiedBy>
  <dcterms:modified xsi:type="dcterms:W3CDTF">2013-02-14T03:26:39Z</dcterms:modified>
  <cp:revision>8</cp:revision>
  <dc:subject/>
  <dc:title>Использование информационно-коммуникационных технологий на уроках русского языка в 8 классе. </dc:title>
</cp:coreProperties>
</file>