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D2C-C4C1-4B27-B005-4E95F0E8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A0B-213A-44EB-BD4C-1DA37EE2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CB6-6DB0-4BA5-B1CC-B5A01B6A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83F-2E11-4E40-9487-4697CF5E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A778-E827-49CF-9482-FECF8D3B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41CA-330F-4BB7-A3BA-8FE6AFA1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AB93-9B7B-4E40-A8ED-DCE2BFA0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0BFC-7A24-4CD6-93FF-6DEF9DD3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6C3B-91E4-4F82-8F72-63C50AA4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64E4-8549-46CF-AB82-CC5DC56E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6D05-29CE-4122-BA4E-E5CB6290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D18-EF85-4F89-9070-E43A9946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28E3-51AB-4E7D-914D-8FDF50A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AF06-AA9C-46F7-8766-6FBCB243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F36B-EFFB-45F7-B89F-36C3C6AB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28B0-DD9B-412C-94ED-864008EA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06BC-B5E8-4185-A222-F631E495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820-9776-4938-AD71-D4FB5F11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432-590B-493E-AB90-EC5EF689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C9D-4A93-4ED2-BE0F-B41975D5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8F3-05E1-4E57-8663-1B7E09DA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CC2-E4D9-43B2-AC33-18EB6A21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6DA-C5E2-43C9-B290-C3C02C49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C1B-24AC-4FE2-88CB-472847F1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1C66-BE95-40AD-B547-0CDF62997C1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E14C-F260-4FDC-8307-BF343EC0444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6400800" cy="3308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спользование информационно-коммуникационных технологий на уроках русского языка в 8 класс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55640" y="4051080"/>
            <a:ext cx="78487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стенко Галина Эдуардовн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 2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пасибо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а внимани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835280" y="6237360"/>
            <a:ext cx="576000" cy="43164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а урока: «Понятие о вводных словах, знаки препинания при них, их группы по значению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вы можете сказать об этих предложениях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узья, будем строить до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 моем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оект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реставрируем, отремонтируем и сделаем все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-мое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-моем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знания условий строительства просто необходи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к ли у вас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ложнено обращением, по моему  (определени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ложнено однородными сказуемыми, по-моему (обстоятельство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ложнено по-моему 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582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авл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Organization Chart 7"/>
          <p:cNvGrpSpPr/>
          <p:nvPr/>
        </p:nvGrpSpPr>
        <p:grpSpPr>
          <a:xfrm>
            <a:off x="760320" y="1968480"/>
            <a:ext cx="7464240" cy="3505680"/>
            <a:chOff x="760320" y="1968480"/>
            <a:chExt cx="7464240" cy="350568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47520" y="2414160"/>
              <a:ext cx="701640" cy="26128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492440" y="3369960"/>
              <a:ext cx="360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835000" y="2414520"/>
              <a:ext cx="701640" cy="26128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372840" y="1968480"/>
              <a:ext cx="2239200" cy="1402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водные слова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760320" y="4071960"/>
              <a:ext cx="2239200" cy="1402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е являются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членам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редложения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372840" y="4071960"/>
              <a:ext cx="2239200" cy="1402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ыделяются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аузой в устной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речи и запятым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а письме.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5985360" y="4071960"/>
              <a:ext cx="2239200" cy="1402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тадия 3.Возвращение к схеме (дополнение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rganization Chart 6"/>
          <p:cNvGrpSpPr/>
          <p:nvPr/>
        </p:nvGrpSpPr>
        <p:grpSpPr>
          <a:xfrm>
            <a:off x="431640" y="1844640"/>
            <a:ext cx="8208360" cy="4536000"/>
            <a:chOff x="431640" y="1844640"/>
            <a:chExt cx="8208360" cy="4536000"/>
          </a:xfrm>
        </p:grpSpPr>
        <p:cxnSp>
          <p:nvCxnSpPr>
            <p:cNvPr id="171" name="_s2052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518440" y="2675520"/>
              <a:ext cx="907920" cy="2873520"/>
            </a:xfrm>
            <a:prstGeom prst="bentConnector3">
              <a:avLst>
                <a:gd name="adj1" fmla="val 12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2053"/>
            <p:cNvCxnSpPr>
              <a:stCxn id="175" idx="0"/>
              <a:endCxn id="173" idx="2"/>
            </p:cNvCxnSpPr>
            <p:nvPr/>
          </p:nvCxnSpPr>
          <p:spPr>
            <a:xfrm flipV="1">
              <a:off x="4536000" y="3658680"/>
              <a:ext cx="3600" cy="90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4"/>
            <p:cNvCxnSpPr>
              <a:stCxn id="177" idx="0"/>
              <a:endCxn id="173" idx="2"/>
            </p:cNvCxnSpPr>
            <p:nvPr/>
          </p:nvCxnSpPr>
          <p:spPr>
            <a:xfrm flipH="1" flipV="1" rot="5400000">
              <a:off x="2645280" y="2675880"/>
              <a:ext cx="907920" cy="2873520"/>
            </a:xfrm>
            <a:prstGeom prst="bentConnector3">
              <a:avLst>
                <a:gd name="adj1" fmla="val 12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2055"/>
            <p:cNvSpPr/>
            <p:nvPr/>
          </p:nvSpPr>
          <p:spPr>
            <a:xfrm>
              <a:off x="3304440" y="1844640"/>
              <a:ext cx="2462400" cy="181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водные слова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_s2056"/>
            <p:cNvSpPr/>
            <p:nvPr/>
          </p:nvSpPr>
          <p:spPr>
            <a:xfrm>
              <a:off x="431640" y="4566240"/>
              <a:ext cx="2462400" cy="181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е являются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ленами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ложения.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2057"/>
            <p:cNvSpPr/>
            <p:nvPr/>
          </p:nvSpPr>
          <p:spPr>
            <a:xfrm>
              <a:off x="3304440" y="4566240"/>
              <a:ext cx="2462400" cy="181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ыделяются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аузой в устной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чи, а на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исьме запятыми.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2058"/>
            <p:cNvSpPr/>
            <p:nvPr/>
          </p:nvSpPr>
          <p:spPr>
            <a:xfrm>
              <a:off x="6177600" y="4566240"/>
              <a:ext cx="2462400" cy="181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выражают </a:t>
              </a:r>
              <a:r>
                <a:rPr b="0" lang="ru-RU" sz="2100" spc="-1" strike="noStrike" u="sng">
                  <a:solidFill>
                    <a:srgbClr val="00b200"/>
                  </a:solidFill>
                  <a:uFillTx/>
                  <a:latin typeface="Arial"/>
                  <a:hlinkClick r:id="rId1" action="ppaction://hlinksldjump"/>
                </a:rPr>
                <a:t>отно</a:t>
              </a:r>
              <a:r>
                <a:rPr b="0" lang="ru-RU" sz="2100" spc="-1" strike="noStrike" u="sng">
                  <a:solidFill>
                    <a:srgbClr val="00b200"/>
                  </a:solidFill>
                  <a:uFillTx/>
                  <a:latin typeface="Arial"/>
                  <a:hlinkClick r:id="rId2" action="ppaction://hlinksldjump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00b200"/>
                  </a:solidFill>
                  <a:uFillTx/>
                  <a:latin typeface="Arial"/>
                  <a:hlinkClick r:id="rId3" action="ppaction://hlinksldjump"/>
                </a:rPr>
                <a:t>шение</a:t>
              </a: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  к сооб-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щаемому;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*делятся на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группы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тадия 4. Выполнение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практических зад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пользуя вводные слова, выразите различное отношение к тому сообщению, которое содержится в предложения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в. Завтра будет хорошая пого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 в. Эта повесть нам понравилас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в. Экскурсия будет интерес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 в. Дорога была ровна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в. Корабль причалил к приста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 в. Сегодня на улице будет тепл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та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сожале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счасть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-перв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-втор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Различная степень уверен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Различные чув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Источник сообщ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Порядок мыслей и их связ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2:25:23Z</dcterms:created>
  <dc:creator>Учитель</dc:creator>
  <dc:description/>
  <dc:language>en-US</dc:language>
  <cp:lastModifiedBy>Учитель</cp:lastModifiedBy>
  <dcterms:modified xsi:type="dcterms:W3CDTF">2013-02-14T03:26:39Z</dcterms:modified>
  <cp:revision>8</cp:revision>
  <dc:subject/>
  <dc:title>Использование информационно-коммуникационных технологий на уроках русского языка в 8 классе. </dc:title>
</cp:coreProperties>
</file>