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167F-9DDC-4606-A925-0F454236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894E-8CCD-435B-B279-29C5DCA3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C083-1827-46D1-984D-F803DE56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7572-AEEF-45F1-B873-45FF1ABD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7951-5F16-4D49-900F-CDA41663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B5CE-B5CE-412C-B437-6306D02F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5593-D44F-46A4-B35C-0731A6DB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8EFD-7CF6-45E8-87AC-EDC31155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BBAE-DBD8-473D-AA7C-F12A0B1B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3180-A5C8-4987-8638-63152C02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C7D4-15ED-44D6-A671-2AF292D5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1A35-1F54-47EA-A389-82B6A10F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DD84-5714-4CF0-B6A0-B63A826F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BB7C-20CA-425C-A141-9EF3DC14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FB6A-4374-4D80-8288-F23402D2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D4A1-A970-47AB-BAF1-F3DBCF2A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D581-3A0D-49A3-A4F7-ACF42D70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71E7-EEAA-4499-A35B-B29FEDD6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75E0-C2C2-4AC6-BD18-24B7E185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6D3-209E-4BBE-B77E-5EBA4B9B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A266-2A6A-4615-A7DC-A63FC7B3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FCD0-3A1B-4571-8B05-3E422AAE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AB8-5840-4878-B4AF-18C410D3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1AC-8D76-4532-8506-7DB65025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E4E4-B08E-46CF-BF86-F96158E31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0BD9-F2A1-46DF-A882-B37981F5A3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493920" y="771120"/>
            <a:ext cx="10289880" cy="368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ff0000"/>
                </a:solidFill>
                <a:latin typeface="Arial"/>
              </a:rPr>
              <a:t>Вода. </a:t>
            </a:r>
            <a:br>
              <a:rPr sz="8000"/>
            </a:b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71600" y="4382640"/>
            <a:ext cx="820728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Руководитель:Попивненко Т.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Выполнил:ученик  3 «Б» клас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Варданян Эрик Вовико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9">
            <a:hlinkClick r:id="" action="ppaction://hlinkshowjump?jump=nextslide"/>
          </p:cNvPr>
          <p:cNvSpPr/>
          <p:nvPr/>
        </p:nvSpPr>
        <p:spPr>
          <a:xfrm>
            <a:off x="347760" y="6329520"/>
            <a:ext cx="609480" cy="288720"/>
          </a:xfrm>
          <a:custGeom>
            <a:avLst/>
            <a:gdLst>
              <a:gd name="textAreaLeft" fmla="*/ 18720 w 609480"/>
              <a:gd name="textAreaRight" fmla="*/ 590760 w 6094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5567" h="21600">
                <a:moveTo>
                  <a:pt x="0" y="0"/>
                </a:moveTo>
                <a:lnTo>
                  <a:pt x="45567" y="0"/>
                </a:lnTo>
                <a:lnTo>
                  <a:pt x="45567" y="21600"/>
                </a:lnTo>
                <a:lnTo>
                  <a:pt x="0" y="21600"/>
                </a:lnTo>
                <a:close/>
              </a:path>
              <a:path fill="lightenLess" w="45567" h="21600">
                <a:moveTo>
                  <a:pt x="0" y="0"/>
                </a:moveTo>
                <a:lnTo>
                  <a:pt x="45567" y="0"/>
                </a:lnTo>
                <a:lnTo>
                  <a:pt x="44167" y="1400"/>
                </a:lnTo>
                <a:lnTo>
                  <a:pt x="1400" y="1400"/>
                </a:lnTo>
                <a:close/>
              </a:path>
              <a:path fill="darken" w="45567" h="21600">
                <a:moveTo>
                  <a:pt x="45567" y="0"/>
                </a:moveTo>
                <a:lnTo>
                  <a:pt x="45567" y="21600"/>
                </a:lnTo>
                <a:lnTo>
                  <a:pt x="44167" y="20200"/>
                </a:lnTo>
                <a:lnTo>
                  <a:pt x="44167" y="1400"/>
                </a:lnTo>
                <a:close/>
              </a:path>
              <a:path fill="darkenLess" w="45567" h="21600">
                <a:moveTo>
                  <a:pt x="455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67" y="20200"/>
                </a:lnTo>
                <a:close/>
              </a:path>
              <a:path fill="lighten" w="455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67" h="21600">
                <a:moveTo>
                  <a:pt x="15777" y="3794"/>
                </a:moveTo>
                <a:lnTo>
                  <a:pt x="29790" y="10800"/>
                </a:lnTo>
                <a:lnTo>
                  <a:pt x="157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0">
            <a:hlinkClick r:id="" action="ppaction://hlinkshowjump?jump=previousslide"/>
          </p:cNvPr>
          <p:cNvSpPr/>
          <p:nvPr/>
        </p:nvSpPr>
        <p:spPr>
          <a:xfrm>
            <a:off x="1147680" y="6313320"/>
            <a:ext cx="696960" cy="320760"/>
          </a:xfrm>
          <a:custGeom>
            <a:avLst/>
            <a:gdLst>
              <a:gd name="textAreaLeft" fmla="*/ 20520 w 696960"/>
              <a:gd name="textAreaRight" fmla="*/ 676440 w 696960"/>
              <a:gd name="textAreaTop" fmla="*/ 20520 h 320760"/>
              <a:gd name="textAreaBottom" fmla="*/ 300240 h 320760"/>
            </a:gdLst>
            <a:ahLst/>
            <a:rect l="textAreaLeft" t="textAreaTop" r="textAreaRight" b="textAreaBottom"/>
            <a:pathLst>
              <a:path w="46905" h="21600">
                <a:moveTo>
                  <a:pt x="0" y="0"/>
                </a:moveTo>
                <a:lnTo>
                  <a:pt x="46905" y="0"/>
                </a:lnTo>
                <a:lnTo>
                  <a:pt x="46905" y="21600"/>
                </a:lnTo>
                <a:lnTo>
                  <a:pt x="0" y="21600"/>
                </a:lnTo>
                <a:close/>
              </a:path>
              <a:path fill="lightenLess" w="46905" h="21600">
                <a:moveTo>
                  <a:pt x="0" y="0"/>
                </a:moveTo>
                <a:lnTo>
                  <a:pt x="46905" y="0"/>
                </a:lnTo>
                <a:lnTo>
                  <a:pt x="45505" y="1400"/>
                </a:lnTo>
                <a:lnTo>
                  <a:pt x="1400" y="1400"/>
                </a:lnTo>
                <a:close/>
              </a:path>
              <a:path fill="darken" w="46905" h="21600">
                <a:moveTo>
                  <a:pt x="46905" y="0"/>
                </a:moveTo>
                <a:lnTo>
                  <a:pt x="46905" y="21600"/>
                </a:lnTo>
                <a:lnTo>
                  <a:pt x="45505" y="20200"/>
                </a:lnTo>
                <a:lnTo>
                  <a:pt x="45505" y="1400"/>
                </a:lnTo>
                <a:close/>
              </a:path>
              <a:path fill="darkenLess" w="46905" h="21600">
                <a:moveTo>
                  <a:pt x="4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505" y="20200"/>
                </a:lnTo>
                <a:close/>
              </a:path>
              <a:path fill="lighten" w="4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905" h="21600">
                <a:moveTo>
                  <a:pt x="16446" y="7493"/>
                </a:moveTo>
                <a:lnTo>
                  <a:pt x="19954" y="7493"/>
                </a:lnTo>
                <a:lnTo>
                  <a:pt x="19954" y="12828"/>
                </a:lnTo>
                <a:cubicBezTo>
                  <a:pt x="19954" y="13751"/>
                  <a:pt x="20754" y="14482"/>
                  <a:pt x="21790" y="14482"/>
                </a:cubicBezTo>
                <a:lnTo>
                  <a:pt x="23452" y="14482"/>
                </a:lnTo>
                <a:cubicBezTo>
                  <a:pt x="24488" y="14482"/>
                  <a:pt x="25289" y="13751"/>
                  <a:pt x="25289" y="12828"/>
                </a:cubicBezTo>
                <a:lnTo>
                  <a:pt x="25289" y="7493"/>
                </a:lnTo>
                <a:lnTo>
                  <a:pt x="23452" y="7493"/>
                </a:lnTo>
                <a:lnTo>
                  <a:pt x="26960" y="3985"/>
                </a:lnTo>
                <a:lnTo>
                  <a:pt x="30633" y="7493"/>
                </a:lnTo>
                <a:lnTo>
                  <a:pt x="28797" y="7493"/>
                </a:lnTo>
                <a:lnTo>
                  <a:pt x="28797" y="12828"/>
                </a:lnTo>
                <a:cubicBezTo>
                  <a:pt x="28797" y="15596"/>
                  <a:pt x="26220" y="18155"/>
                  <a:pt x="23452" y="18155"/>
                </a:cubicBezTo>
                <a:lnTo>
                  <a:pt x="21790" y="18155"/>
                </a:lnTo>
                <a:cubicBezTo>
                  <a:pt x="19022" y="18155"/>
                  <a:pt x="16446" y="15596"/>
                  <a:pt x="16446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Содержимое 3" descr="реап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Содержимое 3" descr="1223661339_water_by_nicolas5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1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Содержимое 3" descr="порнпо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C:\Users\Эирик\Desktop\578.jpg"/>
          <p:cNvPicPr/>
          <p:nvPr/>
        </p:nvPicPr>
        <p:blipFill>
          <a:blip r:embed="rId1"/>
          <a:stretch/>
        </p:blipFill>
        <p:spPr>
          <a:xfrm>
            <a:off x="0" y="0"/>
            <a:ext cx="528336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Улыбающееся лицо 6"/>
          <p:cNvSpPr/>
          <p:nvPr/>
        </p:nvSpPr>
        <p:spPr>
          <a:xfrm>
            <a:off x="5661000" y="1887480"/>
            <a:ext cx="3251160" cy="330840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776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Что такое вода?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0040" y="113184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да́ - прозрачная бесцветная жидкость, не имеет цвета и запаха. Химическая формула Н2O. В твёрдом состоянии называется лёд или снег, а в газообразном - [водяной] пар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09480" y="18162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1292400" y="16304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4284720" y="1989000"/>
            <a:ext cx="40384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493560" y="1373040"/>
            <a:ext cx="83534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790560" y="3213000"/>
            <a:ext cx="83534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552600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2"/>
          <p:cNvSpPr/>
          <p:nvPr/>
        </p:nvSpPr>
        <p:spPr>
          <a:xfrm>
            <a:off x="3635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36">
            <a:hlinkClick r:id="" action="ppaction://hlinkshowjump?jump=nextslide"/>
          </p:cNvPr>
          <p:cNvSpPr/>
          <p:nvPr/>
        </p:nvSpPr>
        <p:spPr>
          <a:xfrm>
            <a:off x="247680" y="6357960"/>
            <a:ext cx="681120" cy="304920"/>
          </a:xfrm>
          <a:custGeom>
            <a:avLst/>
            <a:gdLst>
              <a:gd name="textAreaLeft" fmla="*/ 19440 w 681120"/>
              <a:gd name="textAreaRight" fmla="*/ 661680 w 681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218" h="21600">
                <a:moveTo>
                  <a:pt x="0" y="0"/>
                </a:moveTo>
                <a:lnTo>
                  <a:pt x="48218" y="0"/>
                </a:lnTo>
                <a:lnTo>
                  <a:pt x="48218" y="21600"/>
                </a:lnTo>
                <a:lnTo>
                  <a:pt x="0" y="21600"/>
                </a:lnTo>
                <a:close/>
              </a:path>
              <a:path fill="lightenLess" w="48218" h="21600">
                <a:moveTo>
                  <a:pt x="0" y="0"/>
                </a:moveTo>
                <a:lnTo>
                  <a:pt x="48218" y="0"/>
                </a:lnTo>
                <a:lnTo>
                  <a:pt x="46818" y="1400"/>
                </a:lnTo>
                <a:lnTo>
                  <a:pt x="1400" y="1400"/>
                </a:lnTo>
                <a:close/>
              </a:path>
              <a:path fill="darken" w="48218" h="21600">
                <a:moveTo>
                  <a:pt x="48218" y="0"/>
                </a:moveTo>
                <a:lnTo>
                  <a:pt x="48218" y="21600"/>
                </a:lnTo>
                <a:lnTo>
                  <a:pt x="46818" y="20200"/>
                </a:lnTo>
                <a:lnTo>
                  <a:pt x="46818" y="1400"/>
                </a:lnTo>
                <a:close/>
              </a:path>
              <a:path fill="darkenLess" w="48218" h="21600">
                <a:moveTo>
                  <a:pt x="48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818" y="20200"/>
                </a:lnTo>
                <a:close/>
              </a:path>
              <a:path fill="lighten" w="48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218" h="21600">
                <a:moveTo>
                  <a:pt x="17102" y="3794"/>
                </a:moveTo>
                <a:lnTo>
                  <a:pt x="31115" y="10800"/>
                </a:lnTo>
                <a:lnTo>
                  <a:pt x="17102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7">
            <a:hlinkClick r:id="" action="ppaction://hlinkshowjump?jump=previousslide"/>
          </p:cNvPr>
          <p:cNvSpPr/>
          <p:nvPr/>
        </p:nvSpPr>
        <p:spPr>
          <a:xfrm>
            <a:off x="1073160" y="6356520"/>
            <a:ext cx="581040" cy="304560"/>
          </a:xfrm>
          <a:custGeom>
            <a:avLst/>
            <a:gdLst>
              <a:gd name="textAreaLeft" fmla="*/ 19440 w 581040"/>
              <a:gd name="textAreaRight" fmla="*/ 561600 w 5810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1185" h="21600">
                <a:moveTo>
                  <a:pt x="0" y="0"/>
                </a:moveTo>
                <a:lnTo>
                  <a:pt x="41185" y="0"/>
                </a:lnTo>
                <a:lnTo>
                  <a:pt x="41185" y="21600"/>
                </a:lnTo>
                <a:lnTo>
                  <a:pt x="0" y="21600"/>
                </a:lnTo>
                <a:close/>
              </a:path>
              <a:path fill="lightenLess" w="41185" h="21600">
                <a:moveTo>
                  <a:pt x="0" y="0"/>
                </a:moveTo>
                <a:lnTo>
                  <a:pt x="41185" y="0"/>
                </a:lnTo>
                <a:lnTo>
                  <a:pt x="39785" y="1400"/>
                </a:lnTo>
                <a:lnTo>
                  <a:pt x="1400" y="1400"/>
                </a:lnTo>
                <a:close/>
              </a:path>
              <a:path fill="darken" w="41185" h="21600">
                <a:moveTo>
                  <a:pt x="41185" y="0"/>
                </a:moveTo>
                <a:lnTo>
                  <a:pt x="41185" y="21600"/>
                </a:lnTo>
                <a:lnTo>
                  <a:pt x="39785" y="20200"/>
                </a:lnTo>
                <a:lnTo>
                  <a:pt x="39785" y="1400"/>
                </a:lnTo>
                <a:close/>
              </a:path>
              <a:path fill="darkenLess" w="41185" h="21600">
                <a:moveTo>
                  <a:pt x="41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85" y="20200"/>
                </a:lnTo>
                <a:close/>
              </a:path>
              <a:path fill="lighten" w="41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185" h="21600">
                <a:moveTo>
                  <a:pt x="13586" y="7493"/>
                </a:moveTo>
                <a:lnTo>
                  <a:pt x="17094" y="7493"/>
                </a:lnTo>
                <a:lnTo>
                  <a:pt x="17094" y="12828"/>
                </a:lnTo>
                <a:cubicBezTo>
                  <a:pt x="17094" y="13751"/>
                  <a:pt x="17895" y="14482"/>
                  <a:pt x="18930" y="14482"/>
                </a:cubicBezTo>
                <a:lnTo>
                  <a:pt x="20593" y="14482"/>
                </a:lnTo>
                <a:cubicBezTo>
                  <a:pt x="21628" y="14482"/>
                  <a:pt x="22429" y="13751"/>
                  <a:pt x="22429" y="12828"/>
                </a:cubicBezTo>
                <a:lnTo>
                  <a:pt x="22429" y="7493"/>
                </a:lnTo>
                <a:lnTo>
                  <a:pt x="20593" y="7493"/>
                </a:lnTo>
                <a:lnTo>
                  <a:pt x="24100" y="3985"/>
                </a:lnTo>
                <a:lnTo>
                  <a:pt x="27773" y="7493"/>
                </a:lnTo>
                <a:lnTo>
                  <a:pt x="25937" y="7493"/>
                </a:lnTo>
                <a:lnTo>
                  <a:pt x="25937" y="12828"/>
                </a:lnTo>
                <a:cubicBezTo>
                  <a:pt x="25937" y="15596"/>
                  <a:pt x="23360" y="18155"/>
                  <a:pt x="20593" y="18155"/>
                </a:cubicBezTo>
                <a:lnTo>
                  <a:pt x="18930" y="18155"/>
                </a:lnTo>
                <a:cubicBezTo>
                  <a:pt x="16162" y="18155"/>
                  <a:pt x="13586" y="15596"/>
                  <a:pt x="13586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0">
    <p:wheel spokes="8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Содержимое 3" descr="12946307_44714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9">
            <a:hlinkClick r:id="" action="ppaction://hlinkshowjump?jump=nextslide"/>
          </p:cNvPr>
          <p:cNvSpPr/>
          <p:nvPr/>
        </p:nvSpPr>
        <p:spPr>
          <a:xfrm>
            <a:off x="363600" y="6399360"/>
            <a:ext cx="492120" cy="233280"/>
          </a:xfrm>
          <a:custGeom>
            <a:avLst/>
            <a:gdLst>
              <a:gd name="textAreaLeft" fmla="*/ 15120 w 492120"/>
              <a:gd name="textAreaRight" fmla="*/ 477000 w 492120"/>
              <a:gd name="textAreaTop" fmla="*/ 15120 h 233280"/>
              <a:gd name="textAreaBottom" fmla="*/ 218160 h 233280"/>
            </a:gdLst>
            <a:ahLst/>
            <a:rect l="textAreaLeft" t="textAreaTop" r="textAreaRight" b="textAreaBottom"/>
            <a:pathLst>
              <a:path w="45530" h="21600">
                <a:moveTo>
                  <a:pt x="0" y="0"/>
                </a:moveTo>
                <a:lnTo>
                  <a:pt x="45530" y="0"/>
                </a:lnTo>
                <a:lnTo>
                  <a:pt x="45530" y="21600"/>
                </a:lnTo>
                <a:lnTo>
                  <a:pt x="0" y="21600"/>
                </a:lnTo>
                <a:close/>
              </a:path>
              <a:path fill="lightenLess" w="45530" h="21600">
                <a:moveTo>
                  <a:pt x="0" y="0"/>
                </a:moveTo>
                <a:lnTo>
                  <a:pt x="45530" y="0"/>
                </a:lnTo>
                <a:lnTo>
                  <a:pt x="44130" y="1400"/>
                </a:lnTo>
                <a:lnTo>
                  <a:pt x="1400" y="1400"/>
                </a:lnTo>
                <a:close/>
              </a:path>
              <a:path fill="darken" w="45530" h="21600">
                <a:moveTo>
                  <a:pt x="45530" y="0"/>
                </a:moveTo>
                <a:lnTo>
                  <a:pt x="45530" y="21600"/>
                </a:lnTo>
                <a:lnTo>
                  <a:pt x="44130" y="20200"/>
                </a:lnTo>
                <a:lnTo>
                  <a:pt x="44130" y="1400"/>
                </a:lnTo>
                <a:close/>
              </a:path>
              <a:path fill="darkenLess" w="45530" h="21600">
                <a:moveTo>
                  <a:pt x="455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30" y="20200"/>
                </a:lnTo>
                <a:close/>
              </a:path>
              <a:path fill="lighten" w="455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30" h="21600">
                <a:moveTo>
                  <a:pt x="15758" y="3794"/>
                </a:moveTo>
                <a:lnTo>
                  <a:pt x="29771" y="10800"/>
                </a:lnTo>
                <a:lnTo>
                  <a:pt x="15758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0">
            <a:hlinkClick r:id="" action="ppaction://hlinkshowjump?jump=previousslide"/>
          </p:cNvPr>
          <p:cNvSpPr/>
          <p:nvPr/>
        </p:nvSpPr>
        <p:spPr>
          <a:xfrm>
            <a:off x="1044720" y="6372360"/>
            <a:ext cx="465120" cy="231480"/>
          </a:xfrm>
          <a:custGeom>
            <a:avLst/>
            <a:gdLst>
              <a:gd name="textAreaLeft" fmla="*/ 14760 w 465120"/>
              <a:gd name="textAreaRight" fmla="*/ 450360 w 465120"/>
              <a:gd name="textAreaTop" fmla="*/ 14760 h 231480"/>
              <a:gd name="textAreaBottom" fmla="*/ 216720 h 231480"/>
            </a:gdLst>
            <a:ahLst/>
            <a:rect l="textAreaLeft" t="textAreaTop" r="textAreaRight" b="textAreaBottom"/>
            <a:pathLst>
              <a:path w="43368" h="21600">
                <a:moveTo>
                  <a:pt x="0" y="0"/>
                </a:moveTo>
                <a:lnTo>
                  <a:pt x="43368" y="0"/>
                </a:lnTo>
                <a:lnTo>
                  <a:pt x="43368" y="21600"/>
                </a:lnTo>
                <a:lnTo>
                  <a:pt x="0" y="21600"/>
                </a:lnTo>
                <a:close/>
              </a:path>
              <a:path fill="lightenLess" w="43368" h="21600">
                <a:moveTo>
                  <a:pt x="0" y="0"/>
                </a:moveTo>
                <a:lnTo>
                  <a:pt x="43368" y="0"/>
                </a:lnTo>
                <a:lnTo>
                  <a:pt x="41968" y="1400"/>
                </a:lnTo>
                <a:lnTo>
                  <a:pt x="1400" y="1400"/>
                </a:lnTo>
                <a:close/>
              </a:path>
              <a:path fill="darken" w="43368" h="21600">
                <a:moveTo>
                  <a:pt x="43368" y="0"/>
                </a:moveTo>
                <a:lnTo>
                  <a:pt x="43368" y="21600"/>
                </a:lnTo>
                <a:lnTo>
                  <a:pt x="41968" y="20200"/>
                </a:lnTo>
                <a:lnTo>
                  <a:pt x="41968" y="1400"/>
                </a:lnTo>
                <a:close/>
              </a:path>
              <a:path fill="darkenLess" w="43368" h="21600">
                <a:moveTo>
                  <a:pt x="433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68" y="20200"/>
                </a:lnTo>
                <a:close/>
              </a:path>
              <a:path fill="lighten" w="433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68" h="21600">
                <a:moveTo>
                  <a:pt x="14677" y="7493"/>
                </a:moveTo>
                <a:lnTo>
                  <a:pt x="18185" y="7493"/>
                </a:lnTo>
                <a:lnTo>
                  <a:pt x="18185" y="12828"/>
                </a:lnTo>
                <a:cubicBezTo>
                  <a:pt x="18185" y="13751"/>
                  <a:pt x="18986" y="14482"/>
                  <a:pt x="20021" y="14482"/>
                </a:cubicBezTo>
                <a:lnTo>
                  <a:pt x="21684" y="14482"/>
                </a:lnTo>
                <a:cubicBezTo>
                  <a:pt x="22720" y="14482"/>
                  <a:pt x="23520" y="13751"/>
                  <a:pt x="23520" y="12828"/>
                </a:cubicBezTo>
                <a:lnTo>
                  <a:pt x="23520" y="7493"/>
                </a:lnTo>
                <a:lnTo>
                  <a:pt x="21684" y="7493"/>
                </a:lnTo>
                <a:lnTo>
                  <a:pt x="25191" y="3985"/>
                </a:lnTo>
                <a:lnTo>
                  <a:pt x="28864" y="7493"/>
                </a:lnTo>
                <a:lnTo>
                  <a:pt x="27028" y="7493"/>
                </a:lnTo>
                <a:lnTo>
                  <a:pt x="27028" y="12828"/>
                </a:lnTo>
                <a:cubicBezTo>
                  <a:pt x="27028" y="15596"/>
                  <a:pt x="24452" y="18155"/>
                  <a:pt x="21684" y="18155"/>
                </a:cubicBezTo>
                <a:lnTo>
                  <a:pt x="20021" y="18155"/>
                </a:lnTo>
                <a:cubicBezTo>
                  <a:pt x="17254" y="18155"/>
                  <a:pt x="14677" y="15596"/>
                  <a:pt x="14677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3"/>
          <p:cNvSpPr/>
          <p:nvPr/>
        </p:nvSpPr>
        <p:spPr>
          <a:xfrm>
            <a:off x="0" y="465120"/>
            <a:ext cx="9304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а - очень распространённое вещество на Земле, около ¾ поверхности которой покрыто водой, составляющей океаны, моря, озера, реки и т. п. Также вода в газообразном состоянии находится в атмосфере планеты в виде облаков, туманов и т. п. При конденсации выводится из атмосферы в виде атмосферных осадков (дождь, снег, град, роса и т. д.). В совокупности водная оболочка Земли называется гидросферой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Является активным растворителем. В природных условиях всегда содержит растворённые вещества (соли, газы и т. д)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b2ff1"/>
              </a:solidFill>
              <a:latin typeface="Arial"/>
            </a:endParaRPr>
          </a:p>
        </p:txBody>
      </p:sp>
      <p:sp>
        <p:nvSpPr>
          <p:cNvPr id="184" name="AutoShape 21">
            <a:hlinkClick r:id="" action="ppaction://hlinkshowjump?jump=nextslide"/>
          </p:cNvPr>
          <p:cNvSpPr/>
          <p:nvPr/>
        </p:nvSpPr>
        <p:spPr>
          <a:xfrm>
            <a:off x="609480" y="6284880"/>
            <a:ext cx="552600" cy="289080"/>
          </a:xfrm>
          <a:custGeom>
            <a:avLst/>
            <a:gdLst>
              <a:gd name="textAreaLeft" fmla="*/ 18720 w 552600"/>
              <a:gd name="textAreaRight" fmla="*/ 533880 w 5526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1266" h="21600">
                <a:moveTo>
                  <a:pt x="0" y="0"/>
                </a:moveTo>
                <a:lnTo>
                  <a:pt x="41266" y="0"/>
                </a:lnTo>
                <a:lnTo>
                  <a:pt x="41266" y="21600"/>
                </a:lnTo>
                <a:lnTo>
                  <a:pt x="0" y="21600"/>
                </a:lnTo>
                <a:close/>
              </a:path>
              <a:path fill="lightenLess" w="41266" h="21600">
                <a:moveTo>
                  <a:pt x="0" y="0"/>
                </a:moveTo>
                <a:lnTo>
                  <a:pt x="41266" y="0"/>
                </a:lnTo>
                <a:lnTo>
                  <a:pt x="39866" y="1400"/>
                </a:lnTo>
                <a:lnTo>
                  <a:pt x="1400" y="1400"/>
                </a:lnTo>
                <a:close/>
              </a:path>
              <a:path fill="darken" w="41266" h="21600">
                <a:moveTo>
                  <a:pt x="41266" y="0"/>
                </a:moveTo>
                <a:lnTo>
                  <a:pt x="41266" y="21600"/>
                </a:lnTo>
                <a:lnTo>
                  <a:pt x="39866" y="20200"/>
                </a:lnTo>
                <a:lnTo>
                  <a:pt x="39866" y="1400"/>
                </a:lnTo>
                <a:close/>
              </a:path>
              <a:path fill="darkenLess" w="41266" h="21600">
                <a:moveTo>
                  <a:pt x="41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66" y="20200"/>
                </a:lnTo>
                <a:close/>
              </a:path>
              <a:path fill="lighten" w="41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266" h="21600">
                <a:moveTo>
                  <a:pt x="13626" y="3794"/>
                </a:moveTo>
                <a:lnTo>
                  <a:pt x="27639" y="10800"/>
                </a:lnTo>
                <a:lnTo>
                  <a:pt x="13626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22">
            <a:hlinkClick r:id="" action="ppaction://hlinkshowjump?jump=previousslide"/>
          </p:cNvPr>
          <p:cNvSpPr/>
          <p:nvPr/>
        </p:nvSpPr>
        <p:spPr>
          <a:xfrm>
            <a:off x="1305000" y="6284880"/>
            <a:ext cx="566640" cy="289080"/>
          </a:xfrm>
          <a:custGeom>
            <a:avLst/>
            <a:gdLst>
              <a:gd name="textAreaLeft" fmla="*/ 18720 w 566640"/>
              <a:gd name="textAreaRight" fmla="*/ 547920 w 566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2313" h="21600">
                <a:moveTo>
                  <a:pt x="0" y="0"/>
                </a:moveTo>
                <a:lnTo>
                  <a:pt x="42313" y="0"/>
                </a:lnTo>
                <a:lnTo>
                  <a:pt x="42313" y="21600"/>
                </a:lnTo>
                <a:lnTo>
                  <a:pt x="0" y="21600"/>
                </a:lnTo>
                <a:close/>
              </a:path>
              <a:path fill="lightenLess" w="42313" h="21600">
                <a:moveTo>
                  <a:pt x="0" y="0"/>
                </a:moveTo>
                <a:lnTo>
                  <a:pt x="42313" y="0"/>
                </a:lnTo>
                <a:lnTo>
                  <a:pt x="40913" y="1400"/>
                </a:lnTo>
                <a:lnTo>
                  <a:pt x="1400" y="1400"/>
                </a:lnTo>
                <a:close/>
              </a:path>
              <a:path fill="darken" w="42313" h="21600">
                <a:moveTo>
                  <a:pt x="42313" y="0"/>
                </a:moveTo>
                <a:lnTo>
                  <a:pt x="42313" y="21600"/>
                </a:lnTo>
                <a:lnTo>
                  <a:pt x="40913" y="20200"/>
                </a:lnTo>
                <a:lnTo>
                  <a:pt x="40913" y="1400"/>
                </a:lnTo>
                <a:close/>
              </a:path>
              <a:path fill="darkenLess" w="42313" h="21600">
                <a:moveTo>
                  <a:pt x="42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13" y="20200"/>
                </a:lnTo>
                <a:close/>
              </a:path>
              <a:path fill="lighten" w="42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313" h="21600">
                <a:moveTo>
                  <a:pt x="14150" y="7493"/>
                </a:moveTo>
                <a:lnTo>
                  <a:pt x="17658" y="7493"/>
                </a:lnTo>
                <a:lnTo>
                  <a:pt x="17658" y="12828"/>
                </a:lnTo>
                <a:cubicBezTo>
                  <a:pt x="17658" y="13751"/>
                  <a:pt x="18459" y="14482"/>
                  <a:pt x="19494" y="14482"/>
                </a:cubicBezTo>
                <a:lnTo>
                  <a:pt x="21157" y="14482"/>
                </a:lnTo>
                <a:cubicBezTo>
                  <a:pt x="22192" y="14482"/>
                  <a:pt x="22993" y="13751"/>
                  <a:pt x="22993" y="12828"/>
                </a:cubicBezTo>
                <a:lnTo>
                  <a:pt x="22993" y="7493"/>
                </a:lnTo>
                <a:lnTo>
                  <a:pt x="21157" y="7493"/>
                </a:lnTo>
                <a:lnTo>
                  <a:pt x="24664" y="3985"/>
                </a:lnTo>
                <a:lnTo>
                  <a:pt x="28337" y="7493"/>
                </a:lnTo>
                <a:lnTo>
                  <a:pt x="26501" y="7493"/>
                </a:lnTo>
                <a:lnTo>
                  <a:pt x="26501" y="12828"/>
                </a:lnTo>
                <a:cubicBezTo>
                  <a:pt x="26501" y="15596"/>
                  <a:pt x="23924" y="18155"/>
                  <a:pt x="21157" y="18155"/>
                </a:cubicBezTo>
                <a:lnTo>
                  <a:pt x="19494" y="18155"/>
                </a:lnTo>
                <a:cubicBezTo>
                  <a:pt x="16727" y="18155"/>
                  <a:pt x="14150" y="15596"/>
                  <a:pt x="1415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6" descr="C:\Users\Эирик\Desktop\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3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5920" y="-246600"/>
            <a:ext cx="7961400" cy="15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обенности Вод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6720" y="885960"/>
            <a:ext cx="82296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тересной особенностью воды является то, что при нагревании от 0 до 4 (3,98 - точно) °C вода сжимается. Благодаря этому могут жить рыбы: когда температура падает ниже 4 °C, более холодная вода, как менее плотная, остаётся на поверхности и замерзает, а подо льдом сохраняется положительная температура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воды есть и много других необычных особенностей: высокая температура и удельная теплота плавления и кипения (по сравнению с соединениями водорода с похожим молекулярным весом); высокая теплоёмкость и вязкость жидкой воды; вода, в отличие от других веществ, при замерзании расширяется. Вода практически несжимаема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952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66ff"/>
              </a:solidFill>
              <a:latin typeface="Arial"/>
            </a:endParaRPr>
          </a:p>
        </p:txBody>
      </p:sp>
      <p:pic>
        <p:nvPicPr>
          <p:cNvPr id="191" name="Рисунок 5" descr="311d788510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3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217080"/>
            <a:ext cx="8864640" cy="63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е эти особенности обусловлены водородными связями. Поскольку в молекуле воды 2 атома водорода отдают по одному электрону атому кислорода, атом кислорода получает отрицательный заряд, а атомы водорода - положительный. Благодаря этому, каждый атом кислорода притягивается к атомам водорода других молекул и наоборот. Каждая молекула воды может участвовать максимум в четырёх водородных связях: 2 атом водорода - каждый в одной, а атом кислорода - в двух. При таянии льда часть связей рвётся, что позволяет уложить молекулы воды плотнее; при нагревании воды связи продолжают рваться, и плотность её растёт, но при температуре выше 4 °С этот эффект слабее, чем обычное тепловое расширение; при испарении рвутся все оставшиеся связи. Разрыв связей требует много энергии, отсюда высокая температура и удельная теплота плавления и кипения и высокая теплоёмкость. Вязкость воды обусловлена тем, что водородные связи мешают молекулам воды двигаться с разными скоростя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2340000" y="2492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Object 14"/>
          <p:cNvGraphicFramePr/>
          <p:nvPr/>
        </p:nvGraphicFramePr>
        <p:xfrm>
          <a:off x="4356000" y="4941720"/>
          <a:ext cx="4032360" cy="21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4941720"/>
                    <a:ext cx="403236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AutoShape 19"/>
          <p:cNvSpPr/>
          <p:nvPr/>
        </p:nvSpPr>
        <p:spPr>
          <a:xfrm>
            <a:off x="2411280" y="7245360"/>
            <a:ext cx="719280" cy="73080"/>
          </a:xfrm>
          <a:custGeom>
            <a:avLst/>
            <a:gdLst>
              <a:gd name="textAreaLeft" fmla="*/ 4680 w 719280"/>
              <a:gd name="textAreaRight" fmla="*/ 714600 w 719280"/>
              <a:gd name="textAreaTop" fmla="*/ 4680 h 73080"/>
              <a:gd name="textAreaBottom" fmla="*/ 68400 h 73080"/>
            </a:gdLst>
            <a:ahLst/>
            <a:rect l="textAreaLeft" t="textAreaTop" r="textAreaRight" b="textAreaBottom"/>
            <a:pathLst>
              <a:path w="211659" h="21600">
                <a:moveTo>
                  <a:pt x="0" y="0"/>
                </a:moveTo>
                <a:lnTo>
                  <a:pt x="211659" y="0"/>
                </a:lnTo>
                <a:lnTo>
                  <a:pt x="211659" y="21600"/>
                </a:lnTo>
                <a:lnTo>
                  <a:pt x="0" y="21600"/>
                </a:lnTo>
                <a:close/>
              </a:path>
              <a:path fill="lightenLess" w="211659" h="21600">
                <a:moveTo>
                  <a:pt x="0" y="0"/>
                </a:moveTo>
                <a:lnTo>
                  <a:pt x="211659" y="0"/>
                </a:lnTo>
                <a:lnTo>
                  <a:pt x="210259" y="1400"/>
                </a:lnTo>
                <a:lnTo>
                  <a:pt x="1400" y="1400"/>
                </a:lnTo>
                <a:close/>
              </a:path>
              <a:path fill="darken" w="211659" h="21600">
                <a:moveTo>
                  <a:pt x="211659" y="0"/>
                </a:moveTo>
                <a:lnTo>
                  <a:pt x="211659" y="21600"/>
                </a:lnTo>
                <a:lnTo>
                  <a:pt x="210259" y="20200"/>
                </a:lnTo>
                <a:lnTo>
                  <a:pt x="210259" y="1400"/>
                </a:lnTo>
                <a:close/>
              </a:path>
              <a:path fill="darkenLess" w="211659" h="21600">
                <a:moveTo>
                  <a:pt x="211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259" y="20200"/>
                </a:lnTo>
                <a:close/>
              </a:path>
              <a:path fill="lighten" w="211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1659" h="21600">
                <a:moveTo>
                  <a:pt x="98823" y="3794"/>
                </a:moveTo>
                <a:lnTo>
                  <a:pt x="112836" y="10800"/>
                </a:lnTo>
                <a:lnTo>
                  <a:pt x="98823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9000">
    <p:push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Содержимое 3" descr="s1_392_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9:37:30Z</dcterms:created>
  <dc:creator>User</dc:creator>
  <dc:description/>
  <dc:language>en-US</dc:language>
  <cp:lastModifiedBy>Таня</cp:lastModifiedBy>
  <dcterms:modified xsi:type="dcterms:W3CDTF">2013-02-14T04:57:51Z</dcterms:modified>
  <cp:revision>54</cp:revision>
  <dc:subject/>
  <dc:title>  В.В. Путин</dc:title>
</cp:coreProperties>
</file>