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3D4-6199-470E-AECB-7A184FE2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499-6891-40DE-B2B7-4CD947A8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A41-B382-4927-9CF7-1EE7EBF7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60C-26F7-4281-9840-DAB362C0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EFF7-5E28-4356-A9A7-611D7678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6FBF-E830-4D74-A89C-C352A3C1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E52F-1FB9-494B-BEDB-5CA0995F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3B6D-A844-4B30-AD17-40F5BC02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4D8A-C5B0-49E3-8920-9FB7AECE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4DFA-7315-4D34-8F74-4C0F08D2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00A3-2EEC-414F-BD64-3397A34F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6DD-C0B1-44CC-A902-4D36A263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7DF6-ECAC-43F7-903E-D666A468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A149-BBAC-4F64-A8FC-822852A1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2782-CE39-46C2-8318-3B2DB59B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F9FE-B342-41AB-9C0D-B1D4603F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6BB0-400C-40E4-B42C-A57658B6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2CB-B588-4ACA-909D-07EF4B6A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461-F4FF-45DD-AAF1-271E997B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AB1-E512-4044-BD84-5704EE28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5E3-C850-4311-A03B-CF45943A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02E-DAC8-4EA6-8E8B-97C7FAF2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50B-53E4-4132-9C78-5466D21E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773-6CDE-4B0E-91A5-E7A342BD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90E6-0F4E-40A5-A61C-A72666AC2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F7CC-E90D-44D6-898A-6517DC69E1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493920" y="771120"/>
            <a:ext cx="10289880" cy="368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0000"/>
                </a:solidFill>
                <a:latin typeface="Arial"/>
              </a:rPr>
              <a:t>Вода. </a:t>
            </a:r>
            <a:br>
              <a:rPr sz="8000"/>
            </a:b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1600" y="4382640"/>
            <a:ext cx="820728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Руководитель:Попивненко Т.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Выполнил:ученик  3 «Б» кла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Варданян Эрик Вовик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9">
            <a:hlinkClick r:id="" action="ppaction://hlinkshowjump?jump=nextslide"/>
          </p:cNvPr>
          <p:cNvSpPr/>
          <p:nvPr/>
        </p:nvSpPr>
        <p:spPr>
          <a:xfrm>
            <a:off x="347760" y="6329520"/>
            <a:ext cx="609480" cy="288720"/>
          </a:xfrm>
          <a:custGeom>
            <a:avLst/>
            <a:gdLst>
              <a:gd name="textAreaLeft" fmla="*/ 18720 w 609480"/>
              <a:gd name="textAreaRight" fmla="*/ 590760 w 6094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5567" h="21600">
                <a:moveTo>
                  <a:pt x="0" y="0"/>
                </a:moveTo>
                <a:lnTo>
                  <a:pt x="45567" y="0"/>
                </a:lnTo>
                <a:lnTo>
                  <a:pt x="45567" y="21600"/>
                </a:lnTo>
                <a:lnTo>
                  <a:pt x="0" y="21600"/>
                </a:lnTo>
                <a:close/>
              </a:path>
              <a:path fill="lightenLess" w="45567" h="21600">
                <a:moveTo>
                  <a:pt x="0" y="0"/>
                </a:moveTo>
                <a:lnTo>
                  <a:pt x="45567" y="0"/>
                </a:lnTo>
                <a:lnTo>
                  <a:pt x="44167" y="1400"/>
                </a:lnTo>
                <a:lnTo>
                  <a:pt x="1400" y="1400"/>
                </a:lnTo>
                <a:close/>
              </a:path>
              <a:path fill="darken" w="45567" h="21600">
                <a:moveTo>
                  <a:pt x="45567" y="0"/>
                </a:moveTo>
                <a:lnTo>
                  <a:pt x="45567" y="21600"/>
                </a:lnTo>
                <a:lnTo>
                  <a:pt x="44167" y="20200"/>
                </a:lnTo>
                <a:lnTo>
                  <a:pt x="44167" y="1400"/>
                </a:lnTo>
                <a:close/>
              </a:path>
              <a:path fill="darkenLess" w="45567" h="21600">
                <a:moveTo>
                  <a:pt x="455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67" y="20200"/>
                </a:lnTo>
                <a:close/>
              </a:path>
              <a:path fill="lighten" w="455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67" h="21600">
                <a:moveTo>
                  <a:pt x="15777" y="3794"/>
                </a:moveTo>
                <a:lnTo>
                  <a:pt x="29790" y="10800"/>
                </a:lnTo>
                <a:lnTo>
                  <a:pt x="157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0">
            <a:hlinkClick r:id="" action="ppaction://hlinkshowjump?jump=previousslide"/>
          </p:cNvPr>
          <p:cNvSpPr/>
          <p:nvPr/>
        </p:nvSpPr>
        <p:spPr>
          <a:xfrm>
            <a:off x="1147680" y="6313320"/>
            <a:ext cx="696960" cy="320760"/>
          </a:xfrm>
          <a:custGeom>
            <a:avLst/>
            <a:gdLst>
              <a:gd name="textAreaLeft" fmla="*/ 20520 w 696960"/>
              <a:gd name="textAreaRight" fmla="*/ 676440 w 696960"/>
              <a:gd name="textAreaTop" fmla="*/ 20520 h 320760"/>
              <a:gd name="textAreaBottom" fmla="*/ 300240 h 320760"/>
            </a:gdLst>
            <a:ahLst/>
            <a:rect l="textAreaLeft" t="textAreaTop" r="textAreaRight" b="textAreaBottom"/>
            <a:pathLst>
              <a:path w="46905" h="21600">
                <a:moveTo>
                  <a:pt x="0" y="0"/>
                </a:moveTo>
                <a:lnTo>
                  <a:pt x="46905" y="0"/>
                </a:lnTo>
                <a:lnTo>
                  <a:pt x="46905" y="21600"/>
                </a:lnTo>
                <a:lnTo>
                  <a:pt x="0" y="21600"/>
                </a:lnTo>
                <a:close/>
              </a:path>
              <a:path fill="lightenLess" w="46905" h="21600">
                <a:moveTo>
                  <a:pt x="0" y="0"/>
                </a:moveTo>
                <a:lnTo>
                  <a:pt x="46905" y="0"/>
                </a:lnTo>
                <a:lnTo>
                  <a:pt x="45505" y="1400"/>
                </a:lnTo>
                <a:lnTo>
                  <a:pt x="1400" y="1400"/>
                </a:lnTo>
                <a:close/>
              </a:path>
              <a:path fill="darken" w="46905" h="21600">
                <a:moveTo>
                  <a:pt x="46905" y="0"/>
                </a:moveTo>
                <a:lnTo>
                  <a:pt x="46905" y="21600"/>
                </a:lnTo>
                <a:lnTo>
                  <a:pt x="45505" y="20200"/>
                </a:lnTo>
                <a:lnTo>
                  <a:pt x="45505" y="1400"/>
                </a:lnTo>
                <a:close/>
              </a:path>
              <a:path fill="darkenLess" w="46905" h="21600">
                <a:moveTo>
                  <a:pt x="4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05" y="20200"/>
                </a:lnTo>
                <a:close/>
              </a:path>
              <a:path fill="lighten" w="4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905" h="21600">
                <a:moveTo>
                  <a:pt x="16446" y="7493"/>
                </a:moveTo>
                <a:lnTo>
                  <a:pt x="19954" y="7493"/>
                </a:lnTo>
                <a:lnTo>
                  <a:pt x="19954" y="12828"/>
                </a:lnTo>
                <a:cubicBezTo>
                  <a:pt x="19954" y="13751"/>
                  <a:pt x="20754" y="14482"/>
                  <a:pt x="21790" y="14482"/>
                </a:cubicBezTo>
                <a:lnTo>
                  <a:pt x="23452" y="14482"/>
                </a:lnTo>
                <a:cubicBezTo>
                  <a:pt x="24488" y="14482"/>
                  <a:pt x="25289" y="13751"/>
                  <a:pt x="25289" y="12828"/>
                </a:cubicBezTo>
                <a:lnTo>
                  <a:pt x="25289" y="7493"/>
                </a:lnTo>
                <a:lnTo>
                  <a:pt x="23452" y="7493"/>
                </a:lnTo>
                <a:lnTo>
                  <a:pt x="26960" y="3985"/>
                </a:lnTo>
                <a:lnTo>
                  <a:pt x="30633" y="7493"/>
                </a:lnTo>
                <a:lnTo>
                  <a:pt x="28797" y="7493"/>
                </a:lnTo>
                <a:lnTo>
                  <a:pt x="28797" y="12828"/>
                </a:lnTo>
                <a:cubicBezTo>
                  <a:pt x="28797" y="15596"/>
                  <a:pt x="26220" y="18155"/>
                  <a:pt x="23452" y="18155"/>
                </a:cubicBezTo>
                <a:lnTo>
                  <a:pt x="21790" y="18155"/>
                </a:lnTo>
                <a:cubicBezTo>
                  <a:pt x="19022" y="18155"/>
                  <a:pt x="16446" y="15596"/>
                  <a:pt x="16446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Содержимое 3" descr="реап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Содержимое 3" descr="1223661339_water_by_nicolas5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Содержимое 3" descr="порнпо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C:\Users\Эирик\Desktop\578.jpg"/>
          <p:cNvPicPr/>
          <p:nvPr/>
        </p:nvPicPr>
        <p:blipFill>
          <a:blip r:embed="rId1"/>
          <a:stretch/>
        </p:blipFill>
        <p:spPr>
          <a:xfrm>
            <a:off x="0" y="0"/>
            <a:ext cx="528336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Улыбающееся лицо 6"/>
          <p:cNvSpPr/>
          <p:nvPr/>
        </p:nvSpPr>
        <p:spPr>
          <a:xfrm>
            <a:off x="5661000" y="1887480"/>
            <a:ext cx="3251160" cy="330840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776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Что такое вода?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0040" y="113184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да́ - прозрачная бесцветная жидкость, не имеет цвета и запаха. Химическая формула Н2O. В твёрдом состоянии называется лёд или снег, а в газообразном - [водяной] пар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0948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292400" y="16304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4284720" y="1989000"/>
            <a:ext cx="40384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93560" y="1373040"/>
            <a:ext cx="83534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790560" y="3213000"/>
            <a:ext cx="83534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552600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3635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36">
            <a:hlinkClick r:id="" action="ppaction://hlinkshowjump?jump=nextslide"/>
          </p:cNvPr>
          <p:cNvSpPr/>
          <p:nvPr/>
        </p:nvSpPr>
        <p:spPr>
          <a:xfrm>
            <a:off x="247680" y="6357960"/>
            <a:ext cx="681120" cy="304920"/>
          </a:xfrm>
          <a:custGeom>
            <a:avLst/>
            <a:gdLst>
              <a:gd name="textAreaLeft" fmla="*/ 19440 w 681120"/>
              <a:gd name="textAreaRight" fmla="*/ 661680 w 681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218" h="21600">
                <a:moveTo>
                  <a:pt x="0" y="0"/>
                </a:moveTo>
                <a:lnTo>
                  <a:pt x="48218" y="0"/>
                </a:lnTo>
                <a:lnTo>
                  <a:pt x="48218" y="21600"/>
                </a:lnTo>
                <a:lnTo>
                  <a:pt x="0" y="21600"/>
                </a:lnTo>
                <a:close/>
              </a:path>
              <a:path fill="lightenLess" w="48218" h="21600">
                <a:moveTo>
                  <a:pt x="0" y="0"/>
                </a:moveTo>
                <a:lnTo>
                  <a:pt x="48218" y="0"/>
                </a:lnTo>
                <a:lnTo>
                  <a:pt x="46818" y="1400"/>
                </a:lnTo>
                <a:lnTo>
                  <a:pt x="1400" y="1400"/>
                </a:lnTo>
                <a:close/>
              </a:path>
              <a:path fill="darken" w="48218" h="21600">
                <a:moveTo>
                  <a:pt x="48218" y="0"/>
                </a:moveTo>
                <a:lnTo>
                  <a:pt x="48218" y="21600"/>
                </a:lnTo>
                <a:lnTo>
                  <a:pt x="46818" y="20200"/>
                </a:lnTo>
                <a:lnTo>
                  <a:pt x="46818" y="1400"/>
                </a:lnTo>
                <a:close/>
              </a:path>
              <a:path fill="darkenLess" w="48218" h="21600">
                <a:moveTo>
                  <a:pt x="48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818" y="20200"/>
                </a:lnTo>
                <a:close/>
              </a:path>
              <a:path fill="lighten" w="48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218" h="21600">
                <a:moveTo>
                  <a:pt x="17102" y="3794"/>
                </a:moveTo>
                <a:lnTo>
                  <a:pt x="31115" y="10800"/>
                </a:lnTo>
                <a:lnTo>
                  <a:pt x="17102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7">
            <a:hlinkClick r:id="" action="ppaction://hlinkshowjump?jump=previousslide"/>
          </p:cNvPr>
          <p:cNvSpPr/>
          <p:nvPr/>
        </p:nvSpPr>
        <p:spPr>
          <a:xfrm>
            <a:off x="1073160" y="6356520"/>
            <a:ext cx="581040" cy="304560"/>
          </a:xfrm>
          <a:custGeom>
            <a:avLst/>
            <a:gdLst>
              <a:gd name="textAreaLeft" fmla="*/ 19440 w 581040"/>
              <a:gd name="textAreaRight" fmla="*/ 561600 w 5810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1185" h="21600">
                <a:moveTo>
                  <a:pt x="0" y="0"/>
                </a:moveTo>
                <a:lnTo>
                  <a:pt x="41185" y="0"/>
                </a:lnTo>
                <a:lnTo>
                  <a:pt x="41185" y="21600"/>
                </a:lnTo>
                <a:lnTo>
                  <a:pt x="0" y="21600"/>
                </a:lnTo>
                <a:close/>
              </a:path>
              <a:path fill="lightenLess" w="41185" h="21600">
                <a:moveTo>
                  <a:pt x="0" y="0"/>
                </a:moveTo>
                <a:lnTo>
                  <a:pt x="41185" y="0"/>
                </a:lnTo>
                <a:lnTo>
                  <a:pt x="39785" y="1400"/>
                </a:lnTo>
                <a:lnTo>
                  <a:pt x="1400" y="1400"/>
                </a:lnTo>
                <a:close/>
              </a:path>
              <a:path fill="darken" w="41185" h="21600">
                <a:moveTo>
                  <a:pt x="41185" y="0"/>
                </a:moveTo>
                <a:lnTo>
                  <a:pt x="41185" y="21600"/>
                </a:lnTo>
                <a:lnTo>
                  <a:pt x="39785" y="20200"/>
                </a:lnTo>
                <a:lnTo>
                  <a:pt x="39785" y="1400"/>
                </a:lnTo>
                <a:close/>
              </a:path>
              <a:path fill="darkenLess" w="41185" h="21600">
                <a:moveTo>
                  <a:pt x="4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85" y="20200"/>
                </a:lnTo>
                <a:close/>
              </a:path>
              <a:path fill="lighten" w="4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185" h="21600">
                <a:moveTo>
                  <a:pt x="13586" y="7493"/>
                </a:moveTo>
                <a:lnTo>
                  <a:pt x="17094" y="7493"/>
                </a:lnTo>
                <a:lnTo>
                  <a:pt x="17094" y="12828"/>
                </a:lnTo>
                <a:cubicBezTo>
                  <a:pt x="17094" y="13751"/>
                  <a:pt x="17895" y="14482"/>
                  <a:pt x="18930" y="14482"/>
                </a:cubicBezTo>
                <a:lnTo>
                  <a:pt x="20593" y="14482"/>
                </a:lnTo>
                <a:cubicBezTo>
                  <a:pt x="21628" y="14482"/>
                  <a:pt x="22429" y="13751"/>
                  <a:pt x="22429" y="12828"/>
                </a:cubicBezTo>
                <a:lnTo>
                  <a:pt x="22429" y="7493"/>
                </a:lnTo>
                <a:lnTo>
                  <a:pt x="20593" y="7493"/>
                </a:lnTo>
                <a:lnTo>
                  <a:pt x="24100" y="3985"/>
                </a:lnTo>
                <a:lnTo>
                  <a:pt x="27773" y="7493"/>
                </a:lnTo>
                <a:lnTo>
                  <a:pt x="25937" y="7493"/>
                </a:lnTo>
                <a:lnTo>
                  <a:pt x="25937" y="12828"/>
                </a:lnTo>
                <a:cubicBezTo>
                  <a:pt x="25937" y="15596"/>
                  <a:pt x="23360" y="18155"/>
                  <a:pt x="20593" y="18155"/>
                </a:cubicBezTo>
                <a:lnTo>
                  <a:pt x="18930" y="18155"/>
                </a:lnTo>
                <a:cubicBezTo>
                  <a:pt x="16162" y="18155"/>
                  <a:pt x="13586" y="15596"/>
                  <a:pt x="13586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Содержимое 3" descr="12946307_44714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9">
            <a:hlinkClick r:id="" action="ppaction://hlinkshowjump?jump=nextslide"/>
          </p:cNvPr>
          <p:cNvSpPr/>
          <p:nvPr/>
        </p:nvSpPr>
        <p:spPr>
          <a:xfrm>
            <a:off x="363600" y="6399360"/>
            <a:ext cx="492120" cy="233280"/>
          </a:xfrm>
          <a:custGeom>
            <a:avLst/>
            <a:gdLst>
              <a:gd name="textAreaLeft" fmla="*/ 15120 w 492120"/>
              <a:gd name="textAreaRight" fmla="*/ 477000 w 492120"/>
              <a:gd name="textAreaTop" fmla="*/ 15120 h 233280"/>
              <a:gd name="textAreaBottom" fmla="*/ 218160 h 233280"/>
            </a:gdLst>
            <a:ahLst/>
            <a:rect l="textAreaLeft" t="textAreaTop" r="textAreaRight" b="textAreaBottom"/>
            <a:pathLst>
              <a:path w="45530" h="21600">
                <a:moveTo>
                  <a:pt x="0" y="0"/>
                </a:moveTo>
                <a:lnTo>
                  <a:pt x="45530" y="0"/>
                </a:lnTo>
                <a:lnTo>
                  <a:pt x="45530" y="21600"/>
                </a:lnTo>
                <a:lnTo>
                  <a:pt x="0" y="21600"/>
                </a:lnTo>
                <a:close/>
              </a:path>
              <a:path fill="lightenLess" w="45530" h="21600">
                <a:moveTo>
                  <a:pt x="0" y="0"/>
                </a:moveTo>
                <a:lnTo>
                  <a:pt x="45530" y="0"/>
                </a:lnTo>
                <a:lnTo>
                  <a:pt x="44130" y="1400"/>
                </a:lnTo>
                <a:lnTo>
                  <a:pt x="1400" y="1400"/>
                </a:lnTo>
                <a:close/>
              </a:path>
              <a:path fill="darken" w="45530" h="21600">
                <a:moveTo>
                  <a:pt x="45530" y="0"/>
                </a:moveTo>
                <a:lnTo>
                  <a:pt x="45530" y="21600"/>
                </a:lnTo>
                <a:lnTo>
                  <a:pt x="44130" y="20200"/>
                </a:lnTo>
                <a:lnTo>
                  <a:pt x="44130" y="1400"/>
                </a:lnTo>
                <a:close/>
              </a:path>
              <a:path fill="darkenLess" w="45530" h="21600">
                <a:moveTo>
                  <a:pt x="45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30" y="20200"/>
                </a:lnTo>
                <a:close/>
              </a:path>
              <a:path fill="lighten" w="45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30" h="21600">
                <a:moveTo>
                  <a:pt x="15758" y="3794"/>
                </a:moveTo>
                <a:lnTo>
                  <a:pt x="29771" y="10800"/>
                </a:lnTo>
                <a:lnTo>
                  <a:pt x="1575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0">
            <a:hlinkClick r:id="" action="ppaction://hlinkshowjump?jump=previousslide"/>
          </p:cNvPr>
          <p:cNvSpPr/>
          <p:nvPr/>
        </p:nvSpPr>
        <p:spPr>
          <a:xfrm>
            <a:off x="1044720" y="6372360"/>
            <a:ext cx="465120" cy="231480"/>
          </a:xfrm>
          <a:custGeom>
            <a:avLst/>
            <a:gdLst>
              <a:gd name="textAreaLeft" fmla="*/ 14760 w 465120"/>
              <a:gd name="textAreaRight" fmla="*/ 450360 w 465120"/>
              <a:gd name="textAreaTop" fmla="*/ 14760 h 231480"/>
              <a:gd name="textAreaBottom" fmla="*/ 216720 h 231480"/>
            </a:gdLst>
            <a:ahLst/>
            <a:rect l="textAreaLeft" t="textAreaTop" r="textAreaRight" b="textAreaBottom"/>
            <a:pathLst>
              <a:path w="43368" h="21600">
                <a:moveTo>
                  <a:pt x="0" y="0"/>
                </a:moveTo>
                <a:lnTo>
                  <a:pt x="43368" y="0"/>
                </a:lnTo>
                <a:lnTo>
                  <a:pt x="43368" y="21600"/>
                </a:lnTo>
                <a:lnTo>
                  <a:pt x="0" y="21600"/>
                </a:lnTo>
                <a:close/>
              </a:path>
              <a:path fill="lightenLess" w="43368" h="21600">
                <a:moveTo>
                  <a:pt x="0" y="0"/>
                </a:moveTo>
                <a:lnTo>
                  <a:pt x="43368" y="0"/>
                </a:lnTo>
                <a:lnTo>
                  <a:pt x="41968" y="1400"/>
                </a:lnTo>
                <a:lnTo>
                  <a:pt x="1400" y="1400"/>
                </a:lnTo>
                <a:close/>
              </a:path>
              <a:path fill="darken" w="43368" h="21600">
                <a:moveTo>
                  <a:pt x="43368" y="0"/>
                </a:moveTo>
                <a:lnTo>
                  <a:pt x="43368" y="21600"/>
                </a:lnTo>
                <a:lnTo>
                  <a:pt x="41968" y="20200"/>
                </a:lnTo>
                <a:lnTo>
                  <a:pt x="41968" y="1400"/>
                </a:lnTo>
                <a:close/>
              </a:path>
              <a:path fill="darkenLess" w="43368" h="21600">
                <a:moveTo>
                  <a:pt x="433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68" y="20200"/>
                </a:lnTo>
                <a:close/>
              </a:path>
              <a:path fill="lighten" w="433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68" h="21600">
                <a:moveTo>
                  <a:pt x="14677" y="7493"/>
                </a:moveTo>
                <a:lnTo>
                  <a:pt x="18185" y="7493"/>
                </a:lnTo>
                <a:lnTo>
                  <a:pt x="18185" y="12828"/>
                </a:lnTo>
                <a:cubicBezTo>
                  <a:pt x="18185" y="13751"/>
                  <a:pt x="18986" y="14482"/>
                  <a:pt x="20021" y="14482"/>
                </a:cubicBezTo>
                <a:lnTo>
                  <a:pt x="21684" y="14482"/>
                </a:lnTo>
                <a:cubicBezTo>
                  <a:pt x="22720" y="14482"/>
                  <a:pt x="23520" y="13751"/>
                  <a:pt x="23520" y="12828"/>
                </a:cubicBezTo>
                <a:lnTo>
                  <a:pt x="23520" y="7493"/>
                </a:lnTo>
                <a:lnTo>
                  <a:pt x="21684" y="7493"/>
                </a:lnTo>
                <a:lnTo>
                  <a:pt x="25191" y="3985"/>
                </a:lnTo>
                <a:lnTo>
                  <a:pt x="28864" y="7493"/>
                </a:lnTo>
                <a:lnTo>
                  <a:pt x="27028" y="7493"/>
                </a:lnTo>
                <a:lnTo>
                  <a:pt x="27028" y="12828"/>
                </a:lnTo>
                <a:cubicBezTo>
                  <a:pt x="27028" y="15596"/>
                  <a:pt x="24452" y="18155"/>
                  <a:pt x="21684" y="18155"/>
                </a:cubicBezTo>
                <a:lnTo>
                  <a:pt x="20021" y="18155"/>
                </a:lnTo>
                <a:cubicBezTo>
                  <a:pt x="17254" y="18155"/>
                  <a:pt x="14677" y="15596"/>
                  <a:pt x="14677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3"/>
          <p:cNvSpPr/>
          <p:nvPr/>
        </p:nvSpPr>
        <p:spPr>
          <a:xfrm>
            <a:off x="0" y="465120"/>
            <a:ext cx="9304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а - очень распространённое вещество на Земле, около ¾ поверхности которой покрыто водой, составляющей океаны, моря, озера, реки и т. п. Также вода в газообразном состоянии находится в атмосфере планеты в виде облаков, туманов и т. п. При конденсации выводится из атмосферы в виде атмосферных осадков (дождь, снег, град, роса и т. д.). В совокупности водная оболочка Земли называется гидросферой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вляется активным растворителем. В природных условиях всегда содержит растворённые вещества (соли, газы и т. д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b2ff1"/>
              </a:solidFill>
              <a:latin typeface="Arial"/>
            </a:endParaRPr>
          </a:p>
        </p:txBody>
      </p:sp>
      <p:sp>
        <p:nvSpPr>
          <p:cNvPr id="184" name="AutoShape 21">
            <a:hlinkClick r:id="" action="ppaction://hlinkshowjump?jump=nextslide"/>
          </p:cNvPr>
          <p:cNvSpPr/>
          <p:nvPr/>
        </p:nvSpPr>
        <p:spPr>
          <a:xfrm>
            <a:off x="609480" y="6284880"/>
            <a:ext cx="552600" cy="289080"/>
          </a:xfrm>
          <a:custGeom>
            <a:avLst/>
            <a:gdLst>
              <a:gd name="textAreaLeft" fmla="*/ 18720 w 552600"/>
              <a:gd name="textAreaRight" fmla="*/ 533880 w 5526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1266" h="21600">
                <a:moveTo>
                  <a:pt x="0" y="0"/>
                </a:moveTo>
                <a:lnTo>
                  <a:pt x="41266" y="0"/>
                </a:lnTo>
                <a:lnTo>
                  <a:pt x="41266" y="21600"/>
                </a:lnTo>
                <a:lnTo>
                  <a:pt x="0" y="21600"/>
                </a:lnTo>
                <a:close/>
              </a:path>
              <a:path fill="lightenLess" w="41266" h="21600">
                <a:moveTo>
                  <a:pt x="0" y="0"/>
                </a:moveTo>
                <a:lnTo>
                  <a:pt x="41266" y="0"/>
                </a:lnTo>
                <a:lnTo>
                  <a:pt x="39866" y="1400"/>
                </a:lnTo>
                <a:lnTo>
                  <a:pt x="1400" y="1400"/>
                </a:lnTo>
                <a:close/>
              </a:path>
              <a:path fill="darken" w="41266" h="21600">
                <a:moveTo>
                  <a:pt x="41266" y="0"/>
                </a:moveTo>
                <a:lnTo>
                  <a:pt x="41266" y="21600"/>
                </a:lnTo>
                <a:lnTo>
                  <a:pt x="39866" y="20200"/>
                </a:lnTo>
                <a:lnTo>
                  <a:pt x="39866" y="1400"/>
                </a:lnTo>
                <a:close/>
              </a:path>
              <a:path fill="darkenLess" w="41266" h="21600">
                <a:moveTo>
                  <a:pt x="41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66" y="20200"/>
                </a:lnTo>
                <a:close/>
              </a:path>
              <a:path fill="lighten" w="41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66" h="21600">
                <a:moveTo>
                  <a:pt x="13626" y="3794"/>
                </a:moveTo>
                <a:lnTo>
                  <a:pt x="27639" y="10800"/>
                </a:lnTo>
                <a:lnTo>
                  <a:pt x="13626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22">
            <a:hlinkClick r:id="" action="ppaction://hlinkshowjump?jump=previousslide"/>
          </p:cNvPr>
          <p:cNvSpPr/>
          <p:nvPr/>
        </p:nvSpPr>
        <p:spPr>
          <a:xfrm>
            <a:off x="1305000" y="6284880"/>
            <a:ext cx="566640" cy="289080"/>
          </a:xfrm>
          <a:custGeom>
            <a:avLst/>
            <a:gdLst>
              <a:gd name="textAreaLeft" fmla="*/ 18720 w 566640"/>
              <a:gd name="textAreaRight" fmla="*/ 547920 w 566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2313" h="21600">
                <a:moveTo>
                  <a:pt x="0" y="0"/>
                </a:moveTo>
                <a:lnTo>
                  <a:pt x="42313" y="0"/>
                </a:lnTo>
                <a:lnTo>
                  <a:pt x="42313" y="21600"/>
                </a:lnTo>
                <a:lnTo>
                  <a:pt x="0" y="21600"/>
                </a:lnTo>
                <a:close/>
              </a:path>
              <a:path fill="lightenLess" w="42313" h="21600">
                <a:moveTo>
                  <a:pt x="0" y="0"/>
                </a:moveTo>
                <a:lnTo>
                  <a:pt x="42313" y="0"/>
                </a:lnTo>
                <a:lnTo>
                  <a:pt x="40913" y="1400"/>
                </a:lnTo>
                <a:lnTo>
                  <a:pt x="1400" y="1400"/>
                </a:lnTo>
                <a:close/>
              </a:path>
              <a:path fill="darken" w="42313" h="21600">
                <a:moveTo>
                  <a:pt x="42313" y="0"/>
                </a:moveTo>
                <a:lnTo>
                  <a:pt x="42313" y="21600"/>
                </a:lnTo>
                <a:lnTo>
                  <a:pt x="40913" y="20200"/>
                </a:lnTo>
                <a:lnTo>
                  <a:pt x="40913" y="1400"/>
                </a:lnTo>
                <a:close/>
              </a:path>
              <a:path fill="darkenLess" w="42313" h="21600">
                <a:moveTo>
                  <a:pt x="42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13" y="20200"/>
                </a:lnTo>
                <a:close/>
              </a:path>
              <a:path fill="lighten" w="42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313" h="21600">
                <a:moveTo>
                  <a:pt x="14150" y="7493"/>
                </a:moveTo>
                <a:lnTo>
                  <a:pt x="17658" y="7493"/>
                </a:lnTo>
                <a:lnTo>
                  <a:pt x="17658" y="12828"/>
                </a:lnTo>
                <a:cubicBezTo>
                  <a:pt x="17658" y="13751"/>
                  <a:pt x="18459" y="14482"/>
                  <a:pt x="19494" y="14482"/>
                </a:cubicBezTo>
                <a:lnTo>
                  <a:pt x="21157" y="14482"/>
                </a:lnTo>
                <a:cubicBezTo>
                  <a:pt x="22192" y="14482"/>
                  <a:pt x="22993" y="13751"/>
                  <a:pt x="22993" y="12828"/>
                </a:cubicBezTo>
                <a:lnTo>
                  <a:pt x="22993" y="7493"/>
                </a:lnTo>
                <a:lnTo>
                  <a:pt x="21157" y="7493"/>
                </a:lnTo>
                <a:lnTo>
                  <a:pt x="24664" y="3985"/>
                </a:lnTo>
                <a:lnTo>
                  <a:pt x="28337" y="7493"/>
                </a:lnTo>
                <a:lnTo>
                  <a:pt x="26501" y="7493"/>
                </a:lnTo>
                <a:lnTo>
                  <a:pt x="26501" y="12828"/>
                </a:lnTo>
                <a:cubicBezTo>
                  <a:pt x="26501" y="15596"/>
                  <a:pt x="23924" y="18155"/>
                  <a:pt x="21157" y="18155"/>
                </a:cubicBezTo>
                <a:lnTo>
                  <a:pt x="19494" y="18155"/>
                </a:lnTo>
                <a:cubicBezTo>
                  <a:pt x="16727" y="18155"/>
                  <a:pt x="14150" y="15596"/>
                  <a:pt x="141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C:\Users\Эирик\Desktop\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3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5920" y="-246600"/>
            <a:ext cx="7961400" cy="15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обенности Вод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6720" y="88596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тересной особенностью воды является то, что при нагревании от 0 до 4 (3,98 - точно) °C вода сжимается. Благодаря этому могут жить рыбы: когда температура падает ниже 4 °C, более холодная вода, как менее плотная, остаётся на поверхности и замерзает, а подо льдом сохраняется положительная температура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воды есть и много других необычных особенностей: высокая температура и удельная теплота плавления и кипения (по сравнению с соединениями водорода с похожим молекулярным весом); высокая теплоёмкость и вязкость жидкой воды; вода, в отличие от других веществ, при замерзании расширяется. Вода практически несжимаема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952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66ff"/>
              </a:solidFill>
              <a:latin typeface="Arial"/>
            </a:endParaRPr>
          </a:p>
        </p:txBody>
      </p:sp>
      <p:pic>
        <p:nvPicPr>
          <p:cNvPr id="191" name="Рисунок 5" descr="311d788510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3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217080"/>
            <a:ext cx="8864640" cy="63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 эти особенности обусловлены водородными связями. Поскольку в молекуле воды 2 атома водорода отдают по одному электрону атому кислорода, атом кислорода получает отрицательный заряд, а атомы водорода - положительный. Благодаря этому, каждый атом кислорода притягивается к атомам водорода других молекул и наоборот. Каждая молекула воды может участвовать максимум в четырёх водородных связях: 2 атом водорода - каждый в одной, а атом кислорода - в двух. При таянии льда часть связей рвётся, что позволяет уложить молекулы воды плотнее; при нагревании воды связи продолжают рваться, и плотность её растёт, но при температуре выше 4 °С этот эффект слабее, чем обычное тепловое расширение; при испарении рвутся все оставшиеся связи. Разрыв связей требует много энергии, отсюда высокая температура и удельная теплота плавления и кипения и высокая теплоёмкость. Вязкость воды обусловлена тем, что водородные связи мешают молекулам воды двигаться с разными скоростя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234000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Object 14"/>
          <p:cNvGraphicFramePr/>
          <p:nvPr/>
        </p:nvGraphicFramePr>
        <p:xfrm>
          <a:off x="4356000" y="4941720"/>
          <a:ext cx="4032360" cy="21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4941720"/>
                    <a:ext cx="40323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AutoShape 19"/>
          <p:cNvSpPr/>
          <p:nvPr/>
        </p:nvSpPr>
        <p:spPr>
          <a:xfrm>
            <a:off x="2411280" y="7245360"/>
            <a:ext cx="719280" cy="73080"/>
          </a:xfrm>
          <a:custGeom>
            <a:avLst/>
            <a:gdLst>
              <a:gd name="textAreaLeft" fmla="*/ 4680 w 719280"/>
              <a:gd name="textAreaRight" fmla="*/ 714600 w 719280"/>
              <a:gd name="textAreaTop" fmla="*/ 4680 h 73080"/>
              <a:gd name="textAreaBottom" fmla="*/ 68400 h 73080"/>
            </a:gdLst>
            <a:ahLst/>
            <a:rect l="textAreaLeft" t="textAreaTop" r="textAreaRight" b="textAreaBottom"/>
            <a:pathLst>
              <a:path w="211659" h="21600">
                <a:moveTo>
                  <a:pt x="0" y="0"/>
                </a:moveTo>
                <a:lnTo>
                  <a:pt x="211659" y="0"/>
                </a:lnTo>
                <a:lnTo>
                  <a:pt x="211659" y="21600"/>
                </a:lnTo>
                <a:lnTo>
                  <a:pt x="0" y="21600"/>
                </a:lnTo>
                <a:close/>
              </a:path>
              <a:path fill="lightenLess" w="211659" h="21600">
                <a:moveTo>
                  <a:pt x="0" y="0"/>
                </a:moveTo>
                <a:lnTo>
                  <a:pt x="211659" y="0"/>
                </a:lnTo>
                <a:lnTo>
                  <a:pt x="210259" y="1400"/>
                </a:lnTo>
                <a:lnTo>
                  <a:pt x="1400" y="1400"/>
                </a:lnTo>
                <a:close/>
              </a:path>
              <a:path fill="darken" w="211659" h="21600">
                <a:moveTo>
                  <a:pt x="211659" y="0"/>
                </a:moveTo>
                <a:lnTo>
                  <a:pt x="211659" y="21600"/>
                </a:lnTo>
                <a:lnTo>
                  <a:pt x="210259" y="20200"/>
                </a:lnTo>
                <a:lnTo>
                  <a:pt x="210259" y="1400"/>
                </a:lnTo>
                <a:close/>
              </a:path>
              <a:path fill="darkenLess" w="211659" h="21600">
                <a:moveTo>
                  <a:pt x="211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259" y="20200"/>
                </a:lnTo>
                <a:close/>
              </a:path>
              <a:path fill="lighten" w="211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1659" h="21600">
                <a:moveTo>
                  <a:pt x="98823" y="3794"/>
                </a:moveTo>
                <a:lnTo>
                  <a:pt x="112836" y="10800"/>
                </a:lnTo>
                <a:lnTo>
                  <a:pt x="9882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9000"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Содержимое 3" descr="s1_392_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9:37:30Z</dcterms:created>
  <dc:creator>User</dc:creator>
  <dc:description/>
  <dc:language>en-US</dc:language>
  <cp:lastModifiedBy>Таня</cp:lastModifiedBy>
  <dcterms:modified xsi:type="dcterms:W3CDTF">2013-02-14T04:57:51Z</dcterms:modified>
  <cp:revision>54</cp:revision>
  <dc:subject/>
  <dc:title>  В.В. Путин</dc:title>
</cp:coreProperties>
</file>