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35B94-57EF-4BCB-ACA8-2EFB33E5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8EE91-638D-4445-80B0-AF41CF64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2F70-FEBB-4B6C-988B-5AF77E67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02B6E-D694-4E37-9AB6-CFB93FB5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110E-9681-4496-B2A8-75199039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E2E3-B08F-4D81-AA6A-8BA23877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21BB-AF40-4B07-A708-5286A38B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1D0C-3A1E-4C37-81E0-4E623977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2D1E-EAF2-49FC-B955-4B8F3B10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DC50-9A16-4B71-8F5A-68D53D35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C2C5-7D8C-4ED3-93DE-D013390B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2F06-9015-4C73-B827-6FA58E77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A57F-6901-4246-B1EE-919169B2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DA03-2B63-4FD1-BCE1-0BC7A0D6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8DFC-93DB-4FB8-AE83-275275FA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2458-07BC-4105-858C-5642C612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A63D-B5FA-4350-9E94-54E54E35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886D0-D40B-4156-A5CF-87EE1260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4F73-C940-499E-8DA1-58C526D5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E10CB-9481-4EC0-8DC2-B147DB3B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98E6-BB65-49AF-9366-9899C9EA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8431-1B54-44BF-84F1-75E0F70B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1BEE9-B329-4361-BC93-CFEC1E6D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A847-9D1B-407E-8FA2-9DEE6F87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A0D2-DCDF-4A0E-922C-E8C1E6E199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6F10-F3C0-48FB-AE81-4322634A00D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Владимир Высоцкий в МосквеДом кино1976 г"/>
          <p:cNvPicPr/>
          <p:nvPr/>
        </p:nvPicPr>
        <p:blipFill>
          <a:blip r:embed="rId1"/>
          <a:stretch/>
        </p:blipFill>
        <p:spPr>
          <a:xfrm>
            <a:off x="4067280" y="765000"/>
            <a:ext cx="4895640" cy="45896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20165400">
            <a:off x="-180720" y="1557000"/>
            <a:ext cx="7772400" cy="1152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Я, конечно вернусь…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240" y="4797360"/>
            <a:ext cx="7088040" cy="206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мяти Владимира Высоцк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11-Ya, konechno, vernu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716360" y="511200"/>
            <a:ext cx="3600720" cy="5213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"Высоцкий осуществил мечту каждого человека выразиться полностью, всем существом сразу, и умом, и телом, и голосом, и мыслью, и страстью."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. Мит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Владимир Высоцкий на 15-летии Театра на Таганке"/>
          <p:cNvPicPr/>
          <p:nvPr/>
        </p:nvPicPr>
        <p:blipFill>
          <a:blip r:embed="rId1"/>
          <a:stretch/>
        </p:blipFill>
        <p:spPr>
          <a:xfrm>
            <a:off x="539640" y="260280"/>
            <a:ext cx="3386160" cy="590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 advTm="17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 потом пришла Любовь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10" descr="Владимир Высоцкий с Мариной Влади на теплоходе Шота Руставели1971"/>
          <p:cNvPicPr/>
          <p:nvPr/>
        </p:nvPicPr>
        <p:blipFill>
          <a:blip r:embed="rId1"/>
          <a:stretch/>
        </p:blipFill>
        <p:spPr>
          <a:xfrm>
            <a:off x="2340000" y="1633680"/>
            <a:ext cx="4537080" cy="445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 advTm="8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468360" y="1421280"/>
            <a:ext cx="4249800" cy="3080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арина Влади вошла в его жизнь в 1967 году. Высоцкий влюбился в нее после просмотра кинофильма "Колдунья"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5" descr="0003"/>
          <p:cNvPicPr/>
          <p:nvPr/>
        </p:nvPicPr>
        <p:blipFill>
          <a:blip r:embed="rId1"/>
          <a:stretch/>
        </p:blipFill>
        <p:spPr>
          <a:xfrm>
            <a:off x="5219640" y="333360"/>
            <a:ext cx="3311640" cy="6120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 spd="slow" advTm="15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594440" y="260280"/>
            <a:ext cx="6715800" cy="5946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ли я богат, как царь морск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икни только мне: «Лови блесну!»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ир подводный и надводный сво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 задумываясь, выплесн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м хрустальный на горе для не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ам, как пес бы, так и рос – в цеп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одники мои серебряны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олотые мои россып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 сравнил бы я любую с тобой,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оть казни меня, расстрелива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смотри как я любуюсь тобой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к мадонной Рафаэлево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м хруста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Владимир Высоцкий на теплоходе Шота Руставели"/>
          <p:cNvPicPr/>
          <p:nvPr/>
        </p:nvPicPr>
        <p:blipFill>
          <a:blip r:embed="rId1"/>
          <a:stretch/>
        </p:blipFill>
        <p:spPr>
          <a:xfrm>
            <a:off x="324000" y="333360"/>
            <a:ext cx="3235320" cy="568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6" name="Text Box 5"/>
          <p:cNvSpPr/>
          <p:nvPr/>
        </p:nvSpPr>
        <p:spPr>
          <a:xfrm>
            <a:off x="3780000" y="1268280"/>
            <a:ext cx="5364000" cy="3020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Я весь в свету, доступен всем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зам,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Я приступил к привычной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цедур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Я к микрофону встал как к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раза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т–нет, сегодня точно – к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мбразу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Владимир Высоцкий, 1972 г"/>
          <p:cNvPicPr/>
          <p:nvPr/>
        </p:nvPicPr>
        <p:blipFill>
          <a:blip r:embed="rId1"/>
          <a:stretch/>
        </p:blipFill>
        <p:spPr>
          <a:xfrm>
            <a:off x="5313240" y="260280"/>
            <a:ext cx="3362400" cy="56898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58" name="Rectangle 5"/>
          <p:cNvSpPr/>
          <p:nvPr/>
        </p:nvSpPr>
        <p:spPr>
          <a:xfrm>
            <a:off x="324000" y="909000"/>
            <a:ext cx="4824360" cy="43599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сни Высоцкого принято делить на циклы: военный, горный, спортивный, китайский... Надо было прожить несколько жизней, чтобы прочувствовать все персонажи, обрисованные в песня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Фронтовики, слушавшие его песни о войне, были уверены, что он лично пережил все то, о чем писал в песнях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857160" y="1643040"/>
            <a:ext cx="7072560" cy="5031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цепились они в высоту, как в св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гонь минометный, шквальный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 мы все лезли толпой на не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к на буфет вокзальны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крики "ура" застывали во рт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гда мы пули глотал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емь раз занимали мы ту высоту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емь раз мы ее оставляли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с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Владимир Высоцкий в 1979"/>
          <p:cNvPicPr/>
          <p:nvPr/>
        </p:nvPicPr>
        <p:blipFill>
          <a:blip r:embed="rId1"/>
          <a:stretch/>
        </p:blipFill>
        <p:spPr>
          <a:xfrm>
            <a:off x="468360" y="189000"/>
            <a:ext cx="3535200" cy="5905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2" name="Rectangle 6"/>
          <p:cNvSpPr/>
          <p:nvPr/>
        </p:nvSpPr>
        <p:spPr>
          <a:xfrm>
            <a:off x="4427640" y="1484280"/>
            <a:ext cx="4502160" cy="22269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ряки, альпинисты, дальнобойщики - все считали его своим. В каждой песне была правда жизн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Владимир Высоцкий, г"/>
          <p:cNvPicPr/>
          <p:nvPr/>
        </p:nvPicPr>
        <p:blipFill>
          <a:blip r:embed="rId1"/>
          <a:stretch/>
        </p:blipFill>
        <p:spPr>
          <a:xfrm>
            <a:off x="5214960" y="260280"/>
            <a:ext cx="3352680" cy="59770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64" name="Rectangle 7"/>
          <p:cNvSpPr/>
          <p:nvPr/>
        </p:nvSpPr>
        <p:spPr>
          <a:xfrm>
            <a:off x="539640" y="550800"/>
            <a:ext cx="4176720" cy="5213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ам Высоцкий так говорил об авторской песне: "Я хочу сказать и заверить, что авторская песня требует очень большой работы. Эта песня все время живет с тобой, не дает тебе покоя ни днем, ни ночью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3" descr="logo_1.jpg"/>
          <p:cNvPicPr/>
          <p:nvPr/>
        </p:nvPicPr>
        <p:blipFill>
          <a:blip r:embed="rId1"/>
          <a:stretch/>
        </p:blipFill>
        <p:spPr>
          <a:xfrm>
            <a:off x="857160" y="214200"/>
            <a:ext cx="7429680" cy="62150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4"/>
          <p:cNvSpPr/>
          <p:nvPr/>
        </p:nvSpPr>
        <p:spPr>
          <a:xfrm>
            <a:off x="3571920" y="52149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дин из почитателей его таланта писал: лучшие из песен Высоцкого - это своеобразные маленькие дра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0017"/>
          <p:cNvPicPr/>
          <p:nvPr/>
        </p:nvPicPr>
        <p:blipFill>
          <a:blip r:embed="rId1"/>
          <a:stretch/>
        </p:blipFill>
        <p:spPr>
          <a:xfrm>
            <a:off x="2268360" y="2349360"/>
            <a:ext cx="4824720" cy="3675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1" name="Rectangle 7"/>
          <p:cNvSpPr/>
          <p:nvPr/>
        </p:nvSpPr>
        <p:spPr>
          <a:xfrm>
            <a:off x="900000" y="297000"/>
            <a:ext cx="7236000" cy="1800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димир Высоцкий родился в Москве, "Дом на Первой Мещанской, в конце" - согласно его же свидетельству из песни "Баллада о детстве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wheel spokes="1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01"/>
          <p:cNvPicPr/>
          <p:nvPr/>
        </p:nvPicPr>
        <p:blipFill>
          <a:blip r:embed="rId1"/>
          <a:stretch/>
        </p:blipFill>
        <p:spPr>
          <a:xfrm>
            <a:off x="500040" y="642960"/>
            <a:ext cx="3941640" cy="531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8" name="Прямоугольник 4"/>
          <p:cNvSpPr/>
          <p:nvPr/>
        </p:nvSpPr>
        <p:spPr>
          <a:xfrm>
            <a:off x="4572000" y="642960"/>
            <a:ext cx="407196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ходим под воду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ейтральной вод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можем по году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евать на погоду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если накроют —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окаторы взвою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 нашей бед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сите наши души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бредим от удушь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сите наши души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шите к нам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лышьте нас на суше —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ш SOS всё глуше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луш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жас режет душ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ополам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асите наши души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845964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05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1707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258920" y="1413360"/>
            <a:ext cx="675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..25 июля 1980 года. Высоцкого хоронила, казалось, вся Москва, хотя официального сообщения о смерти не было - в это время проходила московская Олимпиа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250920" y="909360"/>
            <a:ext cx="4537080" cy="4786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соцкий жив и сегодня, благодаря людской памяти, питавшейся и питающейся по сей день его стихотворениями, драматургическими произведениями, киноролями, песнями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08"/>
          <p:cNvPicPr/>
          <p:nvPr/>
        </p:nvPicPr>
        <p:blipFill>
          <a:blip r:embed="rId1"/>
          <a:stretch/>
        </p:blipFill>
        <p:spPr>
          <a:xfrm>
            <a:off x="4932360" y="333360"/>
            <a:ext cx="3814920" cy="61149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1214280" y="2647800"/>
            <a:ext cx="70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читель истории и обществозн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ражкина Виктория Василь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285840" y="877320"/>
            <a:ext cx="8497800" cy="4360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вои первые песни Высоцкий начал писать в начале 60-х годов. Это были песни в стиле "дворовой романтики" и не воспринимались всерьез ни Высоцким, ни теми, кто был их первыми слушателям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cover dir="r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57760" y="1571760"/>
            <a:ext cx="528624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ыт я по горло, до подбородк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же от песен стал устават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чь бы на дно, как подводная лодк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не могли запеленговать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ыт я по гор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10" descr="Владимир Высоцкий"/>
          <p:cNvPicPr/>
          <p:nvPr/>
        </p:nvPicPr>
        <p:blipFill>
          <a:blip r:embed="rId1"/>
          <a:stretch/>
        </p:blipFill>
        <p:spPr>
          <a:xfrm>
            <a:off x="468360" y="333360"/>
            <a:ext cx="3390840" cy="575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10000">
    <p:zoom dir="in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Владимир Высоцкий, 1973"/>
          <p:cNvPicPr/>
          <p:nvPr/>
        </p:nvPicPr>
        <p:blipFill>
          <a:blip r:embed="rId1"/>
          <a:stretch/>
        </p:blipFill>
        <p:spPr>
          <a:xfrm>
            <a:off x="1357200" y="428760"/>
            <a:ext cx="6553440" cy="5592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4758120" y="630864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ладимир Высоцкий, 197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Сцена из спектакля Гамлет"/>
          <p:cNvPicPr/>
          <p:nvPr/>
        </p:nvPicPr>
        <p:blipFill>
          <a:blip r:embed="rId1"/>
          <a:stretch/>
        </p:blipFill>
        <p:spPr>
          <a:xfrm>
            <a:off x="5321160" y="189000"/>
            <a:ext cx="3337200" cy="5832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38" name="Text Box 5"/>
          <p:cNvSpPr/>
          <p:nvPr/>
        </p:nvSpPr>
        <p:spPr>
          <a:xfrm>
            <a:off x="611280" y="1197000"/>
            <a:ext cx="4321080" cy="3506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60 – е  Владимир Высоцкий приходит в Театр на Таганке, который по выражению самого Высоцкого, стал для него "своим театром"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4000"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Владимир Высоцкий Сцена из спектакля Гамлет"/>
          <p:cNvPicPr/>
          <p:nvPr/>
        </p:nvPicPr>
        <p:blipFill>
          <a:blip r:embed="rId1"/>
          <a:stretch/>
        </p:blipFill>
        <p:spPr>
          <a:xfrm>
            <a:off x="1547640" y="260280"/>
            <a:ext cx="6050160" cy="5815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0" name="Rectangle 6"/>
          <p:cNvSpPr/>
          <p:nvPr/>
        </p:nvSpPr>
        <p:spPr>
          <a:xfrm>
            <a:off x="1659960" y="6491160"/>
            <a:ext cx="5619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02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ладимир Высоцкий Сцена из спектакля Гамл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Владимир Высоцкий"/>
          <p:cNvPicPr/>
          <p:nvPr/>
        </p:nvPicPr>
        <p:blipFill>
          <a:blip r:embed="rId1"/>
          <a:stretch/>
        </p:blipFill>
        <p:spPr>
          <a:xfrm>
            <a:off x="395280" y="333360"/>
            <a:ext cx="3132000" cy="5473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2" name="Rectangle 5"/>
          <p:cNvSpPr/>
          <p:nvPr/>
        </p:nvSpPr>
        <p:spPr>
          <a:xfrm>
            <a:off x="4572000" y="4722480"/>
            <a:ext cx="374328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раллельно с работой в театре были кинорабо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Владимир Высоцкий"/>
          <p:cNvPicPr/>
          <p:nvPr/>
        </p:nvPicPr>
        <p:blipFill>
          <a:blip r:embed="rId2"/>
          <a:stretch/>
        </p:blipFill>
        <p:spPr>
          <a:xfrm>
            <a:off x="3924360" y="333360"/>
            <a:ext cx="2227320" cy="4032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4" name="Picture 7" descr="В"/>
          <p:cNvPicPr/>
          <p:nvPr/>
        </p:nvPicPr>
        <p:blipFill>
          <a:blip r:embed="rId3"/>
          <a:stretch/>
        </p:blipFill>
        <p:spPr>
          <a:xfrm>
            <a:off x="6588000" y="333360"/>
            <a:ext cx="2287800" cy="4032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 spd="slow" advTm="6000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539640" y="441000"/>
            <a:ext cx="820908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оворя о работе в кино, Владимир Высоцкий называл такие цифры: снимался в 24 фильмах, в 12 исполнял главные роли, для 10 написал пес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500800" y="2298960"/>
            <a:ext cx="328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ая известная и самая любимая роль - Жегл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телесериа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Место встречи изменить нельзя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Рисунок 6" descr="205px-Zheglov.jpg"/>
          <p:cNvPicPr/>
          <p:nvPr/>
        </p:nvPicPr>
        <p:blipFill>
          <a:blip r:embed="rId1"/>
          <a:stretch/>
        </p:blipFill>
        <p:spPr>
          <a:xfrm>
            <a:off x="642960" y="2071800"/>
            <a:ext cx="4730760" cy="4500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7:36:30Z</dcterms:created>
  <dc:creator>ВИКА</dc:creator>
  <dc:description/>
  <dc:language>en-US</dc:language>
  <cp:lastModifiedBy>VIKA</cp:lastModifiedBy>
  <dcterms:modified xsi:type="dcterms:W3CDTF">2013-02-14T16:01:27Z</dcterms:modified>
  <cp:revision>15</cp:revision>
  <dc:subject/>
  <dc:title>«Я, конечно вернусь…»</dc:title>
</cp:coreProperties>
</file>