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0DC48-95FF-4490-973E-9B4A0345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ACE15-2A06-4880-A43F-35DEC4D0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A1C49-3A02-43DB-91A8-2C443C59A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AF810-450F-4588-A8E0-3E2CA3C7F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9558-E3E5-4529-85CE-A33E100FB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311D0-69B2-4B03-847A-85F4518D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79E5-99E8-44B6-9E1C-37042C32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6A02-3DB7-44AE-AB42-BE7E0BF8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6455-A631-4144-965F-88EEAE2F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7220-6EA5-491A-86A5-B0322EF5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E03A-C0E5-4643-9E36-18177C8C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C6549-A938-4605-A6C1-27DC31BD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27E4-7C74-4A30-AC2D-056DCAF0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359E-86D5-44F0-A489-CA89F36B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0F3B-FB4F-489A-9CC7-5B2535AE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1C5C-CC7B-4187-9EDD-EE27F7762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8810-1D0C-4397-881F-1B84C78E3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97816-238A-40BE-A8F3-5CD8BA75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AF895-E155-4247-BAA7-F01D92D7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B18FB-CE0B-4DFE-8E2B-212D00C2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F0F8B-F265-4C26-9697-626B2392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80B00-7DF6-4D50-AB7B-0125E5E8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B1BDE-56F6-4E25-BEFF-B685A76C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875AB-A6A2-4981-BCA8-B7181E52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12A4-7F4F-41D5-AC6B-742D02E2B2A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A867-A406-4794-B025-F81F0BF6A3D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Владимир Высоцкий в МосквеДом кино1976 г"/>
          <p:cNvPicPr/>
          <p:nvPr/>
        </p:nvPicPr>
        <p:blipFill>
          <a:blip r:embed="rId1"/>
          <a:stretch/>
        </p:blipFill>
        <p:spPr>
          <a:xfrm>
            <a:off x="4067280" y="765000"/>
            <a:ext cx="4895640" cy="458964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 rot="20165400">
            <a:off x="-180720" y="1557000"/>
            <a:ext cx="7772400" cy="1152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1" lang="ru-RU" sz="4800" spc="-1" strike="noStrike">
                <a:solidFill>
                  <a:srgbClr val="ffffcc"/>
                </a:solidFill>
                <a:latin typeface="Tahoma"/>
              </a:rPr>
              <a:t>Я, конечно вернусь…»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240" y="4797360"/>
            <a:ext cx="7088040" cy="2060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мяти Владимира Высоцк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11-Ya, konechno, vernus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xit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4716360" y="511200"/>
            <a:ext cx="3600720" cy="5213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"Высоцкий осуществил мечту каждого человека выразиться полностью, всем существом сразу, и умом, и телом, и голосом, и мыслью, и страстью."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. Мит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5" descr="Владимир Высоцкий на 15-летии Театра на Таганке"/>
          <p:cNvPicPr/>
          <p:nvPr/>
        </p:nvPicPr>
        <p:blipFill>
          <a:blip r:embed="rId1"/>
          <a:stretch/>
        </p:blipFill>
        <p:spPr>
          <a:xfrm>
            <a:off x="539640" y="260280"/>
            <a:ext cx="3386160" cy="5904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slow" advTm="17000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А потом пришла Любовь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1" name="Picture 10" descr="Владимир Высоцкий с Мариной Влади на теплоходе Шота Руставели1971"/>
          <p:cNvPicPr/>
          <p:nvPr/>
        </p:nvPicPr>
        <p:blipFill>
          <a:blip r:embed="rId1"/>
          <a:stretch/>
        </p:blipFill>
        <p:spPr>
          <a:xfrm>
            <a:off x="2340000" y="1633680"/>
            <a:ext cx="4537080" cy="4459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slow" advTm="8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468360" y="1421280"/>
            <a:ext cx="4249800" cy="3080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арина Влади вошла в его жизнь в 1967 году. Высоцкий влюбился в нее после просмотра кинофильма "Колдунья".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5" descr="0003"/>
          <p:cNvPicPr/>
          <p:nvPr/>
        </p:nvPicPr>
        <p:blipFill>
          <a:blip r:embed="rId1"/>
          <a:stretch/>
        </p:blipFill>
        <p:spPr>
          <a:xfrm>
            <a:off x="5219640" y="333360"/>
            <a:ext cx="3311640" cy="61200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p:transition spd="slow" advTm="15000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1594440" y="260280"/>
            <a:ext cx="6715800" cy="5946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ли я богат, как царь морско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рикни только мне: «Лови блесну!» -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ир подводный и надводный свой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 задумываясь, выплесну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ом хрустальный на горе для не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ам, как пес бы, так и рос – в цеп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одники мои серебряны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олотые мои россыпи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 сравнил бы я любую с тобой, -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Хоть казни меня, расстрелива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смотри как я любуюсь тобой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ак мадонной Рафаэлевой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ом хрусталь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Владимир Высоцкий на теплоходе Шота Руставели"/>
          <p:cNvPicPr/>
          <p:nvPr/>
        </p:nvPicPr>
        <p:blipFill>
          <a:blip r:embed="rId1"/>
          <a:stretch/>
        </p:blipFill>
        <p:spPr>
          <a:xfrm>
            <a:off x="324000" y="333360"/>
            <a:ext cx="3235320" cy="568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56" name="Text Box 5"/>
          <p:cNvSpPr/>
          <p:nvPr/>
        </p:nvSpPr>
        <p:spPr>
          <a:xfrm>
            <a:off x="3780000" y="1268280"/>
            <a:ext cx="5364000" cy="3020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Я весь в свету, доступен всем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лазам,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Я приступил к привычной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оцедур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Я к микрофону встал как к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разам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т–нет, сегодня точно – к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мбразур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Владимир Высоцкий, 1972 г"/>
          <p:cNvPicPr/>
          <p:nvPr/>
        </p:nvPicPr>
        <p:blipFill>
          <a:blip r:embed="rId1"/>
          <a:stretch/>
        </p:blipFill>
        <p:spPr>
          <a:xfrm>
            <a:off x="5313240" y="260280"/>
            <a:ext cx="3362400" cy="56898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158" name="Rectangle 5"/>
          <p:cNvSpPr/>
          <p:nvPr/>
        </p:nvSpPr>
        <p:spPr>
          <a:xfrm>
            <a:off x="324000" y="909000"/>
            <a:ext cx="4824360" cy="43599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есни Высоцкого принято делить на циклы: военный, горный, спортивный, китайский... Надо было прожить несколько жизней, чтобы прочувствовать все персонажи, обрисованные в песня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Фронтовики, слушавшие его песни о войне, были уверены, что он лично пережил все то, о чем писал в песнях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Прямоугольник 5"/>
          <p:cNvSpPr/>
          <p:nvPr/>
        </p:nvSpPr>
        <p:spPr>
          <a:xfrm>
            <a:off x="857160" y="1643040"/>
            <a:ext cx="7072560" cy="5031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цепились они в высоту, как в сво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гонь минометный, шквальный..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 мы все лезли толпой на не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ак на буфет вокзальны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 крики "ура" застывали во рту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гда мы пули глотал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емь раз занимали мы ту высоту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емь раз мы ее оставляли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ыс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Владимир Высоцкий в 1979"/>
          <p:cNvPicPr/>
          <p:nvPr/>
        </p:nvPicPr>
        <p:blipFill>
          <a:blip r:embed="rId1"/>
          <a:stretch/>
        </p:blipFill>
        <p:spPr>
          <a:xfrm>
            <a:off x="468360" y="189000"/>
            <a:ext cx="3535200" cy="5905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62" name="Rectangle 6"/>
          <p:cNvSpPr/>
          <p:nvPr/>
        </p:nvSpPr>
        <p:spPr>
          <a:xfrm>
            <a:off x="4427640" y="1484280"/>
            <a:ext cx="4502160" cy="22269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оряки, альпинисты, дальнобойщики - все считали его своим. В каждой песне была правда жизн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6" descr="Владимир Высоцкий, г"/>
          <p:cNvPicPr/>
          <p:nvPr/>
        </p:nvPicPr>
        <p:blipFill>
          <a:blip r:embed="rId1"/>
          <a:stretch/>
        </p:blipFill>
        <p:spPr>
          <a:xfrm>
            <a:off x="5214960" y="260280"/>
            <a:ext cx="3352680" cy="597708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164" name="Rectangle 7"/>
          <p:cNvSpPr/>
          <p:nvPr/>
        </p:nvSpPr>
        <p:spPr>
          <a:xfrm>
            <a:off x="539640" y="550800"/>
            <a:ext cx="4176720" cy="5213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ам Высоцкий так говорил об авторской песне: "Я хочу сказать и заверить, что авторская песня требует очень большой работы. Эта песня все время живет с тобой, не дает тебе покоя ни днем, ни ночью"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3" descr="logo_1.jpg"/>
          <p:cNvPicPr/>
          <p:nvPr/>
        </p:nvPicPr>
        <p:blipFill>
          <a:blip r:embed="rId1"/>
          <a:stretch/>
        </p:blipFill>
        <p:spPr>
          <a:xfrm>
            <a:off x="857160" y="214200"/>
            <a:ext cx="7429680" cy="621504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4"/>
          <p:cNvSpPr/>
          <p:nvPr/>
        </p:nvSpPr>
        <p:spPr>
          <a:xfrm>
            <a:off x="3571920" y="521496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дин из почитателей его таланта писал: лучшие из песен Высоцкого - это своеобразные маленькие драм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0017"/>
          <p:cNvPicPr/>
          <p:nvPr/>
        </p:nvPicPr>
        <p:blipFill>
          <a:blip r:embed="rId1"/>
          <a:stretch/>
        </p:blipFill>
        <p:spPr>
          <a:xfrm>
            <a:off x="2268360" y="2349360"/>
            <a:ext cx="4824720" cy="3675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31" name="Rectangle 7"/>
          <p:cNvSpPr/>
          <p:nvPr/>
        </p:nvSpPr>
        <p:spPr>
          <a:xfrm>
            <a:off x="900000" y="297000"/>
            <a:ext cx="7236000" cy="1800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ладимир Высоцкий родился в Москве, "Дом на Первой Мещанской, в конце" - согласно его же свидетельству из песни "Баллада о детстве"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wheel spokes="1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01"/>
          <p:cNvPicPr/>
          <p:nvPr/>
        </p:nvPicPr>
        <p:blipFill>
          <a:blip r:embed="rId1"/>
          <a:stretch/>
        </p:blipFill>
        <p:spPr>
          <a:xfrm>
            <a:off x="500040" y="642960"/>
            <a:ext cx="3941640" cy="5310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68" name="Прямоугольник 4"/>
          <p:cNvSpPr/>
          <p:nvPr/>
        </p:nvSpPr>
        <p:spPr>
          <a:xfrm>
            <a:off x="4572000" y="642960"/>
            <a:ext cx="4071960" cy="61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ходим под воду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нейтральной воде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ы можем по году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левать на погоду,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 если накроют —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окаторы взвоют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 нашей беде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асите наши души!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ы бредим от удушья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асите наши души!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ешите к нам!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слышьте нас на суше —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ш SOS всё глуше,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луше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ужас режет души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пополам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пасите наши души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03"/>
          <p:cNvPicPr/>
          <p:nvPr/>
        </p:nvPicPr>
        <p:blipFill>
          <a:blip r:embed="rId1"/>
          <a:stretch/>
        </p:blipFill>
        <p:spPr>
          <a:xfrm>
            <a:off x="0" y="0"/>
            <a:ext cx="8459640" cy="686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05"/>
          <p:cNvPicPr/>
          <p:nvPr/>
        </p:nvPicPr>
        <p:blipFill>
          <a:blip r:embed="rId1"/>
          <a:stretch/>
        </p:blipFill>
        <p:spPr>
          <a:xfrm>
            <a:off x="395280" y="260280"/>
            <a:ext cx="8497800" cy="617076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1258920" y="1413360"/>
            <a:ext cx="6751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...25 июля 1980 года. Высоцкого хоронила, казалось, вся Москва, хотя официального сообщения о смерти не было - в это время проходила московская Олимпиад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250920" y="909360"/>
            <a:ext cx="4537080" cy="4786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ысоцкий жив и сегодня, благодаря людской памяти, питавшейся и питающейся по сей день его стихотворениями, драматургическими произведениями, киноролями, песнями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5" descr="08"/>
          <p:cNvPicPr/>
          <p:nvPr/>
        </p:nvPicPr>
        <p:blipFill>
          <a:blip r:embed="rId1"/>
          <a:stretch/>
        </p:blipFill>
        <p:spPr>
          <a:xfrm>
            <a:off x="4932360" y="333360"/>
            <a:ext cx="3814920" cy="611496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1214280" y="2647800"/>
            <a:ext cx="700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читель истории и обществозна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Бражкина Виктория Василье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285840" y="877320"/>
            <a:ext cx="8497800" cy="4360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вои первые песни Высоцкий начал писать в начале 60-х годов. Это были песни в стиле "дворовой романтики" и не воспринимались всерьез ни Высоцким, ни теми, кто был их первыми слушателями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5000">
    <p:cover dir="r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57760" y="1571760"/>
            <a:ext cx="528624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ыт я по горло, до подбородка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аже от песен стал уставать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чь бы на дно, как подводная лодка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б не могли запеленговать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ыт я по горл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10" descr="Владимир Высоцкий"/>
          <p:cNvPicPr/>
          <p:nvPr/>
        </p:nvPicPr>
        <p:blipFill>
          <a:blip r:embed="rId1"/>
          <a:stretch/>
        </p:blipFill>
        <p:spPr>
          <a:xfrm>
            <a:off x="468360" y="333360"/>
            <a:ext cx="3390840" cy="5759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advTm="10000">
    <p:zoom dir="in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Владимир Высоцкий, 1973"/>
          <p:cNvPicPr/>
          <p:nvPr/>
        </p:nvPicPr>
        <p:blipFill>
          <a:blip r:embed="rId1"/>
          <a:stretch/>
        </p:blipFill>
        <p:spPr>
          <a:xfrm>
            <a:off x="1357200" y="428760"/>
            <a:ext cx="6553440" cy="5592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36" name="Text Box 5"/>
          <p:cNvSpPr/>
          <p:nvPr/>
        </p:nvSpPr>
        <p:spPr>
          <a:xfrm>
            <a:off x="4758120" y="6308640"/>
            <a:ext cx="31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ладимир Высоцкий, 197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7000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Сцена из спектакля Гамлет"/>
          <p:cNvPicPr/>
          <p:nvPr/>
        </p:nvPicPr>
        <p:blipFill>
          <a:blip r:embed="rId1"/>
          <a:stretch/>
        </p:blipFill>
        <p:spPr>
          <a:xfrm>
            <a:off x="5321160" y="189000"/>
            <a:ext cx="3337200" cy="583236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138" name="Text Box 5"/>
          <p:cNvSpPr/>
          <p:nvPr/>
        </p:nvSpPr>
        <p:spPr>
          <a:xfrm>
            <a:off x="611280" y="1197000"/>
            <a:ext cx="4321080" cy="3506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60 – е  Владимир Высоцкий приходит в Театр на Таганке, который по выражению самого Высоцкого, стал для него "своим театром"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4000">
    <p:wheel spokes="8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Владимир Высоцкий Сцена из спектакля Гамлет"/>
          <p:cNvPicPr/>
          <p:nvPr/>
        </p:nvPicPr>
        <p:blipFill>
          <a:blip r:embed="rId1"/>
          <a:stretch/>
        </p:blipFill>
        <p:spPr>
          <a:xfrm>
            <a:off x="1547640" y="260280"/>
            <a:ext cx="6050160" cy="5815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0" name="Rectangle 6"/>
          <p:cNvSpPr/>
          <p:nvPr/>
        </p:nvSpPr>
        <p:spPr>
          <a:xfrm>
            <a:off x="1659960" y="6491160"/>
            <a:ext cx="56199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02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ладимир Высоцкий Сцена из спектакля Гамл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7000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Владимир Высоцкий"/>
          <p:cNvPicPr/>
          <p:nvPr/>
        </p:nvPicPr>
        <p:blipFill>
          <a:blip r:embed="rId1"/>
          <a:stretch/>
        </p:blipFill>
        <p:spPr>
          <a:xfrm>
            <a:off x="395280" y="333360"/>
            <a:ext cx="3132000" cy="5473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2" name="Rectangle 5"/>
          <p:cNvSpPr/>
          <p:nvPr/>
        </p:nvSpPr>
        <p:spPr>
          <a:xfrm>
            <a:off x="4572000" y="4722480"/>
            <a:ext cx="3743280" cy="1191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араллельно с работой в театре были киноработ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6" descr="Владимир Высоцкий"/>
          <p:cNvPicPr/>
          <p:nvPr/>
        </p:nvPicPr>
        <p:blipFill>
          <a:blip r:embed="rId2"/>
          <a:stretch/>
        </p:blipFill>
        <p:spPr>
          <a:xfrm>
            <a:off x="3924360" y="333360"/>
            <a:ext cx="2227320" cy="4032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44" name="Picture 7" descr="В"/>
          <p:cNvPicPr/>
          <p:nvPr/>
        </p:nvPicPr>
        <p:blipFill>
          <a:blip r:embed="rId3"/>
          <a:stretch/>
        </p:blipFill>
        <p:spPr>
          <a:xfrm>
            <a:off x="6588000" y="333360"/>
            <a:ext cx="2287800" cy="403236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p:transition spd="slow" advTm="6000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539640" y="441000"/>
            <a:ext cx="8209080" cy="1191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оворя о работе в кино, Владимир Высоцкий называл такие цифры: снимался в 24 фильмах, в 12 исполнял главные роли, для 10 написал песн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5500800" y="2298960"/>
            <a:ext cx="3286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мая известная и самая любимая роль - Жегл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телесериал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"Место встречи изменить нельзя"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Рисунок 6" descr="205px-Zheglov.jpg"/>
          <p:cNvPicPr/>
          <p:nvPr/>
        </p:nvPicPr>
        <p:blipFill>
          <a:blip r:embed="rId1"/>
          <a:stretch/>
        </p:blipFill>
        <p:spPr>
          <a:xfrm>
            <a:off x="642960" y="2071800"/>
            <a:ext cx="4730760" cy="45003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7:36:30Z</dcterms:created>
  <dc:creator>ВИКА</dc:creator>
  <dc:description/>
  <dc:language>en-US</dc:language>
  <cp:lastModifiedBy>VIKA</cp:lastModifiedBy>
  <dcterms:modified xsi:type="dcterms:W3CDTF">2013-02-14T16:01:27Z</dcterms:modified>
  <cp:revision>15</cp:revision>
  <dc:subject/>
  <dc:title>«Я, конечно вернусь…»</dc:title>
</cp:coreProperties>
</file>