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0F3B-341C-405C-BA72-DC1B9D713A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D5F9-CC31-412B-8A87-44D73ACBE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A25-EB1E-4E13-BCC2-0486CD3D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C6C-B00E-486C-BC9A-7F922B62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9DE-AF3C-4FD0-9C2B-DD6EB540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7A4-21AB-463E-9732-7904C29C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5F01-5058-4EFF-A072-5075AA1E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BEF2-30EF-4453-B647-4AB1352C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B06C-973F-4F67-909B-FAED5693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E031-9A39-49D7-9F7B-F6299C9B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B9D8-9920-4022-92A3-6E4A6558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C240-7020-477B-9F8B-1805BCB3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36C7-C5E9-4C93-B487-A1E0655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4CB-FDB2-4B51-97A2-6DE2A67B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33E6-50A2-46FB-A95D-DC9A0F29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0DAA-4C8D-4412-AFBF-AF93549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E870-2E28-455F-9A99-994D1B3D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540D-34C9-4219-BACD-81240651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8C8A-F672-4D80-9A8A-15D4EFA0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AB9C9-BD43-41EE-A952-421D33A1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0110B-0F84-4403-9B92-BFD2A8C7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AF99-ABA7-4BB3-8B01-217B563C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7532-0F40-4CD9-8B80-2366CDB5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E212-30C4-4DD7-84EB-C7D65B52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08D-7DBF-42C2-9D7E-1E3AC343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ACA8E-73E0-464F-ADF0-CE659FDF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D0FC-5268-4829-A43D-90C109BA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6209-9EB7-4BA6-96C9-56589A25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52A8-FF0D-4A6B-BDA2-C145D04C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D9AA-EE14-49C3-8332-309F54B5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814C-08E3-456F-BFF8-BA09FAC8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48C6-CC84-4479-BD23-8A34A1A8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B5FD-706F-4599-9193-1153844E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3D794-EBBD-4448-A390-23CEFCEB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936C-4E51-4926-8D3B-923E92EF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14C-A881-43B8-BB0B-FFC0917F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5DB8-24EB-4888-B1BC-7357ACDA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6471-458D-471B-B098-5EFC2C01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D3EE-FE53-4835-B201-C9F4FF4F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853C-4B9C-4C2D-B086-F31E986D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23EB-D8AE-4F5D-8864-D4EE5180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3504-3E00-4D47-AAD1-34F2F5F0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0D13E-11B9-4E2F-91BE-1CB415FE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84394-241E-4287-A6C2-0BD56CA9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B8A2-3EF2-4D43-A03E-BBAF791C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5C66D-9644-4B67-811A-9A4A5A33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F9D-EED2-49D2-BEF3-D6C49A52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34B28-9547-4544-98BF-A5CF9405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9A4F6-6A35-4F51-A26F-CF34CE9B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9DE09-B471-4CA6-81C0-2F474A4A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50A27-4B6F-4A5E-952A-15FDA025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EB054-1E78-40A1-BE01-C63A9364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083E-8A65-462A-9EF4-1167426A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6335B-D86D-4835-B81F-30F48E2F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5E69-3ED9-4155-AE75-4F4E3A2B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2A983-1F46-4128-BF85-15BB4135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C7CFB-418B-40DC-BEED-3628F47F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389-C7D4-435A-9D77-4418FA89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95F56-B52B-4109-B164-A99CC5EE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0DF90-3969-43EB-A8B4-8D2619CD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39927-AA63-4335-9402-0D19A923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5328D-9323-493A-B901-E29817E8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357DA-80F5-4C01-B203-B66AFA18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0B5DD-F478-4945-820F-045966CB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4CA44-FDC3-43D4-83CF-D6379AC2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0C55-144A-4E3D-97C2-19A7AB87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22313-F01E-44A1-B745-1667EEC2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1A096-1E9A-4C84-981A-14C9E0CE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E78-074B-40C9-BB2C-10294805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BEDE4-9B9A-43EB-89E9-5D240F76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D862C-96B0-425A-B000-E194E37B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CE414-B322-4116-BD3C-46504C9A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440-A872-4D21-91FA-69D44839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C2F-5E26-4D71-9267-6428CDE9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D3E4-D5AE-4E36-8A0B-E1F83D49FB6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3455-D2AB-41FF-A8F5-5E3BE6D4766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0D1B-55CD-40E0-83B2-F7493B214FE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2A74-8A13-43AE-880A-33A5C18F1B5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D35C-3EF3-4A73-9DC0-427A2C00FC9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017D-95D1-4B12-A021-3BA3BA6584F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AutoShape 2" descr=""/>
          <p:cNvPicPr/>
          <p:nvPr/>
        </p:nvPicPr>
        <p:blipFill>
          <a:blip r:embed="rId1"/>
          <a:stretch/>
        </p:blipFill>
        <p:spPr>
          <a:xfrm>
            <a:off x="682560" y="1494000"/>
            <a:ext cx="8089920" cy="3541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75200" cy="18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Автор: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Брюханова Н.Н., 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ренос свойств с одного предмета на другой на основании их сходс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устых небес прозрачное стекло. Багровый костер зака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AutoShap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 основе метафоры лежит сравнение, но оно не оформлено с помощью сравнительных союзов, поэтому метафору называют скрытым сравнение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755640" y="2361960"/>
            <a:ext cx="8137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положение слов по нарастанию или убыванию их значения(смыслового или эмоционального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ейт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разумное, доброе, вечное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сходящая(цепь понятий или определений с постепенным возрастанием значимости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исходящая (цепь понятий или определений с постепенным убыванием значимости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837720" y="2362320"/>
            <a:ext cx="80550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тный порядок сло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необычном порядке слов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) подлежащее стоит после сказуемог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) прилагательное после существительног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) наречие после глаго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досадно было, боя ждал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вопрос, который ставится с целью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силения утверждения и на него н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ребуется ответ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что день грядущий нам готовит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моциональное  обращение к кому-нибудь с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целью усиления выразительн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люди мира, бережно относитесь к природе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нтрастное сочетание слов, противоположных по смысл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ертвые души, живой труп, грустная радос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AutoShape 2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зкое противопоставление понятий, мыслей, образ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ты и убогая, ты и обильная, ты и могучая, матушка- Русь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нтрастное сочетание слов, противоположных по смыслу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живой труп, пленница свободы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ветлая ть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AutoShape 2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7424640" cy="1150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Тропы – это слова и выражения, используемые автором текста в переносном значении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Синекдох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Олицетворение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Эпитет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Сравнение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Гипербол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Литот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ПЕрифраз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Метафор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714920" y="2285640"/>
            <a:ext cx="391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Фигуры речи- особые синтаксические конструкции, придающие речи выразительность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Инверсия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Риторический вопрос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Риторическое обращение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Градация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Парцелляция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Антитез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Оксюморон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меренное нарушение границ предложения; разделение одного предложения с помощью точек на несколько частей- две и боле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имер, От шляпок их! Чепцов! И шпилек! И булавок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47040" cy="1150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рмили плохо, вечно хотелось е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тка была некрупная, молода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ё равно толку не добьёмся, нас восемь человек, а она такая маленька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ворачивая голову по сторонам, она смотрела на нас изумлёнными бусинками глаз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мните, он корчил рожи, а вы ему сказали, что у него способност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десь жила Мария Петровна, его учительница по математике, как же он сразу о ней не подумал, не вспомнил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Мария Петровна, - тихо сказал Павел Георгиевич, - вы меня узнаёт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гда Сафонов вошёл в родной городок, окраины встретили его длинными тенями от старых тополей; ветви яблонь, обогретых солнцем, свешивались через забор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AutoShape 2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763092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ред глазами его вдруг встало лицо Марины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на была ему другом, и как же посмел он сейчас так думать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лагодаря Марине Лёня никогда не чувствовал себя чужим в этой семье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арина сидела на крылечке и с нетерпением ждала сы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AutoShape 2" descr=""/>
          <p:cNvPicPr/>
          <p:nvPr/>
        </p:nvPicPr>
        <p:blipFill>
          <a:blip r:embed="rId1"/>
          <a:stretch/>
        </p:blipFill>
        <p:spPr>
          <a:xfrm>
            <a:off x="579600" y="542880"/>
            <a:ext cx="8315280" cy="140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826920" y="2565000"/>
            <a:ext cx="7693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«Серёжка смотрит на неё, но видит не стадион, 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каменные стены римского Колизея. Сейчас он не ученик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средней школы, он – отважный гладиатор. На нём не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штаны и куртка, а кованые доспехи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равнительный оборо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AutoShap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«И он готов ради этого работать день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и ночь, трудиться не покладая рук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Эпит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Олицетвор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интаксический параллелиз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Фразеологизм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AutoShap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«Вообще мои родители то и дело обвиняли  нас обоих в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нечёткости: мы нечётко сообщали, кто звонил маме 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отцу по телефону и что передавали в «Последних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известиях», нечётко выполняли режим дня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.Драбкина С.В., Субботин Д.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тимальный банк заданий для подготовки учащихся.- Москва: Интеллект-Центр, 2013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Сенина Н.А., Гармаш С.В., Диденко С.А., Кобякова Г.Н. Русский язык. Подготовка к ГИА.- Под ред. Н.А.Сениной.- Ростов н/Д: Легион, 201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AutoShape 5" descr=""/>
          <p:cNvPicPr/>
          <p:nvPr/>
        </p:nvPicPr>
        <p:blipFill>
          <a:blip r:embed="rId1"/>
          <a:stretch/>
        </p:blipFill>
        <p:spPr>
          <a:xfrm>
            <a:off x="517680" y="755640"/>
            <a:ext cx="8377200" cy="11588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856800" y="2142720"/>
            <a:ext cx="3770280" cy="37242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787640" y="27810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9" name="Picture 6" descr="E:\ucheniki_w450_h468.jpg"/>
          <p:cNvPicPr/>
          <p:nvPr/>
        </p:nvPicPr>
        <p:blipFill>
          <a:blip r:embed="rId3"/>
          <a:stretch/>
        </p:blipFill>
        <p:spPr>
          <a:xfrm>
            <a:off x="1785960" y="1960560"/>
            <a:ext cx="42148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517680" y="755640"/>
            <a:ext cx="8175600" cy="11588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11" descr="2404587-3b34154cb7b84651.gif"/>
          <p:cNvPicPr/>
          <p:nvPr/>
        </p:nvPicPr>
        <p:blipFill>
          <a:blip r:embed="rId2"/>
          <a:stretch/>
        </p:blipFill>
        <p:spPr>
          <a:xfrm>
            <a:off x="838080" y="2908440"/>
            <a:ext cx="3770280" cy="26319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новидность метонимии, когда название части употребляется вместо названия целого или наоборо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</a:t>
            </a:r>
            <a:r>
              <a:rPr b="0" lang="ru-RU" sz="2600" spc="-1" strike="noStrike">
                <a:solidFill>
                  <a:srgbClr val="ac66bb"/>
                </a:solidFill>
                <a:latin typeface="Trebuchet MS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Мы все глядим в Наполеоны.(мн.число употребляется вместо единственного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аделение неодушевлённых предмето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ризнаками и свойствами челове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</a:t>
            </a:r>
            <a:r>
              <a:rPr b="0" i="1" lang="ru-RU" sz="2600" spc="-1" strike="noStrike">
                <a:solidFill>
                  <a:srgbClr val="ac66bb"/>
                </a:solidFill>
                <a:latin typeface="Trebuchet MS"/>
              </a:rPr>
              <a:t>:</a:t>
            </a:r>
            <a:r>
              <a:rPr b="0" lang="ru-RU" sz="2600" spc="-1" strike="noStrike">
                <a:solidFill>
                  <a:srgbClr val="ac66bb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Спит земля в сиянье голубом.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ечор, ты помнишь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ьюга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злила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разное определение , отвечающее на вопрос какой? Какая? Какие?   и обычно выраженное именем прилагательным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c66bb"/>
                </a:solidFill>
                <a:latin typeface="Trebuchet MS"/>
              </a:rPr>
              <a:t>Например</a:t>
            </a: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Сквоз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волнистые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туманы пробирается луна, на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печальные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поляны льёт печально свет он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поставление одного предмета с другим. Сравнени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жет быть представлено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формой сравнительного оборот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присоединяемого с помощью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юзов КАК, ТОЧНО, СЛОВНО, БУДТО, КАК БУДТО, ЧТО (в значении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юза КАК)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Trebuchet MS"/>
              </a:rPr>
              <a:t>Например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Хорошо и тепло,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как зимой у печки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И берёзы стоят,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как большие свечки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равнительным придаточным предложение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Trebuchet MS"/>
              </a:rPr>
              <a:t>Например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Закружилась листва золотая в розоватой воде на пруду,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словно бабочек лёгкая стая с замираньем летит на звез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уществительным в Т.п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Trebuchet MS"/>
              </a:rPr>
              <a:t>Например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Морозной пылью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серебрится его бобровый воротник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лишнее преувеличение тех или иных свойств изображаемого предмет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 В сто тысяч солнц закат пылал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резмерное преуменьшение свойств  изображаемого предмета или явления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альчик-с-пальчик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мена названия предмета или явления описанием их отличительных признаков или указанием на характерные чер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царь зверей(вместо лев), автор «Капитанской дочки»(вместо А.С.Пушкин)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09:11:49Z</dcterms:created>
  <dc:creator>Marina</dc:creator>
  <dc:description/>
  <dc:language>en-US</dc:language>
  <cp:lastModifiedBy>www.PHILka.RU</cp:lastModifiedBy>
  <dcterms:modified xsi:type="dcterms:W3CDTF">2012-12-10T19:56:16Z</dcterms:modified>
  <cp:revision>15</cp:revision>
  <dc:subject/>
  <dc:title>Художественные средства образности</dc:title>
</cp:coreProperties>
</file>