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8.xml.rels" ContentType="application/vnd.openxmlformats-package.relationships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10.png" ContentType="image/png"/>
  <Override PartName="/ppt/media/image4.jpeg" ContentType="image/jpeg"/>
  <Override PartName="/ppt/media/image25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569C2-FCA9-4907-A9DB-0561AD04FFF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7D517-EA8E-4791-8E53-6B418FCF8F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D43D-3FB9-4DCD-9B85-59BC26E2D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86DB-4C0D-4793-A073-1E3155ECF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76BD-88E7-43F3-866A-65693CFC9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6303-828B-44B9-A36D-134658416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6FECC-928A-4220-869D-FB24C5F0B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B522F-28E6-48E7-9F13-C93C34428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E6F68-3FEF-4288-B858-8B89AD0C9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1D100-9713-4269-A7E9-7D2722BFC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F0C32-8FD4-4164-8B34-2E1CA2C5F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EDA9D-E0F5-48F8-BD06-FCB94941C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781B5-EE09-4DC8-8A77-0848C940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2972-7F55-43C1-9C6B-01E1FC253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86A74-C982-4B53-AEED-AB010A9A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41FAC-986A-419E-892E-FF50AB463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0AA6F-EF6B-42C9-A36D-A1F7E7320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11426-6D52-4B52-8BC9-43CF25554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A8696-E033-437B-B4A0-17C70DF7C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250D1-7C4E-48DA-94D3-A19680A7E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E8034-C33B-4CD9-BBCF-F6358101E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F3270-4D79-4F00-9994-12D4FB34A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68CF1-F2D3-4B62-9D4B-CD5F0FCC8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3C6D2-16ED-4CEF-ABC4-FB37FDA94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2637-EF57-4AD7-863F-18F560404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36020-4D7F-42D1-9217-670005759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79551-B969-4E44-B8D9-2BAA8E2BD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E6A9D-1357-4388-8718-58921B98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10E55-45B4-4F84-92C9-B26D9C8F3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F8E60-7271-4D07-AB26-3697956CF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86B07-0049-404A-8B3D-374F239D9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29BB4-6205-4153-AF8C-7D25F7C96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96B5D-F453-4700-A618-18DE831D9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8BD70-E6BE-4BB3-8CC8-1AE109874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37B53-FE7B-4728-8941-05165874B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DB88-DDD4-4490-B763-49867D9DE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47B44-CA88-4C96-9DC0-9D7DB1BCE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03B78-4026-4FD6-890A-41A2D1A2B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1E723-9F05-4BBE-B288-5C16A5795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D6560-FF00-4125-9A66-B47867AA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02925-4A6A-4462-BA52-5F09FE48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0F0C9-BAD6-49AD-AF84-95DF5DD9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EFEA1-308E-4489-9E7A-A6CAE6E70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3B668-F752-4B19-B597-5BF4CF39F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E33C2-A9A9-453F-BD8A-7194057DE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0B0B7C-6F7F-4091-99C5-E44197EFE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8167-EDCA-4E16-B05A-12FE2B49D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29F32D-C84E-4826-B96A-3CF759161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129456-346A-4F3F-AC5C-9D05DF2ED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5072BF-C5F4-42FC-8BA2-2056CEF28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CA5FF-FBB6-4F44-BEEC-5DC486F23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27CEBE-99E3-4EF1-AAAA-F2513707F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EB5B3D-C8EB-45AA-AF76-7248D852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539AA-374F-48B8-A2C3-C4998AF86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D4A905-D023-4517-923E-D8ECE9930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70C198-C582-4E31-B083-1537407EE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1F9546-B381-4173-A427-7881D426B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FA23-542D-4D93-8D1A-8EEDAAF22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37A26C-FBB3-488E-87E5-E6F6D2381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B82789-0B8D-4080-96C9-DF4271679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E6C3BC-8835-4AA8-8BE5-F028828E6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85DA6F-2915-4609-9CDE-305D0E970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157073-4A25-4AC5-A97F-77E35CB38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45BF3A-E0D4-4AF2-A72B-CB1B2C0C7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65DC19-5509-4740-A71B-0C56C0A8E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DD12A8-5644-4123-ADD5-CB9A503D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2FE01-8463-43BB-93E4-18F86F85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263533-6D04-4C70-BA5C-14CC9D2C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7FF3-CE53-4AD6-A579-42E6F0410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98E153-1960-4196-B4D0-B7386F89B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FF618F-C82F-4359-A01C-5396C4D84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E00A30-7A47-45DB-9EBE-69868D75E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1885-EBFF-4222-9B3D-3328465B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7E2E-E5CE-4043-8F55-370A1AFE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4D8BD-C72A-4B48-A5AB-3BCDC2CCBAA9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F79DC-7CB8-486C-A93C-9E79426D174F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798E6-BA37-4D3F-8449-C476179E8967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43975-A620-42F9-9694-317BC6F2A5CC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7F1E1-6A6E-4C4E-BFA7-9DD97D3CB403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2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7EFEF-56D9-422C-8489-D383A404EA65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AutoShape 2" descr=""/>
          <p:cNvPicPr/>
          <p:nvPr/>
        </p:nvPicPr>
        <p:blipFill>
          <a:blip r:embed="rId1"/>
          <a:stretch/>
        </p:blipFill>
        <p:spPr>
          <a:xfrm>
            <a:off x="682560" y="1494000"/>
            <a:ext cx="8089920" cy="354168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75200" cy="1822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rebuchet MS"/>
              </a:rPr>
              <a:t>Автор:</a:t>
            </a: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rebuchet MS"/>
              </a:rPr>
              <a:t>Брюханова Н.Н., учитель русского языка и литературы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AutoShap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еренос свойств с одного предмета на другой на основании их сходств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                    </a:t>
            </a:r>
            <a:r>
              <a:rPr b="1" i="1" lang="ru-RU" sz="2600" spc="-1" strike="noStrike">
                <a:solidFill>
                  <a:srgbClr val="ac66bb"/>
                </a:solidFill>
                <a:latin typeface="Trebuchet MS"/>
              </a:rPr>
              <a:t>Например,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Пустых небес прозрачное стекло. Багровый костер закат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AutoShape 2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В основе метафоры лежит сравнение, но оно не оформлено с помощью сравнительных союзов, поэтому метафору называют скрытым сравнением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AutoShap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 txBox="1"/>
          <p:nvPr/>
        </p:nvSpPr>
        <p:spPr>
          <a:xfrm>
            <a:off x="755640" y="2361960"/>
            <a:ext cx="81374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расположение слов по нарастанию или убыванию их значения(смыслового или эмоционального)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ac66bb"/>
                </a:solidFill>
                <a:latin typeface="Trebuchet MS"/>
              </a:rPr>
              <a:t>Например,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Сейте </a:t>
            </a: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Trebuchet MS"/>
              </a:rPr>
              <a:t>разумное, доброе, вечное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…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осходящая(цепь понятий или определений с постепенным возрастанием значимости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исходящая (цепь понятий или определений с постепенным убыванием значимости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AutoShap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 txBox="1"/>
          <p:nvPr/>
        </p:nvSpPr>
        <p:spPr>
          <a:xfrm>
            <a:off x="837720" y="2362320"/>
            <a:ext cx="80550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братный порядок слов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ри необычном порядке слов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а) подлежащее стоит после сказуемого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б) прилагательное после существительного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) наречие после глагол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ac66bb"/>
                </a:solidFill>
                <a:latin typeface="Trebuchet MS"/>
              </a:rPr>
              <a:t>Например,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 досадно было, боя ждали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AutoShap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это вопрос, который ставится с целью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усиления утверждения и на него не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требуется ответа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ac66bb"/>
                </a:solidFill>
                <a:latin typeface="Trebuchet MS"/>
              </a:rPr>
              <a:t>Например,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 что день грядущий нам готовит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AutoShap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эмоциональное  обращение к кому-нибудь с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целью усиления выразительност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ac66bb"/>
                </a:solidFill>
                <a:latin typeface="Trebuchet MS"/>
              </a:rPr>
              <a:t>Например,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люди мира, бережно относитесь к природе!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AutoShap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Контрастное сочетание слов, противоположных по смыслу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ac66bb"/>
                </a:solidFill>
                <a:latin typeface="Trebuchet MS"/>
              </a:rPr>
              <a:t>Например, </a:t>
            </a: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Trebuchet MS"/>
              </a:rPr>
              <a:t>мертвые души, живой труп, грустная радость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AutoShape 2" descr=""/>
          <p:cNvPicPr/>
          <p:nvPr/>
        </p:nvPicPr>
        <p:blipFill>
          <a:blip r:embed="rId1"/>
          <a:stretch/>
        </p:blipFill>
        <p:spPr>
          <a:xfrm>
            <a:off x="353880" y="317520"/>
            <a:ext cx="7351920" cy="115092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резкое противопоставление понятий, мыслей, образов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rebuchet MS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ac66bb"/>
                </a:solidFill>
                <a:latin typeface="Trebuchet MS"/>
              </a:rPr>
              <a:t>Например, </a:t>
            </a: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Trebuchet MS"/>
              </a:rPr>
              <a:t>ты и убогая, ты и обильная, ты и могучая, матушка- Русь!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AutoShap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контрастное сочетание слов, противоположных по смыслу.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ac66bb"/>
                </a:solidFill>
                <a:latin typeface="Trebuchet MS"/>
              </a:rPr>
              <a:t>Например, 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живой труп, пленница свободы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                    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светлая тьм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AutoShape 2" descr=""/>
          <p:cNvPicPr/>
          <p:nvPr/>
        </p:nvPicPr>
        <p:blipFill>
          <a:blip r:embed="rId1"/>
          <a:stretch/>
        </p:blipFill>
        <p:spPr>
          <a:xfrm>
            <a:off x="281160" y="317520"/>
            <a:ext cx="7424640" cy="115092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 txBox="1"/>
          <p:nvPr/>
        </p:nvSpPr>
        <p:spPr>
          <a:xfrm>
            <a:off x="45684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rebuchet MS"/>
              </a:rPr>
              <a:t>Тропы – это слова и выражения, используемые автором текста в переносном значении.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rebuchet MS"/>
              </a:rPr>
              <a:t>Синекдоха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rebuchet MS"/>
              </a:rPr>
              <a:t>Олицетворение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rebuchet MS"/>
              </a:rPr>
              <a:t>Эпитет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rebuchet MS"/>
              </a:rPr>
              <a:t>Сравнение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rebuchet MS"/>
              </a:rPr>
              <a:t>Гипербола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rebuchet MS"/>
              </a:rPr>
              <a:t>Литота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rebuchet MS"/>
              </a:rPr>
              <a:t>ПЕрифраза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rebuchet MS"/>
              </a:rPr>
              <a:t>Метафора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714920" y="2285640"/>
            <a:ext cx="3914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rebuchet MS"/>
              </a:rPr>
              <a:t>Фигуры речи- особые синтаксические конструкции, придающие речи выразительность.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rebuchet MS"/>
              </a:rPr>
              <a:t>Инверсия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rebuchet MS"/>
              </a:rPr>
              <a:t>Риторический вопрос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rebuchet MS"/>
              </a:rPr>
              <a:t>Риторическое обращение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rebuchet MS"/>
              </a:rPr>
              <a:t>Градация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rebuchet MS"/>
              </a:rPr>
              <a:t>Парцелляция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rebuchet MS"/>
              </a:rPr>
              <a:t>Антитеза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rebuchet MS"/>
              </a:rPr>
              <a:t>Оксюморон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2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2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амеренное нарушение границ предложения; разделение одного предложения с помощью точек на несколько частей- две и боле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апример, От шляпок их! Чепцов! И шпилек! И булавок!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AutoShape 2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7547040" cy="115092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Кормили плохо, вечно хотелось есть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Утка была некрупная, молодая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сё равно толку не добьёмся, нас восемь человек, а она такая маленькая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оворачивая голову по сторонам, она смотрела на нас изумлёнными бусинками глаз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AutoShape 2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7450200" cy="115092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омните, он корчил рожи, а вы ему сказали, что у него способности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Здесь жила Мария Петровна, его учительница по математике, как же он сразу о ней не подумал, не вспомнил!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 Мария Петровна, - тихо сказал Павел Георгиевич, - вы меня узнаёте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Когда Сафонов вошёл в родной городок, окраины встретили его длинными тенями от старых тополей; ветви яблонь, обогретых солнцем, свешивались через заборы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AutoShape 2" descr=""/>
          <p:cNvPicPr/>
          <p:nvPr/>
        </p:nvPicPr>
        <p:blipFill>
          <a:blip r:embed="rId1"/>
          <a:stretch/>
        </p:blipFill>
        <p:spPr>
          <a:xfrm>
            <a:off x="281160" y="317520"/>
            <a:ext cx="7630920" cy="115092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еред глазами его вдруг встало лицо Марины..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на была ему другом, и как же посмел он сейчас так думать..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Благодаря Марине Лёня никогда не чувствовал себя чужим в этой семье..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Марина сидела на крылечке и с нетерпением ждала сын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AutoShape 2" descr=""/>
          <p:cNvPicPr/>
          <p:nvPr/>
        </p:nvPicPr>
        <p:blipFill>
          <a:blip r:embed="rId1"/>
          <a:stretch/>
        </p:blipFill>
        <p:spPr>
          <a:xfrm>
            <a:off x="579600" y="542880"/>
            <a:ext cx="8315280" cy="140832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826920" y="2565000"/>
            <a:ext cx="76932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rebuchet MS"/>
              </a:rPr>
              <a:t>«Серёжка смотрит на неё, но видит не стадион, а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rebuchet MS"/>
              </a:rPr>
              <a:t>каменные стены римского Колизея. Сейчас он не ученик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rebuchet MS"/>
              </a:rPr>
              <a:t>средней школы, он – отважный гладиатор. На нём не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rebuchet MS"/>
              </a:rPr>
              <a:t>штаны и куртка, а кованые доспехи»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Гипербол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Метафор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Антитез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равнительный оборот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AutoShape 2" descr=""/>
          <p:cNvPicPr/>
          <p:nvPr/>
        </p:nvPicPr>
        <p:blipFill>
          <a:blip r:embed="rId1"/>
          <a:stretch/>
        </p:blipFill>
        <p:spPr>
          <a:xfrm>
            <a:off x="311040" y="231840"/>
            <a:ext cx="7394760" cy="12366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rebuchet MS"/>
              </a:rPr>
              <a:t>«И он готов ради этого работать день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rebuchet MS"/>
              </a:rPr>
              <a:t>и ночь, трудиться не покладая рук»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Эпитет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Олицетворени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Синтаксический параллелизм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Фразеологизмы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AutoShape 2" descr=""/>
          <p:cNvPicPr/>
          <p:nvPr/>
        </p:nvPicPr>
        <p:blipFill>
          <a:blip r:embed="rId1"/>
          <a:stretch/>
        </p:blipFill>
        <p:spPr>
          <a:xfrm>
            <a:off x="311040" y="231840"/>
            <a:ext cx="7394760" cy="123660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rebuchet MS"/>
              </a:rPr>
              <a:t>«Вообще мои родители то и дело обвиняли  нас обоих в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rebuchet MS"/>
              </a:rPr>
              <a:t>нечёткости: мы нечётко сообщали, кто звонил маме и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rebuchet MS"/>
              </a:rPr>
              <a:t>отцу по телефону и что передавали в «Последних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rebuchet MS"/>
              </a:rPr>
              <a:t>известиях», нечётко выполняли режим дня»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Лексический повтор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Эпитет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лицетворени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Метафор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1.Драбкина С.В., Субботин Д.И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птимальный банк заданий для подготовки учащихся.- Москва: Интеллект-Центр, 2013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2.Сенина Н.А., Гармаш С.В., Диденко С.А., Кобякова Г.Н. Русский язык. Подготовка к ГИА.- Под ред. Н.А.Сениной.- Ростов н/Д: Легион, 2010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AutoShape 5" descr=""/>
          <p:cNvPicPr/>
          <p:nvPr/>
        </p:nvPicPr>
        <p:blipFill>
          <a:blip r:embed="rId1"/>
          <a:stretch/>
        </p:blipFill>
        <p:spPr>
          <a:xfrm>
            <a:off x="517680" y="755640"/>
            <a:ext cx="8377200" cy="115884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856800" y="2142720"/>
            <a:ext cx="3770280" cy="372420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4787640" y="278100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29" name="Picture 6" descr="E:\ucheniki_w450_h468.jpg"/>
          <p:cNvPicPr/>
          <p:nvPr/>
        </p:nvPicPr>
        <p:blipFill>
          <a:blip r:embed="rId3"/>
          <a:stretch/>
        </p:blipFill>
        <p:spPr>
          <a:xfrm>
            <a:off x="1785960" y="1960560"/>
            <a:ext cx="4214880" cy="43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Заголовок 1" descr=""/>
          <p:cNvPicPr/>
          <p:nvPr/>
        </p:nvPicPr>
        <p:blipFill>
          <a:blip r:embed="rId1"/>
          <a:stretch/>
        </p:blipFill>
        <p:spPr>
          <a:xfrm>
            <a:off x="517680" y="755640"/>
            <a:ext cx="8175600" cy="1158840"/>
          </a:xfrm>
          <a:prstGeom prst="rect">
            <a:avLst/>
          </a:prstGeom>
          <a:ln w="0">
            <a:noFill/>
          </a:ln>
        </p:spPr>
      </p:pic>
      <p:pic>
        <p:nvPicPr>
          <p:cNvPr id="331" name="Рисунок 11" descr="2404587-3b34154cb7b84651.gif"/>
          <p:cNvPicPr/>
          <p:nvPr/>
        </p:nvPicPr>
        <p:blipFill>
          <a:blip r:embed="rId2"/>
          <a:stretch/>
        </p:blipFill>
        <p:spPr>
          <a:xfrm>
            <a:off x="838080" y="2908440"/>
            <a:ext cx="3770280" cy="263196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AutoShap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Разновидность метонимии, когда название части употребляется вместо названия целого или наоборот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i="1" lang="ru-RU" sz="2600" spc="-1" strike="noStrike">
                <a:solidFill>
                  <a:srgbClr val="ac66bb"/>
                </a:solidFill>
                <a:latin typeface="Trebuchet MS"/>
              </a:rPr>
              <a:t>Например</a:t>
            </a:r>
            <a:r>
              <a:rPr b="0" lang="ru-RU" sz="2600" spc="-1" strike="noStrike">
                <a:solidFill>
                  <a:srgbClr val="ac66bb"/>
                </a:solidFill>
                <a:latin typeface="Trebuchet MS"/>
              </a:rPr>
              <a:t>,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Мы все глядим в Наполеоны.(мн.число употребляется вместо единственного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1" dur="20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AutoShap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Наделение неодушевлённых предметов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признаками и свойствами человек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ac66bb"/>
                </a:solidFill>
                <a:latin typeface="Trebuchet MS"/>
              </a:rPr>
              <a:t>Например</a:t>
            </a:r>
            <a:r>
              <a:rPr b="0" i="1" lang="ru-RU" sz="2600" spc="-1" strike="noStrike">
                <a:solidFill>
                  <a:srgbClr val="ac66bb"/>
                </a:solidFill>
                <a:latin typeface="Trebuchet MS"/>
              </a:rPr>
              <a:t>:</a:t>
            </a:r>
            <a:r>
              <a:rPr b="0" lang="ru-RU" sz="2600" spc="-1" strike="noStrike">
                <a:solidFill>
                  <a:srgbClr val="ac66bb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Trebuchet MS"/>
              </a:rPr>
              <a:t> </a:t>
            </a: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Trebuchet MS"/>
              </a:rPr>
              <a:t>Спит земля в сиянье голубом.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Вечор, ты помнишь, </a:t>
            </a: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Trebuchet MS"/>
              </a:rPr>
              <a:t>вьюга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Trebuchet MS"/>
              </a:rPr>
              <a:t>злилась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AutoShap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бразное определение , отвечающее на вопрос какой? Какая? Какие?   и обычно выраженное именем прилагательным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c66bb"/>
                </a:solidFill>
                <a:latin typeface="Trebuchet MS"/>
              </a:rPr>
              <a:t>Например</a:t>
            </a:r>
            <a:r>
              <a:rPr b="0" lang="ru-RU" sz="2400" spc="-1" strike="noStrike">
                <a:solidFill>
                  <a:srgbClr val="ac66bb"/>
                </a:solidFill>
                <a:latin typeface="Trebuchet MS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rebuchet MS"/>
              </a:rPr>
              <a:t>Сквозь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Trebuchet MS"/>
              </a:rPr>
              <a:t>волнистые </a:t>
            </a:r>
            <a:r>
              <a:rPr b="0" i="1" lang="ru-RU" sz="2400" spc="-1" strike="noStrike">
                <a:solidFill>
                  <a:srgbClr val="000000"/>
                </a:solidFill>
                <a:latin typeface="Trebuchet MS"/>
              </a:rPr>
              <a:t>туманы пробирается луна, на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Trebuchet MS"/>
              </a:rPr>
              <a:t>печальные</a:t>
            </a:r>
            <a:r>
              <a:rPr b="0" i="1" lang="ru-RU" sz="2400" spc="-1" strike="noStrike">
                <a:solidFill>
                  <a:srgbClr val="000000"/>
                </a:solidFill>
                <a:latin typeface="Trebuchet MS"/>
              </a:rPr>
              <a:t> поляны льёт печально свет она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AutoShap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 txBox="1"/>
          <p:nvPr/>
        </p:nvSpPr>
        <p:spPr>
          <a:xfrm>
            <a:off x="838080" y="2362320"/>
            <a:ext cx="798192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опоставление одного предмета с другим. Сравнение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может быть представлено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а)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формой сравнительного оборота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, присоединяемого с помощью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союзов КАК, ТОЧНО, СЛОВНО, БУДТО, КАК БУДТО, ЧТО (в значении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союза КАК) 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c66bb"/>
                </a:solidFill>
                <a:latin typeface="Trebuchet MS"/>
              </a:rPr>
              <a:t>Например: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Хорошо и тепло, 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Trebuchet MS"/>
              </a:rPr>
              <a:t>как зимой у печки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И берёзы стоят, 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Trebuchet MS"/>
              </a:rPr>
              <a:t>как большие свечки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сравнительным придаточным предложением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c66bb"/>
                </a:solidFill>
                <a:latin typeface="Trebuchet MS"/>
              </a:rPr>
              <a:t>Например: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Закружилась листва золотая в розоватой воде на пруду,  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                  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Trebuchet MS"/>
              </a:rPr>
              <a:t>словно бабочек лёгкая стая с замираньем летит на звезду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в)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существительным в Т.п.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c66bb"/>
                </a:solidFill>
                <a:latin typeface="Trebuchet MS"/>
              </a:rPr>
              <a:t>Например: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Trebuchet MS"/>
              </a:rPr>
              <a:t>Морозной пылью</a:t>
            </a:r>
            <a:r>
              <a:rPr b="0" i="1" lang="ru-RU" sz="1800" spc="-1" strike="noStrike">
                <a:solidFill>
                  <a:srgbClr val="000000"/>
                </a:solidFill>
                <a:latin typeface="Trebuchet MS"/>
              </a:rPr>
              <a:t> серебрится его бобровый воротник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2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2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2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2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AutoShap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излишнее преувеличение тех или иных свойств изображаемого предмета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ac66bb"/>
                </a:solidFill>
                <a:latin typeface="Trebuchet MS"/>
              </a:rPr>
              <a:t>Например, В сто тысяч солнц закат пылал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AutoShap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чрезмерное преуменьшение свойств  изображаемого предмета или явления.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ac66bb"/>
                </a:solidFill>
                <a:latin typeface="Trebuchet MS"/>
              </a:rPr>
              <a:t>Например,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мальчик-с-пальчик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AutoShap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замена названия предмета или явления описанием их отличительных признаков или указанием на характерные черты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ac66bb"/>
                </a:solidFill>
                <a:latin typeface="Trebuchet MS"/>
              </a:rPr>
              <a:t>Например, </a:t>
            </a: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Trebuchet MS"/>
              </a:rPr>
              <a:t>царь зверей(вместо лев), автор «Капитанской дочки»(вместо А.С.Пушкин)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                                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               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3T09:11:49Z</dcterms:created>
  <dc:creator>Marina</dc:creator>
  <dc:description/>
  <dc:language>en-US</dc:language>
  <cp:lastModifiedBy>www.PHILka.RU</cp:lastModifiedBy>
  <dcterms:modified xsi:type="dcterms:W3CDTF">2012-12-10T19:56:16Z</dcterms:modified>
  <cp:revision>15</cp:revision>
  <dc:subject/>
  <dc:title>Художественные средства образности</dc:title>
</cp:coreProperties>
</file>