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png" ContentType="image/png"/>
  <Override PartName="/ppt/media/image1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38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C385-EC3C-4E36-A3AB-6C977304411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BE18-8927-4F51-8E9C-BAB39B38852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4B34-81DD-404E-BFBF-9DA281DD65A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B1AB-1769-472F-AA8A-347234F5455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9AB8-D60F-4FD3-BC5D-6AF51FEAEE6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2F7A-15C9-4D5B-B559-B39A392C80F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C043-193A-4662-B55F-DABC62B95A6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F282-4606-43C1-8A4A-CAF36BAE4BF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DAB9-F95F-44A6-8235-5FD667126FC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05A3-4384-40EA-8E78-B6ACCA79CF9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968D-4BF1-4D9C-A9B8-F9FD4AAA96C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06F5-B2CD-4C27-8639-7AA5D864897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E92A-E35B-4C30-BF06-3E6D1AA8F9E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2539-FE3D-4996-BBD2-4A794112183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9D8-147A-483C-A2DF-DD587FD5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EB4-99D4-4423-9057-F3F6BD33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513-A13D-4781-BCB8-9FBE76DB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175-F0C9-41A6-AB59-60FB82CC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55D-7717-4385-8AD8-FF84F682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51B-8F21-44E2-84C7-DE4F1452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CC9-AC23-45ED-8927-012F2939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E9A-0099-46FC-A3CF-43BC3AD4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7FB-1950-4944-AEA9-ADE61C1C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636-1E0B-4672-B1D1-E99E6056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D27-273A-4C0E-ADA0-CAFB7FBB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2BF-1F43-4F3A-A9CC-DA31A127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BCB1-F762-4EF2-97D9-0FFBF2CB4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dmhmao.ru/pobeda_60/fotoal/slava_big.jpg" TargetMode="External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549360" y="189000"/>
            <a:ext cx="831996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4357800" y="3214800"/>
            <a:ext cx="1357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4572000" y="3357720"/>
            <a:ext cx="17146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65 </a:t>
            </a: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10" descr="http://www.admhmao.ru/pobeda_60/image/rab_1.png"/>
          <p:cNvPicPr/>
          <p:nvPr/>
        </p:nvPicPr>
        <p:blipFill>
          <a:blip r:embed="rId4"/>
          <a:stretch/>
        </p:blipFill>
        <p:spPr>
          <a:xfrm>
            <a:off x="357120" y="928800"/>
            <a:ext cx="270504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1285920" y="928800"/>
            <a:ext cx="914400" cy="28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8" descr="http://www.admhmao.ru/pobeda_60/image/rab_2.png"/>
          <p:cNvPicPr/>
          <p:nvPr/>
        </p:nvPicPr>
        <p:blipFill>
          <a:blip r:embed="rId6"/>
          <a:stretch/>
        </p:blipFill>
        <p:spPr>
          <a:xfrm>
            <a:off x="3214800" y="928800"/>
            <a:ext cx="2786040" cy="135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admhmao.ru/pobeda_60/image/rab_3.png"/>
          <p:cNvPicPr/>
          <p:nvPr/>
        </p:nvPicPr>
        <p:blipFill>
          <a:blip r:embed="rId7"/>
          <a:stretch/>
        </p:blipFill>
        <p:spPr>
          <a:xfrm>
            <a:off x="6072120" y="928800"/>
            <a:ext cx="24573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t2.gstatic.com/images?q=tbn:DK3yiXaM5b9sFM::www2.admhmao.ru/VK/Prod4/Images/Syrgyt7.jpg&amp;t=1&amp;h=265&amp;w=191&amp;usg=__8HKu7bca3dtQTDo29Ug0EsiskQ8="/>
          <p:cNvPicPr/>
          <p:nvPr/>
        </p:nvPicPr>
        <p:blipFill>
          <a:blip r:embed="rId1"/>
          <a:stretch/>
        </p:blipFill>
        <p:spPr>
          <a:xfrm>
            <a:off x="4786200" y="1500120"/>
            <a:ext cx="3805200" cy="507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www.omskmintrud.ru/site/images/fotki/888.jpg"/>
          <p:cNvPicPr/>
          <p:nvPr/>
        </p:nvPicPr>
        <p:blipFill>
          <a:blip r:embed="rId2"/>
          <a:stretch/>
        </p:blipFill>
        <p:spPr>
          <a:xfrm>
            <a:off x="285840" y="142920"/>
            <a:ext cx="47149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4 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4 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22400" y="-243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6" descr="http://www.admhmao.ru/pobeda_60/fotoal/slava_s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42920"/>
            <a:ext cx="478656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www.admhmao.ru/pobeda_60/fotoal/mam3.jpg"/>
          <p:cNvPicPr/>
          <p:nvPr/>
        </p:nvPicPr>
        <p:blipFill>
          <a:blip r:embed="rId3"/>
          <a:stretch/>
        </p:blipFill>
        <p:spPr>
          <a:xfrm>
            <a:off x="357120" y="3297240"/>
            <a:ext cx="5595840" cy="356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www.admhmao.ru/pobeda_60/fotoal/voin_big.jpg"/>
          <p:cNvPicPr/>
          <p:nvPr/>
        </p:nvPicPr>
        <p:blipFill>
          <a:blip r:embed="rId4"/>
          <a:stretch/>
        </p:blipFill>
        <p:spPr>
          <a:xfrm>
            <a:off x="5448240" y="1214280"/>
            <a:ext cx="36957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14200" y="14292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 период Великой Отечественной войны на фронт ушли 2615 сургутя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10" descr="image3518"/>
          <p:cNvPicPr/>
          <p:nvPr/>
        </p:nvPicPr>
        <p:blipFill>
          <a:blip r:embed="rId2"/>
          <a:stretch/>
        </p:blipFill>
        <p:spPr>
          <a:xfrm>
            <a:off x="285840" y="1285920"/>
            <a:ext cx="13572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42920" y="1500120"/>
            <a:ext cx="8858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240 наших земляков погибли в боях за Родину. Из тех, кто вернулся с полей сражений, почти треть умерли от ран в первые пслевоенные годы. Патриотизм и мужество народа стали главным источником Победы над фашистской Германие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filmmusic.ru/images/site/dates/9_may_2008/fotochronika/9_ma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0" y="6429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атриотический порыв сибиряков проявился прежде всего в стремлении с оружием в руках защищать Родину. К 1 декабря 1941 г. Западная Сибирь дала фронту более миллиона бойцов. Десятки тысяч рабочих, крестьян, служащих, студентов обращались в военкоматы с просьбой направить их на фронт добровольцами. Не были исключением и сургутяне. Запись в добровольцы носила массовый характер. В числе первых заявления об отправке на фронт подали заведующий отделом агитации и пропаганды райкома партии И.Ф. Сеченко, редактор газеты «Колхозник» Г.П. Шишкин, заведующий общим отделом райкома Л.В. Игнатов и многие другие. С 1942 г. на фронт стали призывать спецпереселенце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 июня 1941 по май 1945 г. в Сибири было сформировано и отправлено на фронт свыше 70 дивизий (не считая отдельных полков и бригад). Не было ни одного крупного сражения, в котором бы не принимали участие сибиря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многих фронтах Великой Отечественной войны самоотверженно и героически сражались с врагом сургутяне: на Карельском и Ленинградском, Волховском и Калининском, под Москвой и Сталинградом. С боями прошли всю Европу, штурмовали Берлин. Их ратный подвиг отмечен высокими правительственными наградами. В годы войны свыше тысячи сибиряков были удостоены звания Героев Советского Союза. Среди них и сургутские имена. Тулебай Джимов, спецпереселенец, вырос в Сургуте, на фронт ушел в 1942 г. Иван Васильевич Корольков, житель села Тундрино. Сотни сургутян были награждены орденами и медалями. Среди них награжденные орденами Красного Знамени, Красной Звезды, Отечественной войны, кавалеры ордена Славы 2-й и 3-й степе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8" descr="4 001"/>
          <p:cNvPicPr/>
          <p:nvPr/>
        </p:nvPicPr>
        <p:blipFill>
          <a:blip r:embed="rId2"/>
          <a:stretch/>
        </p:blipFill>
        <p:spPr>
          <a:xfrm>
            <a:off x="3214800" y="5072040"/>
            <a:ext cx="25714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глядитесь в эти лица - это наша история. История каждого из на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000320" cy="281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247680" y="1214280"/>
            <a:ext cx="4181400" cy="31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4"/>
          <a:stretch/>
        </p:blipFill>
        <p:spPr>
          <a:xfrm>
            <a:off x="285840" y="1214280"/>
            <a:ext cx="4214880" cy="3065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5"/>
          <a:stretch/>
        </p:blipFill>
        <p:spPr>
          <a:xfrm>
            <a:off x="214200" y="1214280"/>
            <a:ext cx="4286520" cy="309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6"/>
          <a:stretch/>
        </p:blipFill>
        <p:spPr>
          <a:xfrm>
            <a:off x="142920" y="1000080"/>
            <a:ext cx="4357800" cy="336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7"/>
          <a:stretch/>
        </p:blipFill>
        <p:spPr>
          <a:xfrm>
            <a:off x="120600" y="1000080"/>
            <a:ext cx="4405320" cy="335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8"/>
          <a:stretch/>
        </p:blipFill>
        <p:spPr>
          <a:xfrm>
            <a:off x="142920" y="1000080"/>
            <a:ext cx="4429080" cy="335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9"/>
          <a:stretch/>
        </p:blipFill>
        <p:spPr>
          <a:xfrm>
            <a:off x="0" y="2214720"/>
            <a:ext cx="4500720" cy="34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10"/>
          <a:stretch/>
        </p:blipFill>
        <p:spPr>
          <a:xfrm>
            <a:off x="1785960" y="1357200"/>
            <a:ext cx="4591080" cy="363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11"/>
          <a:stretch/>
        </p:blipFill>
        <p:spPr>
          <a:xfrm>
            <a:off x="785880" y="321480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12"/>
          <a:stretch/>
        </p:blipFill>
        <p:spPr>
          <a:xfrm>
            <a:off x="4000680" y="1643040"/>
            <a:ext cx="4857480" cy="36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13"/>
          <a:stretch/>
        </p:blipFill>
        <p:spPr>
          <a:xfrm>
            <a:off x="4071960" y="3143160"/>
            <a:ext cx="4857840" cy="371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14"/>
          <a:stretch/>
        </p:blipFill>
        <p:spPr>
          <a:xfrm>
            <a:off x="2857680" y="3571920"/>
            <a:ext cx="3887640" cy="308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15"/>
          <a:stretch/>
        </p:blipFill>
        <p:spPr>
          <a:xfrm>
            <a:off x="3857760" y="2928960"/>
            <a:ext cx="4214520" cy="3098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16"/>
          <a:stretch/>
        </p:blipFill>
        <p:spPr>
          <a:xfrm>
            <a:off x="3929040" y="3143160"/>
            <a:ext cx="47134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 rot="1309800">
            <a:off x="3174480" y="1951200"/>
            <a:ext cx="5248440" cy="3124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4 002"/>
          <p:cNvPicPr/>
          <p:nvPr/>
        </p:nvPicPr>
        <p:blipFill>
          <a:blip r:embed="rId3"/>
          <a:stretch/>
        </p:blipFill>
        <p:spPr>
          <a:xfrm>
            <a:off x="395280" y="69228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42920" y="285840"/>
            <a:ext cx="9001080" cy="6357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8072280" y="857160"/>
            <a:ext cx="8575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65 </a:t>
            </a: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ЛЕТ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8443800" y="785880"/>
            <a:ext cx="7002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65 </a:t>
            </a:r>
            <a:r>
              <a:rPr b="1" lang="ru-RU" sz="900" spc="-1" strike="noStrike">
                <a:solidFill>
                  <a:srgbClr val="000000"/>
                </a:solidFill>
                <a:latin typeface="Comic Sans MS"/>
              </a:rPr>
              <a:t>ЛЕТ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8:30:57Z</dcterms:created>
  <dc:creator>Я</dc:creator>
  <dc:description/>
  <dc:language>en-US</dc:language>
  <cp:lastModifiedBy>User</cp:lastModifiedBy>
  <dcterms:modified xsi:type="dcterms:W3CDTF">2013-02-14T16:56:41Z</dcterms:modified>
  <cp:revision>78</cp:revision>
  <dc:subject/>
  <dc:title>Слайд 1</dc:title>
</cp:coreProperties>
</file>