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6.png" ContentType="image/png"/>
  <Override PartName="/ppt/media/image1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28.png" ContentType="image/png"/>
  <Override PartName="/ppt/media/image38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7E7E-9DAA-4232-B0A8-04936135DEEE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B9AD-E43A-4F9E-9439-E8EE4A08B1AF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D5EB-0410-431C-BCD7-3D735EBE1FB5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D1BB-E864-4758-9D8D-818A177342B6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E8CF-3F5B-40E8-A1FC-A2714F6BA526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4306-2DA5-49E4-8D59-7BD078CBFCF0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B47C-E381-400E-A67C-6EF21516AC22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1A76-2DAF-4570-BA03-157E70260049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29B4-FB77-41EB-AA04-4F0415148072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7E7C-791D-433C-AAEF-04D0EEB1E662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2F68-0F2E-42A9-9F01-CF328C2E0C33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4419-33F6-4696-AA25-6B1988525D32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67F2-D5BC-4FD7-9335-E567FCC95FA9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CB04-F0EF-4A33-828D-9C7FE16CE8DB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926-C75C-4645-9C31-D693C4A5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F10-46C5-4EE1-80E4-834387C4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CC9-6478-4DBE-8A9B-244094F1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A7B-EB86-4914-9B42-5AAA9AA8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5884-30BF-46CB-AF73-5382AF2B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FE1A-4A0B-4459-A729-D909DF0F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1BB8-B78C-4AAB-A12D-2BE2208C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F1C2-18E5-450E-81E5-A76AE71D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DF5-4951-4193-B332-F2AF7813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9A60-FD37-4D44-B3B2-488DA278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F261-1585-4D94-9242-9AF7600E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60D-8549-4849-80FD-0F173937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DDFE-D6CA-4E03-AD0D-ACC37F6EBC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dmhmao.ru/pobeda_60/fotoal/slava_big.jpg" TargetMode="External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image" Target="../media/image25.jpeg"/><Relationship Id="rId15" Type="http://schemas.openxmlformats.org/officeDocument/2006/relationships/image" Target="../media/image26.jpeg"/><Relationship Id="rId16" Type="http://schemas.openxmlformats.org/officeDocument/2006/relationships/image" Target="../media/image27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0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549360" y="189000"/>
            <a:ext cx="8319960" cy="1189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4357800" y="3214800"/>
            <a:ext cx="1357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4572000" y="3357720"/>
            <a:ext cx="171468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65 </a:t>
            </a:r>
            <a:r>
              <a:rPr b="1" lang="ru-RU" sz="2000" spc="-1" strike="noStrike">
                <a:solidFill>
                  <a:srgbClr val="c00000"/>
                </a:solidFill>
                <a:latin typeface="Comic Sans MS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10" descr="http://www.admhmao.ru/pobeda_60/image/rab_1.png"/>
          <p:cNvPicPr/>
          <p:nvPr/>
        </p:nvPicPr>
        <p:blipFill>
          <a:blip r:embed="rId4"/>
          <a:stretch/>
        </p:blipFill>
        <p:spPr>
          <a:xfrm>
            <a:off x="357120" y="928800"/>
            <a:ext cx="270504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>
            <a:off x="1285920" y="928800"/>
            <a:ext cx="914400" cy="28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8" descr="http://www.admhmao.ru/pobeda_60/image/rab_2.png"/>
          <p:cNvPicPr/>
          <p:nvPr/>
        </p:nvPicPr>
        <p:blipFill>
          <a:blip r:embed="rId6"/>
          <a:stretch/>
        </p:blipFill>
        <p:spPr>
          <a:xfrm>
            <a:off x="3214800" y="928800"/>
            <a:ext cx="2786040" cy="135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ttp://www.admhmao.ru/pobeda_60/image/rab_3.png"/>
          <p:cNvPicPr/>
          <p:nvPr/>
        </p:nvPicPr>
        <p:blipFill>
          <a:blip r:embed="rId7"/>
          <a:stretch/>
        </p:blipFill>
        <p:spPr>
          <a:xfrm>
            <a:off x="6072120" y="928800"/>
            <a:ext cx="245736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http://t2.gstatic.com/images?q=tbn:DK3yiXaM5b9sFM::www2.admhmao.ru/VK/Prod4/Images/Syrgyt7.jpg&amp;t=1&amp;h=265&amp;w=191&amp;usg=__8HKu7bca3dtQTDo29Ug0EsiskQ8="/>
          <p:cNvPicPr/>
          <p:nvPr/>
        </p:nvPicPr>
        <p:blipFill>
          <a:blip r:embed="rId1"/>
          <a:stretch/>
        </p:blipFill>
        <p:spPr>
          <a:xfrm>
            <a:off x="4786200" y="1500120"/>
            <a:ext cx="3805200" cy="5072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ttp://www.omskmintrud.ru/site/images/fotki/888.jpg"/>
          <p:cNvPicPr/>
          <p:nvPr/>
        </p:nvPicPr>
        <p:blipFill>
          <a:blip r:embed="rId2"/>
          <a:stretch/>
        </p:blipFill>
        <p:spPr>
          <a:xfrm>
            <a:off x="285840" y="142920"/>
            <a:ext cx="47149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4 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4 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122400" y="-2430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6" descr="http://www.admhmao.ru/pobeda_60/fotoal/slava_s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42920"/>
            <a:ext cx="4786560" cy="30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http://www.admhmao.ru/pobeda_60/fotoal/mam3.jpg"/>
          <p:cNvPicPr/>
          <p:nvPr/>
        </p:nvPicPr>
        <p:blipFill>
          <a:blip r:embed="rId3"/>
          <a:stretch/>
        </p:blipFill>
        <p:spPr>
          <a:xfrm>
            <a:off x="357120" y="3297240"/>
            <a:ext cx="5595840" cy="3560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http://www.admhmao.ru/pobeda_60/fotoal/voin_big.jpg"/>
          <p:cNvPicPr/>
          <p:nvPr/>
        </p:nvPicPr>
        <p:blipFill>
          <a:blip r:embed="rId4"/>
          <a:stretch/>
        </p:blipFill>
        <p:spPr>
          <a:xfrm>
            <a:off x="5448240" y="1214280"/>
            <a:ext cx="36957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214200" y="14292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а период Великой Отечественной войны на фронт ушли 2615 сургутя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10" descr="image3518"/>
          <p:cNvPicPr/>
          <p:nvPr/>
        </p:nvPicPr>
        <p:blipFill>
          <a:blip r:embed="rId2"/>
          <a:stretch/>
        </p:blipFill>
        <p:spPr>
          <a:xfrm>
            <a:off x="285840" y="1285920"/>
            <a:ext cx="13572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142920" y="1500120"/>
            <a:ext cx="8858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240 наших земляков погибли в боях за Родину. Из тех, кто вернулся с полей сражений, почти треть умерли от ран в первые пслевоенные годы. Патриотизм и мужество народа стали главным источником Победы над фашистской Германие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filmmusic.ru/images/site/dates/9_may_2008/fotochronika/9_may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0" y="64296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атриотический порыв сибиряков проявился прежде всего в стремлении с оружием в руках защищать Родину. К 1 декабря 1941 г. Западная Сибирь дала фронту более миллиона бойцов. Десятки тысяч рабочих, крестьян, служащих, студентов обращались в военкоматы с просьбой направить их на фронт добровольцами. Не были исключением и сургутяне. Запись в добровольцы носила массовый характер. В числе первых заявления об отправке на фронт подали заведующий отделом агитации и пропаганды райкома партии И.Ф. Сеченко, редактор газеты «Колхозник» Г.П. Шишкин, заведующий общим отделом райкома Л.В. Игнатов и многие другие. С 1942 г. на фронт стали призывать спецпереселенце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 июня 1941 по май 1945 г. в Сибири было сформировано и отправлено на фронт свыше 70 дивизий (не считая отдельных полков и бригад). Не было ни одного крупного сражения, в котором бы не принимали участие сибиря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 многих фронтах Великой Отечественной войны самоотверженно и героически сражались с врагом сургутяне: на Карельском и Ленинградском, Волховском и Калининском, под Москвой и Сталинградом. С боями прошли всю Европу, штурмовали Берлин. Их ратный подвиг отмечен высокими правительственными наградами. В годы войны свыше тысячи сибиряков были удостоены звания Героев Советского Союза. Среди них и сургутские имена. Тулебай Джимов, спецпереселенец, вырос в Сургуте, на фронт ушел в 1942 г. Иван Васильевич Корольков, житель села Тундрино. Сотни сургутян были награждены орденами и медалями. Среди них награжденные орденами Красного Знамени, Красной Звезды, Отечественной войны, кавалеры ордена Славы 2-й и 3-й степен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8" descr="4 001"/>
          <p:cNvPicPr/>
          <p:nvPr/>
        </p:nvPicPr>
        <p:blipFill>
          <a:blip r:embed="rId2"/>
          <a:stretch/>
        </p:blipFill>
        <p:spPr>
          <a:xfrm>
            <a:off x="3214800" y="5072040"/>
            <a:ext cx="25714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глядитесь в эти лица - это наша история. История каждого из на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4000320" cy="2811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247680" y="1214280"/>
            <a:ext cx="4181400" cy="310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4"/>
          <a:stretch/>
        </p:blipFill>
        <p:spPr>
          <a:xfrm>
            <a:off x="285840" y="1214280"/>
            <a:ext cx="4214880" cy="3065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5"/>
          <a:stretch/>
        </p:blipFill>
        <p:spPr>
          <a:xfrm>
            <a:off x="214200" y="1214280"/>
            <a:ext cx="4286520" cy="3092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6"/>
          <a:stretch/>
        </p:blipFill>
        <p:spPr>
          <a:xfrm>
            <a:off x="142920" y="1000080"/>
            <a:ext cx="4357800" cy="3365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7"/>
          <a:stretch/>
        </p:blipFill>
        <p:spPr>
          <a:xfrm>
            <a:off x="120600" y="1000080"/>
            <a:ext cx="4405320" cy="3357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8"/>
          <a:stretch/>
        </p:blipFill>
        <p:spPr>
          <a:xfrm>
            <a:off x="142920" y="1000080"/>
            <a:ext cx="4429080" cy="3357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9"/>
          <a:stretch/>
        </p:blipFill>
        <p:spPr>
          <a:xfrm>
            <a:off x="0" y="2214720"/>
            <a:ext cx="4500720" cy="342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10"/>
          <a:stretch/>
        </p:blipFill>
        <p:spPr>
          <a:xfrm>
            <a:off x="1785960" y="1357200"/>
            <a:ext cx="4591080" cy="363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11"/>
          <a:stretch/>
        </p:blipFill>
        <p:spPr>
          <a:xfrm>
            <a:off x="785880" y="3214800"/>
            <a:ext cx="4572000" cy="3643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12"/>
          <a:stretch/>
        </p:blipFill>
        <p:spPr>
          <a:xfrm>
            <a:off x="4000680" y="1643040"/>
            <a:ext cx="4857480" cy="36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13"/>
          <a:stretch/>
        </p:blipFill>
        <p:spPr>
          <a:xfrm>
            <a:off x="4071960" y="3143160"/>
            <a:ext cx="4857840" cy="3714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14"/>
          <a:stretch/>
        </p:blipFill>
        <p:spPr>
          <a:xfrm>
            <a:off x="2857680" y="3571920"/>
            <a:ext cx="3887640" cy="308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15"/>
          <a:stretch/>
        </p:blipFill>
        <p:spPr>
          <a:xfrm>
            <a:off x="3857760" y="2928960"/>
            <a:ext cx="4214520" cy="3098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16"/>
          <a:stretch/>
        </p:blipFill>
        <p:spPr>
          <a:xfrm>
            <a:off x="3929040" y="3143160"/>
            <a:ext cx="47134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 rot="1309800">
            <a:off x="3174480" y="1951200"/>
            <a:ext cx="5248440" cy="3124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4 002"/>
          <p:cNvPicPr/>
          <p:nvPr/>
        </p:nvPicPr>
        <p:blipFill>
          <a:blip r:embed="rId3"/>
          <a:stretch/>
        </p:blipFill>
        <p:spPr>
          <a:xfrm>
            <a:off x="395280" y="692280"/>
            <a:ext cx="3452760" cy="25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42920" y="285840"/>
            <a:ext cx="9001080" cy="63579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8072280" y="857160"/>
            <a:ext cx="8575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65 </a:t>
            </a:r>
            <a:r>
              <a:rPr b="0" lang="ru-RU" sz="800" spc="-1" strike="noStrike">
                <a:solidFill>
                  <a:srgbClr val="000000"/>
                </a:solidFill>
                <a:latin typeface="Comic Sans MS"/>
              </a:rPr>
              <a:t>ЛЕТ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8443800" y="785880"/>
            <a:ext cx="7002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65 </a:t>
            </a:r>
            <a:r>
              <a:rPr b="1" lang="ru-RU" sz="900" spc="-1" strike="noStrike">
                <a:solidFill>
                  <a:srgbClr val="000000"/>
                </a:solidFill>
                <a:latin typeface="Comic Sans MS"/>
              </a:rPr>
              <a:t>ЛЕТ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8:30:57Z</dcterms:created>
  <dc:creator>Я</dc:creator>
  <dc:description/>
  <dc:language>en-US</dc:language>
  <cp:lastModifiedBy>User</cp:lastModifiedBy>
  <dcterms:modified xsi:type="dcterms:W3CDTF">2013-02-14T16:56:41Z</dcterms:modified>
  <cp:revision>78</cp:revision>
  <dc:subject/>
  <dc:title>Слайд 1</dc:title>
</cp:coreProperties>
</file>