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CF3-EFF3-430F-A9DC-CE08649F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C31-8AF3-47BE-A5FF-8D2F4D57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CFD-4C8B-4C83-AAE5-6E756336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755-5536-4D5D-90E4-0D50E059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D3BF-3273-48F7-B542-D207F390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D434-A262-44A7-B373-3FF886D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EBCE-3015-4CE7-AC12-5BF135F2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B084-B5F3-4519-8C8F-7012C9A7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F46C-319D-4C5E-9E73-E912B947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BED1-A2D8-472A-9FEE-2B3342CC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1F12-1B87-408C-8479-95CBB46E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7C0-F8D2-4327-9AD1-50F3A61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287C-3A39-4339-8C14-507CD7B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D1D-E11E-4592-A3BF-39632B9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E489-97D9-49E9-9EA1-EC4634D1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7B95-AD31-4C41-9D1F-63F4EB00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8D8B-7BD5-475A-A6ED-334E0C45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0A098-D5FD-452F-9A1E-1737434D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EF11F-BF75-493E-B34C-8094DBD6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4DA2C-795D-48B0-BC11-3505CD9C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19A87-8C2A-4709-A5E2-E6C5B724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718B0-B982-48DD-AD50-ECF3B81F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CB5-5768-46F9-9E5A-3DFA5FB1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FEA0B-FE61-4A7A-8D88-0698549B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F9365-6473-4276-A6F7-4699C2B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91F0D-B601-428F-AEDD-BDC2849C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E24C6-7C27-453D-9CA8-87FB2779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4837B-A632-49AB-8FDB-970D9034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7F324-AE59-4AEE-8D06-F493B1C6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3D10A-FBAA-4BED-8ECF-6E344DB3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90D6D-1801-485D-95C7-88976746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ABA30-AE93-43A9-A4C5-CF8E2A54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95E1-9809-4323-8C12-E32D15A3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C63-5D5C-4C83-A10F-951C96A0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AA0A-E4C0-40E0-B960-DDD1A51A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22F3A-AE33-411A-83DB-DFC29ECB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E4F9-3AA0-421D-AD46-E3E4CDC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F85B-CE92-4841-9D6B-6A438CB3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02C7D-96F4-47E1-A8D1-C3C5582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33E5-E6FC-4DC0-B685-EC037AAD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747D-3B49-42A4-9372-27CC56A3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729D-EA21-43C6-B759-D78D1AE7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F988-8849-4645-86F5-DF8872DA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C38-331B-4BFB-9FDF-E6C886A5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0725-9017-4F4A-A17E-6AA5FDB0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026-5348-4B72-B423-93443887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FAA-3585-403F-B039-08BF893E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D8C-E28B-4AFD-961F-7DE0035C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7C1E-A195-4912-BFCF-8AF2A4B031C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E3FD-B56E-4A14-92D8-F2CDED4284D0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0573-644D-4C7B-BAF4-BDFEA7F4E0F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6AE2-C717-4E8F-A00D-FFD1572E98F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204640"/>
            <a:ext cx="3313080" cy="220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Юрий Дмитриев </a:t>
            </a:r>
            <a:r>
              <a:rPr b="1" lang="ru-RU" sz="3200" spc="-1" strike="noStrike">
                <a:solidFill>
                  <a:srgbClr val="00b050"/>
                </a:solidFill>
                <a:latin typeface="Century Gothic"/>
              </a:rPr>
              <a:t>(1926 – 1989)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Century Gothic"/>
              </a:rPr>
              <a:t>Презентацию составила Архипова И.Н., учитель начальных классов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4242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24242"/>
                </a:solidFill>
                <a:latin typeface="Century Gothic"/>
              </a:rPr>
              <a:t>МБОУ-СОШ№ 55 г.Тулы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Юрий Дмитрие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242"/>
                </a:solidFill>
                <a:latin typeface="Century Gothic"/>
              </a:rPr>
              <a:t>(1926 – 1989)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2" descr="D:\Users\DNS\Desktop\dmit.jpg"/>
          <p:cNvPicPr/>
          <p:nvPr/>
        </p:nvPicPr>
        <p:blipFill>
          <a:blip r:embed="rId1"/>
          <a:stretch/>
        </p:blipFill>
        <p:spPr>
          <a:xfrm>
            <a:off x="611280" y="1052640"/>
            <a:ext cx="3529080" cy="511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Юрий Дмитриев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71280" y="1844640"/>
            <a:ext cx="6777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72880" algn="just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Юрий Дмитриевич Дмитриев (Эдельман) родился 30 апреля 1926 года в семье врача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272880" algn="just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Он принадлежал к поколению, чьё отрочество было опалено Великой Отечественной войной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272880" algn="just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К началу войны Юрий окончил восьмой класс. Дальше было  всё то же самое, что осталось в памяти многих молодых москвичей, московских старшеклассников: строительство укреплённых рубежей вокруг Москвы, попытка, прибавив себе возраст, попасть на фронт…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Юрий Дмитриев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– 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автор более 80 книг, главная тема которых и главный пафос – познание окружающего нас мира природы, воспитание бережного и уважительного отношения к нашим соседям по планете, всему живому, что нас окружае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3744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Природа…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9640" y="981000"/>
            <a:ext cx="439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 algn="just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Об этом писали и пишут многие. Казалось бы, ничего особенного… Просто добрый и хороший человек рассказывает обо всём, что он знает о деревьях, об их листьях, семенах; о тех, кто находит приют в кроне этих деревьев и в земле, под их корнями…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 algn="just">
              <a:spcBef>
                <a:spcPts val="45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d2d"/>
                </a:solidFill>
                <a:latin typeface="Century Gothic"/>
              </a:rPr>
              <a:t>И вот уже лес шумит вокруг тебя, живой и настоящий. Когда же речь заходит о зверях, птицах и насекомых, действие может незаметно и легко переноситься из наших краёв в чужие, но и далёкие обитатели Земли становятся  нам так же близки, понятны и дороги, как свои. 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6" name="Picture 5" descr="D:\Users\DNS\Desktop\new-18241-2011-11-21.jpg"/>
          <p:cNvPicPr/>
          <p:nvPr/>
        </p:nvPicPr>
        <p:blipFill>
          <a:blip r:embed="rId1"/>
          <a:stretch/>
        </p:blipFill>
        <p:spPr>
          <a:xfrm>
            <a:off x="5148360" y="1844640"/>
            <a:ext cx="341928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26560" y="907920"/>
            <a:ext cx="396108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В этом воображаемом путешествии и исследовании, участником которого делается любой, кто раскрывает книги Дмитриева, для всех находится что-то новое и радостное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just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e3d2d"/>
                </a:solidFill>
                <a:latin typeface="Century Gothic"/>
              </a:rPr>
              <a:t>Автор пишет о том, что было с ним когда-то, а ты вдруг начинаешь думать о своём, часто давно забытом. Это свойство настоящего писателя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8" name="Picture 3" descr="D:\Users\DNS\Desktop\x_123e0029.jpg"/>
          <p:cNvPicPr/>
          <p:nvPr/>
        </p:nvPicPr>
        <p:blipFill>
          <a:blip r:embed="rId1"/>
          <a:stretch/>
        </p:blipFill>
        <p:spPr>
          <a:xfrm>
            <a:off x="4946760" y="765000"/>
            <a:ext cx="3419280" cy="2563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D:\Users\DNS\Desktop\image3.jpg"/>
          <p:cNvPicPr/>
          <p:nvPr/>
        </p:nvPicPr>
        <p:blipFill>
          <a:blip r:embed="rId2"/>
          <a:stretch/>
        </p:blipFill>
        <p:spPr>
          <a:xfrm>
            <a:off x="4979880" y="3429000"/>
            <a:ext cx="3419640" cy="256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Произведения Юрия Дмитриева 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Picture 2" descr="D:\Users\DNS\Desktop\patrul.jpg"/>
          <p:cNvPicPr/>
          <p:nvPr/>
        </p:nvPicPr>
        <p:blipFill>
          <a:blip r:embed="rId1"/>
          <a:stretch/>
        </p:blipFill>
        <p:spPr>
          <a:xfrm>
            <a:off x="3780000" y="1700280"/>
            <a:ext cx="1457280" cy="22096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D:\Users\DNS\Desktop\1010795_Zveri_i_zveryata.jpg"/>
          <p:cNvPicPr/>
          <p:nvPr/>
        </p:nvPicPr>
        <p:blipFill>
          <a:blip r:embed="rId2"/>
          <a:stretch/>
        </p:blipFill>
        <p:spPr>
          <a:xfrm>
            <a:off x="684360" y="1700280"/>
            <a:ext cx="2342880" cy="3486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D:\Users\DNS\Desktop\200305_Lesnye_domishki_Rasskazy_dlya_detej_-_128_s_Rodnaya_priroda_CHitaem_doma_i_v_shkole.jpg"/>
          <p:cNvPicPr/>
          <p:nvPr/>
        </p:nvPicPr>
        <p:blipFill>
          <a:blip r:embed="rId3"/>
          <a:stretch/>
        </p:blipFill>
        <p:spPr>
          <a:xfrm>
            <a:off x="5867280" y="2104920"/>
            <a:ext cx="2405160" cy="3370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D:\Users\DNS\Desktop\793460_Pro_Nikitku.jpg"/>
          <p:cNvPicPr/>
          <p:nvPr/>
        </p:nvPicPr>
        <p:blipFill>
          <a:blip r:embed="rId4"/>
          <a:stretch/>
        </p:blipFill>
        <p:spPr>
          <a:xfrm>
            <a:off x="3780000" y="3608280"/>
            <a:ext cx="1790640" cy="277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Используемые ресурсы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www.cbskiev.ru/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www.char.ru/books/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images.yandex.ru/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1:37:59Z</dcterms:created>
  <dc:creator>DNS</dc:creator>
  <dc:description/>
  <dc:language>en-US</dc:language>
  <cp:lastModifiedBy>DNS</cp:lastModifiedBy>
  <dcterms:modified xsi:type="dcterms:W3CDTF">2013-02-14T12:02:51Z</dcterms:modified>
  <cp:revision>3</cp:revision>
  <dc:subject/>
  <dc:title>Юрий Дмитриев (1926 – 1989)</dc:title>
</cp:coreProperties>
</file>