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6.gif" ContentType="image/gif"/>
  <Override PartName="/ppt/media/image24.jpeg" ContentType="image/jpeg"/>
  <Override PartName="/ppt/media/image22.png" ContentType="image/png"/>
  <Override PartName="/ppt/media/image23.png" ContentType="image/png"/>
  <Override PartName="/ppt/media/image19.png" ContentType="image/png"/>
  <Override PartName="/ppt/media/image2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31.jpeg" ContentType="image/jpeg"/>
  <Override PartName="/ppt/media/image4.jpeg" ContentType="image/jpeg"/>
  <Override PartName="/ppt/media/image7.gif" ContentType="image/gif"/>
  <Override PartName="/ppt/media/image32.jpeg" ContentType="image/jpeg"/>
  <Override PartName="/ppt/media/image9.png" ContentType="image/png"/>
  <Override PartName="/ppt/media/image30.wmf" ContentType="image/x-wmf"/>
  <Override PartName="/ppt/media/image33.jpeg" ContentType="image/jpeg"/>
  <Override PartName="/ppt/media/image34.gif" ContentType="image/gif"/>
  <Override PartName="/ppt/media/image37.wmf" ContentType="image/x-wmf"/>
  <Override PartName="/ppt/media/image14.png" ContentType="image/png"/>
  <Override PartName="/ppt/media/image10.jpeg" ContentType="image/jpeg"/>
  <Override PartName="/ppt/media/image25.png" ContentType="image/png"/>
  <Override PartName="/ppt/media/image2.gif" ContentType="image/gif"/>
  <Override PartName="/ppt/media/image28.png" ContentType="image/png"/>
  <Override PartName="/ppt/media/image35.gif" ContentType="image/gif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7.gif" ContentType="image/gif"/>
  <Override PartName="/ppt/media/image5.jpeg" ContentType="image/jpeg"/>
  <Override PartName="/ppt/media/image15.gif" ContentType="image/gif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662C-4E90-4F2D-9F1E-2E3EFB2FF3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ршение презентации через кнопк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клавиа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CA7F-E614-439C-996A-92A16C9B7BFC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D8A-3551-47F0-94C2-056B3BFA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1AB-F5D7-4BCC-A933-9A04C0A8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F56-4304-445D-93D3-3EA29B4A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20B-61F1-450F-85D9-90C80EE2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29F6-64AA-41FE-94A7-A7FD0949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F860-C891-4C66-BC9A-7F439717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939D-2F3E-4795-99C9-201A385D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4A82-D2AF-4F3C-AE32-A1CE1AD8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BFF1-A53B-4E2F-B21D-1CAF07CF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B949-24C2-414F-84E1-898D42B4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5E6F-09F3-4783-B33F-7580336F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159-60D0-4C97-ADD5-8971CD17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C82D-EFE2-4626-9B66-4368AC2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4907-6E26-4AF1-A3B9-0EB96BE5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55B6-6181-446F-8AF5-BFC3FF5F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C768-66A5-4B32-A5FB-643238DF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4736-11BE-41BF-BF33-E1E33E8A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D065-F5EB-4E26-8CB3-73DA04EB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3A53-8CD5-4742-A687-3A021E6C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2862-A132-4927-A290-D3FA0BF8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26FED-72A5-4E9F-8044-23465D9C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83AD-9491-4999-B202-F3EAA3E5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99F-5BCF-47A2-8380-4571A746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AC02-ACCB-4666-97D0-0A072393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5855-A560-4FDB-9622-19240336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31485-DAF3-4DA2-81A8-E1414391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3A90A-EB8F-4E62-8836-0B2F7E9D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563F-DAF3-4737-88B5-19D1B6D2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FEB4A-4A7E-4FA8-A94D-A2E376B1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EB984-B0E1-4AB2-A3C3-45C65926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419FB-DBC8-445C-AAB5-5345F8E7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33E2-C9B0-45E7-A0C9-45010F34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7820F-C468-4CE6-912E-410AB17A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A63-E7D8-4F03-BE0E-A2CED6EB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A0B0-1BD3-41A0-B44B-C4165EBA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8A44-D803-47C0-88B2-D79E7258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B8643-C7B6-4DC7-B0E6-570E16D4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BC2DC-8D4F-46DE-882F-EED8F3B3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BBF6E-7919-4810-8DFE-7A3FAA4A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A004-C115-4906-BF23-886D377F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9E90-2ADD-42D7-97CC-FEAADA22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6041-0CA6-4889-9169-3D3650A8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8500B-27A2-41E6-8EAD-87674EBF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3F5-52E4-46F4-8040-794F90DF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2D9C-61BC-4F97-A7CC-14B205A2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651-370F-4AA1-ACDB-62316C46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A30-2EA9-4470-B784-BBC09C6D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8C9-D84E-41E1-AD3B-EDA24E7B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c342e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545e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545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545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545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ffb5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1EC0-3562-4CA6-A850-FB8BB3B6C00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8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87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90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93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9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ff"/>
                    </a:gs>
                    <a:gs pos="100000">
                      <a:srgbClr val="ff7c8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9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f99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99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00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109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112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15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118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121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24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27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30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33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36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3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45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4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5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154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57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60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de005a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7c80"/>
                    </a:gs>
                    <a:gs pos="100000">
                      <a:srgbClr val="de005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165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6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7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174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177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80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86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89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92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95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de005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7c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98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9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0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1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5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6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7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9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0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5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6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de005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EEB2-1DF7-4D3D-BF85-364B82B119D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261" name="Group 3"/>
            <p:cNvGrpSpPr/>
            <p:nvPr/>
          </p:nvGrpSpPr>
          <p:grpSpPr>
            <a:xfrm>
              <a:off x="5404680" y="58320"/>
              <a:ext cx="3625200" cy="6137640"/>
              <a:chOff x="5404680" y="58320"/>
              <a:chExt cx="3625200" cy="6137640"/>
            </a:xfrm>
          </p:grpSpPr>
          <p:sp>
            <p:nvSpPr>
              <p:cNvPr id="262" name="Freeform 4"/>
              <p:cNvSpPr/>
              <p:nvPr/>
            </p:nvSpPr>
            <p:spPr>
              <a:xfrm flipV="1" rot="11970000">
                <a:off x="6582960" y="343440"/>
                <a:ext cx="2114280" cy="23562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3" name="Freeform 5"/>
              <p:cNvSpPr/>
              <p:nvPr/>
            </p:nvSpPr>
            <p:spPr>
              <a:xfrm flipV="1" rot="11970000">
                <a:off x="7422480" y="195876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4" name="Freeform 6"/>
              <p:cNvSpPr/>
              <p:nvPr/>
            </p:nvSpPr>
            <p:spPr>
              <a:xfrm flipV="1" rot="11970000">
                <a:off x="6824160" y="258696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5" name="Freeform 7"/>
              <p:cNvSpPr/>
              <p:nvPr/>
            </p:nvSpPr>
            <p:spPr>
              <a:xfrm flipV="1" rot="11970000">
                <a:off x="7250400" y="66960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6" name="Freeform 8"/>
              <p:cNvSpPr/>
              <p:nvPr/>
            </p:nvSpPr>
            <p:spPr>
              <a:xfrm flipV="1" rot="11970000">
                <a:off x="7148160" y="2649240"/>
                <a:ext cx="16308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7" name="Freeform 9"/>
              <p:cNvSpPr/>
              <p:nvPr/>
            </p:nvSpPr>
            <p:spPr>
              <a:xfrm flipV="1" rot="11970000">
                <a:off x="7133760" y="124200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8" name="Freeform 10"/>
              <p:cNvSpPr/>
              <p:nvPr/>
            </p:nvSpPr>
            <p:spPr>
              <a:xfrm flipV="1" rot="11970000">
                <a:off x="5934960" y="2934000"/>
                <a:ext cx="52308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45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26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0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1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4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27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7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7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7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21"/>
            <p:cNvGrpSpPr/>
            <p:nvPr/>
          </p:nvGrpSpPr>
          <p:grpSpPr>
            <a:xfrm>
              <a:off x="5645880" y="285480"/>
              <a:ext cx="892800" cy="825840"/>
              <a:chOff x="5645880" y="285480"/>
              <a:chExt cx="892800" cy="825840"/>
            </a:xfrm>
          </p:grpSpPr>
          <p:sp>
            <p:nvSpPr>
              <p:cNvPr id="280" name="Freeform 22"/>
              <p:cNvSpPr/>
              <p:nvPr/>
            </p:nvSpPr>
            <p:spPr>
              <a:xfrm rot="14908200">
                <a:off x="5757480" y="78048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1" name="Freeform 23"/>
              <p:cNvSpPr/>
              <p:nvPr/>
            </p:nvSpPr>
            <p:spPr>
              <a:xfrm rot="14908200">
                <a:off x="5706360" y="46080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2" name="Freeform 24"/>
              <p:cNvSpPr/>
              <p:nvPr/>
            </p:nvSpPr>
            <p:spPr>
              <a:xfrm rot="14908200">
                <a:off x="6249240" y="38520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5"/>
            <p:cNvGrpSpPr/>
            <p:nvPr/>
          </p:nvGrpSpPr>
          <p:grpSpPr>
            <a:xfrm>
              <a:off x="968760" y="5255280"/>
              <a:ext cx="1059120" cy="829800"/>
              <a:chOff x="968760" y="5255280"/>
              <a:chExt cx="1059120" cy="829800"/>
            </a:xfrm>
          </p:grpSpPr>
          <p:sp>
            <p:nvSpPr>
              <p:cNvPr id="284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5" name="Freeform 27"/>
              <p:cNvSpPr/>
              <p:nvPr/>
            </p:nvSpPr>
            <p:spPr>
              <a:xfrm rot="8524800">
                <a:off x="1193040" y="5730480"/>
                <a:ext cx="429480" cy="248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6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288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9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0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292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3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4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295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9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f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01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34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32C0-98AD-4071-A9E3-F28E8ABDAD4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344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345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6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348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349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350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99ff"/>
                      </a:gs>
                      <a:gs pos="100000">
                        <a:srgbClr val="ff7c8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f99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353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354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357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360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363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366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369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372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375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378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381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384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Group 45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387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390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393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396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399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402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405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408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7c80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411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414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e005a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7c80"/>
                      </a:gs>
                      <a:gs pos="100000">
                        <a:srgbClr val="de005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8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419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422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425" name="Freeform 84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85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428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431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434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437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440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443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446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449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de005a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e005a"/>
                        </a:gs>
                        <a:gs pos="100000">
                          <a:srgbClr val="ff7c8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1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452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453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de005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de005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de005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462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3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4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5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6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7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8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69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0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1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2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3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4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de00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5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de005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201E-AB8D-4817-844B-A8E32BD4461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4"/>
          <p:cNvSpPr txBox="1"/>
          <p:nvPr/>
        </p:nvSpPr>
        <p:spPr>
          <a:xfrm>
            <a:off x="1523880" y="914400"/>
            <a:ext cx="7239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1908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Monotype Corsiva"/>
              </a:rPr>
              <a:t>Дню Святого Валентина</a:t>
            </a:r>
            <a:endParaRPr b="1" lang="en-US" sz="1800" spc="1" strike="noStrike">
              <a:ln cap="rnd" w="1908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rnd" w="19080">
                  <a:solidFill>
                    <a:srgbClr val="00ffff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latin typeface="Monotype Corsiva"/>
              </a:rPr>
              <a:t>посвящается…</a:t>
            </a:r>
            <a:endParaRPr b="1" lang="en-US" sz="1800" spc="1" strike="noStrike">
              <a:ln cap="rnd" w="19080">
                <a:solidFill>
                  <a:srgbClr val="00ffff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525" name="Picture 6" descr="83"/>
          <p:cNvPicPr/>
          <p:nvPr/>
        </p:nvPicPr>
        <p:blipFill>
          <a:blip r:embed="rId2"/>
          <a:stretch/>
        </p:blipFill>
        <p:spPr>
          <a:xfrm>
            <a:off x="228600" y="2743200"/>
            <a:ext cx="1682640" cy="1990800"/>
          </a:xfrm>
          <a:prstGeom prst="rect">
            <a:avLst/>
          </a:prstGeom>
          <a:ln w="0">
            <a:noFill/>
          </a:ln>
        </p:spPr>
      </p:pic>
      <p:pic>
        <p:nvPicPr>
          <p:cNvPr id="526" name="Roxette - It Must Have Been Love.mp3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4" descr="http://www.chaika.ru/all_germ/col/bezirks/nippes1.jpg"/>
          <p:cNvPicPr/>
          <p:nvPr/>
        </p:nvPicPr>
        <p:blipFill>
          <a:blip r:embed="rId2"/>
          <a:stretch/>
        </p:blipFill>
        <p:spPr>
          <a:xfrm>
            <a:off x="7075440" y="4241880"/>
            <a:ext cx="2068560" cy="26161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Neuschwanstein_tronsaal"/>
          <p:cNvPicPr/>
          <p:nvPr/>
        </p:nvPicPr>
        <p:blipFill>
          <a:blip r:embed="rId3"/>
          <a:stretch/>
        </p:blipFill>
        <p:spPr>
          <a:xfrm>
            <a:off x="0" y="0"/>
            <a:ext cx="2400480" cy="17874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Verdana"/>
              </a:rPr>
              <a:t>История дня розовых сердечек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609480" y="380880"/>
            <a:ext cx="362160" cy="304920"/>
          </a:xfrm>
          <a:custGeom>
            <a:avLst/>
            <a:gdLst>
              <a:gd name="textAreaLeft" fmla="*/ 84240 w 362160"/>
              <a:gd name="textAreaRight" fmla="*/ 277560 w 36216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2895480" y="1523880"/>
            <a:ext cx="285840" cy="228600"/>
          </a:xfrm>
          <a:custGeom>
            <a:avLst/>
            <a:gdLst>
              <a:gd name="textAreaLeft" fmla="*/ 66600 w 285840"/>
              <a:gd name="textAreaRight" fmla="*/ 219240 w 28584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8610480" y="3429000"/>
            <a:ext cx="362160" cy="228600"/>
          </a:xfrm>
          <a:custGeom>
            <a:avLst/>
            <a:gdLst>
              <a:gd name="textAreaLeft" fmla="*/ 84240 w 362160"/>
              <a:gd name="textAreaRight" fmla="*/ 277560 w 3621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3" name="AutoShape 7"/>
          <p:cNvSpPr/>
          <p:nvPr/>
        </p:nvSpPr>
        <p:spPr>
          <a:xfrm>
            <a:off x="3886200" y="5257800"/>
            <a:ext cx="361800" cy="228600"/>
          </a:xfrm>
          <a:custGeom>
            <a:avLst/>
            <a:gdLst>
              <a:gd name="textAreaLeft" fmla="*/ 84240 w 361800"/>
              <a:gd name="textAreaRight" fmla="*/ 277560 w 36180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4" name="AutoShape 8"/>
          <p:cNvSpPr/>
          <p:nvPr/>
        </p:nvSpPr>
        <p:spPr>
          <a:xfrm>
            <a:off x="5334120" y="838080"/>
            <a:ext cx="361800" cy="228600"/>
          </a:xfrm>
          <a:custGeom>
            <a:avLst/>
            <a:gdLst>
              <a:gd name="textAreaLeft" fmla="*/ 84240 w 361800"/>
              <a:gd name="textAreaRight" fmla="*/ 277560 w 36180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5" name="AutoShape 9"/>
          <p:cNvSpPr/>
          <p:nvPr/>
        </p:nvSpPr>
        <p:spPr>
          <a:xfrm>
            <a:off x="7848720" y="6400800"/>
            <a:ext cx="304560" cy="228600"/>
          </a:xfrm>
          <a:custGeom>
            <a:avLst/>
            <a:gdLst>
              <a:gd name="textAreaLeft" fmla="*/ 70920 w 304560"/>
              <a:gd name="textAreaRight" fmla="*/ 233640 w 30456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6" name="AutoShape 10"/>
          <p:cNvSpPr/>
          <p:nvPr/>
        </p:nvSpPr>
        <p:spPr>
          <a:xfrm>
            <a:off x="228600" y="6172200"/>
            <a:ext cx="361800" cy="228600"/>
          </a:xfrm>
          <a:custGeom>
            <a:avLst/>
            <a:gdLst>
              <a:gd name="textAreaLeft" fmla="*/ 84240 w 361800"/>
              <a:gd name="textAreaRight" fmla="*/ 277560 w 36180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37" name="Picture 15" descr="2f695e4c5e9eadbec2094ad407636325[1]"/>
          <p:cNvPicPr/>
          <p:nvPr/>
        </p:nvPicPr>
        <p:blipFill>
          <a:blip r:embed="rId4"/>
          <a:stretch/>
        </p:blipFill>
        <p:spPr>
          <a:xfrm>
            <a:off x="7696080" y="1295280"/>
            <a:ext cx="1187640" cy="129564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За </a:t>
            </a:r>
            <a:r>
              <a:rPr b="0" lang="en-US" sz="3200" spc="-1" strike="noStrike">
                <a:solidFill>
                  <a:srgbClr val="cc00ff"/>
                </a:solidFill>
                <a:latin typeface="Verdana"/>
              </a:rPr>
              <a:t>VIII</a:t>
            </a: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 веков до того, как был утверждён этот праздник, древние римляне отмечали февральский фестиваль Луперкалии в честь Фавна Луперка. Много позже, христианский папа Геласиус, желая избавиться от языческих пережитков, решил немного модифицировать этот фестиваль,  преобразив его в христианский праздник. 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transition spd="slow" advTm="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6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Verdana"/>
              </a:rPr>
              <a:t>Святой мученик Валентин, который имел к любви самое непосредственной отношение, был обезглавлен в Древнем Риме в 270 году нашей эры по приказу императора Клавдия.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Verdana"/>
              </a:rPr>
              <a:t>История дня розовых сердечек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41" name="AutoShape 6"/>
          <p:cNvSpPr/>
          <p:nvPr/>
        </p:nvSpPr>
        <p:spPr>
          <a:xfrm>
            <a:off x="228600" y="137160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2" name="AutoShape 7"/>
          <p:cNvSpPr/>
          <p:nvPr/>
        </p:nvSpPr>
        <p:spPr>
          <a:xfrm>
            <a:off x="6934320" y="4038480"/>
            <a:ext cx="228600" cy="152640"/>
          </a:xfrm>
          <a:custGeom>
            <a:avLst/>
            <a:gdLst>
              <a:gd name="textAreaLeft" fmla="*/ 53280 w 228600"/>
              <a:gd name="textAreaRight" fmla="*/ 175320 w 228600"/>
              <a:gd name="textAreaTop" fmla="*/ 15840 h 152640"/>
              <a:gd name="textAreaBottom" fmla="*/ 96840 h 152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3" name="AutoShape 8"/>
          <p:cNvSpPr/>
          <p:nvPr/>
        </p:nvSpPr>
        <p:spPr>
          <a:xfrm>
            <a:off x="1066680" y="4648320"/>
            <a:ext cx="209520" cy="152280"/>
          </a:xfrm>
          <a:custGeom>
            <a:avLst/>
            <a:gdLst>
              <a:gd name="textAreaLeft" fmla="*/ 48600 w 209520"/>
              <a:gd name="textAreaRight" fmla="*/ 160560 w 20952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4" name="AutoShape 9"/>
          <p:cNvSpPr/>
          <p:nvPr/>
        </p:nvSpPr>
        <p:spPr>
          <a:xfrm>
            <a:off x="3962520" y="685800"/>
            <a:ext cx="209520" cy="152280"/>
          </a:xfrm>
          <a:custGeom>
            <a:avLst/>
            <a:gdLst>
              <a:gd name="textAreaLeft" fmla="*/ 48600 w 209520"/>
              <a:gd name="textAreaRight" fmla="*/ 160560 w 20952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5" name="AutoShape 10"/>
          <p:cNvSpPr/>
          <p:nvPr/>
        </p:nvSpPr>
        <p:spPr>
          <a:xfrm>
            <a:off x="228600" y="640080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6" name="AutoShape 11"/>
          <p:cNvSpPr/>
          <p:nvPr/>
        </p:nvSpPr>
        <p:spPr>
          <a:xfrm>
            <a:off x="5410080" y="624852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7" name="AutoShape 12"/>
          <p:cNvSpPr/>
          <p:nvPr/>
        </p:nvSpPr>
        <p:spPr>
          <a:xfrm>
            <a:off x="8305920" y="1600200"/>
            <a:ext cx="285480" cy="152280"/>
          </a:xfrm>
          <a:custGeom>
            <a:avLst/>
            <a:gdLst>
              <a:gd name="textAreaLeft" fmla="*/ 66600 w 285480"/>
              <a:gd name="textAreaRight" fmla="*/ 218880 w 28548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8" name="AutoShape 13"/>
          <p:cNvSpPr/>
          <p:nvPr/>
        </p:nvSpPr>
        <p:spPr>
          <a:xfrm>
            <a:off x="8686800" y="647712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9" name="Picture 14" descr="10307414_6924442_71[1]"/>
          <p:cNvPicPr/>
          <p:nvPr/>
        </p:nvPicPr>
        <p:blipFill>
          <a:blip r:embed="rId2"/>
          <a:stretch/>
        </p:blipFill>
        <p:spPr>
          <a:xfrm>
            <a:off x="4572000" y="3505320"/>
            <a:ext cx="2381400" cy="3143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5" descr="Мишка 2000"/>
          <p:cNvPicPr/>
          <p:nvPr/>
        </p:nvPicPr>
        <p:blipFill>
          <a:blip r:embed="rId3"/>
          <a:stretch/>
        </p:blipFill>
        <p:spPr>
          <a:xfrm>
            <a:off x="762120" y="4915080"/>
            <a:ext cx="2190600" cy="19429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0" descr="Рисунок1"/>
          <p:cNvPicPr/>
          <p:nvPr/>
        </p:nvPicPr>
        <p:blipFill>
          <a:blip r:embed="rId4"/>
          <a:stretch/>
        </p:blipFill>
        <p:spPr>
          <a:xfrm>
            <a:off x="7180200" y="4038480"/>
            <a:ext cx="1768680" cy="23241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8" descr="cc0f663e19386f287b7082af13c823fb[1]"/>
          <p:cNvPicPr/>
          <p:nvPr/>
        </p:nvPicPr>
        <p:blipFill>
          <a:blip r:embed="rId2"/>
          <a:stretch/>
        </p:blipFill>
        <p:spPr>
          <a:xfrm>
            <a:off x="6934320" y="4010040"/>
            <a:ext cx="2209680" cy="284796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Verdana"/>
              </a:rPr>
              <a:t>История дня розовых сердечек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Клавдий издал приказ, запрещающий молодым людям жениться. Однако священник по имени Валентин пошёл против воли императора, продолжая тайно женить желающих. Узнав об этом, Клавдий приказал схватить ослушника и засадить его в тюрьму. 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55" name="Picture 9" descr="3b39d2cb0c859fe1b78ea9b790df9287[1]"/>
          <p:cNvPicPr/>
          <p:nvPr/>
        </p:nvPicPr>
        <p:blipFill>
          <a:blip r:embed="rId3"/>
          <a:stretch/>
        </p:blipFill>
        <p:spPr>
          <a:xfrm>
            <a:off x="762120" y="49528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556" name="AutoShape 11"/>
          <p:cNvSpPr/>
          <p:nvPr/>
        </p:nvSpPr>
        <p:spPr>
          <a:xfrm>
            <a:off x="3962520" y="685800"/>
            <a:ext cx="209520" cy="152280"/>
          </a:xfrm>
          <a:custGeom>
            <a:avLst/>
            <a:gdLst>
              <a:gd name="textAreaLeft" fmla="*/ 48600 w 209520"/>
              <a:gd name="textAreaRight" fmla="*/ 160560 w 20952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7" name="AutoShape 12"/>
          <p:cNvSpPr/>
          <p:nvPr/>
        </p:nvSpPr>
        <p:spPr>
          <a:xfrm>
            <a:off x="8686800" y="160020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8" name="AutoShape 13"/>
          <p:cNvSpPr/>
          <p:nvPr/>
        </p:nvSpPr>
        <p:spPr>
          <a:xfrm>
            <a:off x="6934320" y="4267080"/>
            <a:ext cx="228600" cy="152640"/>
          </a:xfrm>
          <a:custGeom>
            <a:avLst/>
            <a:gdLst>
              <a:gd name="textAreaLeft" fmla="*/ 53280 w 228600"/>
              <a:gd name="textAreaRight" fmla="*/ 175320 w 228600"/>
              <a:gd name="textAreaTop" fmla="*/ 15840 h 152640"/>
              <a:gd name="textAreaBottom" fmla="*/ 96840 h 152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8686800" y="647712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1066680" y="4800600"/>
            <a:ext cx="209520" cy="152280"/>
          </a:xfrm>
          <a:custGeom>
            <a:avLst/>
            <a:gdLst>
              <a:gd name="textAreaLeft" fmla="*/ 48600 w 209520"/>
              <a:gd name="textAreaRight" fmla="*/ 160560 w 20952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1" name="AutoShape 16"/>
          <p:cNvSpPr/>
          <p:nvPr/>
        </p:nvSpPr>
        <p:spPr>
          <a:xfrm>
            <a:off x="152280" y="137160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AutoShape 17"/>
          <p:cNvSpPr/>
          <p:nvPr/>
        </p:nvSpPr>
        <p:spPr>
          <a:xfrm>
            <a:off x="228600" y="6400800"/>
            <a:ext cx="285840" cy="152280"/>
          </a:xfrm>
          <a:custGeom>
            <a:avLst/>
            <a:gdLst>
              <a:gd name="textAreaLeft" fmla="*/ 66600 w 285840"/>
              <a:gd name="textAreaRight" fmla="*/ 219240 w 285840"/>
              <a:gd name="textAreaTop" fmla="*/ 15840 h 152280"/>
              <a:gd name="textAreaBottom" fmla="*/ 96480 h 152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3" name="AutoShape 18"/>
          <p:cNvSpPr/>
          <p:nvPr/>
        </p:nvSpPr>
        <p:spPr>
          <a:xfrm>
            <a:off x="3886200" y="5257800"/>
            <a:ext cx="361800" cy="228600"/>
          </a:xfrm>
          <a:custGeom>
            <a:avLst/>
            <a:gdLst>
              <a:gd name="textAreaLeft" fmla="*/ 84240 w 361800"/>
              <a:gd name="textAreaRight" fmla="*/ 277560 w 361800"/>
              <a:gd name="textAreaTop" fmla="*/ 24120 h 228600"/>
              <a:gd name="textAreaBottom" fmla="*/ 144720 h 2286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30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25,-6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30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25,-6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6" descr="0735127932c9[1]"/>
          <p:cNvPicPr/>
          <p:nvPr/>
        </p:nvPicPr>
        <p:blipFill>
          <a:blip r:embed="rId1"/>
          <a:stretch/>
        </p:blipFill>
        <p:spPr>
          <a:xfrm>
            <a:off x="0" y="0"/>
            <a:ext cx="1914480" cy="23623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10307414_6924442_71[1]"/>
          <p:cNvPicPr/>
          <p:nvPr/>
        </p:nvPicPr>
        <p:blipFill>
          <a:blip r:embed="rId2"/>
          <a:stretch/>
        </p:blipFill>
        <p:spPr>
          <a:xfrm>
            <a:off x="0" y="3714840"/>
            <a:ext cx="2381400" cy="31431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6043650_valentine1"/>
          <p:cNvPicPr/>
          <p:nvPr/>
        </p:nvPicPr>
        <p:blipFill>
          <a:blip r:embed="rId3"/>
          <a:stretch/>
        </p:blipFill>
        <p:spPr>
          <a:xfrm rot="845400">
            <a:off x="6970320" y="5330880"/>
            <a:ext cx="2000160" cy="122724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42800" y="0"/>
            <a:ext cx="82440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Verdana"/>
              </a:rPr>
              <a:t>История дня розовых сердечек</a:t>
            </a:r>
            <a:endParaRPr b="0" lang="en-US" sz="4400" spc="-1" strike="noStrike">
              <a:solidFill>
                <a:srgbClr val="ff0066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Согласно одной из романтических легенд, именно Валентин был автором первой любовной открытки. Он влюбился в дочь тюремщика (а та полюбила его), и накануне казни послал ей письмо, на котором написал: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          </a:t>
            </a:r>
            <a:r>
              <a:rPr b="0" lang="ru-RU" sz="3200" spc="-1" strike="noStrike">
                <a:solidFill>
                  <a:srgbClr val="0000ff"/>
                </a:solidFill>
                <a:latin typeface="Verdana"/>
              </a:rPr>
              <a:t>«От твоего Валентина»</a:t>
            </a:r>
            <a:endParaRPr b="0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9" name="Picture 7" descr="new_11[1]"/>
          <p:cNvPicPr/>
          <p:nvPr/>
        </p:nvPicPr>
        <p:blipFill>
          <a:blip r:embed="rId4"/>
          <a:stretch/>
        </p:blipFill>
        <p:spPr>
          <a:xfrm>
            <a:off x="609480" y="5334120"/>
            <a:ext cx="885960" cy="1133280"/>
          </a:xfrm>
          <a:prstGeom prst="rect">
            <a:avLst/>
          </a:prstGeom>
          <a:ln w="0">
            <a:noFill/>
          </a:ln>
        </p:spPr>
      </p:pic>
      <p:pic>
        <p:nvPicPr>
          <p:cNvPr id="570" name="Один. пастух (отрывок).wav" descr=""/>
          <p:cNvPicPr/>
          <p:nvPr/>
        </p:nvPicPr>
        <p:blipFill>
          <a:blip r:embed="rId5"/>
          <a:stretch/>
        </p:blipFill>
        <p:spPr>
          <a:xfrm>
            <a:off x="16002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newsflash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3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35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236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237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http://www.chaika.ru/all_germ/col/i/wein2.jpg"/>
          <p:cNvPicPr/>
          <p:nvPr/>
        </p:nvPicPr>
        <p:blipFill>
          <a:blip r:embed="rId2"/>
          <a:stretch/>
        </p:blipFill>
        <p:spPr>
          <a:xfrm>
            <a:off x="2895480" y="304920"/>
            <a:ext cx="2511720" cy="2241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2" name="Picture 5" descr="616099"/>
          <p:cNvPicPr/>
          <p:nvPr/>
        </p:nvPicPr>
        <p:blipFill>
          <a:blip r:embed="rId3"/>
          <a:stretch/>
        </p:blipFill>
        <p:spPr>
          <a:xfrm>
            <a:off x="3657600" y="3200400"/>
            <a:ext cx="2336760" cy="3505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3" name="Picture 6" descr="3b39d2cb0c859fe1b78ea9b790df9287[1]"/>
          <p:cNvPicPr/>
          <p:nvPr/>
        </p:nvPicPr>
        <p:blipFill>
          <a:blip r:embed="rId4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13755891_8945[1]"/>
          <p:cNvPicPr/>
          <p:nvPr/>
        </p:nvPicPr>
        <p:blipFill>
          <a:blip r:embed="rId5"/>
          <a:stretch/>
        </p:blipFill>
        <p:spPr>
          <a:xfrm>
            <a:off x="152280" y="4800600"/>
            <a:ext cx="2565360" cy="1924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5" name="Picture 10" descr="677083"/>
          <p:cNvPicPr/>
          <p:nvPr/>
        </p:nvPicPr>
        <p:blipFill>
          <a:blip r:embed="rId6"/>
          <a:stretch/>
        </p:blipFill>
        <p:spPr>
          <a:xfrm>
            <a:off x="7416720" y="4267080"/>
            <a:ext cx="1727280" cy="2590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6" name="Picture 17" descr="2f695e4c5e9eadbec2094ad407636325[1]"/>
          <p:cNvPicPr/>
          <p:nvPr/>
        </p:nvPicPr>
        <p:blipFill>
          <a:blip r:embed="rId7"/>
          <a:stretch/>
        </p:blipFill>
        <p:spPr>
          <a:xfrm>
            <a:off x="7238880" y="380880"/>
            <a:ext cx="1047960" cy="11430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8" descr="13e8db66f4c45e5cf8de563f4201c208[1]"/>
          <p:cNvPicPr/>
          <p:nvPr/>
        </p:nvPicPr>
        <p:blipFill>
          <a:blip r:embed="rId8"/>
          <a:stretch/>
        </p:blipFill>
        <p:spPr>
          <a:xfrm>
            <a:off x="0" y="2438280"/>
            <a:ext cx="1981080" cy="18669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2" descr="WallS_0024"/>
          <p:cNvPicPr/>
          <p:nvPr/>
        </p:nvPicPr>
        <p:blipFill>
          <a:blip r:embed="rId9"/>
          <a:stretch/>
        </p:blipFill>
        <p:spPr>
          <a:xfrm>
            <a:off x="6324480" y="1828800"/>
            <a:ext cx="2590920" cy="1943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</p:spTree>
  </p:cSld>
  <p:transition spd="med" advTm="10000">
    <p:comb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20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1000" autoRev="1" fill="hold"/>
                                        <p:tgtEl>
                                          <p:spTgt spid="5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14481500_6453437_3112171_3060878_550154_1624594[1]"/>
          <p:cNvPicPr/>
          <p:nvPr/>
        </p:nvPicPr>
        <p:blipFill>
          <a:blip r:embed="rId1"/>
          <a:stretch/>
        </p:blipFill>
        <p:spPr>
          <a:xfrm>
            <a:off x="5334120" y="4114800"/>
            <a:ext cx="2133360" cy="25401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6365922_88278870[1]"/>
          <p:cNvPicPr/>
          <p:nvPr/>
        </p:nvPicPr>
        <p:blipFill>
          <a:blip r:embed="rId2"/>
          <a:stretch/>
        </p:blipFill>
        <p:spPr>
          <a:xfrm>
            <a:off x="4267080" y="4114800"/>
            <a:ext cx="1473480" cy="25146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Медведи"/>
          <p:cNvPicPr/>
          <p:nvPr/>
        </p:nvPicPr>
        <p:blipFill>
          <a:blip r:embed="rId3"/>
          <a:stretch/>
        </p:blipFill>
        <p:spPr>
          <a:xfrm>
            <a:off x="1600200" y="228600"/>
            <a:ext cx="4648320" cy="3780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2f695e4c5e9eadbec2094ad407636325[1]"/>
          <p:cNvPicPr/>
          <p:nvPr/>
        </p:nvPicPr>
        <p:blipFill>
          <a:blip r:embed="rId4"/>
          <a:stretch/>
        </p:blipFill>
        <p:spPr>
          <a:xfrm>
            <a:off x="7315200" y="380880"/>
            <a:ext cx="1047600" cy="1143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13e8db66f4c45e5cf8de563f4201c208[1]"/>
          <p:cNvPicPr/>
          <p:nvPr/>
        </p:nvPicPr>
        <p:blipFill>
          <a:blip r:embed="rId5"/>
          <a:stretch/>
        </p:blipFill>
        <p:spPr>
          <a:xfrm>
            <a:off x="7162920" y="2057400"/>
            <a:ext cx="1981080" cy="18669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Сердца"/>
          <p:cNvPicPr/>
          <p:nvPr/>
        </p:nvPicPr>
        <p:blipFill>
          <a:blip r:embed="rId6"/>
          <a:stretch/>
        </p:blipFill>
        <p:spPr>
          <a:xfrm rot="20539200">
            <a:off x="1752120" y="4647960"/>
            <a:ext cx="2590920" cy="16682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14668232_8320[1]"/>
          <p:cNvPicPr/>
          <p:nvPr/>
        </p:nvPicPr>
        <p:blipFill>
          <a:blip r:embed="rId7"/>
          <a:stretch/>
        </p:blipFill>
        <p:spPr>
          <a:xfrm>
            <a:off x="0" y="4952880"/>
            <a:ext cx="1905120" cy="17449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11"/>
          <p:cNvSpPr/>
          <p:nvPr/>
        </p:nvSpPr>
        <p:spPr>
          <a:xfrm>
            <a:off x="8458200" y="6324480"/>
            <a:ext cx="361800" cy="304920"/>
          </a:xfrm>
          <a:custGeom>
            <a:avLst/>
            <a:gdLst>
              <a:gd name="textAreaLeft" fmla="*/ 84240 w 361800"/>
              <a:gd name="textAreaRight" fmla="*/ 277560 w 36180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66cc"/>
          </a:solidFill>
          <a:ln cap="rnd" w="190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7" name="AutoShape 12"/>
          <p:cNvSpPr/>
          <p:nvPr/>
        </p:nvSpPr>
        <p:spPr>
          <a:xfrm rot="610800">
            <a:off x="8229240" y="5943600"/>
            <a:ext cx="914400" cy="914400"/>
          </a:xfrm>
          <a:custGeom>
            <a:avLst/>
            <a:gdLst>
              <a:gd name="textAreaLeft" fmla="*/ 431640 w 914400"/>
              <a:gd name="textAreaRight" fmla="*/ 482760 w 914400"/>
              <a:gd name="textAreaTop" fmla="*/ 431640 h 914400"/>
              <a:gd name="textAreaBottom" fmla="*/ 482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0193" y="10193"/>
                </a:lnTo>
                <a:lnTo>
                  <a:pt x="10800" y="0"/>
                </a:lnTo>
                <a:lnTo>
                  <a:pt x="11407" y="10193"/>
                </a:lnTo>
                <a:lnTo>
                  <a:pt x="21600" y="10800"/>
                </a:lnTo>
                <a:lnTo>
                  <a:pt x="11407" y="11407"/>
                </a:lnTo>
                <a:lnTo>
                  <a:pt x="10800" y="21600"/>
                </a:lnTo>
                <a:lnTo>
                  <a:pt x="10193" y="1140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88" name="Picture 13" descr="j0230876"/>
          <p:cNvPicPr/>
          <p:nvPr/>
        </p:nvPicPr>
        <p:blipFill>
          <a:blip r:embed="rId8"/>
          <a:stretch/>
        </p:blipFill>
        <p:spPr>
          <a:xfrm>
            <a:off x="0" y="0"/>
            <a:ext cx="1376280" cy="1386000"/>
          </a:xfrm>
          <a:prstGeom prst="rect">
            <a:avLst/>
          </a:prstGeom>
          <a:ln w="0">
            <a:noFill/>
          </a:ln>
        </p:spPr>
      </p:pic>
    </p:spTree>
  </p:cSld>
  <p:transition spd="med" advTm="2500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 rot="1110600">
            <a:off x="6019560" y="53316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 u="sng">
                <a:solidFill>
                  <a:srgbClr val="ff0000"/>
                </a:solidFill>
                <a:uFillTx/>
                <a:latin typeface="Arial"/>
              </a:rPr>
              <a:t>Конец</a:t>
            </a:r>
            <a:endParaRPr b="0" lang="en-US" sz="8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0" name="Picture 6" descr="70072466"/>
          <p:cNvPicPr/>
          <p:nvPr/>
        </p:nvPicPr>
        <p:blipFill>
          <a:blip r:embed="rId2"/>
          <a:stretch/>
        </p:blipFill>
        <p:spPr>
          <a:xfrm>
            <a:off x="0" y="0"/>
            <a:ext cx="3014640" cy="3619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255918"/>
          <p:cNvPicPr/>
          <p:nvPr/>
        </p:nvPicPr>
        <p:blipFill>
          <a:blip r:embed="rId3"/>
          <a:stretch/>
        </p:blipFill>
        <p:spPr>
          <a:xfrm>
            <a:off x="6019920" y="4495680"/>
            <a:ext cx="3124080" cy="30290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1d6498ae91b8b50ce099a3aa01393ad4_134268"/>
          <p:cNvPicPr/>
          <p:nvPr/>
        </p:nvPicPr>
        <p:blipFill>
          <a:blip r:embed="rId4"/>
          <a:stretch/>
        </p:blipFill>
        <p:spPr>
          <a:xfrm>
            <a:off x="4724280" y="1981080"/>
            <a:ext cx="2159280" cy="25527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9" descr="0_5d609_f514f54d_XL"/>
          <p:cNvPicPr/>
          <p:nvPr/>
        </p:nvPicPr>
        <p:blipFill>
          <a:blip r:embed="rId5"/>
          <a:stretch/>
        </p:blipFill>
        <p:spPr>
          <a:xfrm>
            <a:off x="0" y="3962520"/>
            <a:ext cx="4762440" cy="261936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0" descr="f_8176320"/>
          <p:cNvPicPr/>
          <p:nvPr/>
        </p:nvPicPr>
        <p:blipFill>
          <a:blip r:embed="rId6"/>
          <a:stretch/>
        </p:blipFill>
        <p:spPr>
          <a:xfrm>
            <a:off x="2971800" y="228600"/>
            <a:ext cx="3048120" cy="1692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5" descr="Рисунок1"/>
          <p:cNvPicPr/>
          <p:nvPr/>
        </p:nvPicPr>
        <p:blipFill>
          <a:blip r:embed="rId7"/>
          <a:stretch/>
        </p:blipFill>
        <p:spPr>
          <a:xfrm rot="19768200">
            <a:off x="3191040" y="2328840"/>
            <a:ext cx="1346040" cy="10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рий</cp:lastModifiedBy>
  <dcterms:modified xsi:type="dcterms:W3CDTF">2013-02-13T08:03:1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