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13.jpeg" ContentType="image/jpeg"/>
  <Override PartName="/ppt/media/image32.gif" ContentType="image/gif"/>
  <Override PartName="/ppt/media/image19.jpeg" ContentType="image/jpeg"/>
  <Override PartName="/ppt/media/image11.png" ContentType="image/png"/>
  <Override PartName="/ppt/media/image31.gif" ContentType="image/gif"/>
  <Override PartName="/ppt/media/image6.png" ContentType="image/png"/>
  <Override PartName="/ppt/media/image34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561-B8E9-4969-9435-7EF064C0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C7A-8854-4450-8800-7CEDEB1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D0360-DAEB-460C-A55D-E6BFE6B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E73E0-7CF2-4A60-A93C-444E0A4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DD39A-E4EF-4ADA-8A2E-642FCBA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A7F69-31D0-44B0-A377-15CB445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17825-3A48-4376-A66D-27F670E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95DFF-842F-4E89-BF6C-3C3422F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8432A-00AC-4FDB-99D5-613B3DAB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55D3E-4998-4F68-B3DE-991D11DB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4C5A0-8DBB-4549-BC11-2B5045E7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799B5-938C-4085-A6C2-2213DF56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21B-07DC-46AE-B669-342F763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A3484-C0C5-4525-8376-BB923D22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A99A7-2A6E-45DB-808A-2A55EAE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8225F-51B3-4AC3-AC69-8DD5A1B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539FE-DA66-498B-BAA1-BB834ED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7BAB5-FDE3-4841-A190-2B6D6CD6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4234D-421F-42E1-9DFE-4B39C7B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DE023-6A51-429F-801A-5DA774A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B7B78-C45B-4907-88B2-A619DAD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5C757-32A2-4ABF-8EE9-C2F3325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7E4BB-D237-46A6-A59A-6DF7761A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EAD-3180-4B4D-A1FD-A306ED38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CD8BC-EA5D-4D35-9818-D4C7F028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C6B55-5EE6-4D7B-BA15-D633DC4F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745A6-0CE0-4F29-9666-E64AF2A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D2DD-EFF1-4331-9F8A-3C95C01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63C9-5B08-46C7-96D6-B2A8DA3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85235-2D1C-4476-B12E-2513240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49316-8F4C-439D-9A8A-B64040ED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1F14-1A49-4791-9820-40C742EE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CD106-9030-4CE8-A045-2C1F0A5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F3DD-46A3-473A-9167-B4D6C42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7F6-D1AD-4D91-820C-E1D9C533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B47C2-2316-4C20-8A20-D57E55E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0AEA4-1613-41CE-94A8-42C0928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3B821-24EA-4980-A767-332FBBFD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91942-9579-458A-B5E0-2A78E54F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48C31-46E1-44DC-ABDE-9C20D597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A7DBD-9300-4D05-BA95-AEA0D3BF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F08A7-4296-45CB-B5E5-7265CDAA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774AF-F3DB-44A6-A409-320A076B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30B95-6846-4EED-A5C0-BD3EC59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6F0B8-EE8D-4895-A193-6746857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DA6-B608-4CB8-A214-912EA3E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3C696-4440-43C3-B55D-F16E1DF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0459D-C6FF-4BBB-A369-8FC9343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7E45B-9034-4A19-8706-5A391CD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BDC84-4DEB-46B0-86F7-96B2851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DB23B-A9FA-4737-B8F3-66F1CA47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3BC41-AA1F-4864-A78E-9566046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26939-0AAC-492C-B1E7-7968B64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E6559-8D6B-4A06-A2AC-F9957B30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2F47E-31E2-48F9-AF26-19066F4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66F82-7201-4BB4-9F82-F25220F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B752-3849-4E2E-A840-401C99CA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F14CF-9C1C-48D0-A047-05C57490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9CDB1-3028-4A78-BB28-89A5356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3C384-053C-495D-B39C-5198D01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80319-87CE-45BE-A0BF-B332394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FF3C8-C4FE-4D42-AD9B-A2CBECC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11203-A6D6-4F28-9A48-8D53494C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B724C-1EFF-4E86-B4D6-204639E0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AA31-5DC1-41F5-B4A2-1198AB9F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1B35-BF51-4C87-B76D-BE66A9F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E5B6-66FC-4DD5-B062-D153FA27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06F2-5D90-4C49-A9BC-C544A67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27E-50FB-4D83-B453-D068D155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FE20-8183-45CB-9726-BAAFC44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EC1E-7CB7-46A9-9E01-D4B4A3F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FF1-6509-418A-8CF9-36E211B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00A-62EE-4C85-95EF-D5B075F8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266-53AB-4530-87F6-A7D75986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F895-F7F2-4350-A28F-0E858171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3BD5-BA50-4BCD-B9C9-1ED0A67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E445-B4FD-4DCD-9FF8-EF61E3A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ED63-D35F-4F56-8060-7B8ABAE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9735-65C3-4365-ACBA-A2C02505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A0C-3209-429A-BD7D-0DCB5BD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677D-1900-4FAE-A5B1-3F864EB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7317-4763-4056-9D45-E2EA29A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0046-6E2D-4A71-855C-DF50B4B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3E45-9C23-4EAD-B281-B3066B2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A83A-FF89-4D9E-A999-A4FF71FB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18D9-56FA-4BF9-8148-FA1B12C7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28CC-CE5B-4218-B07E-3D0E41A3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75C9-7430-4A1E-AEAB-93C90A89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A8E9-F1BC-4448-AC5F-875E6F0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638A-5194-43F4-B585-32136B88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42C-D24B-4324-BA40-78C7319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C329-0A2B-4DC5-AC8C-8C101EB3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6C33-830B-4418-ADA8-F57C4D4C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8C50-E498-455C-9521-1102D5EB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A7DE-140D-4D8A-8580-79ED876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3034-CF92-471B-984C-7E61C18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F2EB-BD47-483B-A8D0-B7C0DAA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D61C-C7E9-4C1F-935D-ACEB1A8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3B18-2C93-4FD4-9677-42D5B7E5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BCC4-BF8B-4DC4-9F0F-6A91D1C8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6704A-7EAC-4CD5-B9A6-8C9A252B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50B-D280-4F93-8866-2766D9F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AB67-496C-4680-8853-C4F86C36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71D6-01D5-49A4-9FEB-7981426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0CCDC-82D5-447B-BC7F-A677376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CDE8-2675-42BA-9F0D-AEC62A4E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720A-1984-4DAD-99EF-0FD6745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8DE0-85EF-45D0-91CD-6E1514C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5ACD-C313-4F73-94C9-7DF1228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BA98-619E-48BD-8610-7B02CC9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03D96-2600-4951-9CEE-7460FB12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A2F1-C65A-4A78-AA9B-8C9AB1BA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EC9-DAFF-4F68-8E3B-F73F28A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330B-98F6-4E84-93E8-C4950088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3310-9C03-405F-85BC-C8B7DA6A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9D45-09F5-43B5-8416-FCC74A6A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8B39-B891-4431-B7D3-7D9EAF4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9127-9ACC-44B7-88CB-6F7AB6C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E235-0BB5-45F4-BDB5-B78D68E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CAF1-0336-4006-BF6E-9F8F3D4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6C3C-EE6A-4FB4-B3D0-408C5BAB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5CF13-2553-4EE3-AFD3-A56C625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0EE5-8E3E-4D3E-A4CD-496DAC6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D0A-CC5F-4008-8CC1-7536DE5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5660-2B9A-483D-923C-7E3853E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5E17-5A6D-45CB-9E79-76BBA369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97F5-5AF7-45AC-95FD-760257AC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66844-4714-4B6B-9B2C-34D97BEC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A86F7-F767-4C36-B924-0A87871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02E40-C46A-4D51-84F7-314F1F7A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A3CC-8401-41D3-B1D4-820C9D6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7DDB-2CC2-45CE-9533-926A322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A0828-A486-4555-B2B5-E79159B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A486-CD83-4E10-BB87-BC64E2E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DA1-D20B-4B3A-8C82-473547E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E777-6F04-4E42-940D-5B3FF6C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AD94-0C89-4C14-BE65-67C05F7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A7B3E-E65E-4373-905C-F212ACD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1C75-E974-4403-8A83-E4956B19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D853-02A2-44D3-88D1-3D039A20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CF67-DBD3-4A69-B80C-75FE2D9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8197-1837-4F4B-BFF7-544D78A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BF07-375D-422F-BE2E-F6DE2C5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4F29-DC70-4E68-83BB-411E819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0EF3-E934-443D-943F-9854EFA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108-CDFC-4E2C-BCAF-A12C0F7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6AC0-7143-45AF-9041-10413524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48F9E-E7D1-4F5F-901B-D5648F9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809C-AA39-489F-8E18-440814AB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4B69-86AB-45F2-AB8D-1D14570E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2B7C-DEF7-4357-97D7-AE25C78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A4AF-8986-48CD-ABBF-2C4E8AF0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3C33-F268-4A2B-B9D0-1BD8FB61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71CF6-B29B-4FAC-B1ED-930D5FE8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6DCA3-2F2C-4C41-ABD7-B36C1A4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284EB-C465-43DF-9DF0-5BEEB5E1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C65D-1DF0-4D03-B1F5-68C1E261F5E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076-0518-45DF-B945-745F37668B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7A9-FB7A-4F81-BDC9-D925A246DC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2EB-36DB-4C40-8652-4CA2F259222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BCEB-4AD4-4A0E-9389-7821138189B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22F-E634-4209-9D67-606CD988B64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5A8-CB87-4B05-BD6C-84F206FC70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48D2-E008-457B-B2FC-55F4C090288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BDD-3BD2-4981-BBFA-C30A949F084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7F12-7B68-4025-AE29-3BF3CFA7806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C53C-370B-4FDE-AB77-7511138E8BD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8AC-22B9-422D-8C60-D740C94B681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CECB-3B86-46E0-96FD-DDDE10A7E2D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Роза\Pictures\1304914504_1304893335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2" descr=""/>
          <p:cNvPicPr/>
          <p:nvPr/>
        </p:nvPicPr>
        <p:blipFill>
          <a:blip r:embed="rId2"/>
          <a:stretch/>
        </p:blipFill>
        <p:spPr>
          <a:xfrm>
            <a:off x="281160" y="469800"/>
            <a:ext cx="8508960" cy="74304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3" descr=""/>
          <p:cNvPicPr/>
          <p:nvPr/>
        </p:nvPicPr>
        <p:blipFill>
          <a:blip r:embed="rId3"/>
          <a:stretch/>
        </p:blipFill>
        <p:spPr>
          <a:xfrm>
            <a:off x="1133640" y="1773360"/>
            <a:ext cx="6943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1000080" y="1285920"/>
            <a:ext cx="6572160" cy="1557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  <a:ea typeface="Aharoni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2" descr="C:\Users\Роза\Pictures\0109-300x270.png"/>
          <p:cNvPicPr/>
          <p:nvPr/>
        </p:nvPicPr>
        <p:blipFill>
          <a:blip r:embed="rId1"/>
          <a:stretch/>
        </p:blipFill>
        <p:spPr>
          <a:xfrm>
            <a:off x="2928960" y="3429000"/>
            <a:ext cx="29764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Рисунок 1" descr="8292_800.jpg"/>
          <p:cNvPicPr/>
          <p:nvPr/>
        </p:nvPicPr>
        <p:blipFill>
          <a:blip r:embed="rId1"/>
          <a:stretch/>
        </p:blipFill>
        <p:spPr>
          <a:xfrm>
            <a:off x="500040" y="428760"/>
            <a:ext cx="8199360" cy="56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928800" y="750960"/>
            <a:ext cx="3043080" cy="246384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2" descr="78394322_4428147_Lips_8.png"/>
          <p:cNvPicPr/>
          <p:nvPr/>
        </p:nvPicPr>
        <p:blipFill>
          <a:blip r:embed="rId2"/>
          <a:stretch/>
        </p:blipFill>
        <p:spPr>
          <a:xfrm>
            <a:off x="4929120" y="428760"/>
            <a:ext cx="3000600" cy="2500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im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71800" y="4071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струя"/>
          <p:cNvPicPr/>
          <p:nvPr/>
        </p:nvPicPr>
        <p:blipFill>
          <a:blip r:embed="rId5"/>
          <a:stretch/>
        </p:blipFill>
        <p:spPr>
          <a:xfrm>
            <a:off x="214200" y="4000680"/>
            <a:ext cx="1801800" cy="1823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рранргв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72160" y="3071880"/>
            <a:ext cx="2335320" cy="3230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аыаы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3143160"/>
            <a:ext cx="233532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Блок-схема: узел 1"/>
          <p:cNvSpPr/>
          <p:nvPr/>
        </p:nvSpPr>
        <p:spPr>
          <a:xfrm>
            <a:off x="5214960" y="1571760"/>
            <a:ext cx="3000240" cy="2928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Блок-схема: узел 2"/>
          <p:cNvSpPr/>
          <p:nvPr/>
        </p:nvSpPr>
        <p:spPr>
          <a:xfrm>
            <a:off x="1285920" y="1500120"/>
            <a:ext cx="3000240" cy="2928960"/>
          </a:xfrm>
          <a:prstGeom prst="flowChartConnector">
            <a:avLst/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Блок-схема: узел 3"/>
          <p:cNvSpPr/>
          <p:nvPr/>
        </p:nvSpPr>
        <p:spPr>
          <a:xfrm>
            <a:off x="1214280" y="1500120"/>
            <a:ext cx="3143520" cy="2928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artoon-Clipart-Free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2357280"/>
            <a:ext cx="1285920" cy="1236960"/>
          </a:xfrm>
          <a:prstGeom prst="rect">
            <a:avLst/>
          </a:prstGeom>
          <a:ln w="0">
            <a:noFill/>
          </a:ln>
        </p:spPr>
      </p:pic>
      <p:sp>
        <p:nvSpPr>
          <p:cNvPr id="670" name="Блок-схема: узел 5"/>
          <p:cNvSpPr/>
          <p:nvPr/>
        </p:nvSpPr>
        <p:spPr>
          <a:xfrm>
            <a:off x="1214280" y="1500120"/>
            <a:ext cx="3143520" cy="2928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0463 L -0.23438 0.05718 E">
                                      <p:cBhvr>
                                        <p:cTn id="60" dur="3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C:\Users\Роза\Pictures\Рисунок\img229.jpg"/>
          <p:cNvPicPr/>
          <p:nvPr/>
        </p:nvPicPr>
        <p:blipFill>
          <a:blip r:embed="rId1"/>
          <a:stretch/>
        </p:blipFill>
        <p:spPr>
          <a:xfrm>
            <a:off x="1071720" y="785880"/>
            <a:ext cx="1269720" cy="43178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C:\Users\Роза\Pictures\Рисунок\img227.jpg"/>
          <p:cNvPicPr/>
          <p:nvPr/>
        </p:nvPicPr>
        <p:blipFill>
          <a:blip r:embed="rId2"/>
          <a:stretch/>
        </p:blipFill>
        <p:spPr>
          <a:xfrm>
            <a:off x="5643720" y="3786120"/>
            <a:ext cx="3500280" cy="2282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Users\Роза\Pictures\Рисунок\img228.jpg"/>
          <p:cNvPicPr/>
          <p:nvPr/>
        </p:nvPicPr>
        <p:blipFill>
          <a:blip r:embed="rId3"/>
          <a:stretch/>
        </p:blipFill>
        <p:spPr>
          <a:xfrm>
            <a:off x="3000240" y="1000080"/>
            <a:ext cx="3011760" cy="3000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C:\Users\Роза\Pictures\Рисунок\img222.jpg"/>
          <p:cNvPicPr/>
          <p:nvPr/>
        </p:nvPicPr>
        <p:blipFill>
          <a:blip r:embed="rId4"/>
          <a:stretch/>
        </p:blipFill>
        <p:spPr>
          <a:xfrm>
            <a:off x="0" y="4830840"/>
            <a:ext cx="1357200" cy="1312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C:\Users\Роза\Pictures\Рисунок\img224.jpg"/>
          <p:cNvPicPr/>
          <p:nvPr/>
        </p:nvPicPr>
        <p:blipFill>
          <a:blip r:embed="rId5"/>
          <a:stretch/>
        </p:blipFill>
        <p:spPr>
          <a:xfrm>
            <a:off x="1500120" y="5045040"/>
            <a:ext cx="1303560" cy="1812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8" descr="C:\Users\Роза\Pictures\Рисунок\img221.jpg"/>
          <p:cNvPicPr/>
          <p:nvPr/>
        </p:nvPicPr>
        <p:blipFill>
          <a:blip r:embed="rId6"/>
          <a:stretch/>
        </p:blipFill>
        <p:spPr>
          <a:xfrm>
            <a:off x="7215120" y="1428840"/>
            <a:ext cx="1081080" cy="1886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C:\Users\Роза\Pictures\Рисунок\img223.jpg"/>
          <p:cNvPicPr/>
          <p:nvPr/>
        </p:nvPicPr>
        <p:blipFill>
          <a:blip r:embed="rId7"/>
          <a:stretch/>
        </p:blipFill>
        <p:spPr>
          <a:xfrm>
            <a:off x="4857840" y="4857840"/>
            <a:ext cx="1004760" cy="1714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0" descr="C:\Users\Роза\Pictures\Рисунок\img220.jpg"/>
          <p:cNvPicPr/>
          <p:nvPr/>
        </p:nvPicPr>
        <p:blipFill>
          <a:blip r:embed="rId8"/>
          <a:stretch/>
        </p:blipFill>
        <p:spPr>
          <a:xfrm>
            <a:off x="5929200" y="5429160"/>
            <a:ext cx="1086120" cy="1000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1" descr="C:\Users\Роза\Pictures\Рисунок\img219.jpg"/>
          <p:cNvPicPr/>
          <p:nvPr/>
        </p:nvPicPr>
        <p:blipFill>
          <a:blip r:embed="rId9"/>
          <a:stretch/>
        </p:blipFill>
        <p:spPr>
          <a:xfrm>
            <a:off x="7929720" y="214200"/>
            <a:ext cx="1056960" cy="16430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" descr="C:\Users\Роза\Pictures\Рисунок\img225.jpg"/>
          <p:cNvPicPr/>
          <p:nvPr/>
        </p:nvPicPr>
        <p:blipFill>
          <a:blip r:embed="rId10"/>
          <a:stretch/>
        </p:blipFill>
        <p:spPr>
          <a:xfrm>
            <a:off x="3357720" y="4417920"/>
            <a:ext cx="1571400" cy="2440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3" descr="C:\Users\Роза\Pictures\Рисунок\img234.jpg"/>
          <p:cNvPicPr/>
          <p:nvPr/>
        </p:nvPicPr>
        <p:blipFill>
          <a:blip r:embed="rId11"/>
          <a:stretch/>
        </p:blipFill>
        <p:spPr>
          <a:xfrm>
            <a:off x="7758000" y="5214960"/>
            <a:ext cx="1386000" cy="16430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4" descr="C:\Users\Роза\Pictures\Рисунок\img226.jpg"/>
          <p:cNvPicPr/>
          <p:nvPr/>
        </p:nvPicPr>
        <p:blipFill>
          <a:blip r:embed="rId12"/>
          <a:stretch/>
        </p:blipFill>
        <p:spPr>
          <a:xfrm>
            <a:off x="6143760" y="0"/>
            <a:ext cx="11221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083 L 0.42656 -0.69907 E">
                                      <p:cBhvr>
                                        <p:cTn id="66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7407 L 0.46164 -0.32592 E">
                                      <p:cBhvr>
                                        <p:cTn id="70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2106 L -0.36268 -0.52153 E">
                                      <p:cBhvr>
                                        <p:cTn id="74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39 -0.02129 L -0.36962 -0.56435 E">
                                      <p:cBhvr>
                                        <p:cTn id="78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32 -0.07037 L -0.20781 -0.66898 E">
                                      <p:cBhvr>
                                        <p:cTn id="82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5276 -2.59259E-006 E">
                                      <p:cBhvr>
                                        <p:cTn id="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254 L -0.13368 0.48541 E">
                                      <p:cBhvr>
                                        <p:cTn id="90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23611 -0.2206 E">
                                      <p:cBhvr>
                                        <p:cTn id="94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185 L 0.01163 -0.30648 E">
                                      <p:cBhvr>
                                        <p:cTn id="98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Роза\Pictures\Рисунок\img233.jpg"/>
          <p:cNvPicPr/>
          <p:nvPr/>
        </p:nvPicPr>
        <p:blipFill>
          <a:blip r:embed="rId1"/>
          <a:stretch/>
        </p:blipFill>
        <p:spPr>
          <a:xfrm>
            <a:off x="2143080" y="214200"/>
            <a:ext cx="4857840" cy="3286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C:\Users\Роза\Pictures\Рисунок\img231.jpg"/>
          <p:cNvPicPr/>
          <p:nvPr/>
        </p:nvPicPr>
        <p:blipFill>
          <a:blip r:embed="rId2"/>
          <a:stretch/>
        </p:blipFill>
        <p:spPr>
          <a:xfrm>
            <a:off x="285840" y="3357720"/>
            <a:ext cx="4865760" cy="32144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C:\Users\Роза\Pictures\Рисунок\img232.jpg"/>
          <p:cNvPicPr/>
          <p:nvPr/>
        </p:nvPicPr>
        <p:blipFill>
          <a:blip r:embed="rId3"/>
          <a:stretch/>
        </p:blipFill>
        <p:spPr>
          <a:xfrm>
            <a:off x="5500800" y="2786040"/>
            <a:ext cx="30718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C:\Users\Роза\Pictures\Рисунок\img216.jpg"/>
          <p:cNvPicPr/>
          <p:nvPr/>
        </p:nvPicPr>
        <p:blipFill>
          <a:blip r:embed="rId1"/>
          <a:stretch/>
        </p:blipFill>
        <p:spPr>
          <a:xfrm>
            <a:off x="5643720" y="285840"/>
            <a:ext cx="3286080" cy="22143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C:\Users\Роза\Pictures\Рисунок\img230.jpg"/>
          <p:cNvPicPr/>
          <p:nvPr/>
        </p:nvPicPr>
        <p:blipFill>
          <a:blip r:embed="rId2"/>
          <a:stretch/>
        </p:blipFill>
        <p:spPr>
          <a:xfrm>
            <a:off x="142920" y="214200"/>
            <a:ext cx="1646280" cy="2768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C:\Users\Роза\Pictures\Рисунок\img230.jpg"/>
          <p:cNvPicPr/>
          <p:nvPr/>
        </p:nvPicPr>
        <p:blipFill>
          <a:blip r:embed="rId3"/>
          <a:stretch/>
        </p:blipFill>
        <p:spPr>
          <a:xfrm>
            <a:off x="1857240" y="214200"/>
            <a:ext cx="1646280" cy="2768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C:\Users\Роза\Pictures\Рисунок\img235.jpg"/>
          <p:cNvPicPr/>
          <p:nvPr/>
        </p:nvPicPr>
        <p:blipFill>
          <a:blip r:embed="rId4"/>
          <a:stretch/>
        </p:blipFill>
        <p:spPr>
          <a:xfrm>
            <a:off x="3500280" y="2357280"/>
            <a:ext cx="2641680" cy="3173400"/>
          </a:xfrm>
          <a:prstGeom prst="rect">
            <a:avLst/>
          </a:prstGeom>
          <a:ln w="0">
            <a:noFill/>
          </a:ln>
        </p:spPr>
      </p:pic>
      <p:sp>
        <p:nvSpPr>
          <p:cNvPr id="690" name="Блок-схема: узел 5"/>
          <p:cNvSpPr/>
          <p:nvPr/>
        </p:nvSpPr>
        <p:spPr>
          <a:xfrm>
            <a:off x="428760" y="3143160"/>
            <a:ext cx="71424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Блок-схема: узел 7"/>
          <p:cNvSpPr/>
          <p:nvPr/>
        </p:nvSpPr>
        <p:spPr>
          <a:xfrm>
            <a:off x="1214280" y="314316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Блок-схема: узел 8"/>
          <p:cNvSpPr/>
          <p:nvPr/>
        </p:nvSpPr>
        <p:spPr>
          <a:xfrm>
            <a:off x="2000160" y="3143160"/>
            <a:ext cx="71460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Блок-схема: узел 9"/>
          <p:cNvSpPr/>
          <p:nvPr/>
        </p:nvSpPr>
        <p:spPr>
          <a:xfrm>
            <a:off x="3429000" y="5572080"/>
            <a:ext cx="71424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Блок-схема: узел 10"/>
          <p:cNvSpPr/>
          <p:nvPr/>
        </p:nvSpPr>
        <p:spPr>
          <a:xfrm>
            <a:off x="4357800" y="5572080"/>
            <a:ext cx="71424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11"/>
          <p:cNvSpPr/>
          <p:nvPr/>
        </p:nvSpPr>
        <p:spPr>
          <a:xfrm>
            <a:off x="5214960" y="5572080"/>
            <a:ext cx="71424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12"/>
          <p:cNvSpPr/>
          <p:nvPr/>
        </p:nvSpPr>
        <p:spPr>
          <a:xfrm>
            <a:off x="6429240" y="264312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13"/>
          <p:cNvSpPr/>
          <p:nvPr/>
        </p:nvSpPr>
        <p:spPr>
          <a:xfrm>
            <a:off x="8072280" y="264312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14"/>
          <p:cNvSpPr/>
          <p:nvPr/>
        </p:nvSpPr>
        <p:spPr>
          <a:xfrm>
            <a:off x="7215120" y="2643120"/>
            <a:ext cx="71460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Рисунок 10" descr="5.gif"/>
          <p:cNvPicPr/>
          <p:nvPr/>
        </p:nvPicPr>
        <p:blipFill>
          <a:blip r:embed="rId1"/>
          <a:stretch/>
        </p:blipFill>
        <p:spPr>
          <a:xfrm>
            <a:off x="642960" y="3857760"/>
            <a:ext cx="2984400" cy="228600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2" descr="002.GIF"/>
          <p:cNvPicPr/>
          <p:nvPr/>
        </p:nvPicPr>
        <p:blipFill>
          <a:blip r:embed="rId2"/>
          <a:stretch/>
        </p:blipFill>
        <p:spPr>
          <a:xfrm>
            <a:off x="571680" y="642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3" descr="ludia-2445.gif"/>
          <p:cNvPicPr/>
          <p:nvPr/>
        </p:nvPicPr>
        <p:blipFill>
          <a:blip r:embed="rId3"/>
          <a:stretch/>
        </p:blipFill>
        <p:spPr>
          <a:xfrm>
            <a:off x="6000840" y="3643200"/>
            <a:ext cx="2000160" cy="2473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C:\Users\Роза\Pictures\Рисунок\img230.jpg"/>
          <p:cNvPicPr/>
          <p:nvPr/>
        </p:nvPicPr>
        <p:blipFill>
          <a:blip r:embed="rId4"/>
          <a:stretch/>
        </p:blipFill>
        <p:spPr>
          <a:xfrm>
            <a:off x="5929200" y="357120"/>
            <a:ext cx="2071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1"/>
          <p:cNvSpPr/>
          <p:nvPr/>
        </p:nvSpPr>
        <p:spPr>
          <a:xfrm>
            <a:off x="2643120" y="1000080"/>
            <a:ext cx="4286160" cy="4357800"/>
          </a:xfrm>
          <a:prstGeom prst="cube">
            <a:avLst>
              <a:gd name="adj" fmla="val 189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6588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2" descr=""/>
          <p:cNvPicPr/>
          <p:nvPr/>
        </p:nvPicPr>
        <p:blipFill>
          <a:blip r:embed="rId1"/>
          <a:stretch/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1:40:43Z</dcterms:created>
  <dc:creator>Роза</dc:creator>
  <dc:description/>
  <dc:language>en-US</dc:language>
  <cp:lastModifiedBy>Роза</cp:lastModifiedBy>
  <dcterms:modified xsi:type="dcterms:W3CDTF">2012-12-04T15:47:30Z</dcterms:modified>
  <cp:revision>38</cp:revision>
  <dc:subject/>
  <dc:title>Слайд 1</dc:title>
</cp:coreProperties>
</file>