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28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14.jpeg" ContentType="image/jpeg"/>
  <Override PartName="/ppt/media/image8.png" ContentType="image/png"/>
  <Override PartName="/ppt/media/image30.gif" ContentType="image/gif"/>
  <Override PartName="/ppt/media/image13.jpeg" ContentType="image/jpeg"/>
  <Override PartName="/ppt/media/image32.gif" ContentType="image/gif"/>
  <Override PartName="/ppt/media/image19.jpeg" ContentType="image/jpeg"/>
  <Override PartName="/ppt/media/image11.png" ContentType="image/png"/>
  <Override PartName="/ppt/media/image31.gif" ContentType="image/gif"/>
  <Override PartName="/ppt/media/image6.png" ContentType="image/png"/>
  <Override PartName="/ppt/media/image34.png" ContentType="image/png"/>
  <Override PartName="/ppt/media/image12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C670-895B-4711-BE5F-C94E0ED6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5DD0-A8DD-43C8-AD6D-92850731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3B695F-DA54-4968-B95C-8B26B7F1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676CFD-5BC0-4A6D-B55B-8309BF84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74F51D-F7CA-427E-A185-A47BA1FC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3FA47D-02CF-4C65-9C33-E2113B8A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246C55-7329-4948-AD0B-7BAB234A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36F987-A72E-4A68-88AB-48FEB720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D26447-B476-4AB8-84A3-51EA7158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F3D8B1-7736-43C3-A04C-37081342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BD6C8A-85B4-4642-8083-8CE6ADF1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44DC5B-BCBB-4BBD-9647-88F836B0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C3FC-0F60-4346-B547-78DDD822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409FE4-B6E6-4A8D-B10B-F983A6A8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05F03A-6C2A-42F5-8B08-3880CA18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8F6139-65B5-4923-A182-FAC4C3EC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98044B-0330-4A80-B82B-C455189D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F51827-144E-49EF-A7B0-7DD74635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903A91-A36C-43DE-9009-5E4DBF15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E3752C-1366-4312-B6D7-34CB2C72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F95E29-4BB3-428A-9EED-88A2B6E1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FF0310-8856-48EA-B893-F88E3BC3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0137D4-5106-40A0-A0DB-9E4A3FC2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CD97-B684-4DE4-A042-9B395760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4E228-7CEB-4BFA-A0F5-38A3FA3C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CE038-63D9-4B4F-B294-77EA7791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D3756-4635-47D7-B6D7-2ADBE8DF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F0961-BE05-45A4-B0AC-D066D564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F1542-95A8-4C8B-BC3A-05A7DC4C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1F64D-82C3-4C63-8928-6DE7D9B9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ABC18-651B-4200-9A3F-7CA081E2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C76CE-FED2-4198-BAF0-D3B6232F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4D680-CF08-40DD-974D-AC80DD9C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1BDC7-8ABE-4F19-A6F6-DDA73336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C3E6-7CE0-4BBF-8DF6-B7FE0C76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2BD6C-0D5F-49BB-825E-5F23F353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64904-8CC5-4EC3-9E3E-767743D6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19B74-8ACE-4FC9-BFA9-3217189D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004C42-9DD3-469D-B6EB-6DB8CEEE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7A29A7-5ADE-440F-8371-55BBC2E8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A447C9-D560-4947-A3E0-77C8E349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207CF3-E5F9-4640-87A6-70E6157B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976B56-1F24-44B4-9465-3504255D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F4201C-BCE7-4032-8E56-90E4F508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1FE565-041E-4D0C-B1B1-C9480162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C394-6557-4CE3-9E0E-A828C876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22A9C7-36E7-4995-B254-0937E4EF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FF8944-4FDF-4250-BE7D-2114CCC6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A7EFE9-287F-4012-94C8-08173679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1D337B-0331-44CB-B14F-5DD03045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45665B-C489-4CE6-8B24-7D4C3709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6E1DE8-639C-4F73-884A-07090092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29C446-218A-4ECD-8994-1A372403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662C7D-C457-4D0A-A58B-23E50CC2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229973-09BC-488E-9710-02818E88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1E7DDF-666D-4CF6-A335-A110E9DA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56F1-0F16-4F34-99E7-E07F5526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8BC897-2807-4E7D-810E-2646B349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B6CBDF-D015-4DF1-9036-59321295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FB2D2B-4015-4711-846C-48CB4D14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DBFC1-6B32-46EE-B853-CA2BE1D7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C6ABAB-64E1-4A43-A85A-A664935A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CE8F6F-EB4A-41B9-9D7A-905B4CED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0A0A1A-E856-4B2D-8C34-C196DADE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ADF0-F9D9-4559-811D-25606203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A1F1-A920-4891-ABC5-F7D8B59F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5A3E-BD4E-4FA0-9F7C-A010E8E5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602D-6055-42BA-8086-0F27C5DC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9F09-CCB0-4DEA-BECB-93E9E7A5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34CC-56B7-4380-8710-67716252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E7CB-DB01-4635-BBA0-6A8185C7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85E4-46E9-457D-BF31-DE1835CE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6551-A737-4C54-BF07-D803BCFA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7B12-5501-45C8-87DC-0C1571FE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B958A-8F64-43F2-9666-F93B4762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074DC-9133-4A58-B1F3-C7BEC99D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DF0AA-9687-4BC8-B167-C60439E0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C07A5-88E7-4BA0-A278-3A1BA2EE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F4F23-B223-4911-A279-2AD78852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BDA6-57D1-42AE-876C-43A8CCD8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80BF0-118E-4976-B97D-E0034774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7B1F9-BFCE-45FF-9A13-608910BF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BCAD3-BA39-4926-A83D-2C541029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CA6A9-3A81-44E4-AE9D-F78D8682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A268B-89E8-4E38-97B3-57124FFE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B8084-D3E4-40ED-8A8E-AC37EB65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D7684-562D-4794-BE16-2BCCA5B6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9B838-4B6F-41D6-BBBD-D8C50150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B9B64-CA85-47E6-B7D0-B8D050ED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A54AB-1F80-4931-BED1-0B09A33D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8988-1AAE-4EBB-B2CE-49C6EFB2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40B35-8B4C-48E1-B419-EECEA7B2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A0E48-5B7A-4FE7-944D-3117CF69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14417-8190-4D42-B5AE-F771B3A3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D6816-D9CB-41B2-96FD-6291AF18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740D8-D8ED-487D-803D-9D72A0DF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5B5C5-409C-47D4-B29F-9B828722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B8175-B5B9-453E-BDB5-C104B91C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7611D-52C5-4671-9387-1286B6FD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1ED10-3CE0-4D15-B626-FC42DDF9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112A5-39E9-4536-9388-9C678C09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1CF6-7EA4-4F09-9C6B-3902946C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F8B0D-47CA-4763-93AB-CB482F21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7EF9A-DFBD-46B6-A248-141E7D3A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0D1A5-CCCB-4FA4-9C5B-68F00EC0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3A700-8F42-4CD0-9C7A-48D44DE4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2A186-5377-4866-9B99-CE4A5430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0194F-976C-4AE4-85DE-2AAA6D25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4C5F9-5F64-47B7-AF41-4237784B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B25EA-2201-4A01-B6C1-3B25B910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CBD91-B6D3-40BF-A9F7-DF7CA8BC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97170-74F4-4E8D-A19E-266C7BD7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35CD-01B8-464B-8988-5610D15E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88AAA-5126-4D3D-92DD-5B86CD90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AE8D9-E529-4B3C-B7B6-5B9C631A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F4118-FD05-4B3D-B2BA-CC4E62E2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4A97A-542C-404A-B3B9-AB23A9B1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770F0-06AD-4664-A279-983E8F59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E042E-8666-46ED-A1C7-4B4335BF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DDEB9-32EA-433B-8467-49482466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25371-821D-40CE-82D1-9573E87F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7E222-64F0-48C5-9C85-C94125BF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8D6DD-6379-408D-9C87-B6408306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1A3A-538B-4E72-9172-5EEC5A32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0EE53-1763-431D-9121-DB1202AF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0C686-86C7-4AB8-9D93-90929339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3E971-CB0A-46A8-B3F8-64FC157B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1C286-09E1-48EC-8944-94008E94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6BD18-6EC5-48DB-A57C-DD5C2E30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5D4D5-CD05-45D8-A818-812E4C97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434A3-E24C-4F82-857A-5F5B85B1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070FC-34DB-4C6E-B995-20E968D6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47E07-0787-4958-8E47-52AE372C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B5739-D3FE-47DD-BFF7-0ABB7CB6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68E1-184F-48F0-B20E-EE787CDF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1D365-A440-42CD-8B2F-B4047B2E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39B45-493A-43D3-8959-2C388308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06DA3-5A91-4F06-B401-5C6E4396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00018-B51D-45DA-ADCF-5EA7DF44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69660-1C0D-4524-B792-575D7A2B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73332-E114-4D8C-B4E5-9F181020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A4B25-1620-4019-BD3A-B4B09E5F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524CA-5E69-461F-B8AB-3064AFC2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DF9ED-81C3-4407-820B-2731A32E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2D3F6-2FBD-480F-85C0-79FDE80C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B318-E5DD-43AD-AF22-F90C7172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A36AA-9FE6-40B7-A988-73148956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2A753-F906-43C2-8A5B-DCC98356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D67E3-23CE-43EA-951A-5C1544E4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A377E-7B87-43E1-AB50-CCAF2DE0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0511C-9C69-471B-A462-8CD7F23C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07946-99A5-4AE7-BB95-92F1CE63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18209-E0A0-4A8F-8249-7653A82E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8D7367-C669-400A-B10F-747E950F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48756C-03A1-4899-9937-3851B500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12C6DD-4931-4CDC-80F4-072BDC2A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B287-A176-4FE1-90E3-03A856582D9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DD7B-85A2-498D-B77A-7F9BB3AD537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7703-05B0-4BA7-B71D-7FB1A553224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E682-53FC-4C96-8441-37AC4C6E6BC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68E9-4D56-46D5-93CD-2760B4108AD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BCCF-85BB-4C52-AB1C-A73DE171BB9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2EBF-B9F0-46E4-8F8E-11D0C371E63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D073-CE1D-44CB-A53B-8F5AECCD2D5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2481-5D60-4E82-AD4A-B1B682AB1A7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75D1-C69F-4106-902D-8FF4F4887E7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DCFA-01B2-4D28-82F9-D6CDE38FC00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1BBC-54FF-4CF6-999C-41C3AB351482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F8C2-59D4-46F9-B8D7-781A75775A6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image" Target="../media/image9.png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C:\Users\Роза\Pictures\1304914504_1304893335_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7" name="TextBox 2" descr=""/>
          <p:cNvPicPr/>
          <p:nvPr/>
        </p:nvPicPr>
        <p:blipFill>
          <a:blip r:embed="rId2"/>
          <a:stretch/>
        </p:blipFill>
        <p:spPr>
          <a:xfrm>
            <a:off x="281160" y="469800"/>
            <a:ext cx="8508960" cy="743040"/>
          </a:xfrm>
          <a:prstGeom prst="rect">
            <a:avLst/>
          </a:prstGeom>
          <a:ln w="0">
            <a:noFill/>
          </a:ln>
        </p:spPr>
      </p:pic>
      <p:pic>
        <p:nvPicPr>
          <p:cNvPr id="658" name="TextBox 3" descr=""/>
          <p:cNvPicPr/>
          <p:nvPr/>
        </p:nvPicPr>
        <p:blipFill>
          <a:blip r:embed="rId3"/>
          <a:stretch/>
        </p:blipFill>
        <p:spPr>
          <a:xfrm>
            <a:off x="1133640" y="1773360"/>
            <a:ext cx="69436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Box 1"/>
          <p:cNvSpPr/>
          <p:nvPr/>
        </p:nvSpPr>
        <p:spPr>
          <a:xfrm>
            <a:off x="1000080" y="1285920"/>
            <a:ext cx="6572160" cy="15570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  <a:ea typeface="Aharoni"/>
              </a:rPr>
              <a:t>Молодцы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2" descr="C:\Users\Роза\Pictures\0109-300x270.png"/>
          <p:cNvPicPr/>
          <p:nvPr/>
        </p:nvPicPr>
        <p:blipFill>
          <a:blip r:embed="rId1"/>
          <a:stretch/>
        </p:blipFill>
        <p:spPr>
          <a:xfrm>
            <a:off x="2928960" y="3429000"/>
            <a:ext cx="297648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Рисунок 1" descr="8292_800.jpg"/>
          <p:cNvPicPr/>
          <p:nvPr/>
        </p:nvPicPr>
        <p:blipFill>
          <a:blip r:embed="rId1"/>
          <a:stretch/>
        </p:blipFill>
        <p:spPr>
          <a:xfrm>
            <a:off x="500040" y="428760"/>
            <a:ext cx="8199360" cy="565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2" descr=""/>
          <p:cNvPicPr/>
          <p:nvPr/>
        </p:nvPicPr>
        <p:blipFill>
          <a:blip r:embed="rId1"/>
          <a:stretch/>
        </p:blipFill>
        <p:spPr>
          <a:xfrm>
            <a:off x="928800" y="750960"/>
            <a:ext cx="3043080" cy="2463840"/>
          </a:xfrm>
          <a:prstGeom prst="rect">
            <a:avLst/>
          </a:prstGeom>
          <a:ln w="0">
            <a:noFill/>
          </a:ln>
        </p:spPr>
      </p:pic>
      <p:pic>
        <p:nvPicPr>
          <p:cNvPr id="661" name="Рисунок 2" descr="78394322_4428147_Lips_8.png"/>
          <p:cNvPicPr/>
          <p:nvPr/>
        </p:nvPicPr>
        <p:blipFill>
          <a:blip r:embed="rId2"/>
          <a:stretch/>
        </p:blipFill>
        <p:spPr>
          <a:xfrm>
            <a:off x="4929120" y="428760"/>
            <a:ext cx="3000600" cy="25002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imag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71800" y="40719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6" descr="струя"/>
          <p:cNvPicPr/>
          <p:nvPr/>
        </p:nvPicPr>
        <p:blipFill>
          <a:blip r:embed="rId5"/>
          <a:stretch/>
        </p:blipFill>
        <p:spPr>
          <a:xfrm>
            <a:off x="214200" y="4000680"/>
            <a:ext cx="1801800" cy="18237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5" descr="рранргв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72160" y="3071880"/>
            <a:ext cx="2335320" cy="32306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4" descr="аыаы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86160" y="3143160"/>
            <a:ext cx="2335320" cy="323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10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Блок-схема: узел 1"/>
          <p:cNvSpPr/>
          <p:nvPr/>
        </p:nvSpPr>
        <p:spPr>
          <a:xfrm>
            <a:off x="5214960" y="1571760"/>
            <a:ext cx="3000240" cy="2928960"/>
          </a:xfrm>
          <a:prstGeom prst="flowChartConnector">
            <a:avLst/>
          </a:prstGeom>
          <a:solidFill>
            <a:srgbClr val="0070c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Блок-схема: узел 2"/>
          <p:cNvSpPr/>
          <p:nvPr/>
        </p:nvSpPr>
        <p:spPr>
          <a:xfrm>
            <a:off x="1285920" y="1500120"/>
            <a:ext cx="3000240" cy="2928960"/>
          </a:xfrm>
          <a:prstGeom prst="flowChartConnector">
            <a:avLst/>
          </a:prstGeom>
          <a:solidFill>
            <a:srgbClr val="00b05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Блок-схема: узел 3"/>
          <p:cNvSpPr/>
          <p:nvPr/>
        </p:nvSpPr>
        <p:spPr>
          <a:xfrm>
            <a:off x="1214280" y="1500120"/>
            <a:ext cx="3143520" cy="2928960"/>
          </a:xfrm>
          <a:prstGeom prst="flowChartConnector">
            <a:avLst/>
          </a:prstGeom>
          <a:solidFill>
            <a:srgbClr val="0070c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5" descr="Cartoon-Clipart-Free-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3080" y="2357280"/>
            <a:ext cx="1285920" cy="1236960"/>
          </a:xfrm>
          <a:prstGeom prst="rect">
            <a:avLst/>
          </a:prstGeom>
          <a:ln w="0">
            <a:noFill/>
          </a:ln>
        </p:spPr>
      </p:pic>
      <p:sp>
        <p:nvSpPr>
          <p:cNvPr id="670" name="Блок-схема: узел 5"/>
          <p:cNvSpPr/>
          <p:nvPr/>
        </p:nvSpPr>
        <p:spPr>
          <a:xfrm>
            <a:off x="1214280" y="1500120"/>
            <a:ext cx="3143520" cy="2928960"/>
          </a:xfrm>
          <a:prstGeom prst="flowChartConnector">
            <a:avLst/>
          </a:prstGeom>
          <a:solidFill>
            <a:srgbClr val="ff00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68 0.00463 L -0.23438 0.05718 E">
                                      <p:cBhvr>
                                        <p:cTn id="60" dur="3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C:\Users\Роза\Pictures\Рисунок\img229.jpg"/>
          <p:cNvPicPr/>
          <p:nvPr/>
        </p:nvPicPr>
        <p:blipFill>
          <a:blip r:embed="rId1"/>
          <a:stretch/>
        </p:blipFill>
        <p:spPr>
          <a:xfrm>
            <a:off x="1071720" y="785880"/>
            <a:ext cx="1269720" cy="431784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" descr="C:\Users\Роза\Pictures\Рисунок\img227.jpg"/>
          <p:cNvPicPr/>
          <p:nvPr/>
        </p:nvPicPr>
        <p:blipFill>
          <a:blip r:embed="rId2"/>
          <a:stretch/>
        </p:blipFill>
        <p:spPr>
          <a:xfrm>
            <a:off x="5643720" y="3786120"/>
            <a:ext cx="3500280" cy="22827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C:\Users\Роза\Pictures\Рисунок\img228.jpg"/>
          <p:cNvPicPr/>
          <p:nvPr/>
        </p:nvPicPr>
        <p:blipFill>
          <a:blip r:embed="rId3"/>
          <a:stretch/>
        </p:blipFill>
        <p:spPr>
          <a:xfrm>
            <a:off x="3000240" y="1000080"/>
            <a:ext cx="3011760" cy="30006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6" descr="C:\Users\Роза\Pictures\Рисунок\img222.jpg"/>
          <p:cNvPicPr/>
          <p:nvPr/>
        </p:nvPicPr>
        <p:blipFill>
          <a:blip r:embed="rId4"/>
          <a:stretch/>
        </p:blipFill>
        <p:spPr>
          <a:xfrm>
            <a:off x="0" y="4830840"/>
            <a:ext cx="1357200" cy="131292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7" descr="C:\Users\Роза\Pictures\Рисунок\img224.jpg"/>
          <p:cNvPicPr/>
          <p:nvPr/>
        </p:nvPicPr>
        <p:blipFill>
          <a:blip r:embed="rId5"/>
          <a:stretch/>
        </p:blipFill>
        <p:spPr>
          <a:xfrm>
            <a:off x="1500120" y="5045040"/>
            <a:ext cx="1303560" cy="181296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8" descr="C:\Users\Роза\Pictures\Рисунок\img221.jpg"/>
          <p:cNvPicPr/>
          <p:nvPr/>
        </p:nvPicPr>
        <p:blipFill>
          <a:blip r:embed="rId6"/>
          <a:stretch/>
        </p:blipFill>
        <p:spPr>
          <a:xfrm>
            <a:off x="7215120" y="1428840"/>
            <a:ext cx="1081080" cy="18860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9" descr="C:\Users\Роза\Pictures\Рисунок\img223.jpg"/>
          <p:cNvPicPr/>
          <p:nvPr/>
        </p:nvPicPr>
        <p:blipFill>
          <a:blip r:embed="rId7"/>
          <a:stretch/>
        </p:blipFill>
        <p:spPr>
          <a:xfrm>
            <a:off x="4857840" y="4857840"/>
            <a:ext cx="1004760" cy="17143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10" descr="C:\Users\Роза\Pictures\Рисунок\img220.jpg"/>
          <p:cNvPicPr/>
          <p:nvPr/>
        </p:nvPicPr>
        <p:blipFill>
          <a:blip r:embed="rId8"/>
          <a:stretch/>
        </p:blipFill>
        <p:spPr>
          <a:xfrm>
            <a:off x="5929200" y="5429160"/>
            <a:ext cx="1086120" cy="10000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1" descr="C:\Users\Роза\Pictures\Рисунок\img219.jpg"/>
          <p:cNvPicPr/>
          <p:nvPr/>
        </p:nvPicPr>
        <p:blipFill>
          <a:blip r:embed="rId9"/>
          <a:stretch/>
        </p:blipFill>
        <p:spPr>
          <a:xfrm>
            <a:off x="7929720" y="214200"/>
            <a:ext cx="1056960" cy="16430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2" descr="C:\Users\Роза\Pictures\Рисунок\img225.jpg"/>
          <p:cNvPicPr/>
          <p:nvPr/>
        </p:nvPicPr>
        <p:blipFill>
          <a:blip r:embed="rId10"/>
          <a:stretch/>
        </p:blipFill>
        <p:spPr>
          <a:xfrm>
            <a:off x="3357720" y="4417920"/>
            <a:ext cx="1571400" cy="244008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3" descr="C:\Users\Роза\Pictures\Рисунок\img234.jpg"/>
          <p:cNvPicPr/>
          <p:nvPr/>
        </p:nvPicPr>
        <p:blipFill>
          <a:blip r:embed="rId11"/>
          <a:stretch/>
        </p:blipFill>
        <p:spPr>
          <a:xfrm>
            <a:off x="7758000" y="5214960"/>
            <a:ext cx="1386000" cy="164304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4" descr="C:\Users\Роза\Pictures\Рисунок\img226.jpg"/>
          <p:cNvPicPr/>
          <p:nvPr/>
        </p:nvPicPr>
        <p:blipFill>
          <a:blip r:embed="rId12"/>
          <a:stretch/>
        </p:blipFill>
        <p:spPr>
          <a:xfrm>
            <a:off x="6143760" y="0"/>
            <a:ext cx="11221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0.02083 L 0.42656 -0.69907 E">
                                      <p:cBhvr>
                                        <p:cTn id="66" dur="20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-0.07407 L 0.46164 -0.32592 E">
                                      <p:cBhvr>
                                        <p:cTn id="70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0.02106 L -0.36268 -0.52153 E">
                                      <p:cBhvr>
                                        <p:cTn id="74" dur="2000" fill="hold"/>
                                        <p:tgtEl>
                                          <p:spTgt spid="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39 -0.02129 L -0.36962 -0.56435 E">
                                      <p:cBhvr>
                                        <p:cTn id="78" dur="2000" fill="hold"/>
                                        <p:tgtEl>
                                          <p:spTgt spid="6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32 -0.07037 L -0.20781 -0.66898 E">
                                      <p:cBhvr>
                                        <p:cTn id="82" dur="20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59259E-006 L -0.5276 -2.59259E-006 E">
                                      <p:cBhvr>
                                        <p:cTn id="86" dur="2000" fill="hold"/>
                                        <p:tgtEl>
                                          <p:spTgt spid="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44 0.00254 L -0.13368 0.48541 E">
                                      <p:cBhvr>
                                        <p:cTn id="90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8148E-006 L -0.23611 -0.2206 E">
                                      <p:cBhvr>
                                        <p:cTn id="94" dur="2000" fill="hold"/>
                                        <p:tgtEl>
                                          <p:spTgt spid="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-0.00185 L 0.01163 -0.30648 E">
                                      <p:cBhvr>
                                        <p:cTn id="98" dur="2000" fill="hold"/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2" descr="C:\Users\Роза\Pictures\Рисунок\img233.jpg"/>
          <p:cNvPicPr/>
          <p:nvPr/>
        </p:nvPicPr>
        <p:blipFill>
          <a:blip r:embed="rId1"/>
          <a:stretch/>
        </p:blipFill>
        <p:spPr>
          <a:xfrm>
            <a:off x="2143080" y="214200"/>
            <a:ext cx="4857840" cy="328608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" descr="C:\Users\Роза\Pictures\Рисунок\img231.jpg"/>
          <p:cNvPicPr/>
          <p:nvPr/>
        </p:nvPicPr>
        <p:blipFill>
          <a:blip r:embed="rId2"/>
          <a:stretch/>
        </p:blipFill>
        <p:spPr>
          <a:xfrm>
            <a:off x="285840" y="3357720"/>
            <a:ext cx="4865760" cy="321444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5" descr="C:\Users\Роза\Pictures\Рисунок\img232.jpg"/>
          <p:cNvPicPr/>
          <p:nvPr/>
        </p:nvPicPr>
        <p:blipFill>
          <a:blip r:embed="rId3"/>
          <a:stretch/>
        </p:blipFill>
        <p:spPr>
          <a:xfrm>
            <a:off x="5500800" y="2786040"/>
            <a:ext cx="307188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2" descr="C:\Users\Роза\Pictures\Рисунок\img216.jpg"/>
          <p:cNvPicPr/>
          <p:nvPr/>
        </p:nvPicPr>
        <p:blipFill>
          <a:blip r:embed="rId1"/>
          <a:stretch/>
        </p:blipFill>
        <p:spPr>
          <a:xfrm>
            <a:off x="5643720" y="285840"/>
            <a:ext cx="3286080" cy="221436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3" descr="C:\Users\Роза\Pictures\Рисунок\img230.jpg"/>
          <p:cNvPicPr/>
          <p:nvPr/>
        </p:nvPicPr>
        <p:blipFill>
          <a:blip r:embed="rId2"/>
          <a:stretch/>
        </p:blipFill>
        <p:spPr>
          <a:xfrm>
            <a:off x="142920" y="214200"/>
            <a:ext cx="1646280" cy="276876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3" descr="C:\Users\Роза\Pictures\Рисунок\img230.jpg"/>
          <p:cNvPicPr/>
          <p:nvPr/>
        </p:nvPicPr>
        <p:blipFill>
          <a:blip r:embed="rId3"/>
          <a:stretch/>
        </p:blipFill>
        <p:spPr>
          <a:xfrm>
            <a:off x="1857240" y="214200"/>
            <a:ext cx="1646280" cy="276876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4" descr="C:\Users\Роза\Pictures\Рисунок\img235.jpg"/>
          <p:cNvPicPr/>
          <p:nvPr/>
        </p:nvPicPr>
        <p:blipFill>
          <a:blip r:embed="rId4"/>
          <a:stretch/>
        </p:blipFill>
        <p:spPr>
          <a:xfrm>
            <a:off x="3500280" y="2357280"/>
            <a:ext cx="2641680" cy="3173400"/>
          </a:xfrm>
          <a:prstGeom prst="rect">
            <a:avLst/>
          </a:prstGeom>
          <a:ln w="0">
            <a:noFill/>
          </a:ln>
        </p:spPr>
      </p:pic>
      <p:sp>
        <p:nvSpPr>
          <p:cNvPr id="690" name="Блок-схема: узел 5"/>
          <p:cNvSpPr/>
          <p:nvPr/>
        </p:nvSpPr>
        <p:spPr>
          <a:xfrm>
            <a:off x="428760" y="3143160"/>
            <a:ext cx="714240" cy="642960"/>
          </a:xfrm>
          <a:prstGeom prst="flowChartConnector">
            <a:avLst/>
          </a:prstGeom>
          <a:solidFill>
            <a:srgbClr val="ff00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Блок-схема: узел 7"/>
          <p:cNvSpPr/>
          <p:nvPr/>
        </p:nvSpPr>
        <p:spPr>
          <a:xfrm>
            <a:off x="1214280" y="3143160"/>
            <a:ext cx="714600" cy="642960"/>
          </a:xfrm>
          <a:prstGeom prst="flowChartConnector">
            <a:avLst/>
          </a:prstGeom>
          <a:solidFill>
            <a:srgbClr val="0070c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Блок-схема: узел 8"/>
          <p:cNvSpPr/>
          <p:nvPr/>
        </p:nvSpPr>
        <p:spPr>
          <a:xfrm>
            <a:off x="2000160" y="3143160"/>
            <a:ext cx="714600" cy="642960"/>
          </a:xfrm>
          <a:prstGeom prst="flowChartConnector">
            <a:avLst/>
          </a:prstGeom>
          <a:solidFill>
            <a:srgbClr val="ff00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Блок-схема: узел 9"/>
          <p:cNvSpPr/>
          <p:nvPr/>
        </p:nvSpPr>
        <p:spPr>
          <a:xfrm>
            <a:off x="3429000" y="5572080"/>
            <a:ext cx="714240" cy="642960"/>
          </a:xfrm>
          <a:prstGeom prst="flowChartConnector">
            <a:avLst/>
          </a:prstGeom>
          <a:solidFill>
            <a:srgbClr val="0070c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Блок-схема: узел 10"/>
          <p:cNvSpPr/>
          <p:nvPr/>
        </p:nvSpPr>
        <p:spPr>
          <a:xfrm>
            <a:off x="4357800" y="5572080"/>
            <a:ext cx="714240" cy="642960"/>
          </a:xfrm>
          <a:prstGeom prst="flowChartConnector">
            <a:avLst/>
          </a:prstGeom>
          <a:solidFill>
            <a:srgbClr val="ff00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Блок-схема: узел 11"/>
          <p:cNvSpPr/>
          <p:nvPr/>
        </p:nvSpPr>
        <p:spPr>
          <a:xfrm>
            <a:off x="5214960" y="5572080"/>
            <a:ext cx="714240" cy="642960"/>
          </a:xfrm>
          <a:prstGeom prst="flowChartConnector">
            <a:avLst/>
          </a:prstGeom>
          <a:solidFill>
            <a:srgbClr val="0070c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Блок-схема: узел 12"/>
          <p:cNvSpPr/>
          <p:nvPr/>
        </p:nvSpPr>
        <p:spPr>
          <a:xfrm>
            <a:off x="6429240" y="2643120"/>
            <a:ext cx="714600" cy="642960"/>
          </a:xfrm>
          <a:prstGeom prst="flowChartConnector">
            <a:avLst/>
          </a:prstGeom>
          <a:solidFill>
            <a:srgbClr val="0070c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Блок-схема: узел 13"/>
          <p:cNvSpPr/>
          <p:nvPr/>
        </p:nvSpPr>
        <p:spPr>
          <a:xfrm>
            <a:off x="8072280" y="2643120"/>
            <a:ext cx="714600" cy="642960"/>
          </a:xfrm>
          <a:prstGeom prst="flowChartConnector">
            <a:avLst/>
          </a:prstGeom>
          <a:solidFill>
            <a:srgbClr val="0070c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Блок-схема: узел 14"/>
          <p:cNvSpPr/>
          <p:nvPr/>
        </p:nvSpPr>
        <p:spPr>
          <a:xfrm>
            <a:off x="7215120" y="2643120"/>
            <a:ext cx="714600" cy="642960"/>
          </a:xfrm>
          <a:prstGeom prst="flowChartConnector">
            <a:avLst/>
          </a:prstGeom>
          <a:solidFill>
            <a:srgbClr val="ff0000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Рисунок 10" descr="5.gif"/>
          <p:cNvPicPr/>
          <p:nvPr/>
        </p:nvPicPr>
        <p:blipFill>
          <a:blip r:embed="rId1"/>
          <a:stretch/>
        </p:blipFill>
        <p:spPr>
          <a:xfrm>
            <a:off x="642960" y="3857760"/>
            <a:ext cx="2984400" cy="2286000"/>
          </a:xfrm>
          <a:prstGeom prst="rect">
            <a:avLst/>
          </a:prstGeom>
          <a:ln w="0">
            <a:noFill/>
          </a:ln>
        </p:spPr>
      </p:pic>
      <p:pic>
        <p:nvPicPr>
          <p:cNvPr id="700" name="Рисунок 2" descr="002.GIF"/>
          <p:cNvPicPr/>
          <p:nvPr/>
        </p:nvPicPr>
        <p:blipFill>
          <a:blip r:embed="rId2"/>
          <a:stretch/>
        </p:blipFill>
        <p:spPr>
          <a:xfrm>
            <a:off x="571680" y="64296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701" name="Рисунок 3" descr="ludia-2445.gif"/>
          <p:cNvPicPr/>
          <p:nvPr/>
        </p:nvPicPr>
        <p:blipFill>
          <a:blip r:embed="rId3"/>
          <a:stretch/>
        </p:blipFill>
        <p:spPr>
          <a:xfrm>
            <a:off x="6000840" y="3643200"/>
            <a:ext cx="2000160" cy="247356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3" descr="C:\Users\Роза\Pictures\Рисунок\img230.jpg"/>
          <p:cNvPicPr/>
          <p:nvPr/>
        </p:nvPicPr>
        <p:blipFill>
          <a:blip r:embed="rId4"/>
          <a:stretch/>
        </p:blipFill>
        <p:spPr>
          <a:xfrm>
            <a:off x="5929200" y="357120"/>
            <a:ext cx="2071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AutoShape 1"/>
          <p:cNvSpPr/>
          <p:nvPr/>
        </p:nvSpPr>
        <p:spPr>
          <a:xfrm>
            <a:off x="2643120" y="1000080"/>
            <a:ext cx="4286160" cy="4357800"/>
          </a:xfrm>
          <a:prstGeom prst="cube">
            <a:avLst>
              <a:gd name="adj" fmla="val 1894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200" spc="-1" strike="noStrike">
                <a:solidFill>
                  <a:srgbClr val="ffffff"/>
                </a:solidFill>
                <a:latin typeface="Arial"/>
              </a:rPr>
              <a:t>Ш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"/>
          <p:cNvSpPr/>
          <p:nvPr/>
        </p:nvSpPr>
        <p:spPr>
          <a:xfrm>
            <a:off x="6588000" y="623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12" descr=""/>
          <p:cNvPicPr/>
          <p:nvPr/>
        </p:nvPicPr>
        <p:blipFill>
          <a:blip r:embed="rId1"/>
          <a:stretch/>
        </p:blipFill>
        <p:spPr>
          <a:xfrm>
            <a:off x="838836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11:40:43Z</dcterms:created>
  <dc:creator>Роза</dc:creator>
  <dc:description/>
  <dc:language>en-US</dc:language>
  <cp:lastModifiedBy>Роза</cp:lastModifiedBy>
  <dcterms:modified xsi:type="dcterms:W3CDTF">2012-12-04T15:47:30Z</dcterms:modified>
  <cp:revision>38</cp:revision>
  <dc:subject/>
  <dc:title>Слайд 1</dc:title>
</cp:coreProperties>
</file>