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F60-BFB9-4557-A636-F5BABFD3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CFD-E319-4356-B6FB-C188232B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7D6-612D-4888-B2E0-5793BBD4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B74-529A-45F4-8938-A22F8930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BB6-1254-40AC-97CE-0AE5AC21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F72-A886-4AAF-BAA8-4BF46F68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67F-35A9-48DA-807D-EE36B3F5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A8E-0E86-4C8B-A0A9-887D253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B10-9832-43CD-9FAA-99AF75B2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F22-07DF-4A08-B6A0-BDD17F8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423-F16B-4500-AE37-734B492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C08-0B72-4333-986C-458A4AB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66cc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B6A6-956C-409A-BD8D-33CFD23EEB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981-E691-4F4F-AB82-BEE168FFF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Луховицкая средняя общеобразовательная школа №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нарный урок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графия – химия    9 клас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еральные удобрения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 Ратникова Елена Валерьев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географии высшей категории;</a:t>
            </a: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Усикова Марите Вацлов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химии высшей категори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165-3A2E-4718-BE22-41A5610DCC6C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ыча фосфоритов в Воскресенском райо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фосфориты Воскресенска"/>
          <p:cNvPicPr/>
          <p:nvPr/>
        </p:nvPicPr>
        <p:blipFill>
          <a:blip r:embed="rId1"/>
          <a:stretch/>
        </p:blipFill>
        <p:spPr>
          <a:xfrm>
            <a:off x="826920" y="2852640"/>
            <a:ext cx="7620120" cy="20574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2B1-9583-44B7-97A2-063801C7ACD2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:\химия\img092.jpg"/>
          <p:cNvPicPr/>
          <p:nvPr/>
        </p:nvPicPr>
        <p:blipFill>
          <a:blip r:embed="rId1"/>
          <a:stretch/>
        </p:blipFill>
        <p:spPr>
          <a:xfrm>
            <a:off x="826920" y="333360"/>
            <a:ext cx="4897440" cy="4538520"/>
          </a:xfrm>
          <a:prstGeom prst="rect">
            <a:avLst/>
          </a:prstGeom>
          <a:ln w="0">
            <a:noFill/>
          </a:ln>
        </p:spPr>
      </p:pic>
      <p:sp>
        <p:nvSpPr>
          <p:cNvPr id="102" name="Скругленная прямоугольная выноска 6"/>
          <p:cNvSpPr/>
          <p:nvPr/>
        </p:nvSpPr>
        <p:spPr>
          <a:xfrm>
            <a:off x="5651640" y="476280"/>
            <a:ext cx="2665440" cy="1800360"/>
          </a:xfrm>
          <a:prstGeom prst="wedgeRoundRectCallout">
            <a:avLst>
              <a:gd name="adj1" fmla="val -148004"/>
              <a:gd name="adj2" fmla="val 52120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ые удоб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6E37-99EF-42ED-9F39-A4448C33F15F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5554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Воскресенские минеральные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удобр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1" descr="воскресенская фосфоритовая гора"/>
          <p:cNvPicPr/>
          <p:nvPr/>
        </p:nvPicPr>
        <p:blipFill>
          <a:blip r:embed="rId1"/>
          <a:stretch/>
        </p:blipFill>
        <p:spPr>
          <a:xfrm>
            <a:off x="4572000" y="2133720"/>
            <a:ext cx="3529080" cy="25398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3780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50920" y="3429000"/>
            <a:ext cx="410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Белая Гора" в окрестностях                                           Воскресенска. Гора представляет собой отходы  Воскресенского химкомбината. За много лет комбинат насыпал кучу высотой 80 метров и около 700 метров в диаметре. Еще на подъездах к Воскресенску она хорошо видна. Из этого материала можно делать строительный гипс, 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2CE-8CA0-48ED-BF57-F8AEEC8700E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47862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хлорид кал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природе в виде               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минерала сильвинит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CI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Именно  соль – «пермянка» наряду с ценной пушниной составляли основную статью доходов еще «Господина Великого Новгорода». Соль составляла основу богатств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огановых, Голицыных, Шаховских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мской солью – «Пермянкой» - торговали не только в России, но и других странах Европы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8" descr="156"/>
          <p:cNvPicPr/>
          <p:nvPr/>
        </p:nvPicPr>
        <p:blipFill>
          <a:blip r:embed="rId1"/>
          <a:stretch/>
        </p:blipFill>
        <p:spPr>
          <a:xfrm>
            <a:off x="5076720" y="242100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8675640" y="649296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F03-6883-4CB4-8459-34591E09D144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img092.jpg"/>
          <p:cNvPicPr/>
          <p:nvPr/>
        </p:nvPicPr>
        <p:blipFill>
          <a:blip r:embed="rId1"/>
          <a:stretch/>
        </p:blipFill>
        <p:spPr>
          <a:xfrm>
            <a:off x="395280" y="417600"/>
            <a:ext cx="4681440" cy="50068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ая прямоугольная выноска 6"/>
          <p:cNvSpPr/>
          <p:nvPr/>
        </p:nvSpPr>
        <p:spPr>
          <a:xfrm>
            <a:off x="4932360" y="404640"/>
            <a:ext cx="3168720" cy="1873440"/>
          </a:xfrm>
          <a:prstGeom prst="wedgeRoundRectCallout">
            <a:avLst>
              <a:gd name="adj1" fmla="val -82583"/>
              <a:gd name="adj2" fmla="val 106583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йные удоб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D0FF-4994-4219-8ADD-30C4A5D8268D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Файл:Salt dump in Solikamsk.jpg"/>
          <p:cNvPicPr/>
          <p:nvPr/>
        </p:nvPicPr>
        <p:blipFill>
          <a:blip r:embed="rId1"/>
          <a:stretch/>
        </p:blipFill>
        <p:spPr>
          <a:xfrm>
            <a:off x="3564000" y="227664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343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леотвалы в Соликамск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A10-CCC1-4002-A944-205BACEDEB2C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88640"/>
            <a:ext cx="48243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источник сырья –природный и коксовый газ. Металлургические  комбинаты также являются поставщиками сыр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9" descr="Field03a"/>
          <p:cNvPicPr/>
          <p:nvPr/>
        </p:nvPicPr>
        <p:blipFill>
          <a:blip r:embed="rId1"/>
          <a:stretch/>
        </p:blipFill>
        <p:spPr>
          <a:xfrm>
            <a:off x="5784840" y="260280"/>
            <a:ext cx="2847960" cy="23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:\химия\img095.jpg"/>
          <p:cNvPicPr/>
          <p:nvPr/>
        </p:nvPicPr>
        <p:blipFill>
          <a:blip r:embed="rId2"/>
          <a:stretch/>
        </p:blipFill>
        <p:spPr>
          <a:xfrm>
            <a:off x="2700360" y="3573360"/>
            <a:ext cx="3598920" cy="266400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5"/>
          <p:cNvSpPr/>
          <p:nvPr/>
        </p:nvSpPr>
        <p:spPr>
          <a:xfrm>
            <a:off x="8604360" y="6308640"/>
            <a:ext cx="369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046-CE83-40E3-A7B2-8A3AE8F92C4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H:\химия\img092.jpg"/>
          <p:cNvPicPr/>
          <p:nvPr/>
        </p:nvPicPr>
        <p:blipFill>
          <a:blip r:embed="rId1"/>
          <a:stretch/>
        </p:blipFill>
        <p:spPr>
          <a:xfrm>
            <a:off x="684360" y="476280"/>
            <a:ext cx="4248000" cy="482580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ая прямоугольная выноска 8"/>
          <p:cNvSpPr/>
          <p:nvPr/>
        </p:nvSpPr>
        <p:spPr>
          <a:xfrm>
            <a:off x="5796000" y="1341360"/>
            <a:ext cx="2592360" cy="1297080"/>
          </a:xfrm>
          <a:prstGeom prst="wedgeRoundRectCallout">
            <a:avLst>
              <a:gd name="adj1" fmla="val -189912"/>
              <a:gd name="adj2" fmla="val -22842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ные удоб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D546-63B7-4D25-A7C9-B22F917DA0C4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250920" y="892080"/>
            <a:ext cx="8569080" cy="5776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изводственные объекты, исчезнувшие с пространств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вшего СССР с 1992 по 2012 г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77428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D1CD-E16B-4553-BA48-1FC2843C848B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ыты по определению состава минеральных удобрени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3F93-3921-4475-BEB8-F3F461C30FBE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218124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лассификация минеральных удобр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змещение сырь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Лабораторная работа по определению состава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минеральных удобр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ктическое примен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100"/>
          <p:cNvPicPr/>
          <p:nvPr/>
        </p:nvPicPr>
        <p:blipFill>
          <a:blip r:embed="rId1"/>
          <a:stretch/>
        </p:blipFill>
        <p:spPr>
          <a:xfrm>
            <a:off x="5076720" y="3357720"/>
            <a:ext cx="3527640" cy="2646360"/>
          </a:xfrm>
          <a:prstGeom prst="rect">
            <a:avLst/>
          </a:prstGeom>
          <a:ln w="0">
            <a:noFill/>
          </a:ln>
        </p:spPr>
      </p:pic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7EE-A8A3-48A3-B781-09D78938B9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8760" y="357120"/>
          <a:ext cx="8229600" cy="5726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171520"/>
                <a:gridCol w="194328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рас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ы раз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т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131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минеральных удоб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сфорные удоб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ребительск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йные удобр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ь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икамс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резня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269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ные удобр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ьев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у газопроводов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одов по производству серной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Новгород, Тольятти, Магнитогорск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ц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ов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знец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др.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</a:tbl>
          </a:graphicData>
        </a:graphic>
      </p:graphicFrame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6F63-F564-4B19-8148-AD598A6D56F3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6320" y="3642840"/>
            <a:ext cx="25002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мия: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212-216, упр. №5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2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B4B2-CC1A-435C-8406-8968098540D4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356760"/>
            <a:ext cx="3828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, контурные карты додел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центры производства минеральных удобр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School2\Pictures\MH900437553.JPG"/>
          <p:cNvPicPr/>
          <p:nvPr/>
        </p:nvPicPr>
        <p:blipFill>
          <a:blip r:embed="rId1"/>
          <a:stretch/>
        </p:blipFill>
        <p:spPr>
          <a:xfrm>
            <a:off x="3851280" y="2637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примен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применения удобрений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химия на полях"/>
          <p:cNvPicPr/>
          <p:nvPr/>
        </p:nvPicPr>
        <p:blipFill>
          <a:blip r:embed="rId1"/>
          <a:stretch/>
        </p:blipFill>
        <p:spPr>
          <a:xfrm>
            <a:off x="2050920" y="2781360"/>
            <a:ext cx="4418280" cy="3139920"/>
          </a:xfrm>
          <a:prstGeom prst="rect">
            <a:avLst/>
          </a:prstGeom>
          <a:ln w="0">
            <a:noFill/>
          </a:ln>
        </p:spPr>
      </p:pic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7DBA-73D3-4761-84BD-D528DE4BB81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3280" y="1773000"/>
            <a:ext cx="389916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ховицкий район в составе Московской области с 192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Moskovskaya_Obl"/>
          <p:cNvPicPr/>
          <p:nvPr/>
        </p:nvPicPr>
        <p:blipFill>
          <a:blip r:embed="rId1"/>
          <a:stretch/>
        </p:blipFill>
        <p:spPr>
          <a:xfrm>
            <a:off x="324000" y="549360"/>
            <a:ext cx="4608360" cy="427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360" y="4723920"/>
            <a:ext cx="42447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лся поставщиком сельскохозяйственной продукции для Москвы и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7B87-C6F8-45FB-9AF3-546ED3EDFEF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неральные удобрения — неорганические соединения, содержащие необходимые для растений элементы питания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80E-8AC5-4B61-994E-1DD0362370BA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489744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 удоб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476360" y="1125360"/>
            <a:ext cx="180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6300720" y="765000"/>
            <a:ext cx="180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1331640" y="1557360"/>
            <a:ext cx="43164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059280" y="1557360"/>
            <a:ext cx="2174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24000" y="1557360"/>
            <a:ext cx="0" cy="26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484360" y="2349360"/>
            <a:ext cx="1656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332000" y="4437000"/>
            <a:ext cx="158436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2349360"/>
            <a:ext cx="86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572000" y="2997360"/>
            <a:ext cx="172728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зо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дкий аммиа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H4C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хлор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м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076720" y="4437000"/>
            <a:ext cx="374508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ерфосфат прост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фосфоритная м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7596360" y="3068640"/>
            <a:ext cx="1439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ий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хлор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5796000" y="1197000"/>
            <a:ext cx="936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7740720" y="1197000"/>
            <a:ext cx="71892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7236000" y="1268280"/>
            <a:ext cx="1440" cy="28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3851280" y="1197000"/>
            <a:ext cx="18716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удоб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nS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5724000" y="1052640"/>
            <a:ext cx="50508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4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8E7C-FBF4-4057-880C-3A21D10EF98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000" y="549000"/>
            <a:ext cx="230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ырьё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1" descr="апатит"/>
          <p:cNvPicPr/>
          <p:nvPr/>
        </p:nvPicPr>
        <p:blipFill>
          <a:blip r:embed="rId1"/>
          <a:stretch/>
        </p:blipFill>
        <p:spPr>
          <a:xfrm>
            <a:off x="324000" y="2781360"/>
            <a:ext cx="2303280" cy="149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калийная соль"/>
          <p:cNvPicPr/>
          <p:nvPr/>
        </p:nvPicPr>
        <p:blipFill>
          <a:blip r:embed="rId2"/>
          <a:stretch/>
        </p:blipFill>
        <p:spPr>
          <a:xfrm>
            <a:off x="6234120" y="4292640"/>
            <a:ext cx="21067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фосфорит"/>
          <p:cNvPicPr/>
          <p:nvPr/>
        </p:nvPicPr>
        <p:blipFill>
          <a:blip r:embed="rId3"/>
          <a:stretch/>
        </p:blipFill>
        <p:spPr>
          <a:xfrm>
            <a:off x="6372360" y="620640"/>
            <a:ext cx="2160360" cy="1519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9280" y="1628640"/>
            <a:ext cx="2952720" cy="947160"/>
          </a:xfrm>
          <a:prstGeom prst="rect">
            <a:avLst/>
          </a:pr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ат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,O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242040" y="3213000"/>
            <a:ext cx="2577960" cy="947160"/>
          </a:xfrm>
          <a:prstGeom prst="rect">
            <a:avLst/>
          </a:pr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лийная 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940360" y="189000"/>
            <a:ext cx="2232000" cy="520560"/>
          </a:xfrm>
          <a:prstGeom prst="rect">
            <a:avLst/>
          </a:pr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о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3-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1916280"/>
            <a:ext cx="1852560" cy="338436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12"/>
          <p:cNvCxnSpPr/>
          <p:nvPr/>
        </p:nvCxnSpPr>
        <p:spPr>
          <a:xfrm flipH="1">
            <a:off x="5651640" y="1915920"/>
            <a:ext cx="576360" cy="64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5435280" y="3933720"/>
            <a:ext cx="72144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>
            <a:off x="3276360" y="1915920"/>
            <a:ext cx="864360" cy="86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Прямоугольник 18"/>
          <p:cNvSpPr/>
          <p:nvPr/>
        </p:nvSpPr>
        <p:spPr>
          <a:xfrm>
            <a:off x="826920" y="5516640"/>
            <a:ext cx="2953080" cy="79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ксов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рапеция 19"/>
          <p:cNvSpPr/>
          <p:nvPr/>
        </p:nvSpPr>
        <p:spPr>
          <a:xfrm>
            <a:off x="1042920" y="5661000"/>
            <a:ext cx="433440" cy="503280"/>
          </a:xfrm>
          <a:custGeom>
            <a:avLst/>
            <a:gdLst>
              <a:gd name="textAreaLeft" fmla="*/ 72000 w 433440"/>
              <a:gd name="textAreaRight" fmla="*/ 361440 w 433440"/>
              <a:gd name="textAreaTop" fmla="*/ 83880 h 503280"/>
              <a:gd name="textAreaBottom" fmla="*/ 503640 h 503280"/>
            </a:gdLst>
            <a:ahLst/>
            <a:rect l="textAreaLeft" t="textAreaTop" r="textAreaRight" b="textAreaBottom"/>
            <a:pathLst>
              <a:path w="433387" h="503238">
                <a:moveTo>
                  <a:pt x="0" y="503238"/>
                </a:moveTo>
                <a:lnTo>
                  <a:pt x="108347" y="0"/>
                </a:lnTo>
                <a:lnTo>
                  <a:pt x="325040" y="0"/>
                </a:lnTo>
                <a:lnTo>
                  <a:pt x="433387" y="50323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1"/>
          <p:cNvSpPr/>
          <p:nvPr/>
        </p:nvSpPr>
        <p:spPr>
          <a:xfrm>
            <a:off x="1692360" y="5732640"/>
            <a:ext cx="43164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23"/>
          <p:cNvCxnSpPr/>
          <p:nvPr/>
        </p:nvCxnSpPr>
        <p:spPr>
          <a:xfrm flipV="1">
            <a:off x="2987640" y="4075920"/>
            <a:ext cx="1153440" cy="129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оугольник 10"/>
          <p:cNvSpPr/>
          <p:nvPr/>
        </p:nvSpPr>
        <p:spPr>
          <a:xfrm>
            <a:off x="3637800" y="17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H="1">
            <a:off x="5723640" y="1557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356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551124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5859-A9F8-415B-B80D-0BAE0E1E2568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производство мин удобрений Р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617-57AC-4280-B31F-4C5C43B332F2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минеральных удобрен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125360"/>
          <a:ext cx="7921440" cy="4824720"/>
        </p:xfrm>
        <a:graphic>
          <a:graphicData uri="http://schemas.openxmlformats.org/drawingml/2006/table">
            <a:tbl>
              <a:tblPr/>
              <a:tblGrid>
                <a:gridCol w="2087280"/>
                <a:gridCol w="1865520"/>
                <a:gridCol w="2046240"/>
                <a:gridCol w="1922400"/>
              </a:tblGrid>
              <a:tr h="1206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рас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д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н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063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ая 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-во минеральных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0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33D2-E1CA-4C08-8931-5F40EA17C8A6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Апатит С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PO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(F,OH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апатит"/>
          <p:cNvPicPr/>
          <p:nvPr/>
        </p:nvPicPr>
        <p:blipFill>
          <a:blip r:embed="rId1"/>
          <a:stretch/>
        </p:blipFill>
        <p:spPr>
          <a:xfrm>
            <a:off x="4140360" y="1989000"/>
            <a:ext cx="2089080" cy="208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24F-6800-4438-B959-9E2898C1A7A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5:10:42Z</dcterms:created>
  <dc:creator>School2</dc:creator>
  <dc:description/>
  <dc:language>en-US</dc:language>
  <cp:lastModifiedBy>School2</cp:lastModifiedBy>
  <dcterms:modified xsi:type="dcterms:W3CDTF">2013-02-15T06:58:07Z</dcterms:modified>
  <cp:revision>80</cp:revision>
  <dc:subject/>
  <dc:title>Интегрированный урок  география – химия    9 класс Горно-химическая промышленность  Мурманской области                                 Авторы: Бушуева Валентина Степановна,  учитель географии высшей категории;                                                     Мехнина Марина Владимировна,                                                 учитель химии первой категории</dc:title>
</cp:coreProperties>
</file>