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6.wmf" ContentType="image/x-wmf"/>
  <Override PartName="/ppt/media/image17.wmf" ContentType="image/x-wmf"/>
  <Override PartName="/ppt/media/image15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E8DD-447B-4AA0-91CA-AB990466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7A3E-FD8F-480F-9328-5EFCDF88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9C7-8A1A-457D-A167-A6E2B97C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8EC-DFBA-4FC0-A9A7-4CF90FD9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E77-B7B3-40FA-8B66-9599F474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64E3-211C-4DD3-ACF1-3E8247BF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FB84-7434-4D83-9E24-A59BE380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A2E8-4D00-455A-B45F-F9D6A929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F0AE-7136-49D9-B405-207B756C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DC9-CC7C-4E7E-94CA-86D4D430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9D85-08E6-4CB0-AF89-53E89590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1D9-77F5-4994-8DA3-8FC6C6BC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66ccff"/>
            </a:gs>
            <a:gs pos="100000">
              <a:srgbClr val="66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E54E-C4C5-497F-8F57-E8967564EEC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30CA-C8D3-44A8-91CF-57E264DA40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50752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Луховицкая средняя общеобразовательная школа №9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нарный урок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ография – химия    9 клас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еральные удобрения 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ы:  Ратникова Елена Валерьевн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 географии высшей категории;</a:t>
            </a:r>
            <a:br>
              <a:rPr sz="1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Усикова Марите Вацлово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 химии высшей категории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760A-09FB-4ED2-99C2-B3F4FE3035F4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быча фосфоритов в Воскресенском райо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фосфориты Воскресенска"/>
          <p:cNvPicPr/>
          <p:nvPr/>
        </p:nvPicPr>
        <p:blipFill>
          <a:blip r:embed="rId1"/>
          <a:stretch/>
        </p:blipFill>
        <p:spPr>
          <a:xfrm>
            <a:off x="826920" y="2852640"/>
            <a:ext cx="7620120" cy="2057400"/>
          </a:xfrm>
          <a:prstGeom prst="rect">
            <a:avLst/>
          </a:prstGeom>
          <a:ln w="0">
            <a:noFill/>
          </a:ln>
        </p:spPr>
      </p:pic>
      <p:sp>
        <p:nvSpPr>
          <p:cNvPr id="10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F639-61CF-46D7-B032-667C5A24CB73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:\химия\img092.jpg"/>
          <p:cNvPicPr/>
          <p:nvPr/>
        </p:nvPicPr>
        <p:blipFill>
          <a:blip r:embed="rId1"/>
          <a:stretch/>
        </p:blipFill>
        <p:spPr>
          <a:xfrm>
            <a:off x="826920" y="333360"/>
            <a:ext cx="4897440" cy="4538520"/>
          </a:xfrm>
          <a:prstGeom prst="rect">
            <a:avLst/>
          </a:prstGeom>
          <a:ln w="0">
            <a:noFill/>
          </a:ln>
        </p:spPr>
      </p:pic>
      <p:sp>
        <p:nvSpPr>
          <p:cNvPr id="102" name="Скругленная прямоугольная выноска 6"/>
          <p:cNvSpPr/>
          <p:nvPr/>
        </p:nvSpPr>
        <p:spPr>
          <a:xfrm>
            <a:off x="5651640" y="476280"/>
            <a:ext cx="2665440" cy="1800360"/>
          </a:xfrm>
          <a:prstGeom prst="wedgeRoundRectCallout">
            <a:avLst>
              <a:gd name="adj1" fmla="val -148004"/>
              <a:gd name="adj2" fmla="val 52120"/>
              <a:gd name="adj3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орные удоб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4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91B9-194D-4C22-B4F3-001240D308DB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5554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О Воскресенские минеральные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удобр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1" descr="воскресенская фосфоритовая гора"/>
          <p:cNvPicPr/>
          <p:nvPr/>
        </p:nvPicPr>
        <p:blipFill>
          <a:blip r:embed="rId1"/>
          <a:stretch/>
        </p:blipFill>
        <p:spPr>
          <a:xfrm>
            <a:off x="4572000" y="2133720"/>
            <a:ext cx="3529080" cy="25398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4"/>
          <p:cNvSpPr/>
          <p:nvPr/>
        </p:nvSpPr>
        <p:spPr>
          <a:xfrm>
            <a:off x="3780000" y="551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250920" y="3429000"/>
            <a:ext cx="410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Белая Гора" в окрестностях                                           Воскресенска. Гора представляет собой отходы  Воскресенского химкомбината. За много лет комбинат насыпал кучу высотой 80 метров и около 700 метров в диаметре. Еще на подъездах к Воскресенску она хорошо видна. Из этого материала можно делать строительный гипс, н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D4E7-8958-45D3-90EC-7B811DFB92FA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47862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-хлорид калия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природе в виде               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минерала сильвинита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I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aCI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Именно  соль – «пермянка» наряду с ценной пушниной составляли основную статью доходов еще «Господина Великого Новгорода». Соль составляла основу богатств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трогановых, Голицыных, Шаховских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ермской солью – «Пермянкой» - торговали не только в России, но и других странах Европы. 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8" descr="156"/>
          <p:cNvPicPr/>
          <p:nvPr/>
        </p:nvPicPr>
        <p:blipFill>
          <a:blip r:embed="rId1"/>
          <a:stretch/>
        </p:blipFill>
        <p:spPr>
          <a:xfrm>
            <a:off x="5076720" y="2421000"/>
            <a:ext cx="3714840" cy="2786040"/>
          </a:xfrm>
          <a:prstGeom prst="rect">
            <a:avLst/>
          </a:prstGeom>
          <a:ln w="0">
            <a:noFill/>
          </a:ln>
        </p:spPr>
      </p:pic>
      <p:sp>
        <p:nvSpPr>
          <p:cNvPr id="111" name="Номер слайда 5"/>
          <p:cNvSpPr/>
          <p:nvPr/>
        </p:nvSpPr>
        <p:spPr>
          <a:xfrm>
            <a:off x="8675640" y="6492960"/>
            <a:ext cx="371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93B1-FB49-47C3-8F84-E53176D387D0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4" descr="img092.jpg"/>
          <p:cNvPicPr/>
          <p:nvPr/>
        </p:nvPicPr>
        <p:blipFill>
          <a:blip r:embed="rId1"/>
          <a:stretch/>
        </p:blipFill>
        <p:spPr>
          <a:xfrm>
            <a:off x="395280" y="417600"/>
            <a:ext cx="4681440" cy="500688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ая прямоугольная выноска 6"/>
          <p:cNvSpPr/>
          <p:nvPr/>
        </p:nvSpPr>
        <p:spPr>
          <a:xfrm>
            <a:off x="4932360" y="404640"/>
            <a:ext cx="3168720" cy="1873440"/>
          </a:xfrm>
          <a:prstGeom prst="wedgeRoundRectCallout">
            <a:avLst>
              <a:gd name="adj1" fmla="val -82583"/>
              <a:gd name="adj2" fmla="val 106583"/>
              <a:gd name="adj3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йные удоб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9393-D3AE-4071-A629-EE519FBAB178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Файл:Salt dump in Solikamsk.jpg"/>
          <p:cNvPicPr/>
          <p:nvPr/>
        </p:nvPicPr>
        <p:blipFill>
          <a:blip r:embed="rId1"/>
          <a:stretch/>
        </p:blipFill>
        <p:spPr>
          <a:xfrm>
            <a:off x="3564000" y="2276640"/>
            <a:ext cx="4753080" cy="35654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343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леотвалы в Соликамск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30C9-ADEE-47FF-B11D-A73468AF56D8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88640"/>
            <a:ext cx="482436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источник сырья –природный и коксовый газ. Металлургические  комбинаты также являются поставщиками сыр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9" descr="Field03a"/>
          <p:cNvPicPr/>
          <p:nvPr/>
        </p:nvPicPr>
        <p:blipFill>
          <a:blip r:embed="rId1"/>
          <a:stretch/>
        </p:blipFill>
        <p:spPr>
          <a:xfrm>
            <a:off x="5784840" y="260280"/>
            <a:ext cx="2847960" cy="237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:\химия\img095.jpg"/>
          <p:cNvPicPr/>
          <p:nvPr/>
        </p:nvPicPr>
        <p:blipFill>
          <a:blip r:embed="rId2"/>
          <a:stretch/>
        </p:blipFill>
        <p:spPr>
          <a:xfrm>
            <a:off x="2700360" y="3573360"/>
            <a:ext cx="3598920" cy="2664000"/>
          </a:xfrm>
          <a:prstGeom prst="rect">
            <a:avLst/>
          </a:prstGeom>
          <a:ln w="0">
            <a:noFill/>
          </a:ln>
        </p:spPr>
      </p:pic>
      <p:sp>
        <p:nvSpPr>
          <p:cNvPr id="121" name="Номер слайда 5"/>
          <p:cNvSpPr/>
          <p:nvPr/>
        </p:nvSpPr>
        <p:spPr>
          <a:xfrm>
            <a:off x="8604360" y="6308640"/>
            <a:ext cx="369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EC13-CDBD-47F0-8189-6F8277FF883E}" type="slidenum"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H:\химия\img092.jpg"/>
          <p:cNvPicPr/>
          <p:nvPr/>
        </p:nvPicPr>
        <p:blipFill>
          <a:blip r:embed="rId1"/>
          <a:stretch/>
        </p:blipFill>
        <p:spPr>
          <a:xfrm>
            <a:off x="684360" y="476280"/>
            <a:ext cx="4248000" cy="4825800"/>
          </a:xfrm>
          <a:prstGeom prst="rect">
            <a:avLst/>
          </a:prstGeom>
          <a:ln w="0">
            <a:noFill/>
          </a:ln>
        </p:spPr>
      </p:pic>
      <p:sp>
        <p:nvSpPr>
          <p:cNvPr id="123" name="Скругленная прямоугольная выноска 8"/>
          <p:cNvSpPr/>
          <p:nvPr/>
        </p:nvSpPr>
        <p:spPr>
          <a:xfrm>
            <a:off x="5796000" y="1341360"/>
            <a:ext cx="2592360" cy="1297080"/>
          </a:xfrm>
          <a:prstGeom prst="wedgeRoundRectCallout">
            <a:avLst>
              <a:gd name="adj1" fmla="val -189912"/>
              <a:gd name="adj2" fmla="val -22842"/>
              <a:gd name="adj3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ные удоб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EB59-49CD-4085-800D-69AEE4DCB43B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250920" y="892080"/>
            <a:ext cx="8569080" cy="5776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изводственные объекты, исчезнувшие с пространства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ывшего СССР с 1992 по 2012 г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8774280" y="638172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6432-10B9-4B6D-85B4-5B0CF3367ED9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29152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ыты по определению состава минеральных удобрени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F678-DF1F-49A6-B90C-C27F7445B465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5076720" y="2781360"/>
            <a:ext cx="218124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Классификация минеральных удобрени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Размещение сырья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Лабораторная работа по определению состава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минеральных удобрени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актическое примен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100"/>
          <p:cNvPicPr/>
          <p:nvPr/>
        </p:nvPicPr>
        <p:blipFill>
          <a:blip r:embed="rId1"/>
          <a:stretch/>
        </p:blipFill>
        <p:spPr>
          <a:xfrm>
            <a:off x="5076720" y="3357720"/>
            <a:ext cx="3527640" cy="2646360"/>
          </a:xfrm>
          <a:prstGeom prst="rect">
            <a:avLst/>
          </a:prstGeom>
          <a:ln w="0">
            <a:noFill/>
          </a:ln>
        </p:spPr>
      </p:pic>
      <p:sp>
        <p:nvSpPr>
          <p:cNvPr id="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E730-939C-4D8C-AE3C-3AEE8338CE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28760" y="357120"/>
          <a:ext cx="8229600" cy="5726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171520"/>
                <a:gridCol w="1943280"/>
              </a:tblGrid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рас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ук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оры разме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ент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1313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ая 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минеральных удобр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сфорные удобр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требительск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кресенс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ийные удобрения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рье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ликамс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резня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269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ные удобр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рьев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у газопроводов,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одов по производству серной кисл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Новгород, Тольятти, Магнитогорск 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пец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пов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кузнец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др.</a:t>
                      </a: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</a:tbl>
          </a:graphicData>
        </a:graphic>
      </p:graphicFrame>
      <p:sp>
        <p:nvSpPr>
          <p:cNvPr id="13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4747-5058-4946-B367-64EA41BAF2DE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6320" y="3642840"/>
            <a:ext cx="250020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мия:</a:t>
            </a:r>
            <a:br>
              <a:rPr sz="3200"/>
            </a:br>
            <a:br>
              <a:rPr sz="1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.212-216, упр. №5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 2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073A-4BA3-427B-97B7-90A5A90103BE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85840" y="356760"/>
            <a:ext cx="38289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Географ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28, контурные карты додел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центры производства минеральных удобрен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вор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C:\Users\School2\Pictures\MH900437553.JPG"/>
          <p:cNvPicPr/>
          <p:nvPr/>
        </p:nvPicPr>
        <p:blipFill>
          <a:blip r:embed="rId1"/>
          <a:stretch/>
        </p:blipFill>
        <p:spPr>
          <a:xfrm>
            <a:off x="3851280" y="263700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ктическое примен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применения удобрений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5" descr="химия на полях"/>
          <p:cNvPicPr/>
          <p:nvPr/>
        </p:nvPicPr>
        <p:blipFill>
          <a:blip r:embed="rId1"/>
          <a:stretch/>
        </p:blipFill>
        <p:spPr>
          <a:xfrm>
            <a:off x="2050920" y="2781360"/>
            <a:ext cx="4418280" cy="3139920"/>
          </a:xfrm>
          <a:prstGeom prst="rect">
            <a:avLst/>
          </a:prstGeom>
          <a:ln w="0">
            <a:noFill/>
          </a:ln>
        </p:spPr>
      </p:pic>
      <p:sp>
        <p:nvSpPr>
          <p:cNvPr id="14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5F79-4BC9-48EA-934C-9B57692EE202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3280" y="1773000"/>
            <a:ext cx="3899160" cy="18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ховицкий район в составе Московской области с 192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8" descr="Moskovskaya_Obl"/>
          <p:cNvPicPr/>
          <p:nvPr/>
        </p:nvPicPr>
        <p:blipFill>
          <a:blip r:embed="rId1"/>
          <a:stretch/>
        </p:blipFill>
        <p:spPr>
          <a:xfrm>
            <a:off x="324000" y="549360"/>
            <a:ext cx="4608360" cy="427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00360" y="4723920"/>
            <a:ext cx="42447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лся поставщиком сельскохозяйственной продукции для Москвы и обл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AAC5-D99E-4987-B4E1-33FFFE64CC5B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29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инеральные удобрения — неорганические соединения, содержащие необходимые для растений элементы питания.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6826-A4BA-4FED-8EF5-F752EA6FD3D7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489744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ификация  удобр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476360" y="1125360"/>
            <a:ext cx="1800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6300720" y="765000"/>
            <a:ext cx="1800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ер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 flipH="1">
            <a:off x="1331640" y="1557360"/>
            <a:ext cx="43164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3059280" y="1557360"/>
            <a:ext cx="2174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2124000" y="1557360"/>
            <a:ext cx="0" cy="26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484360" y="2349360"/>
            <a:ext cx="165600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332000" y="4437000"/>
            <a:ext cx="158436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84360" y="2349360"/>
            <a:ext cx="86328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во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4572000" y="2997360"/>
            <a:ext cx="172728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зот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дкий аммиа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H4C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хлори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ммо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5076720" y="4437000"/>
            <a:ext cx="3745080" cy="79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сфор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ерфосфат прост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3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фосфоритная му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7596360" y="3068640"/>
            <a:ext cx="143964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лий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хлори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5796000" y="1197000"/>
            <a:ext cx="936720" cy="16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>
            <a:off x="7740720" y="1197000"/>
            <a:ext cx="718920" cy="144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7236000" y="1268280"/>
            <a:ext cx="1440" cy="28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3851280" y="1197000"/>
            <a:ext cx="187164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кроудобр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nSO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>
            <a:off x="5724000" y="1052640"/>
            <a:ext cx="505080" cy="21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24"/>
          <p:cNvSpPr/>
          <p:nvPr/>
        </p:nvSpPr>
        <p:spPr>
          <a:xfrm>
            <a:off x="8604360" y="638172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1501-ABD4-480E-819D-C0C3835EB05E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92000" y="549000"/>
            <a:ext cx="2303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ырьё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1" descr="апатит"/>
          <p:cNvPicPr/>
          <p:nvPr/>
        </p:nvPicPr>
        <p:blipFill>
          <a:blip r:embed="rId1"/>
          <a:stretch/>
        </p:blipFill>
        <p:spPr>
          <a:xfrm>
            <a:off x="324000" y="2781360"/>
            <a:ext cx="2303280" cy="1495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калийная соль"/>
          <p:cNvPicPr/>
          <p:nvPr/>
        </p:nvPicPr>
        <p:blipFill>
          <a:blip r:embed="rId2"/>
          <a:stretch/>
        </p:blipFill>
        <p:spPr>
          <a:xfrm>
            <a:off x="6234120" y="4292640"/>
            <a:ext cx="2106720" cy="1584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фосфорит"/>
          <p:cNvPicPr/>
          <p:nvPr/>
        </p:nvPicPr>
        <p:blipFill>
          <a:blip r:embed="rId3"/>
          <a:stretch/>
        </p:blipFill>
        <p:spPr>
          <a:xfrm>
            <a:off x="6372360" y="620640"/>
            <a:ext cx="2160360" cy="1519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79280" y="1628640"/>
            <a:ext cx="2952720" cy="947160"/>
          </a:xfrm>
          <a:prstGeom prst="rect">
            <a:avLst/>
          </a:prstGeom>
          <a:solidFill>
            <a:srgbClr val="ffff00"/>
          </a:solidFill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пат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Р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,O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242040" y="3213000"/>
            <a:ext cx="2577960" cy="947160"/>
          </a:xfrm>
          <a:prstGeom prst="rect">
            <a:avLst/>
          </a:prstGeom>
          <a:solidFill>
            <a:srgbClr val="ffff00"/>
          </a:solidFill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лийная с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5940360" y="189000"/>
            <a:ext cx="2232000" cy="520560"/>
          </a:xfrm>
          <a:prstGeom prst="rect">
            <a:avLst/>
          </a:prstGeom>
          <a:solidFill>
            <a:srgbClr val="ffff00"/>
          </a:solidFill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сфор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3" descr="3-2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924360" y="1916280"/>
            <a:ext cx="1852560" cy="3384360"/>
          </a:xfrm>
          <a:prstGeom prst="rect">
            <a:avLst/>
          </a:prstGeom>
          <a:ln w="0">
            <a:noFill/>
          </a:ln>
        </p:spPr>
      </p:pic>
      <p:cxnSp>
        <p:nvCxnSpPr>
          <p:cNvPr id="78" name="Прямая со стрелкой 12"/>
          <p:cNvCxnSpPr/>
          <p:nvPr/>
        </p:nvCxnSpPr>
        <p:spPr>
          <a:xfrm flipH="1">
            <a:off x="5651640" y="1915920"/>
            <a:ext cx="576360" cy="649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Прямая со стрелкой 15"/>
          <p:cNvCxnSpPr/>
          <p:nvPr/>
        </p:nvCxnSpPr>
        <p:spPr>
          <a:xfrm flipH="1">
            <a:off x="5435280" y="3933720"/>
            <a:ext cx="721440" cy="721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Прямая со стрелкой 17"/>
          <p:cNvCxnSpPr/>
          <p:nvPr/>
        </p:nvCxnSpPr>
        <p:spPr>
          <a:xfrm>
            <a:off x="3276360" y="1915920"/>
            <a:ext cx="864360" cy="86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Прямоугольник 18"/>
          <p:cNvSpPr/>
          <p:nvPr/>
        </p:nvSpPr>
        <p:spPr>
          <a:xfrm>
            <a:off x="826920" y="5516640"/>
            <a:ext cx="2953080" cy="79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Коксовый 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Трапеция 19"/>
          <p:cNvSpPr/>
          <p:nvPr/>
        </p:nvSpPr>
        <p:spPr>
          <a:xfrm>
            <a:off x="1042920" y="5661000"/>
            <a:ext cx="433440" cy="503280"/>
          </a:xfrm>
          <a:custGeom>
            <a:avLst/>
            <a:gdLst>
              <a:gd name="textAreaLeft" fmla="*/ 72000 w 433440"/>
              <a:gd name="textAreaRight" fmla="*/ 361440 w 433440"/>
              <a:gd name="textAreaTop" fmla="*/ 83880 h 503280"/>
              <a:gd name="textAreaBottom" fmla="*/ 503640 h 503280"/>
            </a:gdLst>
            <a:ahLst/>
            <a:rect l="textAreaLeft" t="textAreaTop" r="textAreaRight" b="textAreaBottom"/>
            <a:pathLst>
              <a:path w="433387" h="503238">
                <a:moveTo>
                  <a:pt x="0" y="503238"/>
                </a:moveTo>
                <a:lnTo>
                  <a:pt x="108347" y="0"/>
                </a:lnTo>
                <a:lnTo>
                  <a:pt x="325040" y="0"/>
                </a:lnTo>
                <a:lnTo>
                  <a:pt x="433387" y="503238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1"/>
          <p:cNvSpPr/>
          <p:nvPr/>
        </p:nvSpPr>
        <p:spPr>
          <a:xfrm>
            <a:off x="1692360" y="5732640"/>
            <a:ext cx="431640" cy="43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Прямая со стрелкой 23"/>
          <p:cNvCxnSpPr/>
          <p:nvPr/>
        </p:nvCxnSpPr>
        <p:spPr>
          <a:xfrm flipV="1">
            <a:off x="2987640" y="4075920"/>
            <a:ext cx="1153440" cy="1297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Прямоугольник 10"/>
          <p:cNvSpPr/>
          <p:nvPr/>
        </p:nvSpPr>
        <p:spPr>
          <a:xfrm>
            <a:off x="3637800" y="177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0"/>
          <p:cNvSpPr/>
          <p:nvPr/>
        </p:nvSpPr>
        <p:spPr>
          <a:xfrm flipH="1">
            <a:off x="5723640" y="1557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356652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1"/>
          <p:cNvSpPr/>
          <p:nvPr/>
        </p:nvSpPr>
        <p:spPr>
          <a:xfrm>
            <a:off x="5511240" y="508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496C-35BC-458D-B9D9-21BA0C0D88FA}" type="slidenum">
              <a:rPr b="1" lang="ru-RU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производство мин удобрений РФ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26F8-340B-400D-958C-8DEA021090C6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 минеральных удобрен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125360"/>
          <a:ext cx="7921440" cy="4824720"/>
        </p:xfrm>
        <a:graphic>
          <a:graphicData uri="http://schemas.openxmlformats.org/drawingml/2006/table">
            <a:tbl>
              <a:tblPr/>
              <a:tblGrid>
                <a:gridCol w="2087280"/>
                <a:gridCol w="1865520"/>
                <a:gridCol w="2046240"/>
                <a:gridCol w="1922400"/>
              </a:tblGrid>
              <a:tr h="1206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рас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ду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акто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нт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20636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новная хим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-во минеральных удобр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2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20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9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B662-BBA0-4B7B-AE64-FC2CEB5442D6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Апатит Са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PO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(F,OH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8" descr="апатит"/>
          <p:cNvPicPr/>
          <p:nvPr/>
        </p:nvPicPr>
        <p:blipFill>
          <a:blip r:embed="rId1"/>
          <a:stretch/>
        </p:blipFill>
        <p:spPr>
          <a:xfrm>
            <a:off x="4140360" y="1989000"/>
            <a:ext cx="2089080" cy="2089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7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756A-0217-4C80-B54E-AA95023114E5}" type="slidenum"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5:10:42Z</dcterms:created>
  <dc:creator>School2</dc:creator>
  <dc:description/>
  <dc:language>en-US</dc:language>
  <cp:lastModifiedBy>School2</cp:lastModifiedBy>
  <dcterms:modified xsi:type="dcterms:W3CDTF">2013-02-15T06:58:07Z</dcterms:modified>
  <cp:revision>80</cp:revision>
  <dc:subject/>
  <dc:title>Интегрированный урок  география – химия    9 класс Горно-химическая промышленность  Мурманской области                                 Авторы: Бушуева Валентина Степановна,  учитель географии высшей категории;                                                     Мехнина Марина Владимировна,                                                 учитель химии первой категории</dc:title>
</cp:coreProperties>
</file>