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A0AD-A722-4EEB-99B2-25C9A45692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B465-28B5-4433-AA11-2E80372D55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199-F68A-43F6-BFC3-F8A14AA9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789-2013-4D50-BA4B-D2FC5B8A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B000-87EF-4342-BE8B-7C3D5F1A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4D6-301B-4C95-9FC7-DE1E6CBE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BE8-762B-42AF-8059-09FF7A79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6F7-E6EE-4924-9B55-3FC5D42C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576-AEA2-404F-BEB1-B30998D7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EEC-B160-4529-80CF-FC4F163A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DE0-20B9-4EC6-B11F-4CE4196F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746-4A46-41FD-BD0E-F296F5B5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8B6-EE28-4EB3-83E9-C25BD95E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4A6-B1EC-4F46-B5B7-B367C943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9D01-C225-493F-B7ED-A955D78729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lower_Hat_Jellyfish_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Anthozoa" TargetMode="External"/><Relationship Id="rId3" Type="http://schemas.openxmlformats.org/officeDocument/2006/relationships/hyperlink" Target="http://ru.wikipedia.org/w/index.php?title=Gorgonacea&amp;action=edit&amp;redlink=1" TargetMode="External"/><Relationship Id="rId4" Type="http://schemas.openxmlformats.org/officeDocument/2006/relationships/hyperlink" Target="http://ru.wikipedia.org/wiki/&#1050;&#1086;&#1088;&#1072;&#1083;&#1083;&#1086;&#1074;&#1099;&#1077;_&#1087;&#1086;&#1083;&#1080;&#1087;&#1099;" TargetMode="External"/><Relationship Id="rId5" Type="http://schemas.openxmlformats.org/officeDocument/2006/relationships/hyperlink" Target="http://ru.wikipedia.org/wiki/&#1057;&#1088;&#1077;&#1076;&#1080;&#1079;&#1077;&#1084;&#1085;&#1086;&#1077;_&#1084;&#1086;&#1088;&#1077;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http://upload.wikimedia.org/wikipedia/commons/thumb/1/17/Flower_Hat_Jellyfish_1.jpg/350px-Flower_Hat_Jellyfish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2"/>
          <p:cNvSpPr txBox="1"/>
          <p:nvPr/>
        </p:nvSpPr>
        <p:spPr>
          <a:xfrm>
            <a:off x="285840" y="2214720"/>
            <a:ext cx="8429400" cy="101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Чьи щупальца лучше и быстре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714240" y="3571920"/>
            <a:ext cx="75726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57120" y="3429000"/>
            <a:ext cx="84297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образие и значение кишечнополостных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43280" y="272880"/>
            <a:ext cx="41436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агородный кор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36432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агородный корал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сный корал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la-VA" sz="1600" spc="-1" strike="noStrike">
                <a:solidFill>
                  <a:srgbClr val="000000"/>
                </a:solidFill>
                <a:latin typeface="Arial"/>
              </a:rPr>
              <a:t>Corallium rubru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 — вид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оралловых полип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 отряд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оговых коралл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Gorgonace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 Колониальное животное отряда горгонарий класс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оралловых полип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Осевой скелет колонии образуется в результате слияния известковых спикул, окрашенных органическим пигментом в красный или розовый, изредка — голубой и чёрный ц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итает на глубине 10—200 метров в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редиземном мор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у берегов Италии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Алжи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унис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арокк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Красном море, у берегов Японии, Малайзии, Австралии, в районе Гавайских островов. Образует разветвлённые колонии, прочно прикрепляющиеся к скалистому грунту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лип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елые, снабжены венчиком из 8 перистых щупалец. Красные кораллы имеют форму маленьких безлистных кустарников и могут вырастать до метра в выс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6" descr="Corallo vivo.jpg"/>
          <p:cNvPicPr/>
          <p:nvPr/>
        </p:nvPicPr>
        <p:blipFill>
          <a:blip r:embed="rId6"/>
          <a:stretch/>
        </p:blipFill>
        <p:spPr>
          <a:xfrm>
            <a:off x="3786120" y="1571760"/>
            <a:ext cx="500076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агородный кор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ые кораллы используются для изготовления украшений и в этом качестве ценятся более других видов кораллов. Красные кораллы ценились ещё с античных времё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одержимое 4" descr="http://upload.wikimedia.org/wikipedia/commons/thumb/d/d2/Coral_woman_p1070258.jpg/270px-Coral_woman_p1070258.jpg"/>
          <p:cNvPicPr/>
          <p:nvPr/>
        </p:nvPicPr>
        <p:blipFill>
          <a:blip r:embed="rId1"/>
          <a:stretch/>
        </p:blipFill>
        <p:spPr>
          <a:xfrm>
            <a:off x="4000680" y="1571760"/>
            <a:ext cx="471456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 (500x375, 81Kb)"/>
          <p:cNvPicPr/>
          <p:nvPr/>
        </p:nvPicPr>
        <p:blipFill>
          <a:blip r:embed="rId1"/>
          <a:stretch/>
        </p:blipFill>
        <p:spPr>
          <a:xfrm>
            <a:off x="142920" y="1500120"/>
            <a:ext cx="4357800" cy="5072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угальский корабли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угальский кораблик (лат. Physalia physalis) относятся к очень примитивным, но весьма интересным беспозвоночным организмам — сифонофорам, близким родственникам знакомых всем нам медуз. Это, пожалуй, один из самых многочисленных обитателей поверхности океан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 (500x667, 71Kb)"/>
          <p:cNvPicPr/>
          <p:nvPr/>
        </p:nvPicPr>
        <p:blipFill>
          <a:blip r:embed="rId1"/>
          <a:stretch/>
        </p:blipFill>
        <p:spPr>
          <a:xfrm>
            <a:off x="285840" y="1500120"/>
            <a:ext cx="4143240" cy="5000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риза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39718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2920" y="1500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упальца физалии — очень грозное оружие. Горе прикоснувшимся к ним рачкам или мелким рыбкам: тысячи отравленных стрел впиваются в их тело, вызывая паралич и быструю смерть. Мне неоднократно приходилось испытывать их агрессивный норов на себе — часто хребтина тунцеловного яруса бывает опутана щупальцами физалий, которых в пылу рыбацких страстей не всегда удается вовремя заметить. Тонкая развевающаяся на ветру нить, словно безжалостный хлесткий кнут, обжигает незащищенное тел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невматоф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оверхности их удерживает воздушный пузырь — пневматофор, имеющий иногда внушительные размеры — до 15-20 см. От пневматофора свешиваются вниз сравнительно короткие пищеварительные органы — гастрозоиды, а среди их густой бахромы уходят вниз спирально закрученные ловчие щупальца — дактилозоиды. Их размеры нередко достигают 30 метров, и они могут сокращаться до 1/70 своей первоначальной дли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4" descr=" (500x375, 61Kb)"/>
          <p:cNvPicPr/>
          <p:nvPr/>
        </p:nvPicPr>
        <p:blipFill>
          <a:blip r:embed="rId1"/>
          <a:stretch/>
        </p:blipFill>
        <p:spPr>
          <a:xfrm>
            <a:off x="357120" y="1785960"/>
            <a:ext cx="392904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Что нового вы узнали сегодня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Что особенно вызвало ваш интере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2"/>
          <p:cNvSpPr txBox="1"/>
          <p:nvPr/>
        </p:nvSpPr>
        <p:spPr>
          <a:xfrm>
            <a:off x="1571760" y="500040"/>
            <a:ext cx="5715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рефлекс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биологии Клевцова Г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2"/>
          <p:cNvSpPr txBox="1"/>
          <p:nvPr/>
        </p:nvSpPr>
        <p:spPr>
          <a:xfrm rot="20476200">
            <a:off x="789120" y="1760400"/>
            <a:ext cx="7867440" cy="26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2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пасибо за уро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2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чески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й этап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изитная карт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й этап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идеовопро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й этап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идактическая карт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-й этап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«Заочное кругосветное путешествие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й этап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ерю –не вер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й этап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Расширяющий вопро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ведение ит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2"/>
          <p:cNvSpPr txBox="1"/>
          <p:nvPr/>
        </p:nvSpPr>
        <p:spPr>
          <a:xfrm>
            <a:off x="1928880" y="357120"/>
            <a:ext cx="53578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апы урок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8"/>
          <p:cNvSpPr/>
          <p:nvPr/>
        </p:nvSpPr>
        <p:spPr>
          <a:xfrm>
            <a:off x="71280" y="571680"/>
            <a:ext cx="9001440" cy="3143160"/>
          </a:xfrm>
          <a:prstGeom prst="rect">
            <a:avLst/>
          </a:prstGeom>
          <a:solidFill>
            <a:srgbClr val="f0f8f9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57120" y="735120"/>
            <a:ext cx="842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фообразующие кораллы обитают только в тропических областях Мирового океана, так как нуждаются в высокой и постоянной температуре воды, чувствительны к освещенности, солености воды и ее насыщенности кислор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мость распределения от освещенности обусловлена симбиозом коралловых полипов с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дноклеточными водорослями (зооксантеллами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фы бывают трех типов: береговые, барьерные и атоллы. Атолл – коралловый остров кольцевидной формы. Согласно гипотезе Ч.Дарвина исходным типом является береговой риф. Барьерные рифы и атоллы образуются в результате постепенного опускания с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28760" y="4071960"/>
            <a:ext cx="7924680" cy="1781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1000080" y="5857920"/>
            <a:ext cx="72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Береговой риф                   Барьерный риф                          Атол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71280" y="71280"/>
            <a:ext cx="9010800" cy="428760"/>
          </a:xfrm>
          <a:prstGeom prst="rect">
            <a:avLst/>
          </a:prstGeom>
          <a:solidFill>
            <a:srgbClr val="f0f8f9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357120" y="90360"/>
            <a:ext cx="8429760" cy="373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Класс Коралловые поли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описани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6" descr="Коралловый Остров"/>
          <p:cNvPicPr/>
          <p:nvPr/>
        </p:nvPicPr>
        <p:blipFill>
          <a:blip r:embed="rId1"/>
          <a:stretch/>
        </p:blipFill>
        <p:spPr>
          <a:xfrm>
            <a:off x="3575160" y="928800"/>
            <a:ext cx="5354640" cy="4286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Большой Барьерный Риф — наверное самая известная природная достопримечательность Австралии, ведь помимо бесчисленного количества разнообразных кораллов и подводной живности здешняя погода позволяет любоваться всей этой красотой круглый год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2868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гласно современным исследованиям, первые коралловые рифы на этом месте начали образовываться около 18 миллионов лет назад, но с течением истории старые рифы разрушались, а на их месте росли новые. Сегодня на поверхности воды можно увидеть лишь малую часть кораллов, и то во время отливов, а для того, чтобы насладиться более подробной картиной — придётся погрузиться в тёплые воды Тихого океан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5" descr="Подводная сказка"/>
          <p:cNvPicPr/>
          <p:nvPr/>
        </p:nvPicPr>
        <p:blipFill>
          <a:blip r:embed="rId1"/>
          <a:stretch/>
        </p:blipFill>
        <p:spPr>
          <a:xfrm>
            <a:off x="1214280" y="2143080"/>
            <a:ext cx="6681960" cy="3967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00120" y="571320"/>
            <a:ext cx="5778720" cy="479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3" descr="Кораллы"/>
          <p:cNvPicPr/>
          <p:nvPr/>
        </p:nvPicPr>
        <p:blipFill>
          <a:blip r:embed="rId1"/>
          <a:srcRect l="0" t="21904" r="0" b="21904"/>
          <a:stretch/>
        </p:blipFill>
        <p:spPr>
          <a:xfrm>
            <a:off x="1643040" y="142920"/>
            <a:ext cx="5357880" cy="5572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 Барьерный Риф насчитывает более 70-ти коралловых островов, формирующих зеленовато-бирюзовую цепь среди океанской синевы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которые рифы окружают белые коралловые острова с роскошной растительностью, в которой гнездятся пт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Птищхе"/>
          <p:cNvPicPr/>
          <p:nvPr/>
        </p:nvPicPr>
        <p:blipFill>
          <a:blip r:embed="rId1"/>
          <a:srcRect l="49" t="0" r="49" b="0"/>
          <a:stretch/>
        </p:blipFill>
        <p:spPr>
          <a:xfrm>
            <a:off x="1714680" y="571680"/>
            <a:ext cx="5564160" cy="4643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ько представьте себе, что вся эта многокилометровая красота образована миллиардами крошечных коралловых полипов, каждый величиной с булавочную головк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Рыбы"/>
          <p:cNvPicPr/>
          <p:nvPr/>
        </p:nvPicPr>
        <p:blipFill>
          <a:blip r:embed="rId1"/>
          <a:stretch/>
        </p:blipFill>
        <p:spPr>
          <a:xfrm>
            <a:off x="2071800" y="214200"/>
            <a:ext cx="4429080" cy="5072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85960" y="5716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14680" y="5367240"/>
            <a:ext cx="556416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ым популярным местом у дайверов является цепь коралловых островов между Брисбеном и Кэрнсом, на территории которой находится более 400 видов кораллов и более полутора тысяч видов тропических рыб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Рыбёшка"/>
          <p:cNvPicPr/>
          <p:nvPr/>
        </p:nvPicPr>
        <p:blipFill>
          <a:blip r:embed="rId2"/>
          <a:stretch/>
        </p:blipFill>
        <p:spPr>
          <a:xfrm>
            <a:off x="1071720" y="571680"/>
            <a:ext cx="6786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06:57:50Z</dcterms:created>
  <dc:creator>Admin</dc:creator>
  <dc:description/>
  <dc:language>en-US</dc:language>
  <cp:lastModifiedBy>Клевцова Г.В.</cp:lastModifiedBy>
  <dcterms:modified xsi:type="dcterms:W3CDTF">2013-02-15T09:16:16Z</dcterms:modified>
  <cp:revision>18</cp:revision>
  <dc:subject/>
  <dc:title>Слайд 1</dc:title>
</cp:coreProperties>
</file>