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57B-F515-4780-894B-EB396505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90C-3748-4006-89DF-F37519EA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B7D-0A18-4B58-88C3-AEC102CF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636-9370-4D2D-896B-09F56181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FA8-DB95-4D0F-BDC3-85D4A3CD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652-E23C-4879-88CF-801F57DA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15A-7A28-4DEA-9852-B12E208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44A-096E-4F77-A7B5-3355FAF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218-24CE-40BC-B30C-B82B7F3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59D-8D46-4746-B473-DE001B91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CB5-C5F8-4E2D-AB44-4A28A98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1CA-E4BC-48F3-B16A-4CCE203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4446-24F2-44CB-BCC3-E7122950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0280" y="3800520"/>
            <a:ext cx="4468680" cy="289080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00280" y="3800520"/>
            <a:ext cx="4468680" cy="49212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00280" y="691920"/>
            <a:ext cx="4468680" cy="310824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0280" y="3871800"/>
            <a:ext cx="4468680" cy="56520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00280" y="3800520"/>
            <a:ext cx="4468680" cy="279720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8:00:44Z</dcterms:created>
  <dc:creator>Учитель информатики</dc:creator>
  <dc:description/>
  <dc:language>en-US</dc:language>
  <cp:lastModifiedBy>Учитель информатики</cp:lastModifiedBy>
  <dcterms:modified xsi:type="dcterms:W3CDTF">2009-02-17T08:56:09Z</dcterms:modified>
  <cp:revision>4</cp:revision>
  <dc:subject/>
  <dc:title>Слайд 1</dc:title>
</cp:coreProperties>
</file>