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1C00-3831-4026-BB6E-230E87E3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A226-10A9-493E-B15E-0ABEE85F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BDA2-9EB1-423B-8222-1B1FC683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62A0-8A07-4CBE-9938-97649583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6E3A-0AFC-4567-9D54-31C30B1E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5EE2-926D-46BD-9E41-E18394BD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A142-6D38-4B20-A112-FE730D33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9955-AA5C-413B-A68F-1F1E5076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4C65-BFAD-489F-8F28-7767908F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B4C3-884B-4938-93F2-FDFCD8FC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5A1D-FA75-4E3C-A9AC-975BE7D5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1E9F-308B-4E10-ACCF-2EC90A13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8A08-DC43-44D0-BBAF-18AECCC00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05280" y="1197000"/>
            <a:ext cx="1333440" cy="14400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0800000">
            <a:off x="3708360" y="2637000"/>
            <a:ext cx="1727280" cy="2520720"/>
          </a:xfrm>
          <a:custGeom>
            <a:avLst/>
            <a:gdLst>
              <a:gd name="textAreaLeft" fmla="*/ 379800 w 1727280"/>
              <a:gd name="textAreaRight" fmla="*/ 1347480 w 1727280"/>
              <a:gd name="textAreaTop" fmla="*/ 554400 h 2520720"/>
              <a:gd name="textAreaBottom" fmla="*/ 196632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14920" y="5157720"/>
            <a:ext cx="7308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88000" y="6021360"/>
            <a:ext cx="503280" cy="2872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56000" y="5157720"/>
            <a:ext cx="7164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852720" y="6021360"/>
            <a:ext cx="503280" cy="2872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974400">
            <a:off x="2484360" y="3284640"/>
            <a:ext cx="1944720" cy="144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293800">
            <a:off x="4714560" y="3212640"/>
            <a:ext cx="1944720" cy="144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4120560" y="458640"/>
            <a:ext cx="865440" cy="1477800"/>
          </a:xfrm>
          <a:prstGeom prst="flowChartCollat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00280" y="3800520"/>
            <a:ext cx="4468680" cy="2890800"/>
          </a:xfrm>
          <a:custGeom>
            <a:avLst/>
            <a:gdLst/>
            <a:ahLst/>
            <a:rect l="l" t="t" r="r" b="b"/>
            <a:pathLst>
              <a:path w="2815" h="1821">
                <a:moveTo>
                  <a:pt x="90" y="163"/>
                </a:moveTo>
                <a:cubicBezTo>
                  <a:pt x="23" y="185"/>
                  <a:pt x="27" y="213"/>
                  <a:pt x="6" y="275"/>
                </a:cubicBezTo>
                <a:cubicBezTo>
                  <a:pt x="11" y="500"/>
                  <a:pt x="0" y="726"/>
                  <a:pt x="20" y="950"/>
                </a:cubicBezTo>
                <a:cubicBezTo>
                  <a:pt x="26" y="1020"/>
                  <a:pt x="121" y="1121"/>
                  <a:pt x="160" y="1174"/>
                </a:cubicBezTo>
                <a:cubicBezTo>
                  <a:pt x="204" y="1233"/>
                  <a:pt x="276" y="1355"/>
                  <a:pt x="329" y="1399"/>
                </a:cubicBezTo>
                <a:cubicBezTo>
                  <a:pt x="356" y="1422"/>
                  <a:pt x="395" y="1425"/>
                  <a:pt x="427" y="1441"/>
                </a:cubicBezTo>
                <a:cubicBezTo>
                  <a:pt x="492" y="1539"/>
                  <a:pt x="605" y="1587"/>
                  <a:pt x="708" y="1638"/>
                </a:cubicBezTo>
                <a:cubicBezTo>
                  <a:pt x="770" y="1731"/>
                  <a:pt x="861" y="1737"/>
                  <a:pt x="961" y="1778"/>
                </a:cubicBezTo>
                <a:cubicBezTo>
                  <a:pt x="1045" y="1813"/>
                  <a:pt x="1007" y="1799"/>
                  <a:pt x="1073" y="1821"/>
                </a:cubicBezTo>
                <a:cubicBezTo>
                  <a:pt x="1246" y="1816"/>
                  <a:pt x="1420" y="1819"/>
                  <a:pt x="1593" y="1807"/>
                </a:cubicBezTo>
                <a:cubicBezTo>
                  <a:pt x="1627" y="1805"/>
                  <a:pt x="1659" y="1787"/>
                  <a:pt x="1692" y="1778"/>
                </a:cubicBezTo>
                <a:cubicBezTo>
                  <a:pt x="1943" y="1708"/>
                  <a:pt x="2120" y="1512"/>
                  <a:pt x="2352" y="1413"/>
                </a:cubicBezTo>
                <a:cubicBezTo>
                  <a:pt x="2396" y="1369"/>
                  <a:pt x="2438" y="1321"/>
                  <a:pt x="2478" y="1273"/>
                </a:cubicBezTo>
                <a:cubicBezTo>
                  <a:pt x="2489" y="1260"/>
                  <a:pt x="2492" y="1240"/>
                  <a:pt x="2506" y="1231"/>
                </a:cubicBezTo>
                <a:cubicBezTo>
                  <a:pt x="2522" y="1220"/>
                  <a:pt x="2544" y="1222"/>
                  <a:pt x="2563" y="1217"/>
                </a:cubicBezTo>
                <a:cubicBezTo>
                  <a:pt x="2577" y="1203"/>
                  <a:pt x="2588" y="1185"/>
                  <a:pt x="2605" y="1174"/>
                </a:cubicBezTo>
                <a:cubicBezTo>
                  <a:pt x="2640" y="1151"/>
                  <a:pt x="2687" y="1148"/>
                  <a:pt x="2717" y="1118"/>
                </a:cubicBezTo>
                <a:cubicBezTo>
                  <a:pt x="2762" y="1073"/>
                  <a:pt x="2786" y="1035"/>
                  <a:pt x="2815" y="978"/>
                </a:cubicBezTo>
                <a:cubicBezTo>
                  <a:pt x="2810" y="917"/>
                  <a:pt x="2809" y="856"/>
                  <a:pt x="2801" y="795"/>
                </a:cubicBezTo>
                <a:cubicBezTo>
                  <a:pt x="2799" y="780"/>
                  <a:pt x="2790" y="767"/>
                  <a:pt x="2787" y="753"/>
                </a:cubicBezTo>
                <a:cubicBezTo>
                  <a:pt x="2776" y="697"/>
                  <a:pt x="2759" y="584"/>
                  <a:pt x="2759" y="584"/>
                </a:cubicBezTo>
                <a:cubicBezTo>
                  <a:pt x="2754" y="500"/>
                  <a:pt x="2762" y="414"/>
                  <a:pt x="2745" y="331"/>
                </a:cubicBezTo>
                <a:cubicBezTo>
                  <a:pt x="2742" y="314"/>
                  <a:pt x="2714" y="316"/>
                  <a:pt x="2703" y="303"/>
                </a:cubicBezTo>
                <a:cubicBezTo>
                  <a:pt x="2679" y="274"/>
                  <a:pt x="2668" y="236"/>
                  <a:pt x="2647" y="205"/>
                </a:cubicBezTo>
                <a:cubicBezTo>
                  <a:pt x="2632" y="129"/>
                  <a:pt x="2649" y="103"/>
                  <a:pt x="2577" y="79"/>
                </a:cubicBezTo>
                <a:cubicBezTo>
                  <a:pt x="2551" y="0"/>
                  <a:pt x="2517" y="22"/>
                  <a:pt x="2436" y="2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05280" y="1197000"/>
            <a:ext cx="1333440" cy="14400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3708360" y="2637000"/>
            <a:ext cx="1727280" cy="2520720"/>
          </a:xfrm>
          <a:custGeom>
            <a:avLst/>
            <a:gdLst>
              <a:gd name="textAreaLeft" fmla="*/ 379800 w 1727280"/>
              <a:gd name="textAreaRight" fmla="*/ 1347480 w 1727280"/>
              <a:gd name="textAreaTop" fmla="*/ 554400 h 2520720"/>
              <a:gd name="textAreaBottom" fmla="*/ 196632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4920" y="5157720"/>
            <a:ext cx="7308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6021360"/>
            <a:ext cx="503280" cy="2872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56000" y="5157720"/>
            <a:ext cx="7164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852720" y="6021360"/>
            <a:ext cx="503280" cy="2872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8974400">
            <a:off x="2484360" y="3284640"/>
            <a:ext cx="1944720" cy="144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293800">
            <a:off x="4714560" y="3212640"/>
            <a:ext cx="1944720" cy="144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4120560" y="458640"/>
            <a:ext cx="865440" cy="1477800"/>
          </a:xfrm>
          <a:prstGeom prst="flowChartCollat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00280" y="3800520"/>
            <a:ext cx="4468680" cy="492120"/>
          </a:xfrm>
          <a:custGeom>
            <a:avLst/>
            <a:gdLst/>
            <a:ahLst/>
            <a:rect l="l" t="t" r="r" b="b"/>
            <a:pathLst>
              <a:path w="2815" h="1821">
                <a:moveTo>
                  <a:pt x="90" y="163"/>
                </a:moveTo>
                <a:cubicBezTo>
                  <a:pt x="23" y="185"/>
                  <a:pt x="27" y="213"/>
                  <a:pt x="6" y="275"/>
                </a:cubicBezTo>
                <a:cubicBezTo>
                  <a:pt x="11" y="500"/>
                  <a:pt x="0" y="726"/>
                  <a:pt x="20" y="950"/>
                </a:cubicBezTo>
                <a:cubicBezTo>
                  <a:pt x="26" y="1020"/>
                  <a:pt x="121" y="1121"/>
                  <a:pt x="160" y="1174"/>
                </a:cubicBezTo>
                <a:cubicBezTo>
                  <a:pt x="204" y="1233"/>
                  <a:pt x="276" y="1355"/>
                  <a:pt x="329" y="1399"/>
                </a:cubicBezTo>
                <a:cubicBezTo>
                  <a:pt x="356" y="1422"/>
                  <a:pt x="395" y="1425"/>
                  <a:pt x="427" y="1441"/>
                </a:cubicBezTo>
                <a:cubicBezTo>
                  <a:pt x="492" y="1539"/>
                  <a:pt x="605" y="1587"/>
                  <a:pt x="708" y="1638"/>
                </a:cubicBezTo>
                <a:cubicBezTo>
                  <a:pt x="770" y="1731"/>
                  <a:pt x="861" y="1737"/>
                  <a:pt x="961" y="1778"/>
                </a:cubicBezTo>
                <a:cubicBezTo>
                  <a:pt x="1045" y="1813"/>
                  <a:pt x="1007" y="1799"/>
                  <a:pt x="1073" y="1821"/>
                </a:cubicBezTo>
                <a:cubicBezTo>
                  <a:pt x="1246" y="1816"/>
                  <a:pt x="1420" y="1819"/>
                  <a:pt x="1593" y="1807"/>
                </a:cubicBezTo>
                <a:cubicBezTo>
                  <a:pt x="1627" y="1805"/>
                  <a:pt x="1659" y="1787"/>
                  <a:pt x="1692" y="1778"/>
                </a:cubicBezTo>
                <a:cubicBezTo>
                  <a:pt x="1943" y="1708"/>
                  <a:pt x="2120" y="1512"/>
                  <a:pt x="2352" y="1413"/>
                </a:cubicBezTo>
                <a:cubicBezTo>
                  <a:pt x="2396" y="1369"/>
                  <a:pt x="2438" y="1321"/>
                  <a:pt x="2478" y="1273"/>
                </a:cubicBezTo>
                <a:cubicBezTo>
                  <a:pt x="2489" y="1260"/>
                  <a:pt x="2492" y="1240"/>
                  <a:pt x="2506" y="1231"/>
                </a:cubicBezTo>
                <a:cubicBezTo>
                  <a:pt x="2522" y="1220"/>
                  <a:pt x="2544" y="1222"/>
                  <a:pt x="2563" y="1217"/>
                </a:cubicBezTo>
                <a:cubicBezTo>
                  <a:pt x="2577" y="1203"/>
                  <a:pt x="2588" y="1185"/>
                  <a:pt x="2605" y="1174"/>
                </a:cubicBezTo>
                <a:cubicBezTo>
                  <a:pt x="2640" y="1151"/>
                  <a:pt x="2687" y="1148"/>
                  <a:pt x="2717" y="1118"/>
                </a:cubicBezTo>
                <a:cubicBezTo>
                  <a:pt x="2762" y="1073"/>
                  <a:pt x="2786" y="1035"/>
                  <a:pt x="2815" y="978"/>
                </a:cubicBezTo>
                <a:cubicBezTo>
                  <a:pt x="2810" y="917"/>
                  <a:pt x="2809" y="856"/>
                  <a:pt x="2801" y="795"/>
                </a:cubicBezTo>
                <a:cubicBezTo>
                  <a:pt x="2799" y="780"/>
                  <a:pt x="2790" y="767"/>
                  <a:pt x="2787" y="753"/>
                </a:cubicBezTo>
                <a:cubicBezTo>
                  <a:pt x="2776" y="697"/>
                  <a:pt x="2759" y="584"/>
                  <a:pt x="2759" y="584"/>
                </a:cubicBezTo>
                <a:cubicBezTo>
                  <a:pt x="2754" y="500"/>
                  <a:pt x="2762" y="414"/>
                  <a:pt x="2745" y="331"/>
                </a:cubicBezTo>
                <a:cubicBezTo>
                  <a:pt x="2742" y="314"/>
                  <a:pt x="2714" y="316"/>
                  <a:pt x="2703" y="303"/>
                </a:cubicBezTo>
                <a:cubicBezTo>
                  <a:pt x="2679" y="274"/>
                  <a:pt x="2668" y="236"/>
                  <a:pt x="2647" y="205"/>
                </a:cubicBezTo>
                <a:cubicBezTo>
                  <a:pt x="2632" y="129"/>
                  <a:pt x="2649" y="103"/>
                  <a:pt x="2577" y="79"/>
                </a:cubicBezTo>
                <a:cubicBezTo>
                  <a:pt x="2551" y="0"/>
                  <a:pt x="2517" y="22"/>
                  <a:pt x="2436" y="2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05280" y="1197000"/>
            <a:ext cx="1333440" cy="14400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3708360" y="2637000"/>
            <a:ext cx="1727280" cy="2520720"/>
          </a:xfrm>
          <a:custGeom>
            <a:avLst/>
            <a:gdLst>
              <a:gd name="textAreaLeft" fmla="*/ 379800 w 1727280"/>
              <a:gd name="textAreaRight" fmla="*/ 1347480 w 1727280"/>
              <a:gd name="textAreaTop" fmla="*/ 554400 h 2520720"/>
              <a:gd name="textAreaBottom" fmla="*/ 196632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4920" y="5157720"/>
            <a:ext cx="7308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8000" y="6021360"/>
            <a:ext cx="503280" cy="2872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56000" y="5157720"/>
            <a:ext cx="7164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852720" y="6021360"/>
            <a:ext cx="503280" cy="2872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8974400">
            <a:off x="2484360" y="3284640"/>
            <a:ext cx="1944720" cy="144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293800">
            <a:off x="4714560" y="3212640"/>
            <a:ext cx="1944720" cy="144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4120560" y="458640"/>
            <a:ext cx="865440" cy="1477800"/>
          </a:xfrm>
          <a:prstGeom prst="flowChartCollat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600280" y="691920"/>
            <a:ext cx="4468680" cy="3108240"/>
          </a:xfrm>
          <a:custGeom>
            <a:avLst/>
            <a:gdLst/>
            <a:ahLst/>
            <a:rect l="l" t="t" r="r" b="b"/>
            <a:pathLst>
              <a:path w="2815" h="1821">
                <a:moveTo>
                  <a:pt x="90" y="163"/>
                </a:moveTo>
                <a:cubicBezTo>
                  <a:pt x="23" y="185"/>
                  <a:pt x="27" y="213"/>
                  <a:pt x="6" y="275"/>
                </a:cubicBezTo>
                <a:cubicBezTo>
                  <a:pt x="11" y="500"/>
                  <a:pt x="0" y="726"/>
                  <a:pt x="20" y="950"/>
                </a:cubicBezTo>
                <a:cubicBezTo>
                  <a:pt x="26" y="1020"/>
                  <a:pt x="121" y="1121"/>
                  <a:pt x="160" y="1174"/>
                </a:cubicBezTo>
                <a:cubicBezTo>
                  <a:pt x="204" y="1233"/>
                  <a:pt x="276" y="1355"/>
                  <a:pt x="329" y="1399"/>
                </a:cubicBezTo>
                <a:cubicBezTo>
                  <a:pt x="356" y="1422"/>
                  <a:pt x="395" y="1425"/>
                  <a:pt x="427" y="1441"/>
                </a:cubicBezTo>
                <a:cubicBezTo>
                  <a:pt x="492" y="1539"/>
                  <a:pt x="605" y="1587"/>
                  <a:pt x="708" y="1638"/>
                </a:cubicBezTo>
                <a:cubicBezTo>
                  <a:pt x="770" y="1731"/>
                  <a:pt x="861" y="1737"/>
                  <a:pt x="961" y="1778"/>
                </a:cubicBezTo>
                <a:cubicBezTo>
                  <a:pt x="1045" y="1813"/>
                  <a:pt x="1007" y="1799"/>
                  <a:pt x="1073" y="1821"/>
                </a:cubicBezTo>
                <a:cubicBezTo>
                  <a:pt x="1246" y="1816"/>
                  <a:pt x="1420" y="1819"/>
                  <a:pt x="1593" y="1807"/>
                </a:cubicBezTo>
                <a:cubicBezTo>
                  <a:pt x="1627" y="1805"/>
                  <a:pt x="1659" y="1787"/>
                  <a:pt x="1692" y="1778"/>
                </a:cubicBezTo>
                <a:cubicBezTo>
                  <a:pt x="1943" y="1708"/>
                  <a:pt x="2120" y="1512"/>
                  <a:pt x="2352" y="1413"/>
                </a:cubicBezTo>
                <a:cubicBezTo>
                  <a:pt x="2396" y="1369"/>
                  <a:pt x="2438" y="1321"/>
                  <a:pt x="2478" y="1273"/>
                </a:cubicBezTo>
                <a:cubicBezTo>
                  <a:pt x="2489" y="1260"/>
                  <a:pt x="2492" y="1240"/>
                  <a:pt x="2506" y="1231"/>
                </a:cubicBezTo>
                <a:cubicBezTo>
                  <a:pt x="2522" y="1220"/>
                  <a:pt x="2544" y="1222"/>
                  <a:pt x="2563" y="1217"/>
                </a:cubicBezTo>
                <a:cubicBezTo>
                  <a:pt x="2577" y="1203"/>
                  <a:pt x="2588" y="1185"/>
                  <a:pt x="2605" y="1174"/>
                </a:cubicBezTo>
                <a:cubicBezTo>
                  <a:pt x="2640" y="1151"/>
                  <a:pt x="2687" y="1148"/>
                  <a:pt x="2717" y="1118"/>
                </a:cubicBezTo>
                <a:cubicBezTo>
                  <a:pt x="2762" y="1073"/>
                  <a:pt x="2786" y="1035"/>
                  <a:pt x="2815" y="978"/>
                </a:cubicBezTo>
                <a:cubicBezTo>
                  <a:pt x="2810" y="917"/>
                  <a:pt x="2809" y="856"/>
                  <a:pt x="2801" y="795"/>
                </a:cubicBezTo>
                <a:cubicBezTo>
                  <a:pt x="2799" y="780"/>
                  <a:pt x="2790" y="767"/>
                  <a:pt x="2787" y="753"/>
                </a:cubicBezTo>
                <a:cubicBezTo>
                  <a:pt x="2776" y="697"/>
                  <a:pt x="2759" y="584"/>
                  <a:pt x="2759" y="584"/>
                </a:cubicBezTo>
                <a:cubicBezTo>
                  <a:pt x="2754" y="500"/>
                  <a:pt x="2762" y="414"/>
                  <a:pt x="2745" y="331"/>
                </a:cubicBezTo>
                <a:cubicBezTo>
                  <a:pt x="2742" y="314"/>
                  <a:pt x="2714" y="316"/>
                  <a:pt x="2703" y="303"/>
                </a:cubicBezTo>
                <a:cubicBezTo>
                  <a:pt x="2679" y="274"/>
                  <a:pt x="2668" y="236"/>
                  <a:pt x="2647" y="205"/>
                </a:cubicBezTo>
                <a:cubicBezTo>
                  <a:pt x="2632" y="129"/>
                  <a:pt x="2649" y="103"/>
                  <a:pt x="2577" y="79"/>
                </a:cubicBezTo>
                <a:cubicBezTo>
                  <a:pt x="2551" y="0"/>
                  <a:pt x="2517" y="22"/>
                  <a:pt x="2436" y="2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05280" y="1197000"/>
            <a:ext cx="1333440" cy="14400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3708360" y="2637000"/>
            <a:ext cx="1727280" cy="2520720"/>
          </a:xfrm>
          <a:custGeom>
            <a:avLst/>
            <a:gdLst>
              <a:gd name="textAreaLeft" fmla="*/ 379800 w 1727280"/>
              <a:gd name="textAreaRight" fmla="*/ 1347480 w 1727280"/>
              <a:gd name="textAreaTop" fmla="*/ 554400 h 2520720"/>
              <a:gd name="textAreaBottom" fmla="*/ 196632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14920" y="5157720"/>
            <a:ext cx="7308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6021360"/>
            <a:ext cx="503280" cy="2872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56000" y="5157720"/>
            <a:ext cx="7164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852720" y="6021360"/>
            <a:ext cx="503280" cy="2872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8974400">
            <a:off x="2484360" y="3284640"/>
            <a:ext cx="1944720" cy="144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2293800">
            <a:off x="4714560" y="3212640"/>
            <a:ext cx="1944720" cy="144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4120560" y="458640"/>
            <a:ext cx="865440" cy="1477800"/>
          </a:xfrm>
          <a:prstGeom prst="flowChartCollat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00280" y="3871800"/>
            <a:ext cx="4468680" cy="565200"/>
          </a:xfrm>
          <a:custGeom>
            <a:avLst/>
            <a:gdLst/>
            <a:ahLst/>
            <a:rect l="l" t="t" r="r" b="b"/>
            <a:pathLst>
              <a:path w="2815" h="1821">
                <a:moveTo>
                  <a:pt x="90" y="163"/>
                </a:moveTo>
                <a:cubicBezTo>
                  <a:pt x="23" y="185"/>
                  <a:pt x="27" y="213"/>
                  <a:pt x="6" y="275"/>
                </a:cubicBezTo>
                <a:cubicBezTo>
                  <a:pt x="11" y="500"/>
                  <a:pt x="0" y="726"/>
                  <a:pt x="20" y="950"/>
                </a:cubicBezTo>
                <a:cubicBezTo>
                  <a:pt x="26" y="1020"/>
                  <a:pt x="121" y="1121"/>
                  <a:pt x="160" y="1174"/>
                </a:cubicBezTo>
                <a:cubicBezTo>
                  <a:pt x="204" y="1233"/>
                  <a:pt x="276" y="1355"/>
                  <a:pt x="329" y="1399"/>
                </a:cubicBezTo>
                <a:cubicBezTo>
                  <a:pt x="356" y="1422"/>
                  <a:pt x="395" y="1425"/>
                  <a:pt x="427" y="1441"/>
                </a:cubicBezTo>
                <a:cubicBezTo>
                  <a:pt x="492" y="1539"/>
                  <a:pt x="605" y="1587"/>
                  <a:pt x="708" y="1638"/>
                </a:cubicBezTo>
                <a:cubicBezTo>
                  <a:pt x="770" y="1731"/>
                  <a:pt x="861" y="1737"/>
                  <a:pt x="961" y="1778"/>
                </a:cubicBezTo>
                <a:cubicBezTo>
                  <a:pt x="1045" y="1813"/>
                  <a:pt x="1007" y="1799"/>
                  <a:pt x="1073" y="1821"/>
                </a:cubicBezTo>
                <a:cubicBezTo>
                  <a:pt x="1246" y="1816"/>
                  <a:pt x="1420" y="1819"/>
                  <a:pt x="1593" y="1807"/>
                </a:cubicBezTo>
                <a:cubicBezTo>
                  <a:pt x="1627" y="1805"/>
                  <a:pt x="1659" y="1787"/>
                  <a:pt x="1692" y="1778"/>
                </a:cubicBezTo>
                <a:cubicBezTo>
                  <a:pt x="1943" y="1708"/>
                  <a:pt x="2120" y="1512"/>
                  <a:pt x="2352" y="1413"/>
                </a:cubicBezTo>
                <a:cubicBezTo>
                  <a:pt x="2396" y="1369"/>
                  <a:pt x="2438" y="1321"/>
                  <a:pt x="2478" y="1273"/>
                </a:cubicBezTo>
                <a:cubicBezTo>
                  <a:pt x="2489" y="1260"/>
                  <a:pt x="2492" y="1240"/>
                  <a:pt x="2506" y="1231"/>
                </a:cubicBezTo>
                <a:cubicBezTo>
                  <a:pt x="2522" y="1220"/>
                  <a:pt x="2544" y="1222"/>
                  <a:pt x="2563" y="1217"/>
                </a:cubicBezTo>
                <a:cubicBezTo>
                  <a:pt x="2577" y="1203"/>
                  <a:pt x="2588" y="1185"/>
                  <a:pt x="2605" y="1174"/>
                </a:cubicBezTo>
                <a:cubicBezTo>
                  <a:pt x="2640" y="1151"/>
                  <a:pt x="2687" y="1148"/>
                  <a:pt x="2717" y="1118"/>
                </a:cubicBezTo>
                <a:cubicBezTo>
                  <a:pt x="2762" y="1073"/>
                  <a:pt x="2786" y="1035"/>
                  <a:pt x="2815" y="978"/>
                </a:cubicBezTo>
                <a:cubicBezTo>
                  <a:pt x="2810" y="917"/>
                  <a:pt x="2809" y="856"/>
                  <a:pt x="2801" y="795"/>
                </a:cubicBezTo>
                <a:cubicBezTo>
                  <a:pt x="2799" y="780"/>
                  <a:pt x="2790" y="767"/>
                  <a:pt x="2787" y="753"/>
                </a:cubicBezTo>
                <a:cubicBezTo>
                  <a:pt x="2776" y="697"/>
                  <a:pt x="2759" y="584"/>
                  <a:pt x="2759" y="584"/>
                </a:cubicBezTo>
                <a:cubicBezTo>
                  <a:pt x="2754" y="500"/>
                  <a:pt x="2762" y="414"/>
                  <a:pt x="2745" y="331"/>
                </a:cubicBezTo>
                <a:cubicBezTo>
                  <a:pt x="2742" y="314"/>
                  <a:pt x="2714" y="316"/>
                  <a:pt x="2703" y="303"/>
                </a:cubicBezTo>
                <a:cubicBezTo>
                  <a:pt x="2679" y="274"/>
                  <a:pt x="2668" y="236"/>
                  <a:pt x="2647" y="205"/>
                </a:cubicBezTo>
                <a:cubicBezTo>
                  <a:pt x="2632" y="129"/>
                  <a:pt x="2649" y="103"/>
                  <a:pt x="2577" y="79"/>
                </a:cubicBezTo>
                <a:cubicBezTo>
                  <a:pt x="2551" y="0"/>
                  <a:pt x="2517" y="22"/>
                  <a:pt x="2436" y="2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905280" y="1197000"/>
            <a:ext cx="1333440" cy="14400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3708360" y="2637000"/>
            <a:ext cx="1727280" cy="2520720"/>
          </a:xfrm>
          <a:custGeom>
            <a:avLst/>
            <a:gdLst>
              <a:gd name="textAreaLeft" fmla="*/ 379800 w 1727280"/>
              <a:gd name="textAreaRight" fmla="*/ 1347480 w 1727280"/>
              <a:gd name="textAreaTop" fmla="*/ 554400 h 2520720"/>
              <a:gd name="textAreaBottom" fmla="*/ 196632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14920" y="5157720"/>
            <a:ext cx="7308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88000" y="6021360"/>
            <a:ext cx="503280" cy="2872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56000" y="5157720"/>
            <a:ext cx="7164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852720" y="6021360"/>
            <a:ext cx="503280" cy="2872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8974400">
            <a:off x="2484360" y="3284640"/>
            <a:ext cx="1944720" cy="144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293800">
            <a:off x="4714560" y="3212640"/>
            <a:ext cx="1944720" cy="144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4120560" y="458640"/>
            <a:ext cx="865440" cy="1477800"/>
          </a:xfrm>
          <a:prstGeom prst="flowChartCollat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00280" y="3800520"/>
            <a:ext cx="4468680" cy="2797200"/>
          </a:xfrm>
          <a:custGeom>
            <a:avLst/>
            <a:gdLst/>
            <a:ahLst/>
            <a:rect l="l" t="t" r="r" b="b"/>
            <a:pathLst>
              <a:path w="2815" h="1821">
                <a:moveTo>
                  <a:pt x="90" y="163"/>
                </a:moveTo>
                <a:cubicBezTo>
                  <a:pt x="23" y="185"/>
                  <a:pt x="27" y="213"/>
                  <a:pt x="6" y="275"/>
                </a:cubicBezTo>
                <a:cubicBezTo>
                  <a:pt x="11" y="500"/>
                  <a:pt x="0" y="726"/>
                  <a:pt x="20" y="950"/>
                </a:cubicBezTo>
                <a:cubicBezTo>
                  <a:pt x="26" y="1020"/>
                  <a:pt x="121" y="1121"/>
                  <a:pt x="160" y="1174"/>
                </a:cubicBezTo>
                <a:cubicBezTo>
                  <a:pt x="204" y="1233"/>
                  <a:pt x="276" y="1355"/>
                  <a:pt x="329" y="1399"/>
                </a:cubicBezTo>
                <a:cubicBezTo>
                  <a:pt x="356" y="1422"/>
                  <a:pt x="395" y="1425"/>
                  <a:pt x="427" y="1441"/>
                </a:cubicBezTo>
                <a:cubicBezTo>
                  <a:pt x="492" y="1539"/>
                  <a:pt x="605" y="1587"/>
                  <a:pt x="708" y="1638"/>
                </a:cubicBezTo>
                <a:cubicBezTo>
                  <a:pt x="770" y="1731"/>
                  <a:pt x="861" y="1737"/>
                  <a:pt x="961" y="1778"/>
                </a:cubicBezTo>
                <a:cubicBezTo>
                  <a:pt x="1045" y="1813"/>
                  <a:pt x="1007" y="1799"/>
                  <a:pt x="1073" y="1821"/>
                </a:cubicBezTo>
                <a:cubicBezTo>
                  <a:pt x="1246" y="1816"/>
                  <a:pt x="1420" y="1819"/>
                  <a:pt x="1593" y="1807"/>
                </a:cubicBezTo>
                <a:cubicBezTo>
                  <a:pt x="1627" y="1805"/>
                  <a:pt x="1659" y="1787"/>
                  <a:pt x="1692" y="1778"/>
                </a:cubicBezTo>
                <a:cubicBezTo>
                  <a:pt x="1943" y="1708"/>
                  <a:pt x="2120" y="1512"/>
                  <a:pt x="2352" y="1413"/>
                </a:cubicBezTo>
                <a:cubicBezTo>
                  <a:pt x="2396" y="1369"/>
                  <a:pt x="2438" y="1321"/>
                  <a:pt x="2478" y="1273"/>
                </a:cubicBezTo>
                <a:cubicBezTo>
                  <a:pt x="2489" y="1260"/>
                  <a:pt x="2492" y="1240"/>
                  <a:pt x="2506" y="1231"/>
                </a:cubicBezTo>
                <a:cubicBezTo>
                  <a:pt x="2522" y="1220"/>
                  <a:pt x="2544" y="1222"/>
                  <a:pt x="2563" y="1217"/>
                </a:cubicBezTo>
                <a:cubicBezTo>
                  <a:pt x="2577" y="1203"/>
                  <a:pt x="2588" y="1185"/>
                  <a:pt x="2605" y="1174"/>
                </a:cubicBezTo>
                <a:cubicBezTo>
                  <a:pt x="2640" y="1151"/>
                  <a:pt x="2687" y="1148"/>
                  <a:pt x="2717" y="1118"/>
                </a:cubicBezTo>
                <a:cubicBezTo>
                  <a:pt x="2762" y="1073"/>
                  <a:pt x="2786" y="1035"/>
                  <a:pt x="2815" y="978"/>
                </a:cubicBezTo>
                <a:cubicBezTo>
                  <a:pt x="2810" y="917"/>
                  <a:pt x="2809" y="856"/>
                  <a:pt x="2801" y="795"/>
                </a:cubicBezTo>
                <a:cubicBezTo>
                  <a:pt x="2799" y="780"/>
                  <a:pt x="2790" y="767"/>
                  <a:pt x="2787" y="753"/>
                </a:cubicBezTo>
                <a:cubicBezTo>
                  <a:pt x="2776" y="697"/>
                  <a:pt x="2759" y="584"/>
                  <a:pt x="2759" y="584"/>
                </a:cubicBezTo>
                <a:cubicBezTo>
                  <a:pt x="2754" y="500"/>
                  <a:pt x="2762" y="414"/>
                  <a:pt x="2745" y="331"/>
                </a:cubicBezTo>
                <a:cubicBezTo>
                  <a:pt x="2742" y="314"/>
                  <a:pt x="2714" y="316"/>
                  <a:pt x="2703" y="303"/>
                </a:cubicBezTo>
                <a:cubicBezTo>
                  <a:pt x="2679" y="274"/>
                  <a:pt x="2668" y="236"/>
                  <a:pt x="2647" y="205"/>
                </a:cubicBezTo>
                <a:cubicBezTo>
                  <a:pt x="2632" y="129"/>
                  <a:pt x="2649" y="103"/>
                  <a:pt x="2577" y="79"/>
                </a:cubicBezTo>
                <a:cubicBezTo>
                  <a:pt x="2551" y="0"/>
                  <a:pt x="2517" y="22"/>
                  <a:pt x="2436" y="2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8:00:44Z</dcterms:created>
  <dc:creator>Учитель информатики</dc:creator>
  <dc:description/>
  <dc:language>en-US</dc:language>
  <cp:lastModifiedBy>Учитель информатики</cp:lastModifiedBy>
  <dcterms:modified xsi:type="dcterms:W3CDTF">2009-02-17T08:56:09Z</dcterms:modified>
  <cp:revision>4</cp:revision>
  <dc:subject/>
  <dc:title>Слайд 1</dc:title>
</cp:coreProperties>
</file>