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3.png" ContentType="image/png"/>
  <Override PartName="/ppt/media/image28.wmf" ContentType="image/x-wmf"/>
  <Override PartName="/ppt/media/image5.wmf" ContentType="image/x-wmf"/>
  <Override PartName="/ppt/media/image12.jpeg" ContentType="image/jpeg"/>
  <Override PartName="/ppt/media/image33.wmf" ContentType="image/x-wmf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4.wmf" ContentType="image/x-wmf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3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media/image2.gif" ContentType="image/gif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86A-147C-4703-A5A3-034B2CFA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5C1-3A6D-4A9D-9F14-DBF49B97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7BE-7912-4CA9-AF79-3A4BF897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408-6D97-4558-8B5F-3A7832F3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001B-F3B4-422B-984C-40DC9A7F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3DC-5B7E-4480-BF2F-0689D87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3665-324B-4ED7-8CCD-748CF64F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DD8-E077-40A3-BDDD-84114C9E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58EF-67A5-4C52-A6EB-972C8AC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A832-F74F-4C57-94C8-952CC16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0A1-2E47-4DD1-A051-A2A198DD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70F-2B1F-4F7D-8E7D-D95DF31D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956-5A00-4E4D-BB1C-9AC4A6B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09BF-B585-4F16-A206-F19837C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A9B-71AF-4CD1-81B9-1B01D125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247F-2AE7-45FA-ADE3-40CFABD0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9CE-F9F7-430F-9A0F-2BE66917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06D-C520-4710-9BEE-CDC1DB9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B0A-29BE-42FF-8C38-483EF36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89A-40FD-4880-8DBC-1F0F3D74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CF-9EC7-48C3-AAEB-252BC6C6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643-2972-4751-8E18-C00E9B7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401-3C8F-4067-A027-90E2F39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82F-472B-46E8-A4B6-A0F8B8F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A6E1-6650-498C-AC19-F72A659AB27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DFC-A1C2-4572-85DF-1BC06904312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Arial"/>
              </a:rPr>
              <a:t>Мы начинаем КВН!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Arial"/>
              </a:rPr>
              <a:t>«Рубики»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Arial"/>
              </a:rPr>
              <a:t>«Лирики»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Клип 6" descr="HNDSHAK3.WMF"/>
          <p:cNvPicPr/>
          <p:nvPr/>
        </p:nvPicPr>
        <p:blipFill>
          <a:blip r:embed="rId3"/>
          <a:stretch/>
        </p:blipFill>
        <p:spPr>
          <a:xfrm>
            <a:off x="2928960" y="3857760"/>
            <a:ext cx="38098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3"/>
          <p:cNvSpPr/>
          <p:nvPr/>
        </p:nvSpPr>
        <p:spPr>
          <a:xfrm>
            <a:off x="1667520" y="155736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9. Пословицы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43080" y="2163600"/>
            <a:ext cx="598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«Как с гуся вода», «Отрезанный ломоть обратно к хлебу не приставишь» - у этих пословиц одно и то же физическое объяснение. Какое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0" y="5181480"/>
            <a:ext cx="840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олекулы жира и воды, а так же двух ломтей хлеба не взаимодействуют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2" name="Picture 7" descr="C:\Мои документы\Мои рисунки\гусь.jpg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174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C:\Мои документы\Мои рисунки\хлеб.jpg"/>
          <p:cNvPicPr/>
          <p:nvPr/>
        </p:nvPicPr>
        <p:blipFill>
          <a:blip r:embed="rId2"/>
          <a:stretch/>
        </p:blipFill>
        <p:spPr>
          <a:xfrm>
            <a:off x="685800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27"/>
          <p:cNvSpPr/>
          <p:nvPr/>
        </p:nvSpPr>
        <p:spPr>
          <a:xfrm>
            <a:off x="1679760" y="1557360"/>
            <a:ext cx="43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10. Поговорки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Text Box 1028"/>
          <p:cNvSpPr/>
          <p:nvPr/>
        </p:nvSpPr>
        <p:spPr>
          <a:xfrm>
            <a:off x="343080" y="2286000"/>
            <a:ext cx="88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«Носить воду в решете»… Как такое возможно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Text Box 1029"/>
          <p:cNvSpPr/>
          <p:nvPr/>
        </p:nvSpPr>
        <p:spPr>
          <a:xfrm>
            <a:off x="369720" y="36576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оду нужно заморозить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Text Box 1030"/>
          <p:cNvSpPr/>
          <p:nvPr/>
        </p:nvSpPr>
        <p:spPr>
          <a:xfrm>
            <a:off x="343080" y="44197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Что происходит с молекулярной структурой воды при замораживании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Text Box 1031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9" name="Picture 1033" descr="C:\Мои документы\Мои рисунки\Решето.jpg"/>
          <p:cNvPicPr/>
          <p:nvPr/>
        </p:nvPicPr>
        <p:blipFill>
          <a:blip r:embed="rId1"/>
          <a:stretch/>
        </p:blipFill>
        <p:spPr>
          <a:xfrm>
            <a:off x="7086600" y="3200400"/>
            <a:ext cx="1600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1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838080" y="160020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Скорость, молекула, инерция, плотность, весы, диффузия, объем, килограмм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Какие из перечисленных терминов являются физическими величинами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369720" y="48006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Скорость, плотность, объем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2. 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838080" y="1600200"/>
            <a:ext cx="7848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тгадайте загадку. Ответьте на вопросы: о каком измерительном приборе идет речь, какую физическую величину он измеряет, какова основная единица измерения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6553080" y="380988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Часы,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ремя,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секунда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143280" y="434340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Весь век идет Еремушка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Ни сна ему ни дремушки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Шагам он точный счет ведет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А с места, все же, не сойдет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3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83808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тгадайте загадку. Ответьте на вопросы: о каком измерительном приборе идет речь, какую физическую величину он измеряет, какова основная единица измерения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5029200" y="37339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едицинский термометр, температура, градус Цельсия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217440" y="4343400"/>
            <a:ext cx="52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Я под мышкой посижу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 что делать укажу: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ли разрешу гулять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ли уложу в кровать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4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838080" y="16002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Каждая физическая величина является количественной мерой какого либо свойства или явления. Мерой чего является масса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990720" y="4952880"/>
            <a:ext cx="84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асса – мера инертности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9" descr="http://festival.1september.ru/articles/310586/img2.gif"/>
          <p:cNvPicPr/>
          <p:nvPr/>
        </p:nvPicPr>
        <p:blipFill>
          <a:blip r:embed="rId1"/>
          <a:stretch/>
        </p:blipFill>
        <p:spPr>
          <a:xfrm>
            <a:off x="1071720" y="2000160"/>
            <a:ext cx="7215120" cy="300060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3" descr=""/>
          <p:cNvPicPr/>
          <p:nvPr/>
        </p:nvPicPr>
        <p:blipFill>
          <a:blip r:embed="rId2"/>
          <a:stretch/>
        </p:blipFill>
        <p:spPr>
          <a:xfrm>
            <a:off x="3638520" y="5376960"/>
            <a:ext cx="4743360" cy="11271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4" descr=""/>
          <p:cNvPicPr/>
          <p:nvPr/>
        </p:nvPicPr>
        <p:blipFill>
          <a:blip r:embed="rId3"/>
          <a:stretch/>
        </p:blipFill>
        <p:spPr>
          <a:xfrm>
            <a:off x="2139840" y="438120"/>
            <a:ext cx="4967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8" descr="http://festival.1september.ru/articles/310586/img1.gif"/>
          <p:cNvPicPr/>
          <p:nvPr/>
        </p:nvPicPr>
        <p:blipFill>
          <a:blip r:embed="rId1"/>
          <a:stretch/>
        </p:blipFill>
        <p:spPr>
          <a:xfrm>
            <a:off x="1785960" y="1571760"/>
            <a:ext cx="5429160" cy="342900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" descr=""/>
          <p:cNvPicPr/>
          <p:nvPr/>
        </p:nvPicPr>
        <p:blipFill>
          <a:blip r:embed="rId2"/>
          <a:stretch/>
        </p:blipFill>
        <p:spPr>
          <a:xfrm>
            <a:off x="2779560" y="390600"/>
            <a:ext cx="3103560" cy="110952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3" descr=""/>
          <p:cNvPicPr/>
          <p:nvPr/>
        </p:nvPicPr>
        <p:blipFill>
          <a:blip r:embed="rId3"/>
          <a:stretch/>
        </p:blipFill>
        <p:spPr>
          <a:xfrm>
            <a:off x="3029040" y="4943520"/>
            <a:ext cx="3195720" cy="118260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5" descr=""/>
          <p:cNvPicPr/>
          <p:nvPr/>
        </p:nvPicPr>
        <p:blipFill>
          <a:blip r:embed="rId4"/>
          <a:stretch/>
        </p:blipFill>
        <p:spPr>
          <a:xfrm>
            <a:off x="5742000" y="5516640"/>
            <a:ext cx="26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746840" cy="300960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" descr=""/>
          <p:cNvPicPr/>
          <p:nvPr/>
        </p:nvPicPr>
        <p:blipFill>
          <a:blip r:embed="rId2"/>
          <a:stretch/>
        </p:blipFill>
        <p:spPr>
          <a:xfrm>
            <a:off x="1852560" y="463680"/>
            <a:ext cx="3103560" cy="110952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5" descr=""/>
          <p:cNvPicPr/>
          <p:nvPr/>
        </p:nvPicPr>
        <p:blipFill>
          <a:blip r:embed="rId3"/>
          <a:stretch/>
        </p:blipFill>
        <p:spPr>
          <a:xfrm>
            <a:off x="4456080" y="4803840"/>
            <a:ext cx="31212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1500120" y="2214720"/>
            <a:ext cx="3754440" cy="250020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2" descr=""/>
          <p:cNvPicPr/>
          <p:nvPr/>
        </p:nvPicPr>
        <p:blipFill>
          <a:blip r:embed="rId2"/>
          <a:stretch/>
        </p:blipFill>
        <p:spPr>
          <a:xfrm>
            <a:off x="5742000" y="4943520"/>
            <a:ext cx="2328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4" descr="AMWIN.WMF"/>
          <p:cNvPicPr/>
          <p:nvPr/>
        </p:nvPicPr>
        <p:blipFill>
          <a:blip r:embed="rId1"/>
          <a:stretch/>
        </p:blipFill>
        <p:spPr>
          <a:xfrm>
            <a:off x="428760" y="0"/>
            <a:ext cx="2357280" cy="19288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Клятва жюри</a:t>
            </a: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Rectangle 1032"/>
          <p:cNvSpPr/>
          <p:nvPr/>
        </p:nvSpPr>
        <p:spPr>
          <a:xfrm>
            <a:off x="285840" y="137520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ы, стоящие перед вами члены жюри именем всех великих умов человечества, положа руку на святая святых физики, торжественно клянёмся судить по совест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янёмся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Rectangle 1033"/>
          <p:cNvSpPr/>
          <p:nvPr/>
        </p:nvSpPr>
        <p:spPr>
          <a:xfrm>
            <a:off x="214200" y="415296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 приговор будет также неоспорим, как неоспорим закон Ньютона, как верен закон Архимеда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янёмся! Клянёмся! Клянёмся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14200" y="642960"/>
          <a:ext cx="8786880" cy="2354400"/>
        </p:xfrm>
        <a:graphic>
          <a:graphicData uri="http://schemas.openxmlformats.org/drawingml/2006/table">
            <a:tbl>
              <a:tblPr/>
              <a:tblGrid>
                <a:gridCol w="976320"/>
                <a:gridCol w="974880"/>
                <a:gridCol w="976320"/>
                <a:gridCol w="976320"/>
                <a:gridCol w="976320"/>
                <a:gridCol w="976320"/>
                <a:gridCol w="976320"/>
                <a:gridCol w="977760"/>
                <a:gridCol w="976320"/>
              </a:tblGrid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Rectangle 2"/>
          <p:cNvSpPr/>
          <p:nvPr/>
        </p:nvSpPr>
        <p:spPr>
          <a:xfrm>
            <a:off x="357120" y="2810160"/>
            <a:ext cx="8286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Наука о природ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Устройство, с помощью которого измеряют физическую величину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сё, что существует во Вселенно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Длина траектори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Физическая величина, равная отношению массы тела к его объёму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силы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силы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Мельчайшая частица веществ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атмосферного давлени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6" name="Прямоугольник 5" descr=""/>
          <p:cNvPicPr/>
          <p:nvPr/>
        </p:nvPicPr>
        <p:blipFill>
          <a:blip r:embed="rId1"/>
          <a:stretch/>
        </p:blipFill>
        <p:spPr>
          <a:xfrm>
            <a:off x="5346720" y="5589720"/>
            <a:ext cx="41878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85840" y="642960"/>
          <a:ext cx="8715240" cy="1279440"/>
        </p:xfrm>
        <a:graphic>
          <a:graphicData uri="http://schemas.openxmlformats.org/drawingml/2006/table">
            <a:tbl>
              <a:tblPr/>
              <a:tblGrid>
                <a:gridCol w="968400"/>
                <a:gridCol w="966600"/>
                <a:gridCol w="968400"/>
                <a:gridCol w="968400"/>
                <a:gridCol w="968400"/>
                <a:gridCol w="968400"/>
                <a:gridCol w="968400"/>
                <a:gridCol w="969840"/>
                <a:gridCol w="9684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Rectangle 1"/>
          <p:cNvSpPr/>
          <p:nvPr/>
        </p:nvSpPr>
        <p:spPr>
          <a:xfrm>
            <a:off x="285840" y="19062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оизведение массы тела на скорост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работ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масс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Теплообмен, при котором энергия переносится потоками веществ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ереход вещества из твёрдого состояния в жидко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температуры воздух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Твёрдое тело, способное совершать колеб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ремя одного колеб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Сила, с которой тело действует на свою опору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9" name="Прямоугольник 3" descr=""/>
          <p:cNvPicPr/>
          <p:nvPr/>
        </p:nvPicPr>
        <p:blipFill>
          <a:blip r:embed="rId1"/>
          <a:stretch/>
        </p:blipFill>
        <p:spPr>
          <a:xfrm>
            <a:off x="5602320" y="5516640"/>
            <a:ext cx="37670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285840" y="107748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Чем больше из нее берешь, тем больше она становится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6072120" y="39326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Яма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642960" y="124632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Что легче 1 кг пуха или 1 кг железа? Какие физические величины мы сравниваем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428760" y="34592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(Спрашивая, что легче, мы сравниваем массы, а они одинаковые. А вот объемы этих тел сильно отличаются, т.к. отличаются плотности)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428760" y="39528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С запада на восток движется электропоезд со скоростью 100 км/ч и в том же направлении с запада на восток дует ветер со скоростью в 2 раза меньшей, чем скорость поезда. Укажите направление дыма, т.е. в какую сторону отклоняется дым?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857240" y="5137920"/>
            <a:ext cx="69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Электропоезд не дымит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"/>
          <p:cNvSpPr/>
          <p:nvPr/>
        </p:nvSpPr>
        <p:spPr>
          <a:xfrm>
            <a:off x="0" y="88884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огда мы смотрим на два, а говорим десять? Или ясно видим два, считаем четырнадцать</a:t>
            </a: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000680" y="3521160"/>
            <a:ext cx="43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(14 ч.10 мин.)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"/>
          <p:cNvSpPr/>
          <p:nvPr/>
        </p:nvSpPr>
        <p:spPr>
          <a:xfrm>
            <a:off x="357120" y="81360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Одно и тоже яйцо в одном стакане тонет, а в другом плавает. Почему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1357200" y="2934360"/>
            <a:ext cx="721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В одном стакане вода пресная, в другом – подсоленная, там архимедова сила больш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 flipV="1" rot="10800000">
            <a:off x="0" y="45864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Как спрыгнуть с десяти метровой лестницы и не разбиться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000080" y="393624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Прыгнуть с нижней ступеньки</a:t>
            </a:r>
            <a:r>
              <a:rPr b="1" i="1" lang="ru-RU" sz="14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ru-RU" sz="14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928800" y="10965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Мера времени из трех букв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4357800" y="39499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ас, век, год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 flipV="1" rot="10800000">
            <a:off x="499680" y="122256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Чем оканчивается день и ночь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286080" y="409284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Мягкий знак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3. Великие ученые - физики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80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1. Угадай имя ученого по подсказкам: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09480" y="5943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Исаак Ньютон (1643-1727)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609480" y="20574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к нему обращались «сер»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685800" y="25909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его называют отцом классической механики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685800" y="37339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н автор закона всемирного тяготения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762120" y="48006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в его честь названа единица измерения силы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11" descr="C:\Мои документы\Мои рисунки\newton.jpg"/>
          <p:cNvPicPr/>
          <p:nvPr/>
        </p:nvPicPr>
        <p:blipFill>
          <a:blip r:embed="rId1"/>
          <a:stretch/>
        </p:blipFill>
        <p:spPr>
          <a:xfrm>
            <a:off x="6172200" y="2286000"/>
            <a:ext cx="276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928800" y="956520"/>
            <a:ext cx="72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Какая собака получится из 16 кг и хвойного дерева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3857760" y="450396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Пудел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ь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 flipV="1" rot="10800000">
            <a:off x="1213920" y="86436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Седьмая часть недели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786120" y="40039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утки</a:t>
            </a:r>
            <a:r>
              <a:rPr b="0" lang="ru-RU" sz="11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1143000" y="136008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Где текут реки без воды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357720" y="43610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В сказках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"/>
          <p:cNvSpPr/>
          <p:nvPr/>
        </p:nvSpPr>
        <p:spPr>
          <a:xfrm flipV="1" rot="10800000">
            <a:off x="1213920" y="4960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Вода по воде плывет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6286680" y="393264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Лед</a:t>
            </a:r>
            <a:r>
              <a:rPr b="0" lang="ru-RU" sz="11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1214280" y="150300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Без головы, а с рогами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 flipV="1" rot="10800000">
            <a:off x="5072040" y="37886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Месяц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2286000" y="1000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Конкурс капитанов</a:t>
            </a:r>
            <a:r>
              <a:rPr b="0" lang="en-US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07" name="Рисунок 2" descr="AMCONFUS.WMF"/>
          <p:cNvPicPr/>
          <p:nvPr/>
        </p:nvPicPr>
        <p:blipFill>
          <a:blip r:embed="rId1"/>
          <a:stretch/>
        </p:blipFill>
        <p:spPr>
          <a:xfrm>
            <a:off x="357120" y="2000160"/>
            <a:ext cx="2571840" cy="39960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" descr="AMPROBLE.WMF"/>
          <p:cNvPicPr/>
          <p:nvPr/>
        </p:nvPicPr>
        <p:blipFill>
          <a:blip r:embed="rId2"/>
          <a:stretch/>
        </p:blipFill>
        <p:spPr>
          <a:xfrm>
            <a:off x="5500800" y="2071800"/>
            <a:ext cx="3143160" cy="368748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4" descr="AMIDEA.WMF"/>
          <p:cNvPicPr/>
          <p:nvPr/>
        </p:nvPicPr>
        <p:blipFill>
          <a:blip r:embed="rId3"/>
          <a:stretch/>
        </p:blipFill>
        <p:spPr>
          <a:xfrm>
            <a:off x="3500280" y="2000160"/>
            <a:ext cx="15004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571680" y="785880"/>
            <a:ext cx="52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Конкурс «Домашнее задание»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11" name="Рисунок 2" descr="MEETING2.WMF"/>
          <p:cNvPicPr/>
          <p:nvPr/>
        </p:nvPicPr>
        <p:blipFill>
          <a:blip r:embed="rId1"/>
          <a:stretch/>
        </p:blipFill>
        <p:spPr>
          <a:xfrm>
            <a:off x="714240" y="2714760"/>
            <a:ext cx="4000680" cy="349704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3" descr="WHATNOW.WMF"/>
          <p:cNvPicPr/>
          <p:nvPr/>
        </p:nvPicPr>
        <p:blipFill>
          <a:blip r:embed="rId2"/>
          <a:stretch/>
        </p:blipFill>
        <p:spPr>
          <a:xfrm>
            <a:off x="5295960" y="642960"/>
            <a:ext cx="3848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1" descr="CLAP.WMF"/>
          <p:cNvPicPr/>
          <p:nvPr/>
        </p:nvPicPr>
        <p:blipFill>
          <a:blip r:embed="rId1"/>
          <a:stretch/>
        </p:blipFill>
        <p:spPr>
          <a:xfrm>
            <a:off x="1785960" y="2786040"/>
            <a:ext cx="4664160" cy="339084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1071720" y="785880"/>
            <a:ext cx="678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Monotype Corsiva"/>
              </a:rPr>
              <a:t>Спасибо всем за внимание!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Monotype Corsiva"/>
              </a:rPr>
              <a:t>До следующих встреч!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838080" y="16002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3.3 Кого из ученых А.С. Пушкин назвал «Первым русским университетом»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09480" y="57913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. В. Ломоносов (1711-1765)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0" name="Picture 7" descr="C:\Мои документы\Мои рисунки\Ломоносов.jpg"/>
          <p:cNvPicPr/>
          <p:nvPr/>
        </p:nvPicPr>
        <p:blipFill>
          <a:blip r:embed="rId1"/>
          <a:stretch/>
        </p:blipFill>
        <p:spPr>
          <a:xfrm>
            <a:off x="5675400" y="1947960"/>
            <a:ext cx="3029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38080" y="1600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3.4 Кто из этих ученых – физики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09480" y="4191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се, кроме Лобачевского, ректор Казанского университета был математиком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533520" y="22860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Архимед, Курчатов, Ньютон, Лобачевский, Ломоносов, Паскаль, Торричелл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4. Задачи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6553080" y="518148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1,6 г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/</a:t>
            </a: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 см</a:t>
            </a:r>
            <a:r>
              <a:rPr b="1" lang="ru-RU" sz="4000" spc="-1" strike="noStrike" baseline="30000">
                <a:solidFill>
                  <a:srgbClr val="ff33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838080" y="16891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4. Плотность половинки кирпича, из которого построено наше училище1,6 г</a:t>
            </a:r>
            <a:r>
              <a:rPr b="0" lang="en-US" sz="3600" spc="-1" strike="noStrike">
                <a:solidFill>
                  <a:srgbClr val="8383ad"/>
                </a:solidFill>
                <a:latin typeface="Monotype Corsiva"/>
              </a:rPr>
              <a:t>/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см</a:t>
            </a:r>
            <a:r>
              <a:rPr b="0" lang="ru-RU" sz="3600" spc="-1" strike="noStrike" baseline="30000">
                <a:solidFill>
                  <a:srgbClr val="8383ad"/>
                </a:solidFill>
                <a:latin typeface="Monotype Corsiva"/>
              </a:rPr>
              <a:t>3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. Какова плотность целого кирпича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553080" y="54100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24 км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/</a:t>
            </a: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ч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4" name="Picture 8" descr="C:\Мои документы\Мои рисунки\Петропавл.jpg"/>
          <p:cNvPicPr/>
          <p:nvPr/>
        </p:nvPicPr>
        <p:blipFill>
          <a:blip r:embed="rId1"/>
          <a:stretch/>
        </p:blipFill>
        <p:spPr>
          <a:xfrm>
            <a:off x="6248520" y="205740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-317520"/>
            <a:ext cx="5457600" cy="76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5. В 1890 году цесаревич Николай </a:t>
            </a:r>
            <a:r>
              <a:rPr b="0" lang="en-US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III</a:t>
            </a: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, сын последнего правителя России Николая </a:t>
            </a:r>
            <a:r>
              <a:rPr b="0" lang="en-US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II </a:t>
            </a: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озвращался из поездки в Японию, через Забайкалье. Он был очень молод (всего 18 лет) и в то время не занимал престол царя. Россией правил его отец. Как говорят, молодого царевича сопровождали 25 генералов Царской Армии и другие верные царю люди. Они следовали на 80 каретах, т.к. в то время ещё не была построена Транссибирская железная дорога. Эскорт цесаревича за 30 минут преодолевала расстояние 12 км. Какова была ее скорость?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990720" y="57150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  <a:ea typeface="Times New Roman"/>
              </a:rPr>
              <a:t>35 кг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533520" y="13716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6. Какова масса воды в аквариуме, если его размеры</a:t>
            </a:r>
            <a:r>
              <a:rPr b="0" lang="en-US" sz="32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20 </a:t>
            </a:r>
            <a:r>
              <a:rPr b="0" lang="ru-RU" sz="3200" spc="-1" strike="noStrike">
                <a:solidFill>
                  <a:srgbClr val="8383ad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50 </a:t>
            </a:r>
            <a:r>
              <a:rPr b="0" lang="ru-RU" sz="3200" spc="-1" strike="noStrike">
                <a:solidFill>
                  <a:srgbClr val="8383ad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35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см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0" name="Picture 8" descr="C:\Мои документы\Мои рисунки\Рыба\IMG_3314.JPG"/>
          <p:cNvPicPr/>
          <p:nvPr/>
        </p:nvPicPr>
        <p:blipFill>
          <a:blip r:embed="rId1"/>
          <a:stretch/>
        </p:blipFill>
        <p:spPr>
          <a:xfrm>
            <a:off x="4038480" y="25146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Monotype Corsiva"/>
              </a:rPr>
              <a:t>8. Физические явления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98108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529640" y="990720"/>
            <a:ext cx="55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«В гостях у сказки»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43080" y="1752480"/>
            <a:ext cx="689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Барон Мюнхаузен рассказывал однажды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такую историю: он разбежался и прыгну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через небольшое болото. Во время прыжк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Он заметил, что не допрыгнет до противоположного берега. Тогда в воздухе он повернул обратно и вернулся на тот же берег с которого прыгал. Почему это невозможно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-584640" y="5516640"/>
            <a:ext cx="78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корость тела меняется только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при взаимодействии!!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80614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7" name="Picture 11" descr="C:\Мои документы\Мои рисунки\Мюнхаузен1.jpg"/>
          <p:cNvPicPr/>
          <p:nvPr/>
        </p:nvPicPr>
        <p:blipFill>
          <a:blip r:embed="rId1"/>
          <a:stretch/>
        </p:blipFill>
        <p:spPr>
          <a:xfrm>
            <a:off x="7238880" y="209556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4:03:45Z</dcterms:created>
  <dc:creator>1</dc:creator>
  <dc:description/>
  <dc:language>en-US</dc:language>
  <cp:lastModifiedBy>1</cp:lastModifiedBy>
  <dcterms:modified xsi:type="dcterms:W3CDTF">2010-11-01T15:25:07Z</dcterms:modified>
  <cp:revision>34</cp:revision>
  <dc:subject/>
  <dc:title>Физический К В Н </dc:title>
</cp:coreProperties>
</file>