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0.wmf" ContentType="image/x-wmf"/>
  <Override PartName="/ppt/media/image26.png" ContentType="image/png"/>
  <Override PartName="/ppt/media/image3.png" ContentType="image/png"/>
  <Override PartName="/ppt/media/image28.wmf" ContentType="image/x-wmf"/>
  <Override PartName="/ppt/media/image5.wmf" ContentType="image/x-wmf"/>
  <Override PartName="/ppt/media/image12.jpeg" ContentType="image/jpeg"/>
  <Override PartName="/ppt/media/image33.wmf" ContentType="image/x-wmf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4.wmf" ContentType="image/x-wmf"/>
  <Override PartName="/ppt/media/image31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32.wmf" ContentType="image/x-wmf"/>
  <Override PartName="/ppt/media/image21.jpeg" ContentType="image/jpeg"/>
  <Override PartName="/ppt/media/image24.jpeg" ContentType="image/jpeg"/>
  <Override PartName="/ppt/media/image22.png" ContentType="image/png"/>
  <Override PartName="/ppt/media/image2.gif" ContentType="image/gif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0B7-1206-4285-BD1C-DF215E9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3C4-2A36-4638-908A-DEE451F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68CA-EA5B-47FF-B2BC-56B3597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145-8C7A-4A0D-A211-50505526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480D-5B5B-428B-9E24-26F21269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E33B-2BDA-44C7-B016-4C503FC1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41E0-19B6-48C1-8B28-83699E89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364D-42FC-46A5-B07E-6B3780A0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564-BA1E-402D-9D3C-D32788F4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7D4A-48C0-45B2-B0C6-2820DEBD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D2EE-F0F6-43E3-8033-FD1710F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B12-3BCD-4699-BD27-E9CD967C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1AC5-E268-4188-9FEB-71A8BDB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C8D2-F7FA-4797-B14C-9A1A2977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3A77-CF30-4CB5-B582-839FA2E7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C520-5DB8-4F13-A8AF-94940DFE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E2BE-B3AD-4166-8991-B31C4E10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5DF-3AC4-40CE-BA80-9DAF183A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3FCF-151B-4F7B-9C13-88D7D98C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130-709C-4108-9F9A-B10EB7D6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6D8-AB5B-4BFA-BEEF-A6F26448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481-F3F4-4290-AAE2-8417B6B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63F-3CF4-4F8E-B340-EB1EFBE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DF1-C552-4C37-A88B-E417DDC5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5E0-218B-4169-9F20-8FA1F8373734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4AEF-D120-40CC-A4D1-25256AC390FE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Arial"/>
              </a:rPr>
              <a:t>Мы начинаем КВН!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Arial"/>
              </a:rPr>
              <a:t>«Рубики»</a:t>
            </a: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Arial"/>
              </a:rPr>
              <a:t>«Лирики»</a:t>
            </a: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Клип 6" descr="HNDSHAK3.WMF"/>
          <p:cNvPicPr/>
          <p:nvPr/>
        </p:nvPicPr>
        <p:blipFill>
          <a:blip r:embed="rId3"/>
          <a:stretch/>
        </p:blipFill>
        <p:spPr>
          <a:xfrm>
            <a:off x="2928960" y="3857760"/>
            <a:ext cx="38098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3"/>
          <p:cNvSpPr/>
          <p:nvPr/>
        </p:nvSpPr>
        <p:spPr>
          <a:xfrm>
            <a:off x="1667520" y="155736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8383ad"/>
                </a:solidFill>
                <a:latin typeface="Monotype Corsiva"/>
              </a:rPr>
              <a:t>9. Пословицы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43080" y="2163600"/>
            <a:ext cx="5981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«Как с гуся вода», «Отрезанный ломоть обратно к хлебу не приставишь» - у этих пословиц одно и то же физическое объяснение. Какое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0" y="5181480"/>
            <a:ext cx="8402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олекулы жира и воды, а так же двух ломтей хлеба не взаимодействуют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2" name="Picture 7" descr="C:\Мои документы\Мои рисунки\гусь.jpg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1747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C:\Мои документы\Мои рисунки\хлеб.jpg"/>
          <p:cNvPicPr/>
          <p:nvPr/>
        </p:nvPicPr>
        <p:blipFill>
          <a:blip r:embed="rId2"/>
          <a:stretch/>
        </p:blipFill>
        <p:spPr>
          <a:xfrm>
            <a:off x="6858000" y="3429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027"/>
          <p:cNvSpPr/>
          <p:nvPr/>
        </p:nvSpPr>
        <p:spPr>
          <a:xfrm>
            <a:off x="1679760" y="1557360"/>
            <a:ext cx="43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83ad"/>
                </a:solidFill>
                <a:latin typeface="Monotype Corsiva"/>
              </a:rPr>
              <a:t>10. Поговорки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Text Box 1028"/>
          <p:cNvSpPr/>
          <p:nvPr/>
        </p:nvSpPr>
        <p:spPr>
          <a:xfrm>
            <a:off x="343080" y="2286000"/>
            <a:ext cx="88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«Носить воду в решете»… Как такое возможно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Text Box 1029"/>
          <p:cNvSpPr/>
          <p:nvPr/>
        </p:nvSpPr>
        <p:spPr>
          <a:xfrm>
            <a:off x="369720" y="3657600"/>
            <a:ext cx="84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Воду нужно заморозить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7" name="Text Box 1030"/>
          <p:cNvSpPr/>
          <p:nvPr/>
        </p:nvSpPr>
        <p:spPr>
          <a:xfrm>
            <a:off x="343080" y="441972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Что происходит с молекулярной структурой воды при замораживании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Text Box 1031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39" name="Picture 1033" descr="C:\Мои документы\Мои рисунки\Решето.jpg"/>
          <p:cNvPicPr/>
          <p:nvPr/>
        </p:nvPicPr>
        <p:blipFill>
          <a:blip r:embed="rId1"/>
          <a:stretch/>
        </p:blipFill>
        <p:spPr>
          <a:xfrm>
            <a:off x="7086600" y="3200400"/>
            <a:ext cx="1600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1.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838080" y="1600200"/>
            <a:ext cx="78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Скорость, молекула, инерция, плотность, весы, диффузия, объем, килограмм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Какие из перечисленных терминов являются физическими величинами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369720" y="4800600"/>
            <a:ext cx="84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Скорость, плотность, объем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2. 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838080" y="1600200"/>
            <a:ext cx="78487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Отгадайте загадку. Ответьте на вопросы: о каком измерительном приборе идет речь, какую физическую величину он измеряет, какова основная единица измерения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6553080" y="3809880"/>
            <a:ext cx="236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Часы,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время,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секунда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143280" y="434340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Весь век идет Еремушка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Ни сна ему ни дремушки,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Шагам он точный счет ведет,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А с места, все же, не сойдет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3.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83808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Отгадайте загадку. Ответьте на вопросы: о каком измерительном приборе идет речь, какую физическую величину он измеряет, какова основная единица измерения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5029200" y="373392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едицинский термометр, температура, градус Цельсия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217440" y="4343400"/>
            <a:ext cx="52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Я под мышкой посижу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И что делать укажу: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Или разрешу гулять,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Monotype Corsiva"/>
              </a:rPr>
              <a:t>Или уложу в кровать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14.Физические величины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838080" y="160020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383ad"/>
                </a:solidFill>
                <a:latin typeface="Monotype Corsiva"/>
              </a:rPr>
              <a:t>Каждая физическая величина является количественной мерой какого либо свойства или явления. Мерой чего является масса?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990720" y="4952880"/>
            <a:ext cx="84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асса – мера инертности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9" descr="http://festival.1september.ru/articles/310586/img2.gif"/>
          <p:cNvPicPr/>
          <p:nvPr/>
        </p:nvPicPr>
        <p:blipFill>
          <a:blip r:embed="rId1"/>
          <a:stretch/>
        </p:blipFill>
        <p:spPr>
          <a:xfrm>
            <a:off x="1071720" y="2000160"/>
            <a:ext cx="7215120" cy="300060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оугольник 3" descr=""/>
          <p:cNvPicPr/>
          <p:nvPr/>
        </p:nvPicPr>
        <p:blipFill>
          <a:blip r:embed="rId2"/>
          <a:stretch/>
        </p:blipFill>
        <p:spPr>
          <a:xfrm>
            <a:off x="3638520" y="5376960"/>
            <a:ext cx="4743360" cy="112716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4" descr=""/>
          <p:cNvPicPr/>
          <p:nvPr/>
        </p:nvPicPr>
        <p:blipFill>
          <a:blip r:embed="rId3"/>
          <a:stretch/>
        </p:blipFill>
        <p:spPr>
          <a:xfrm>
            <a:off x="2139840" y="438120"/>
            <a:ext cx="49672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Рисунок 8" descr="http://festival.1september.ru/articles/310586/img1.gif"/>
          <p:cNvPicPr/>
          <p:nvPr/>
        </p:nvPicPr>
        <p:blipFill>
          <a:blip r:embed="rId1"/>
          <a:stretch/>
        </p:blipFill>
        <p:spPr>
          <a:xfrm>
            <a:off x="1785960" y="1571760"/>
            <a:ext cx="5429160" cy="342900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2" descr=""/>
          <p:cNvPicPr/>
          <p:nvPr/>
        </p:nvPicPr>
        <p:blipFill>
          <a:blip r:embed="rId2"/>
          <a:stretch/>
        </p:blipFill>
        <p:spPr>
          <a:xfrm>
            <a:off x="2779560" y="390600"/>
            <a:ext cx="3103560" cy="110952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3" descr=""/>
          <p:cNvPicPr/>
          <p:nvPr/>
        </p:nvPicPr>
        <p:blipFill>
          <a:blip r:embed="rId3"/>
          <a:stretch/>
        </p:blipFill>
        <p:spPr>
          <a:xfrm>
            <a:off x="3029040" y="4943520"/>
            <a:ext cx="3195720" cy="118260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5" descr=""/>
          <p:cNvPicPr/>
          <p:nvPr/>
        </p:nvPicPr>
        <p:blipFill>
          <a:blip r:embed="rId4"/>
          <a:stretch/>
        </p:blipFill>
        <p:spPr>
          <a:xfrm>
            <a:off x="5742000" y="5516640"/>
            <a:ext cx="26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7746840" cy="300960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3" descr=""/>
          <p:cNvPicPr/>
          <p:nvPr/>
        </p:nvPicPr>
        <p:blipFill>
          <a:blip r:embed="rId2"/>
          <a:stretch/>
        </p:blipFill>
        <p:spPr>
          <a:xfrm>
            <a:off x="1852560" y="463680"/>
            <a:ext cx="3103560" cy="110952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5" descr=""/>
          <p:cNvPicPr/>
          <p:nvPr/>
        </p:nvPicPr>
        <p:blipFill>
          <a:blip r:embed="rId3"/>
          <a:stretch/>
        </p:blipFill>
        <p:spPr>
          <a:xfrm>
            <a:off x="4456080" y="4803840"/>
            <a:ext cx="312120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"/>
          <p:cNvPicPr/>
          <p:nvPr/>
        </p:nvPicPr>
        <p:blipFill>
          <a:blip r:embed="rId1"/>
          <a:stretch/>
        </p:blipFill>
        <p:spPr>
          <a:xfrm>
            <a:off x="1500120" y="2214720"/>
            <a:ext cx="3754440" cy="2500200"/>
          </a:xfrm>
          <a:prstGeom prst="rect">
            <a:avLst/>
          </a:prstGeom>
          <a:ln w="0">
            <a:noFill/>
          </a:ln>
        </p:spPr>
      </p:pic>
      <p:pic>
        <p:nvPicPr>
          <p:cNvPr id="473" name="Прямоугольник 2" descr=""/>
          <p:cNvPicPr/>
          <p:nvPr/>
        </p:nvPicPr>
        <p:blipFill>
          <a:blip r:embed="rId2"/>
          <a:stretch/>
        </p:blipFill>
        <p:spPr>
          <a:xfrm>
            <a:off x="5742000" y="4943520"/>
            <a:ext cx="2328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Рисунок 4" descr="AMWIN.WMF"/>
          <p:cNvPicPr/>
          <p:nvPr/>
        </p:nvPicPr>
        <p:blipFill>
          <a:blip r:embed="rId1"/>
          <a:stretch/>
        </p:blipFill>
        <p:spPr>
          <a:xfrm>
            <a:off x="428760" y="0"/>
            <a:ext cx="2357280" cy="19288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Клятва жюри</a:t>
            </a:r>
            <a:br>
              <a:rPr sz="4400"/>
            </a:b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Rectangle 1032"/>
          <p:cNvSpPr/>
          <p:nvPr/>
        </p:nvSpPr>
        <p:spPr>
          <a:xfrm>
            <a:off x="285840" y="1375200"/>
            <a:ext cx="857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ы, стоящие перед вами члены жюри именем всех великих умов человечества, положа руку на святая святых физики, торжественно клянёмся судить по совести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янёмся!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Rectangle 1033"/>
          <p:cNvSpPr/>
          <p:nvPr/>
        </p:nvSpPr>
        <p:spPr>
          <a:xfrm>
            <a:off x="214200" y="415296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 приговор будет также неоспорим, как неоспорим закон Ньютона, как верен закон Архимеда</a:t>
            </a:r>
            <a:r>
              <a:rPr b="0" lang="en-US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8383a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янёмся! Клянёмся! Клянёмся!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214200" y="642960"/>
          <a:ext cx="8786880" cy="2354400"/>
        </p:xfrm>
        <a:graphic>
          <a:graphicData uri="http://schemas.openxmlformats.org/drawingml/2006/table">
            <a:tbl>
              <a:tblPr/>
              <a:tblGrid>
                <a:gridCol w="976320"/>
                <a:gridCol w="974880"/>
                <a:gridCol w="976320"/>
                <a:gridCol w="976320"/>
                <a:gridCol w="976320"/>
                <a:gridCol w="976320"/>
                <a:gridCol w="976320"/>
                <a:gridCol w="977760"/>
                <a:gridCol w="976320"/>
              </a:tblGrid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Rectangle 2"/>
          <p:cNvSpPr/>
          <p:nvPr/>
        </p:nvSpPr>
        <p:spPr>
          <a:xfrm>
            <a:off x="357120" y="2810160"/>
            <a:ext cx="8286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Наука о природ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Устройство, с помощью которого измеряют физическую величину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Всё, что существует во Вселенной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Длина траектории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Физическая величина, равная отношению массы тела к его объёму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Единица силы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ибор для измерения силы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Мельчайшая частица веществ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ибор для измерения атмосферного давления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6" name="Прямоугольник 5" descr=""/>
          <p:cNvPicPr/>
          <p:nvPr/>
        </p:nvPicPr>
        <p:blipFill>
          <a:blip r:embed="rId1"/>
          <a:stretch/>
        </p:blipFill>
        <p:spPr>
          <a:xfrm>
            <a:off x="5346720" y="5589720"/>
            <a:ext cx="41878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285840" y="642960"/>
          <a:ext cx="8715240" cy="1279440"/>
        </p:xfrm>
        <a:graphic>
          <a:graphicData uri="http://schemas.openxmlformats.org/drawingml/2006/table">
            <a:tbl>
              <a:tblPr/>
              <a:tblGrid>
                <a:gridCol w="968400"/>
                <a:gridCol w="966600"/>
                <a:gridCol w="968400"/>
                <a:gridCol w="968400"/>
                <a:gridCol w="968400"/>
                <a:gridCol w="968400"/>
                <a:gridCol w="968400"/>
                <a:gridCol w="969840"/>
                <a:gridCol w="96840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Rectangle 1"/>
          <p:cNvSpPr/>
          <p:nvPr/>
        </p:nvSpPr>
        <p:spPr>
          <a:xfrm>
            <a:off x="285840" y="190620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оизведение массы тела на скорость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Единица работы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Единица массы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Теплообмен, при котором энергия переносится потоками веществ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ереход вещества из твёрдого состояния в жидкое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Прибор для измерения температуры воздуха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Твёрдое тело, способное совершать колеб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Время одного колебания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8383ad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Сила, с которой тело действует на свою опору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79" name="Прямоугольник 3" descr=""/>
          <p:cNvPicPr/>
          <p:nvPr/>
        </p:nvPicPr>
        <p:blipFill>
          <a:blip r:embed="rId1"/>
          <a:stretch/>
        </p:blipFill>
        <p:spPr>
          <a:xfrm>
            <a:off x="5602320" y="5516640"/>
            <a:ext cx="37670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"/>
          <p:cNvSpPr/>
          <p:nvPr/>
        </p:nvSpPr>
        <p:spPr>
          <a:xfrm>
            <a:off x="285840" y="1077480"/>
            <a:ext cx="84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Чем больше из нее берешь, тем больше она становится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6072120" y="39326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Яма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"/>
          <p:cNvSpPr/>
          <p:nvPr/>
        </p:nvSpPr>
        <p:spPr>
          <a:xfrm>
            <a:off x="642960" y="1246320"/>
            <a:ext cx="7715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Что легче 1 кг пуха или 1 кг железа? Какие физические величины мы сравниваем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3" name="Rectangle 2"/>
          <p:cNvSpPr/>
          <p:nvPr/>
        </p:nvSpPr>
        <p:spPr>
          <a:xfrm>
            <a:off x="428760" y="345924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(Спрашивая, что легче, мы сравниваем массы, а они одинаковые. А вот объемы этих тел сильно отличаются, т.к. отличаются плотности)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428760" y="39528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С запада на восток движется электропоезд со скоростью 100 км/ч и в том же направлении с запада на восток дует ветер со скоростью в 2 раза меньшей, чем скорость поезда. Укажите направление дыма, т.е. в какую сторону отклоняется дым?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1857240" y="5137920"/>
            <a:ext cx="69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Электропоезд не дымит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"/>
          <p:cNvSpPr/>
          <p:nvPr/>
        </p:nvSpPr>
        <p:spPr>
          <a:xfrm>
            <a:off x="0" y="888840"/>
            <a:ext cx="8929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Когда мы смотрим на два, а говорим десять? Или ясно видим два, считаем четырнадцать</a:t>
            </a: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4000680" y="3521160"/>
            <a:ext cx="43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(14 ч.10 мин.)</a:t>
            </a:r>
            <a:r>
              <a:rPr b="0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"/>
          <p:cNvSpPr/>
          <p:nvPr/>
        </p:nvSpPr>
        <p:spPr>
          <a:xfrm>
            <a:off x="357120" y="81360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Одно и тоже яйцо в одном стакане тонет, а в другом плавает. Почему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1357200" y="2934360"/>
            <a:ext cx="7215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В одном стакане вода пресная, в другом – подсоленная, там архимедова сила больш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е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"/>
          <p:cNvSpPr/>
          <p:nvPr/>
        </p:nvSpPr>
        <p:spPr>
          <a:xfrm flipV="1" rot="10800000">
            <a:off x="0" y="458640"/>
            <a:ext cx="88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Как спрыгнуть с десяти метровой лестницы и не разбиться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1" name="Rectangle 2"/>
          <p:cNvSpPr/>
          <p:nvPr/>
        </p:nvSpPr>
        <p:spPr>
          <a:xfrm>
            <a:off x="1000080" y="3936240"/>
            <a:ext cx="72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Прыгнуть с нижней ступеньки</a:t>
            </a:r>
            <a:r>
              <a:rPr b="1" i="1" lang="ru-RU" sz="14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ru-RU" sz="1400" spc="-1" strike="noStrike" u="sng">
                <a:solidFill>
                  <a:srgbClr val="00808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"/>
          <p:cNvSpPr/>
          <p:nvPr/>
        </p:nvSpPr>
        <p:spPr>
          <a:xfrm>
            <a:off x="928800" y="1096560"/>
            <a:ext cx="750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Мера времени из трех букв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4357800" y="39499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Час, век, год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 flipV="1" rot="10800000">
            <a:off x="499680" y="122256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Чем оканчивается день и ночь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3286080" y="4092840"/>
            <a:ext cx="371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Мягкий знак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3. Великие ученые - физики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8380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1. Угадай имя ученого по подсказкам: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609480" y="59436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Исаак Ньютон (1643-1727)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609480" y="20574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к нему обращались «сер»;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685800" y="25909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его называют отцом классической механики;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685800" y="373392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он автор закона всемирного тяготения;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762120" y="48006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383ad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в его честь названа единица измерения силы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11" descr="C:\Мои документы\Мои рисунки\newton.jpg"/>
          <p:cNvPicPr/>
          <p:nvPr/>
        </p:nvPicPr>
        <p:blipFill>
          <a:blip r:embed="rId1"/>
          <a:stretch/>
        </p:blipFill>
        <p:spPr>
          <a:xfrm>
            <a:off x="6172200" y="2286000"/>
            <a:ext cx="276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"/>
          <p:cNvSpPr/>
          <p:nvPr/>
        </p:nvSpPr>
        <p:spPr>
          <a:xfrm>
            <a:off x="928800" y="956520"/>
            <a:ext cx="7286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Какая собака получится из 16 кг и хвойного дерева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3857760" y="450396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Пудел</a:t>
            </a: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ь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"/>
          <p:cNvSpPr/>
          <p:nvPr/>
        </p:nvSpPr>
        <p:spPr>
          <a:xfrm flipV="1" rot="10800000">
            <a:off x="1213920" y="86436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Седьмая часть недели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786120" y="40039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утки</a:t>
            </a:r>
            <a:r>
              <a:rPr b="0" lang="ru-RU" sz="11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"/>
          <p:cNvSpPr/>
          <p:nvPr/>
        </p:nvSpPr>
        <p:spPr>
          <a:xfrm>
            <a:off x="1143000" y="1360080"/>
            <a:ext cx="70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Где текут реки без воды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357720" y="43610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В сказках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1"/>
          <p:cNvSpPr/>
          <p:nvPr/>
        </p:nvSpPr>
        <p:spPr>
          <a:xfrm flipV="1" rot="10800000">
            <a:off x="1213920" y="496080"/>
            <a:ext cx="600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Вода по воде плывет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6286680" y="393264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Лед</a:t>
            </a:r>
            <a:r>
              <a:rPr b="0" lang="ru-RU" sz="1100" spc="-1" strike="noStrike">
                <a:solidFill>
                  <a:srgbClr val="8383ad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"/>
          <p:cNvSpPr/>
          <p:nvPr/>
        </p:nvSpPr>
        <p:spPr>
          <a:xfrm>
            <a:off x="1214280" y="150300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Monotype Corsiva"/>
                <a:ea typeface="Times New Roman"/>
              </a:rPr>
              <a:t>Без головы, а с рогами?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Rectangle 2"/>
          <p:cNvSpPr/>
          <p:nvPr/>
        </p:nvSpPr>
        <p:spPr>
          <a:xfrm flipV="1" rot="10800000">
            <a:off x="5072040" y="37886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Месяц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2286000" y="10000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Конкурс капитанов</a:t>
            </a:r>
            <a:r>
              <a:rPr b="0" lang="en-US" sz="44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 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07" name="Рисунок 2" descr="AMCONFUS.WMF"/>
          <p:cNvPicPr/>
          <p:nvPr/>
        </p:nvPicPr>
        <p:blipFill>
          <a:blip r:embed="rId1"/>
          <a:stretch/>
        </p:blipFill>
        <p:spPr>
          <a:xfrm>
            <a:off x="357120" y="2000160"/>
            <a:ext cx="2571840" cy="39960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" descr="AMPROBLE.WMF"/>
          <p:cNvPicPr/>
          <p:nvPr/>
        </p:nvPicPr>
        <p:blipFill>
          <a:blip r:embed="rId2"/>
          <a:stretch/>
        </p:blipFill>
        <p:spPr>
          <a:xfrm>
            <a:off x="5500800" y="2071800"/>
            <a:ext cx="3143160" cy="368748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4" descr="AMIDEA.WMF"/>
          <p:cNvPicPr/>
          <p:nvPr/>
        </p:nvPicPr>
        <p:blipFill>
          <a:blip r:embed="rId3"/>
          <a:stretch/>
        </p:blipFill>
        <p:spPr>
          <a:xfrm>
            <a:off x="3500280" y="2000160"/>
            <a:ext cx="15004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571680" y="785880"/>
            <a:ext cx="521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Monotype Corsiva"/>
              </a:rPr>
              <a:t>Конкурс «Домашнее задание»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511" name="Рисунок 2" descr="MEETING2.WMF"/>
          <p:cNvPicPr/>
          <p:nvPr/>
        </p:nvPicPr>
        <p:blipFill>
          <a:blip r:embed="rId1"/>
          <a:stretch/>
        </p:blipFill>
        <p:spPr>
          <a:xfrm>
            <a:off x="714240" y="2714760"/>
            <a:ext cx="4000680" cy="349704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3" descr="WHATNOW.WMF"/>
          <p:cNvPicPr/>
          <p:nvPr/>
        </p:nvPicPr>
        <p:blipFill>
          <a:blip r:embed="rId2"/>
          <a:stretch/>
        </p:blipFill>
        <p:spPr>
          <a:xfrm>
            <a:off x="5295960" y="642960"/>
            <a:ext cx="38480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1" descr="CLAP.WMF"/>
          <p:cNvPicPr/>
          <p:nvPr/>
        </p:nvPicPr>
        <p:blipFill>
          <a:blip r:embed="rId1"/>
          <a:stretch/>
        </p:blipFill>
        <p:spPr>
          <a:xfrm>
            <a:off x="1785960" y="2786040"/>
            <a:ext cx="4664160" cy="339084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"/>
          <p:cNvSpPr/>
          <p:nvPr/>
        </p:nvSpPr>
        <p:spPr>
          <a:xfrm>
            <a:off x="1071720" y="785880"/>
            <a:ext cx="678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Monotype Corsiva"/>
              </a:rPr>
              <a:t>Спасибо всем за внимание!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383ad"/>
                </a:solidFill>
                <a:latin typeface="Monotype Corsiva"/>
              </a:rPr>
              <a:t>До следующих встреч!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838080" y="16002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3.3 Кого из ученых А.С. Пушкин назвал «Первым русским университетом»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609480" y="57913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М. В. Ломоносов (1711-1765)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0" name="Picture 7" descr="C:\Мои документы\Мои рисунки\Ломоносов.jpg"/>
          <p:cNvPicPr/>
          <p:nvPr/>
        </p:nvPicPr>
        <p:blipFill>
          <a:blip r:embed="rId1"/>
          <a:stretch/>
        </p:blipFill>
        <p:spPr>
          <a:xfrm>
            <a:off x="5675400" y="1947960"/>
            <a:ext cx="3029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838080" y="1600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3.4 Кто из этих ученых – физики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09480" y="419112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Все, кроме Лобачевского, ректор Казанского университета был математиком!!!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533520" y="228600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Архимед, Курчатов, Ньютон, Лобачевский, Ломоносов, Паскаль, Торричелли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Monotype Corsiva"/>
              </a:rPr>
              <a:t>4. Задачи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6553080" y="518148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1,6 г</a:t>
            </a: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/</a:t>
            </a: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 см</a:t>
            </a:r>
            <a:r>
              <a:rPr b="1" lang="ru-RU" sz="4000" spc="-1" strike="noStrike" baseline="30000">
                <a:solidFill>
                  <a:srgbClr val="ff3300"/>
                </a:solidFill>
                <a:latin typeface="Monotype Corsiva"/>
              </a:rPr>
              <a:t>3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838080" y="168912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4. Плотность половинки кирпича, из которого построено наше училище1,6 г</a:t>
            </a:r>
            <a:r>
              <a:rPr b="0" lang="en-US" sz="3600" spc="-1" strike="noStrike">
                <a:solidFill>
                  <a:srgbClr val="8383ad"/>
                </a:solidFill>
                <a:latin typeface="Monotype Corsiva"/>
              </a:rPr>
              <a:t>/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 см</a:t>
            </a:r>
            <a:r>
              <a:rPr b="0" lang="ru-RU" sz="3600" spc="-1" strike="noStrike" baseline="30000">
                <a:solidFill>
                  <a:srgbClr val="8383ad"/>
                </a:solidFill>
                <a:latin typeface="Monotype Corsiva"/>
              </a:rPr>
              <a:t>3</a:t>
            </a:r>
            <a:r>
              <a:rPr b="0" lang="ru-RU" sz="3600" spc="-1" strike="noStrike">
                <a:solidFill>
                  <a:srgbClr val="8383ad"/>
                </a:solidFill>
                <a:latin typeface="Monotype Corsiva"/>
              </a:rPr>
              <a:t>. Какова плотность целого кирпича?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553080" y="54100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24 км</a:t>
            </a: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/</a:t>
            </a:r>
            <a:r>
              <a:rPr b="1" lang="ru-RU" sz="4000" spc="-1" strike="noStrike">
                <a:solidFill>
                  <a:srgbClr val="ff3300"/>
                </a:solidFill>
                <a:latin typeface="Monotype Corsiva"/>
              </a:rPr>
              <a:t>ч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14" name="Picture 8" descr="C:\Мои документы\Мои рисунки\Петропавл.jpg"/>
          <p:cNvPicPr/>
          <p:nvPr/>
        </p:nvPicPr>
        <p:blipFill>
          <a:blip r:embed="rId1"/>
          <a:stretch/>
        </p:blipFill>
        <p:spPr>
          <a:xfrm>
            <a:off x="6248520" y="205740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760" y="-317520"/>
            <a:ext cx="5457600" cy="76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5. В 1890 году цесаревич Николай </a:t>
            </a:r>
            <a:r>
              <a:rPr b="0" lang="en-US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III</a:t>
            </a:r>
            <a:r>
              <a:rPr b="0" lang="ru-RU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, сын последнего правителя России Николая </a:t>
            </a:r>
            <a:r>
              <a:rPr b="0" lang="en-US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II </a:t>
            </a:r>
            <a:r>
              <a:rPr b="0" lang="ru-RU" sz="26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возвращался из поездки в Японию, через Забайкалье. Он был очень молод (всего 18 лет) и в то время не занимал престол царя. Россией правил его отец. Как говорят, молодого царевича сопровождали 25 генералов Царской Армии и другие верные царю люди. Они следовали на 80 каретах, т.к. в то время ещё не была построена Транссибирская железная дорога. Эскорт цесаревича за 30 минут преодолевала расстояние 12 км. Какова была ее скорость?</a:t>
            </a:r>
            <a:endParaRPr b="0" lang="en-US" sz="2600" spc="-1" strike="noStrike">
              <a:solidFill>
                <a:srgbClr val="4041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6985080" y="6095880"/>
            <a:ext cx="21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Monotype Corsiva"/>
              </a:rPr>
              <a:t>Категории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990720" y="571500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Monotype Corsiva"/>
                <a:ea typeface="Times New Roman"/>
              </a:rPr>
              <a:t>35 кг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533520" y="13716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6. Какова масса воды в аквариуме, если его размеры</a:t>
            </a:r>
            <a:r>
              <a:rPr b="0" lang="en-US" sz="32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20 </a:t>
            </a:r>
            <a:r>
              <a:rPr b="0" lang="ru-RU" sz="3200" spc="-1" strike="noStrike">
                <a:solidFill>
                  <a:srgbClr val="8383ad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 50 </a:t>
            </a:r>
            <a:r>
              <a:rPr b="0" lang="ru-RU" sz="3200" spc="-1" strike="noStrike">
                <a:solidFill>
                  <a:srgbClr val="8383ad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 35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  <a:ea typeface="Times New Roman"/>
              </a:rPr>
              <a:t>см</a:t>
            </a: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0" name="Picture 8" descr="C:\Мои документы\Мои рисунки\Рыба\IMG_3314.JPG"/>
          <p:cNvPicPr/>
          <p:nvPr/>
        </p:nvPicPr>
        <p:blipFill>
          <a:blip r:embed="rId1"/>
          <a:stretch/>
        </p:blipFill>
        <p:spPr>
          <a:xfrm>
            <a:off x="4038480" y="25146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Monotype Corsiva"/>
              </a:rPr>
              <a:t>8. Физические явления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98108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1529640" y="990720"/>
            <a:ext cx="55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83ad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8383ad"/>
                </a:solidFill>
                <a:latin typeface="Monotype Corsiva"/>
              </a:rPr>
              <a:t>«В гостях у сказки»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43080" y="1752480"/>
            <a:ext cx="689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Барон Мюнхаузен рассказывал однажды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такую историю: он разбежался и прыгну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через небольшое болото. Во время прыжк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Monotype Corsiva"/>
              </a:rPr>
              <a:t>Он заметил, что не допрыгнет до противоположного берега. Тогда в воздухе он повернул обратно и вернулся на тот же берег с которого прыгал. Почему это невозможно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-584640" y="5516640"/>
            <a:ext cx="78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корость тела меняется только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при взаимодействии!!!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806148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27" name="Picture 11" descr="C:\Мои документы\Мои рисунки\Мюнхаузен1.jpg"/>
          <p:cNvPicPr/>
          <p:nvPr/>
        </p:nvPicPr>
        <p:blipFill>
          <a:blip r:embed="rId1"/>
          <a:stretch/>
        </p:blipFill>
        <p:spPr>
          <a:xfrm>
            <a:off x="7238880" y="209556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4:03:45Z</dcterms:created>
  <dc:creator>1</dc:creator>
  <dc:description/>
  <dc:language>en-US</dc:language>
  <cp:lastModifiedBy>1</cp:lastModifiedBy>
  <dcterms:modified xsi:type="dcterms:W3CDTF">2010-11-01T15:25:07Z</dcterms:modified>
  <cp:revision>34</cp:revision>
  <dc:subject/>
  <dc:title>Физический К В Н </dc:title>
</cp:coreProperties>
</file>