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214-8ECC-43F4-A45B-308EAFDA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50A-AF39-4BE0-B90D-31E5E012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0DC-29BE-4E53-8C2F-D061B39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8E3-179B-452E-B214-CECD0822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1D9B-EF70-4E5E-8830-E50FC325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747-9C9F-421A-B01C-9F3A4620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E7EF-221C-4761-A5FF-8F370770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C5B-923B-45E6-8C41-E32BDC48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CE5D-0BD4-44F0-933D-991E3AA6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564C-F15D-434E-A977-B935A6E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EF6-26DD-4E93-850E-F41FE1E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039-1BA8-4018-B932-FC19ECB0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6E7-E4F5-45E6-9CCC-17F4848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2C9B-0646-4B23-BEB4-0AAF0A35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6C0-E026-423D-9F61-EC8DB2B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7DE5-2E80-40CB-9CA7-16E79220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704-6EB7-4065-B04B-0893326F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2E4-3431-4777-8591-2F62C986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AC7-6BF1-4120-A3EE-FA8A2E8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503-4349-473E-8F39-75DECC0D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B2A-1298-49F1-9F32-0990288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16D-4772-4350-A778-569FFFF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3E0-93EE-4EDA-8B79-23E8489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E91-4FC8-47A1-8B4E-EF23BFD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45D-DA8B-42FA-9817-3ED135A56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878-2495-4948-843E-FD3B4193C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bcbcb"/>
                </a:solidFill>
                <a:latin typeface="Times New Roman"/>
              </a:rPr>
              <a:t>Глагол 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0" lang="ru-RU" sz="6000" spc="-1" strike="noStrike">
                <a:solidFill>
                  <a:srgbClr val="cbcbcb"/>
                </a:solidFill>
                <a:latin typeface="Times New Roman"/>
              </a:rPr>
              <a:t> — </a:t>
            </a:r>
            <a:r>
              <a:rPr b="1" lang="ru-RU" sz="6000" spc="-1" strike="noStrike">
                <a:solidFill>
                  <a:srgbClr val="cbcbcb"/>
                </a:solidFill>
                <a:latin typeface="Times New Roman"/>
              </a:rPr>
              <a:t>быть, находится, являться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Составитель : учитель английского языка МОБУ СОШ №9 г.Сочи Рыбкина О.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81000"/>
            <a:ext cx="914400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Измените  предложения по следующему образ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is a brown jac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se are brown jackets. They’re br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1. This is a dark blue sweater.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at’s a grey hat. 3. This is a good dialog. 4. That’s a thin notebook. 5. this is a nice child. 6. That’s a good knife. 7. This is an easy text. 8. That’s a good 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bcbcb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81000"/>
            <a:ext cx="914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Для отрицания в русском языке используется частица "не", а в английском частиц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"not"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которая ставитс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посл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вспомогательного глаго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be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t ho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Он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не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дома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nemi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—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Они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не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вра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71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Выразите своё несоглас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apple is bad. (good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apple isn’t bad. It’s g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1. That coat is green (yellow). 2. The pencil is red ( black). 3. His hat is white (black).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4. The textbook is thick (thin). 5. His notebook is thin (thick). 6. The classroom is bad (good). 7. His cat is black ( white). 8. His tie is yellow (green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bcbcb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Выразите своё несоглас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se are noteboo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h, no. These aren’t notebooks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y’re boo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1. These are rooms  (classrooms). 2. Those are caps (hats). 3. These are pens (pencils). 4. Those are jackets (sweaters). 5. These are trousers (jeans). 6. Those are knives (pencil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79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задать вопрос необходимо поменять местами подлежащее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глагол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 writer. 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сател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 writer?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сател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pupil? Yes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/ No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s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15? Yes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s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/ No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s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t home? Yes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/ No, they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08000" y="2421000"/>
            <a:ext cx="64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2421000"/>
            <a:ext cx="576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Напишите краткий 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re you all friends? Yes,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we are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re they Americans? No, 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s Tom at home? Yes, 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re Lucy and Mary at home? No, 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re you students? Yes, 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s the house big? Yes, 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Задать общий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00280"/>
            <a:ext cx="3348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amp is on the de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book is under the cray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pencils are jn the de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oy car is in front of the wardro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bag is between the shelves and the bookc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ball is in front of the b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890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Только что мы изучили очень важную тему в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английском языке - личные местоимения. </a:t>
            </a: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Знайте их и не путайт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Теперь они будут встречаться постоянно, но они будут встречаться не сами п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себе, а обязательно с глаголам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-121320"/>
            <a:ext cx="8964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Чтобы сказать, к примеру: Я умный, ты красивая, мы друзья - нам обязательно нужно использовать глагол</a:t>
            </a: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 (быть)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700280"/>
            <a:ext cx="741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я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You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ты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He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н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She 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на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то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ы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They 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ни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5616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аблица с изменением глагола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to be</a:t>
            </a:r>
            <a:r>
              <a:rPr b="1" lang="ru-RU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по лицам (спряжение глагола) в настоящем, прошлом и будущем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557360"/>
          <a:ext cx="9143640" cy="3919680"/>
        </p:xfrm>
        <a:graphic>
          <a:graphicData uri="http://schemas.openxmlformats.org/drawingml/2006/table">
            <a:tbl>
              <a:tblPr/>
              <a:tblGrid>
                <a:gridCol w="1442160"/>
                <a:gridCol w="2858040"/>
                <a:gridCol w="2622600"/>
                <a:gridCol w="22208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Настояще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шедше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Будуще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— я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/ 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— он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он, она, оно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— ты, вы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/ 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мы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h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они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981000"/>
            <a:ext cx="720108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ейчас попробуем связать предложения: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Я умный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I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intelligent</a:t>
            </a:r>
            <a:br>
              <a:rPr sz="40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Ты красивая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You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beautiful</a:t>
            </a:r>
            <a:br>
              <a:rPr sz="32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Мы друзья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We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friends</a:t>
            </a:r>
            <a:br>
              <a:rPr sz="32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Он американец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He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American</a:t>
            </a:r>
            <a:br>
              <a:rPr sz="32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Она высокая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She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tall</a:t>
            </a:r>
            <a:br>
              <a:rPr sz="40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Они радостные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They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happy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1000"/>
            <a:ext cx="914400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Формы глагола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можно использовать не только с местоимениями, но и с полноценными существитель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The boy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intelligent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Мальчики ум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Mr. Brown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old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Мистер Браун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тарый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Rebecca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tall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Ребекка высока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The house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white -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Дома белые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100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Также в предложениях употребляются сокращенные формы глагола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 am = I'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He is = He'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They are = They'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He is not = He isn'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We are not = We aren'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81000"/>
            <a:ext cx="914400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оставьте предложения по образ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is a tie. That is a tie. It is a tie. It’a t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esk,  hat,  pencil,  lamp,  pie,  ap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оставьте предложения, используя таблицу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862200"/>
                <a:gridCol w="1728720"/>
                <a:gridCol w="1295280"/>
                <a:gridCol w="865440"/>
                <a:gridCol w="1725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i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7:12:51Z</dcterms:created>
  <dc:creator>User</dc:creator>
  <dc:description/>
  <dc:language>en-US</dc:language>
  <cp:lastModifiedBy>User</cp:lastModifiedBy>
  <dcterms:modified xsi:type="dcterms:W3CDTF">2012-08-26T11:39:31Z</dcterms:modified>
  <cp:revision>3</cp:revision>
  <dc:subject/>
  <dc:title>глагол to be — быть, находится, являться </dc:title>
</cp:coreProperties>
</file>