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112-170D-4B03-8584-DFB69841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335-2830-4133-8302-F505BBAF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53C1-DC47-42C1-8FFF-34F21266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078-D69C-4B11-8D90-CB878ABA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AD48-3338-4259-A076-3D2FB6D0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D0B1-170A-4E93-ADE6-AC98546C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66C3-57EE-46CC-93A2-5515EAAA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173D-C705-412B-989D-D139699C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7242-5FF1-4C1D-AB4E-131C1DE9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BF67-9F3A-4857-800A-1568AF1C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9371-977B-45B0-8AAE-F4F3FEAA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8FF-F5B9-459B-8DCE-F91BF522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88DA-EC64-42B4-B920-B5E15089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B7D0-8359-4A98-80BA-E8CD9840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02D1-56A6-43A9-B7C6-654A2FEA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4CB6-A164-4CB6-B3EF-82289C37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3233-3545-4EBB-93B2-FFB210BB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CC7-8409-4C6F-A7CB-3CD8CEDB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41B1-6564-4A0E-AB9D-86B098F8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CE50-F568-4B52-83AA-D2BE763C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3B1D-AFCB-43D9-8EAA-00307147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4C1-8ED0-4126-B33B-398608DF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B27C-95E5-4D84-A279-C86D8681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1E5-407C-4A0A-B919-8EFEAFE6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48F3-C131-4892-B988-EF64933808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5801-9FB8-453A-AFF6-5F5BCD3CD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bcbcb"/>
                </a:solidFill>
                <a:latin typeface="Times New Roman"/>
              </a:rPr>
              <a:t>Глагол </a:t>
            </a:r>
            <a:r>
              <a:rPr b="1" lang="ru-RU" sz="6000" spc="-1" strike="noStrike">
                <a:solidFill>
                  <a:srgbClr val="ff3300"/>
                </a:solidFill>
                <a:latin typeface="Times New Roman"/>
              </a:rPr>
              <a:t>to be</a:t>
            </a:r>
            <a:r>
              <a:rPr b="0" lang="ru-RU" sz="6000" spc="-1" strike="noStrike">
                <a:solidFill>
                  <a:srgbClr val="cbcbcb"/>
                </a:solidFill>
                <a:latin typeface="Times New Roman"/>
              </a:rPr>
              <a:t> — </a:t>
            </a:r>
            <a:r>
              <a:rPr b="1" lang="ru-RU" sz="6000" spc="-1" strike="noStrike">
                <a:solidFill>
                  <a:srgbClr val="cbcbcb"/>
                </a:solidFill>
                <a:latin typeface="Times New Roman"/>
              </a:rPr>
              <a:t>быть, находится, являться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Составитель : учитель английского языка МОБУ СОШ №9 г.Сочи Рыбкина О.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981000"/>
            <a:ext cx="9144000" cy="66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Измените  предложения по следующему образц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is is a brown jack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se are brown jackets. They’re br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1. This is a dark blue sweater.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That’s a grey hat. 3. This is a good dialog. 4. That’s a thin notebook. 5. this is a nice child. 6. That’s a good knife. 7. This is an easy text. 8. That’s a good  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cbcbcb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81000"/>
            <a:ext cx="914400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bcbcb"/>
                </a:solidFill>
                <a:latin typeface="Times New Roman"/>
              </a:rPr>
              <a:t>Для отрицания в русском языке используется частица "не", а в английском частиц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"not"</a:t>
            </a:r>
            <a:r>
              <a:rPr b="1" lang="ru-RU" sz="2400" spc="-1" strike="noStrike">
                <a:solidFill>
                  <a:srgbClr val="cbcbcb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bcbcb"/>
                </a:solidFill>
                <a:latin typeface="Times New Roman"/>
              </a:rPr>
              <a:t>которая ставитс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Times New Roman"/>
              </a:rPr>
              <a:t>посл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bcbcb"/>
                </a:solidFill>
                <a:latin typeface="Times New Roman"/>
              </a:rPr>
              <a:t>вспомогательного глагол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be</a:t>
            </a:r>
            <a:r>
              <a:rPr b="1" lang="ru-RU" sz="2400" spc="-1" strike="noStrike">
                <a:solidFill>
                  <a:srgbClr val="cbcbc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H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ccff"/>
                </a:solidFill>
                <a:latin typeface="Times New Roman"/>
              </a:rPr>
              <a:t>i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t hom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bcbcb"/>
                </a:solidFill>
                <a:latin typeface="Times New Roman"/>
              </a:rPr>
              <a:t>—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bcbcb"/>
                </a:solidFill>
                <a:latin typeface="Times New Roman"/>
              </a:rPr>
              <a:t>Он</a:t>
            </a:r>
            <a:r>
              <a:rPr b="1" lang="en-US" sz="18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bcbcb"/>
                </a:solidFill>
                <a:latin typeface="Times New Roman"/>
              </a:rPr>
              <a:t>не</a:t>
            </a:r>
            <a:r>
              <a:rPr b="1" lang="en-US" sz="18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bcbcb"/>
                </a:solidFill>
                <a:latin typeface="Times New Roman"/>
              </a:rPr>
              <a:t>дома</a:t>
            </a:r>
            <a:r>
              <a:rPr b="1" lang="en-US" sz="1800" spc="-1" strike="noStrike">
                <a:solidFill>
                  <a:srgbClr val="cbcbcb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The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ccff"/>
                </a:solidFill>
                <a:latin typeface="Times New Roman"/>
              </a:rPr>
              <a:t>ar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enemie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bcbcb"/>
                </a:solidFill>
                <a:latin typeface="Times New Roman"/>
              </a:rPr>
              <a:t>— </a:t>
            </a:r>
            <a:r>
              <a:rPr b="1" lang="ru-RU" sz="1800" spc="-1" strike="noStrike">
                <a:solidFill>
                  <a:srgbClr val="cbcbcb"/>
                </a:solidFill>
                <a:latin typeface="Times New Roman"/>
              </a:rPr>
              <a:t>Они</a:t>
            </a:r>
            <a:r>
              <a:rPr b="1" lang="en-US" sz="18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bcbcb"/>
                </a:solidFill>
                <a:latin typeface="Times New Roman"/>
              </a:rPr>
              <a:t>не</a:t>
            </a:r>
            <a:r>
              <a:rPr b="1" lang="en-US" sz="18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bcbcb"/>
                </a:solidFill>
                <a:latin typeface="Times New Roman"/>
              </a:rPr>
              <a:t>враг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71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bcbcb"/>
                </a:solidFill>
                <a:latin typeface="Times New Roman"/>
              </a:rPr>
              <a:t>Выразите своё несогласи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is apple is bad. (good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is apple isn’t bad. It’s g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1. That coat is green (yellow). 2. The pencil is red ( black). 3. His hat is white (black).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4. The textbook is thick (thin). 5. His notebook is thin (thick). 6. The classroom is bad (good). 7. His cat is black ( white). 8. His tie is yellow (green)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cbcbcb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74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bcbcb"/>
                </a:solidFill>
                <a:latin typeface="Times New Roman"/>
              </a:rPr>
              <a:t>Выразите своё несогласи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se are notebook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h, no. These aren’t notebooks.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y’re boo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1. These are rooms  (classrooms). 2. Those are caps (hats). 3. These are pens (pencils). 4. Those are jackets (sweaters). 5. These are trousers (jeans). 6. Those are knives (pencils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79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тобы задать вопрос необходимо поменять местами подлежащее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глагол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to b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en-US" sz="4000" spc="-1" strike="noStrike">
                <a:solidFill>
                  <a:srgbClr val="00ccff"/>
                </a:solidFill>
                <a:latin typeface="Times New Roman"/>
              </a:rPr>
              <a:t>H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 writer. —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н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исател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ccff"/>
                </a:solidFill>
                <a:latin typeface="Times New Roman"/>
              </a:rPr>
              <a:t>h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a writer?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н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исатель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m </a:t>
            </a: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 pupil? Yes, </a:t>
            </a: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/ No, </a:t>
            </a: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n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sh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15? Yes, </a:t>
            </a: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sh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/ No, </a:t>
            </a: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sh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s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the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t home? Yes, </a:t>
            </a: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the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/ No, they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ren’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08000" y="2421000"/>
            <a:ext cx="6480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2421000"/>
            <a:ext cx="576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bcbcb"/>
                </a:solidFill>
                <a:latin typeface="Times New Roman"/>
              </a:rPr>
              <a:t>Напишите краткий от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re you all friends? Yes,</a:t>
            </a: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we are</a:t>
            </a: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bcbc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re they Americans? No, _____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bcbc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Is Tom at home? Yes, __________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bcbc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re Lucy and Mary at home? No, ______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bcbc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Are you students? Yes, _______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bcbc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Is the house big? Yes, ________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620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Задать общий вопр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700280"/>
            <a:ext cx="33480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lamp is on the des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book is under the cray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pencils are jn the des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toy car is in front of the wardrob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bag is between the shelves and the bookc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ball is in front of the ba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8902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Только что мы изучили очень важную тему в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английском языке - личные местоимения. </a:t>
            </a: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Знайте их и не путайте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Теперь они будут встречаться постоянно, но они будут встречаться не сами п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Arial"/>
              </a:rPr>
              <a:t>себе, а обязательно с глаголам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-121320"/>
            <a:ext cx="896472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Чтобы сказать, к примеру: Я умный, ты красивая, мы друзья - нам обязательно нужно использовать глагол</a:t>
            </a:r>
            <a:r>
              <a:rPr b="1" lang="ru-RU" sz="28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to be</a:t>
            </a:r>
            <a:r>
              <a:rPr b="1" lang="ru-RU" sz="2800" spc="-1" strike="noStrike">
                <a:solidFill>
                  <a:srgbClr val="cbcbcb"/>
                </a:solidFill>
                <a:latin typeface="Times New Roman"/>
              </a:rPr>
              <a:t> (быть)</a:t>
            </a:r>
            <a:r>
              <a:rPr b="0" lang="ru-RU" sz="2800" spc="-1" strike="noStrike">
                <a:solidFill>
                  <a:srgbClr val="cbcbcb"/>
                </a:solidFill>
                <a:latin typeface="Times New Roman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1700280"/>
            <a:ext cx="7417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am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я е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You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ты е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He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н е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She is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на е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It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это е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We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мы е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They are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они е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-5616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bcbcb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аблица с изменением глагола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to be</a:t>
            </a:r>
            <a:r>
              <a:rPr b="1" lang="ru-RU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по лицам (спряжение глагола) в настоящем, прошлом и будущем врем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557360"/>
          <a:ext cx="9143640" cy="3919680"/>
        </p:xfrm>
        <a:graphic>
          <a:graphicData uri="http://schemas.openxmlformats.org/drawingml/2006/table">
            <a:tbl>
              <a:tblPr/>
              <a:tblGrid>
                <a:gridCol w="1442160"/>
                <a:gridCol w="2858040"/>
                <a:gridCol w="2622600"/>
                <a:gridCol w="22208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Настоящее врем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Прошедшее врем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bcbcb"/>
                          </a:solidFill>
                          <a:latin typeface="Times New Roman"/>
                          <a:ea typeface="Times New Roman"/>
                        </a:rPr>
                        <a:t>Будущее врем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m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— я е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hall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/ wi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Yo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re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— он е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i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He, she, 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is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— он, она, оно е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i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re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— ты, вы е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hall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/ wi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Yo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re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— мы е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i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The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re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— они е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i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42920" y="981000"/>
            <a:ext cx="720108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Сейчас попробуем связать предложения:</a:t>
            </a: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cbcbcb"/>
                </a:solidFill>
                <a:latin typeface="Times New Roman"/>
              </a:rPr>
              <a:t>Я умный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I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am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intelligent</a:t>
            </a:r>
            <a:br>
              <a:rPr sz="4000"/>
            </a:br>
            <a:r>
              <a:rPr b="0" lang="ru-RU" sz="1800" spc="-1" strike="noStrike">
                <a:solidFill>
                  <a:srgbClr val="cbcbcb"/>
                </a:solidFill>
                <a:latin typeface="Times New Roman"/>
              </a:rPr>
              <a:t>Ты красивая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You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beautiful</a:t>
            </a:r>
            <a:br>
              <a:rPr sz="3200"/>
            </a:br>
            <a:r>
              <a:rPr b="0" lang="ru-RU" sz="1800" spc="-1" strike="noStrike">
                <a:solidFill>
                  <a:srgbClr val="cbcbcb"/>
                </a:solidFill>
                <a:latin typeface="Times New Roman"/>
              </a:rPr>
              <a:t>Мы друзья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We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friends</a:t>
            </a:r>
            <a:br>
              <a:rPr sz="3200"/>
            </a:br>
            <a:r>
              <a:rPr b="0" lang="ru-RU" sz="1800" spc="-1" strike="noStrike">
                <a:solidFill>
                  <a:srgbClr val="cbcbcb"/>
                </a:solidFill>
                <a:latin typeface="Times New Roman"/>
              </a:rPr>
              <a:t>Он американец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He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American</a:t>
            </a:r>
            <a:br>
              <a:rPr sz="3200"/>
            </a:br>
            <a:r>
              <a:rPr b="0" lang="ru-RU" sz="1800" spc="-1" strike="noStrike">
                <a:solidFill>
                  <a:srgbClr val="cbcbcb"/>
                </a:solidFill>
                <a:latin typeface="Times New Roman"/>
              </a:rPr>
              <a:t>Она высокая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She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tall</a:t>
            </a:r>
            <a:br>
              <a:rPr sz="4000"/>
            </a:br>
            <a:r>
              <a:rPr b="0" lang="ru-RU" sz="1800" spc="-1" strike="noStrike">
                <a:solidFill>
                  <a:srgbClr val="cbcbcb"/>
                </a:solidFill>
                <a:latin typeface="Times New Roman"/>
              </a:rPr>
              <a:t>Они радостные -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They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happy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981000"/>
            <a:ext cx="9144000" cy="69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Формы глагола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to be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можно использовать не только с местоимениями, но и с полноценными существительн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18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ccff"/>
                </a:solidFill>
                <a:latin typeface="Times New Roman"/>
              </a:rPr>
              <a:t>The boys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intelligent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-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Мальчики ум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ccff"/>
                </a:solidFill>
                <a:latin typeface="Times New Roman"/>
              </a:rPr>
              <a:t>Mr. Brown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old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Мистер Браун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старый</a:t>
            </a: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ff"/>
                </a:solidFill>
                <a:latin typeface="Times New Roman"/>
              </a:rPr>
              <a:t>Rebecca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is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tall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Ребекка высокая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ff"/>
                </a:solidFill>
                <a:latin typeface="Times New Roman"/>
              </a:rPr>
              <a:t>The houses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cbcbcb"/>
                </a:solidFill>
                <a:latin typeface="Times New Roman"/>
              </a:rPr>
              <a:t>white -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Дома белые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81000"/>
            <a:ext cx="91440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Также в предложениях употребляются сокращенные формы глагола 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to be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I am = I'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He is = He'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They are = They'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He is not = He isn'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We are not = We aren'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981000"/>
            <a:ext cx="914400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Составьте предложения по образц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is is a tie. That is a tie. It is a tie. It’a t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Desk,  hat,  pencil,  lamp,  pie,  ap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27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Составьте предложения, используя таблицу </a:t>
            </a:r>
            <a:r>
              <a:rPr b="0" lang="en-US" sz="2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bcbcb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5800" y="609480"/>
          <a:ext cx="7772400" cy="5486400"/>
        </p:xfrm>
        <a:graphic>
          <a:graphicData uri="http://schemas.openxmlformats.org/drawingml/2006/table">
            <a:tbl>
              <a:tblPr/>
              <a:tblGrid>
                <a:gridCol w="1295280"/>
                <a:gridCol w="862200"/>
                <a:gridCol w="1728720"/>
                <a:gridCol w="1295280"/>
                <a:gridCol w="865440"/>
                <a:gridCol w="1725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o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pi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iv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r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8T07:12:51Z</dcterms:created>
  <dc:creator>User</dc:creator>
  <dc:description/>
  <dc:language>en-US</dc:language>
  <cp:lastModifiedBy>User</cp:lastModifiedBy>
  <dcterms:modified xsi:type="dcterms:W3CDTF">2012-08-26T11:39:31Z</dcterms:modified>
  <cp:revision>3</cp:revision>
  <dc:subject/>
  <dc:title>глагол to be — быть, находится, являться </dc:title>
</cp:coreProperties>
</file>