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media/image5.wmf" ContentType="image/x-wmf"/>
  <Override PartName="/ppt/media/image6.wmf" ContentType="image/x-wmf"/>
  <Override PartName="/ppt/media/image7.png" ContentType="image/png"/>
  <Override PartName="/ppt/media/image8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5F84-9BE0-426E-92A9-C6584682D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BBF1-CDA8-4F32-9658-2C3851392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D84E-74FD-4311-B2EB-FCEDCCB11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F8B6-E788-400D-8362-198BFDFE5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8C71-D170-4B0D-85D1-E3548287C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26A9-0E03-45D3-9B80-35510EDF4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533F-F41B-43C1-BBE6-80CEE3A4E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0367-B553-436C-9D44-A43D7E1D4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52DE-9E25-4F84-897F-5FF864DD3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F3C6-9750-47E3-BF14-4223689B2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8743-AB30-47E0-853E-718383CB0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53BB-0F40-46BC-90A4-327B4007C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1FEB3-7826-4E2E-840C-E42138A120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wmf"/><Relationship Id="rId6" Type="http://schemas.openxmlformats.org/officeDocument/2006/relationships/image" Target="../media/image5.wmf"/><Relationship Id="rId7" Type="http://schemas.openxmlformats.org/officeDocument/2006/relationships/image" Target="../media/image6.wmf"/><Relationship Id="rId8" Type="http://schemas.openxmlformats.org/officeDocument/2006/relationships/image" Target="../media/image7.png"/><Relationship Id="rId9" Type="http://schemas.openxmlformats.org/officeDocument/2006/relationships/image" Target="../media/image8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971640" y="115920"/>
            <a:ext cx="720072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КРОССВОРД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792000" y="620640"/>
            <a:ext cx="756000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Тема "Еда"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003640" y="2060640"/>
            <a:ext cx="360360" cy="36036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003640" y="2421000"/>
            <a:ext cx="360360" cy="36036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003640" y="2781360"/>
            <a:ext cx="360360" cy="36036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003640" y="3141720"/>
            <a:ext cx="360360" cy="36036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003640" y="3502080"/>
            <a:ext cx="360360" cy="36036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003640" y="3860640"/>
            <a:ext cx="360360" cy="36036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643280" y="2781360"/>
            <a:ext cx="360360" cy="36036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64000" y="2781360"/>
            <a:ext cx="360360" cy="36036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724360" y="3139920"/>
            <a:ext cx="360360" cy="36036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2779560"/>
            <a:ext cx="360360" cy="36036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24360" y="3500280"/>
            <a:ext cx="360360" cy="36036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724360" y="3860640"/>
            <a:ext cx="360360" cy="36036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24360" y="4221000"/>
            <a:ext cx="360360" cy="36036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22560" y="4221000"/>
            <a:ext cx="360360" cy="36036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24360" y="3502080"/>
            <a:ext cx="360360" cy="36036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284720" y="3502080"/>
            <a:ext cx="360360" cy="36036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45080" y="3502080"/>
            <a:ext cx="360360" cy="36036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24360" y="3860640"/>
            <a:ext cx="360360" cy="36036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643280" y="4221000"/>
            <a:ext cx="360360" cy="36036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564000" y="4221000"/>
            <a:ext cx="360360" cy="36036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03640" y="4221000"/>
            <a:ext cx="360360" cy="36036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284720" y="4221000"/>
            <a:ext cx="360360" cy="36036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203640" y="3500280"/>
            <a:ext cx="360360" cy="36036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564000" y="3500280"/>
            <a:ext cx="360360" cy="36036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924360" y="3500280"/>
            <a:ext cx="360360" cy="36036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79280" y="1700280"/>
            <a:ext cx="252108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3300"/>
                </a:solidFill>
                <a:latin typeface="Arial"/>
              </a:rPr>
              <a:t>По горизонтали: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3300"/>
              </a:solidFill>
              <a:latin typeface="Arial"/>
              <a:ea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6515280" y="1773360"/>
            <a:ext cx="252072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3300"/>
                </a:solidFill>
                <a:latin typeface="Arial"/>
              </a:rPr>
              <a:t>По вертикали: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3300"/>
              </a:solidFill>
              <a:latin typeface="Arial"/>
              <a:ea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6877080" y="2133720"/>
            <a:ext cx="1440000" cy="14396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5"/>
          <a:stretch/>
        </p:blipFill>
        <p:spPr>
          <a:xfrm>
            <a:off x="684360" y="3429000"/>
            <a:ext cx="1485720" cy="14400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6"/>
          <a:stretch/>
        </p:blipFill>
        <p:spPr>
          <a:xfrm>
            <a:off x="6732720" y="5229360"/>
            <a:ext cx="2181240" cy="12603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7"/>
          <a:stretch/>
        </p:blipFill>
        <p:spPr>
          <a:xfrm>
            <a:off x="755640" y="5084640"/>
            <a:ext cx="1932120" cy="14400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8"/>
          <a:stretch/>
        </p:blipFill>
        <p:spPr>
          <a:xfrm>
            <a:off x="6732720" y="3429000"/>
            <a:ext cx="1655640" cy="16556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9"/>
          <a:stretch/>
        </p:blipFill>
        <p:spPr>
          <a:xfrm>
            <a:off x="324000" y="1990800"/>
            <a:ext cx="2547720" cy="14382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79280" y="22050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79280" y="371628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79280" y="5516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372360" y="227808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372360" y="3789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372360" y="558972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7T06:53:17Z</dcterms:created>
  <dc:creator>Учитель информатики</dc:creator>
  <dc:description/>
  <dc:language>en-US</dc:language>
  <cp:lastModifiedBy>Учитель информатики</cp:lastModifiedBy>
  <dcterms:modified xsi:type="dcterms:W3CDTF">2009-04-07T07:25:27Z</dcterms:modified>
  <cp:revision>3</cp:revision>
  <dc:subject/>
  <dc:title>Слайд 1</dc:title>
</cp:coreProperties>
</file>