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5D4-052C-40F1-AF44-D5892330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FB5-299D-41B9-BFEB-342747B6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C32-0E40-479B-B775-B4FAA215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77D-560C-40D4-9FF2-42D4468B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C55-3178-479C-BF0E-6F0F05B6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411-F35B-4E14-811E-6596B72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874-35E9-4776-BD27-146D9AF6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69B-DD14-46E7-B5D2-52C194D3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DE4-0DAF-4F6E-B4D3-B87C166C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05D-59BC-4578-9BB6-CCBB442A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568-637F-4CA4-80FC-8E82CF12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293-6D03-4A58-A19E-AF02D8F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860-0B27-4440-814D-02A76ABA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115920"/>
            <a:ext cx="720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РОССВОР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2000" y="620640"/>
            <a:ext cx="756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ема "Еда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20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03640" y="24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27813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314172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38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7813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4000" y="27813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313992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277956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38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256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080" y="35020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386064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22100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9280" y="1700280"/>
            <a:ext cx="2521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 горизонт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15280" y="1773360"/>
            <a:ext cx="25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 вертик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877080" y="2133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84360" y="3429000"/>
            <a:ext cx="1485720" cy="1440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732720" y="5229360"/>
            <a:ext cx="2181240" cy="12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755640" y="5084640"/>
            <a:ext cx="193212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732720" y="3429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324000" y="1990800"/>
            <a:ext cx="2547720" cy="1438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220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716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51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72360" y="2278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3789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5589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6:53:17Z</dcterms:created>
  <dc:creator>Учитель информатики</dc:creator>
  <dc:description/>
  <dc:language>en-US</dc:language>
  <cp:lastModifiedBy>Учитель информатики</cp:lastModifiedBy>
  <dcterms:modified xsi:type="dcterms:W3CDTF">2009-04-07T07:25:27Z</dcterms:modified>
  <cp:revision>3</cp:revision>
  <dc:subject/>
  <dc:title>Слайд 1</dc:title>
</cp:coreProperties>
</file>