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613-0BE9-46DC-BC4D-BFD8040F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305-9E0C-453F-B912-2B1B1C5E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D10-6EC7-4F85-8937-01079B50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F91-1561-45F3-823C-CD0989EF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503-A729-4939-9D3D-7E4238CE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1CE-9176-4F50-A58E-33AEC429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2E3-F96D-4481-A6A7-90574716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158-6418-4C65-AC56-25BFA79B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9DB-B691-487B-A152-441C6B74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43A-869E-456E-ABB8-CE183155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C97-49FF-4872-B09E-00B081FA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CC7D-3827-4A14-9283-ED44EB3F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793C-51A9-4EBF-B86C-3730D27CC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43280" y="126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03640" y="126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64000" y="126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126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83280" y="126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43640" y="126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162864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198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34936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270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306864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342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162864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198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234936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70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306864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43640" y="342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378936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162864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24360" y="198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198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198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5440" y="198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2200" y="270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2920" y="270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270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2200" y="342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2920" y="342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42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04000" y="342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342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24720" y="342900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4360" y="234936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4360" y="270828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64360" y="3068640"/>
            <a:ext cx="360360" cy="3603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4360" y="55440"/>
            <a:ext cx="313236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РОССВОР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3640" y="127080"/>
            <a:ext cx="4081680" cy="11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ЕМА "ЖИВОТНЫ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0920" y="1628640"/>
            <a:ext cx="2952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 горизонт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67280" y="4076640"/>
            <a:ext cx="295272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 вертик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22748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378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2720" y="2058840"/>
            <a:ext cx="1400400" cy="1441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41440" y="3573360"/>
            <a:ext cx="1360440" cy="144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5400" y="51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8480" y="5229360"/>
            <a:ext cx="1235160" cy="143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195640" y="3062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2560" y="486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556000" y="4653000"/>
            <a:ext cx="1579320" cy="1260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148360" y="450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5580000" y="4437000"/>
            <a:ext cx="1908360" cy="90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14836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566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580000" y="5445000"/>
            <a:ext cx="1170000" cy="1260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484360" y="2889360"/>
            <a:ext cx="1590840" cy="1077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236000" y="5877000"/>
            <a:ext cx="17604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6:36:25Z</dcterms:created>
  <dc:creator>Учитель информатики</dc:creator>
  <dc:description/>
  <dc:language>en-US</dc:language>
  <cp:lastModifiedBy>Учитель информатики</cp:lastModifiedBy>
  <dcterms:modified xsi:type="dcterms:W3CDTF">2009-04-14T07:12:32Z</dcterms:modified>
  <cp:revision>3</cp:revision>
  <dc:subject/>
  <dc:title>Слайд 1</dc:title>
</cp:coreProperties>
</file>