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ED1B-E6ED-410C-8483-E7BCB098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85D2-31E1-4709-A435-DE306523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546F-4B99-4F82-8947-C21842C50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2639-FBD2-43BC-A97F-594FBEF8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9965-7B3B-4DFF-AC21-7355EF07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3DF2-470E-49BD-8910-82E9066D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83F3-20DA-4E26-B30E-FE7D7F70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A8E7-7D45-46D1-BA3D-F26082F6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54B3-72AB-4E8B-9F9B-7C2CB616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F317-EEAB-4BD2-8791-3A1F9CAC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1493-BFD1-4B17-A374-EE6D8B64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580A-B4DA-4517-861D-E38BEB31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8522-5C40-44F2-86BD-5803D06EC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43280" y="126828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03640" y="126828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64000" y="126828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24360" y="126828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83280" y="126828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43640" y="126828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3280" y="162864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3280" y="198900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3280" y="234936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3280" y="270828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306864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342900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43640" y="162864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43640" y="198900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43640" y="234936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43640" y="270828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43640" y="306864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43640" y="342900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3280" y="378936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24360" y="162864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24360" y="198900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24360" y="198900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84720" y="198900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5440" y="198900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02200" y="270828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82920" y="270828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64000" y="270828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02200" y="342900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82920" y="342900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42900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04000" y="342900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62920" y="342900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24720" y="342900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64360" y="234936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64360" y="270828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64360" y="306864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44360" y="55440"/>
            <a:ext cx="313236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РОССВОР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003640" y="127080"/>
            <a:ext cx="4081680" cy="114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ТЕМА "ЖИВОТНЫЕ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50920" y="1628640"/>
            <a:ext cx="295272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о горизонтали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867280" y="4076640"/>
            <a:ext cx="295272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о вертикали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8000" y="22748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8000" y="378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12720" y="2058840"/>
            <a:ext cx="1400400" cy="1441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41440" y="3573360"/>
            <a:ext cx="1360440" cy="1441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5400" y="5157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28480" y="5229360"/>
            <a:ext cx="1235160" cy="1439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195640" y="3062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22560" y="4869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556000" y="4653000"/>
            <a:ext cx="1579320" cy="1260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148360" y="450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5580000" y="4437000"/>
            <a:ext cx="1908360" cy="900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148360" y="566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36000" y="566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5580000" y="5445000"/>
            <a:ext cx="1170000" cy="1260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484360" y="2889360"/>
            <a:ext cx="1590840" cy="1077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7236000" y="5877000"/>
            <a:ext cx="176040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06:36:25Z</dcterms:created>
  <dc:creator>Учитель информатики</dc:creator>
  <dc:description/>
  <dc:language>en-US</dc:language>
  <cp:lastModifiedBy>Учитель информатики</cp:lastModifiedBy>
  <dcterms:modified xsi:type="dcterms:W3CDTF">2009-04-14T07:12:32Z</dcterms:modified>
  <cp:revision>3</cp:revision>
  <dc:subject/>
  <dc:title>Слайд 1</dc:title>
</cp:coreProperties>
</file>