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gif" ContentType="image/gif"/>
  <Override PartName="/ppt/media/image6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28.gif" ContentType="image/gif"/>
  <Override PartName="/ppt/media/image26.gif" ContentType="image/gif"/>
  <Override PartName="/ppt/media/image14.gif" ContentType="image/gif"/>
  <Override PartName="/ppt/media/image24.gif" ContentType="image/gif"/>
  <Override PartName="/ppt/media/image23.jpeg" ContentType="image/jpeg"/>
  <Override PartName="/ppt/media/image25.jpeg" ContentType="image/jpeg"/>
  <Override PartName="/ppt/media/image22.gif" ContentType="image/gif"/>
  <Override PartName="/ppt/media/image3.png" ContentType="image/png"/>
  <Override PartName="/ppt/media/image17.jpeg" ContentType="image/jpeg"/>
  <Override PartName="/ppt/media/image21.gif" ContentType="image/gif"/>
  <Override PartName="/ppt/media/image19.gif" ContentType="image/gif"/>
  <Override PartName="/ppt/media/image18.gif" ContentType="image/gif"/>
  <Override PartName="/ppt/media/image20.png" ContentType="image/png"/>
  <Override PartName="/ppt/media/image1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CDD-DCEB-4074-84E3-323B50BF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087-D2E8-4DD2-9526-4A53C31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D2B-0963-4D56-B711-2836A28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C50-5412-41F7-87A5-AA38401A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4D3-F5BD-495D-8C16-3538087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3C3-CC4E-455E-B29B-DA96561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5D1-0649-4AFD-A017-B7D5AAA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533-73B8-49F4-A0CD-00EE477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DD3-A88C-4C5D-8D72-F455A32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872-D598-4407-BE83-518E291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8B9-F2B6-4C86-A333-9569B88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A01-B867-468C-9FF4-4B77EBF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B456-5FEE-485E-BE56-0B6931E3D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20.png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2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img0.liveinternet.ru/images/attach/c/2/74/503/74503568_large_1173784373_forever_friends_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gifpark.su/Gifs/FLOWERS/fleurs.gif"/>
          <p:cNvPicPr/>
          <p:nvPr/>
        </p:nvPicPr>
        <p:blipFill>
          <a:blip r:embed="rId2"/>
          <a:stretch/>
        </p:blipFill>
        <p:spPr>
          <a:xfrm>
            <a:off x="4643280" y="5732640"/>
            <a:ext cx="434844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3"/>
          <a:stretch/>
        </p:blipFill>
        <p:spPr>
          <a:xfrm>
            <a:off x="115920" y="3181320"/>
            <a:ext cx="5237280" cy="331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ds140.centerstart.ru/sites/ds140.centerstart.ru/files/header_img.gif"/>
          <p:cNvPicPr/>
          <p:nvPr/>
        </p:nvPicPr>
        <p:blipFill>
          <a:blip r:embed="rId4"/>
          <a:stretch/>
        </p:blipFill>
        <p:spPr>
          <a:xfrm rot="20111400">
            <a:off x="395280" y="391680"/>
            <a:ext cx="279252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g1.liveinternet.ru/images/attach/c/2/74/503/74503551_large_1173784373_forever_friends_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с двумя скругленными противолежащими углами 4"/>
          <p:cNvSpPr/>
          <p:nvPr/>
        </p:nvSpPr>
        <p:spPr>
          <a:xfrm>
            <a:off x="468360" y="620640"/>
            <a:ext cx="3311640" cy="1320120"/>
          </a:xfrm>
          <a:prstGeom prst="pie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ко Мишка зимой сп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есну чуть не проспа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мо зайчик пробег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берлоге постуча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gifmix.de/gifs/hasen-gifs/HASE15.GIF"/>
          <p:cNvPicPr/>
          <p:nvPr/>
        </p:nvPicPr>
        <p:blipFill>
          <a:blip r:embed="rId3"/>
          <a:stretch/>
        </p:blipFill>
        <p:spPr>
          <a:xfrm>
            <a:off x="468360" y="2349360"/>
            <a:ext cx="3598920" cy="4237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http://img0.liveinternet.ru/images/attach/c/2/74/503/74503572_large_1173784373_forever_friends_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с двумя скругленными противолежащими углами 5"/>
          <p:cNvSpPr/>
          <p:nvPr/>
        </p:nvSpPr>
        <p:spPr>
          <a:xfrm>
            <a:off x="5508720" y="4941720"/>
            <a:ext cx="343692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ук- тук- тук. Ну хватит сп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 весна. Пора встав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солнце пригрев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иг снежок кругом растает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ds140.centerstart.ru/sites/ds140.centerstart.ru/files/header_img.gif"/>
          <p:cNvPicPr/>
          <p:nvPr/>
        </p:nvPicPr>
        <p:blipFill>
          <a:blip r:embed="rId2"/>
          <a:stretch/>
        </p:blipFill>
        <p:spPr>
          <a:xfrm rot="1140000">
            <a:off x="4492800" y="-95400"/>
            <a:ext cx="4282920" cy="429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mg0.liveinternet.ru/images/attach/c/2/74/503/74503534_large_1173784373_forever_friends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с двумя скругленными противолежащими углами 5"/>
          <p:cNvSpPr/>
          <p:nvPr/>
        </p:nvSpPr>
        <p:spPr>
          <a:xfrm>
            <a:off x="5940360" y="4941720"/>
            <a:ext cx="300528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лез Мишка не спеш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природе – чудеса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тицы о весне пою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еревьях гнёзда вьют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g0.liveinternet.ru/images/attach/c/3/76/541/76541618__1_112.GIF"/>
          <p:cNvPicPr/>
          <p:nvPr/>
        </p:nvPicPr>
        <p:blipFill>
          <a:blip r:embed="rId3"/>
          <a:stretch/>
        </p:blipFill>
        <p:spPr>
          <a:xfrm>
            <a:off x="6300720" y="18900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236160" y="60660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1.liveinternet.ru/images/attach/c/2/74/503/74503563_large_1173784373_forever_friends_3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скругленными противолежащими углами 4"/>
          <p:cNvSpPr/>
          <p:nvPr/>
        </p:nvSpPr>
        <p:spPr>
          <a:xfrm>
            <a:off x="5867280" y="5229360"/>
            <a:ext cx="3078360" cy="132012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Мишка рад весне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л он весну во сне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ручья воды попил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 лесу заспеш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2" descr="http://www.gifpark.su/Gifs/ANIMALS/B_Fly11.gif"/>
          <p:cNvPicPr/>
          <p:nvPr/>
        </p:nvPicPr>
        <p:blipFill>
          <a:blip r:embed="rId3"/>
          <a:stretch/>
        </p:blipFill>
        <p:spPr>
          <a:xfrm rot="1604400">
            <a:off x="7235640" y="54936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236160" y="341460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gifpark.su/Gifs/ANIMALS/ani-bird_yellow.gif"/>
          <p:cNvPicPr/>
          <p:nvPr/>
        </p:nvPicPr>
        <p:blipFill>
          <a:blip r:embed="rId5"/>
          <a:stretch/>
        </p:blipFill>
        <p:spPr>
          <a:xfrm rot="20388600">
            <a:off x="5508720" y="62028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http://www.gifpark.su/Gifs/ANIMALS/ani-bird_blue.gif"/>
          <p:cNvPicPr/>
          <p:nvPr/>
        </p:nvPicPr>
        <p:blipFill>
          <a:blip r:embed="rId6"/>
          <a:stretch/>
        </p:blipFill>
        <p:spPr>
          <a:xfrm rot="1306200">
            <a:off x="0" y="54900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http://www.gifpark.su/Gifs/ANIMALS/ani-bird_red.gif"/>
          <p:cNvPicPr/>
          <p:nvPr/>
        </p:nvPicPr>
        <p:blipFill>
          <a:blip r:embed="rId7"/>
          <a:stretch/>
        </p:blipFill>
        <p:spPr>
          <a:xfrm>
            <a:off x="7308720" y="3357720"/>
            <a:ext cx="1238400" cy="99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g1.liveinternet.ru/images/attach/c/2/74/503/74503571_large_1173784373_forever_friends_4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с двумя скругленными противолежащими углами 4"/>
          <p:cNvSpPr/>
          <p:nvPr/>
        </p:nvSpPr>
        <p:spPr>
          <a:xfrm>
            <a:off x="179280" y="5013360"/>
            <a:ext cx="300672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шать Мишка захоте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у долгую не е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у лишь свою сос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овсем он отощал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ttp://www.gifpark.su/Gifs/FLOWERS/fleurs.gif"/>
          <p:cNvPicPr/>
          <p:nvPr/>
        </p:nvPicPr>
        <p:blipFill>
          <a:blip r:embed="rId3"/>
          <a:stretch/>
        </p:blipFill>
        <p:spPr>
          <a:xfrm>
            <a:off x="4643280" y="5732640"/>
            <a:ext cx="43484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703080" y="1541520"/>
            <a:ext cx="155232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g0.liveinternet.ru/images/attach/c/2/74/503/74503552_large_1173784373_forever_friends_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gifpark.su/Gifs/ANIMALS/Bee08.gif"/>
          <p:cNvPicPr/>
          <p:nvPr/>
        </p:nvPicPr>
        <p:blipFill>
          <a:blip r:embed="rId3"/>
          <a:stretch/>
        </p:blipFill>
        <p:spPr>
          <a:xfrm rot="1401600">
            <a:off x="684000" y="393336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gifpark.su/Gifs/ANIMALS/Bee08.gif"/>
          <p:cNvPicPr/>
          <p:nvPr/>
        </p:nvPicPr>
        <p:blipFill>
          <a:blip r:embed="rId4"/>
          <a:stretch/>
        </p:blipFill>
        <p:spPr>
          <a:xfrm>
            <a:off x="900000" y="33336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gifpark.su/Gifs/ANIMALS/Bee08.gif"/>
          <p:cNvPicPr/>
          <p:nvPr/>
        </p:nvPicPr>
        <p:blipFill>
          <a:blip r:embed="rId5"/>
          <a:stretch/>
        </p:blipFill>
        <p:spPr>
          <a:xfrm>
            <a:off x="8028000" y="33336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gifpark.su/Gifs/ANIMALS/Bee16.gif"/>
          <p:cNvPicPr/>
          <p:nvPr/>
        </p:nvPicPr>
        <p:blipFill>
          <a:blip r:embed="rId6"/>
          <a:stretch/>
        </p:blipFill>
        <p:spPr>
          <a:xfrm>
            <a:off x="4140360" y="242100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www.gifpark.su/Gifs/ANIMALS/Bee16.gif"/>
          <p:cNvPicPr/>
          <p:nvPr/>
        </p:nvPicPr>
        <p:blipFill>
          <a:blip r:embed="rId7"/>
          <a:stretch/>
        </p:blipFill>
        <p:spPr>
          <a:xfrm>
            <a:off x="5867280" y="998640"/>
            <a:ext cx="811440" cy="70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gifpark.su/Gifs/ANIMALS/Bee16.gif"/>
          <p:cNvPicPr/>
          <p:nvPr/>
        </p:nvPicPr>
        <p:blipFill>
          <a:blip r:embed="rId8"/>
          <a:stretch/>
        </p:blipFill>
        <p:spPr>
          <a:xfrm rot="1969200">
            <a:off x="8186760" y="3956040"/>
            <a:ext cx="8269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://img-fotki.yandex.ru/get/4406/cadi-1986.48b/0_7e05e_f31e42ac_XL"/>
          <p:cNvPicPr/>
          <p:nvPr/>
        </p:nvPicPr>
        <p:blipFill>
          <a:blip r:embed="rId9"/>
          <a:stretch/>
        </p:blipFill>
        <p:spPr>
          <a:xfrm>
            <a:off x="0" y="476280"/>
            <a:ext cx="4371840" cy="638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www.gifpark.su/Gifs/ANIMALS/Bee17.gif"/>
          <p:cNvPicPr/>
          <p:nvPr/>
        </p:nvPicPr>
        <p:blipFill>
          <a:blip r:embed="rId10"/>
          <a:stretch/>
        </p:blipFill>
        <p:spPr>
          <a:xfrm>
            <a:off x="1403280" y="1989000"/>
            <a:ext cx="2268720" cy="20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http://www.gifpark.su/Gifs/FLOWERS/b13.gif"/>
          <p:cNvPicPr/>
          <p:nvPr/>
        </p:nvPicPr>
        <p:blipFill>
          <a:blip r:embed="rId11"/>
          <a:stretch/>
        </p:blipFill>
        <p:spPr>
          <a:xfrm>
            <a:off x="4356000" y="436572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http://www.gifpark.su/Gifs/FLOWERS/b13.gif"/>
          <p:cNvPicPr/>
          <p:nvPr/>
        </p:nvPicPr>
        <p:blipFill>
          <a:blip r:embed="rId12"/>
          <a:stretch/>
        </p:blipFill>
        <p:spPr>
          <a:xfrm>
            <a:off x="1908000" y="5838840"/>
            <a:ext cx="952560" cy="1019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с двумя скругленными противолежащими углами 19"/>
          <p:cNvSpPr/>
          <p:nvPr/>
        </p:nvSpPr>
        <p:spPr>
          <a:xfrm>
            <a:off x="5580000" y="4941720"/>
            <a:ext cx="314964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зашёл поглубже в лес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 дерево залез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 перед ним дупло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ёду там полным – полно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g1.liveinternet.ru/images/attach/c/2/74/503/74503567_large_1173784373_forever_friends_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с двумя скругленными противолежащими углами 4"/>
          <p:cNvSpPr/>
          <p:nvPr/>
        </p:nvSpPr>
        <p:spPr>
          <a:xfrm>
            <a:off x="5940360" y="5013360"/>
            <a:ext cx="293364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ёду Мишка наш пое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ть живот не заболе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чёлки стали тут летать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шку жалить и кусать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www.gifpark.su/Gifs/ANIMALS/Bee15.gif"/>
          <p:cNvPicPr/>
          <p:nvPr/>
        </p:nvPicPr>
        <p:blipFill>
          <a:blip r:embed="rId3"/>
          <a:stretch/>
        </p:blipFill>
        <p:spPr>
          <a:xfrm>
            <a:off x="1908000" y="4365720"/>
            <a:ext cx="1706760" cy="11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www.gifpark.su/Gifs/ANIMALS/Bee08.gif"/>
          <p:cNvPicPr/>
          <p:nvPr/>
        </p:nvPicPr>
        <p:blipFill>
          <a:blip r:embed="rId4"/>
          <a:stretch/>
        </p:blipFill>
        <p:spPr>
          <a:xfrm>
            <a:off x="8028000" y="350028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www.gifpark.su/Gifs/ANIMALS/Bee08.gif"/>
          <p:cNvPicPr/>
          <p:nvPr/>
        </p:nvPicPr>
        <p:blipFill>
          <a:blip r:embed="rId5"/>
          <a:stretch/>
        </p:blipFill>
        <p:spPr>
          <a:xfrm>
            <a:off x="6372360" y="105264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gifpark.su/Gifs/ANIMALS/Bee08.gif"/>
          <p:cNvPicPr/>
          <p:nvPr/>
        </p:nvPicPr>
        <p:blipFill>
          <a:blip r:embed="rId6"/>
          <a:stretch/>
        </p:blipFill>
        <p:spPr>
          <a:xfrm>
            <a:off x="468360" y="907920"/>
            <a:ext cx="685800" cy="752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img0.liveinternet.ru/images/attach/c/2/74/503/74503548_large_1173784373_forever_friends_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с двумя скругленными противолежащими углами 4"/>
          <p:cNvSpPr/>
          <p:nvPr/>
        </p:nvSpPr>
        <p:spPr>
          <a:xfrm>
            <a:off x="755640" y="260280"/>
            <a:ext cx="3006720" cy="132012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с дерева он слез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лубился дальше в лес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зей старых поиска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есну – красну встреч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www.gifpark.su/Gifs/FLOWERS/b13.gif"/>
          <p:cNvPicPr/>
          <p:nvPr/>
        </p:nvPicPr>
        <p:blipFill>
          <a:blip r:embed="rId3"/>
          <a:stretch/>
        </p:blipFill>
        <p:spPr>
          <a:xfrm>
            <a:off x="2700360" y="55166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www.gifpark.su/Gifs/ANIMALS/Bears_02.gif"/>
          <p:cNvPicPr/>
          <p:nvPr/>
        </p:nvPicPr>
        <p:blipFill>
          <a:blip r:embed="rId4"/>
          <a:stretch/>
        </p:blipFill>
        <p:spPr>
          <a:xfrm>
            <a:off x="539640" y="3068640"/>
            <a:ext cx="247824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://www.gifpark.su/Gifs/ANIMALS/rabit.gif"/>
          <p:cNvPicPr/>
          <p:nvPr/>
        </p:nvPicPr>
        <p:blipFill>
          <a:blip r:embed="rId5"/>
          <a:stretch/>
        </p:blipFill>
        <p:spPr>
          <a:xfrm>
            <a:off x="6875640" y="4484520"/>
            <a:ext cx="248436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www.gifpark.su/Gifs/ANIMALS/B_Fly02.gif"/>
          <p:cNvPicPr/>
          <p:nvPr/>
        </p:nvPicPr>
        <p:blipFill>
          <a:blip r:embed="rId6"/>
          <a:stretch/>
        </p:blipFill>
        <p:spPr>
          <a:xfrm>
            <a:off x="4716360" y="53341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20:22:04Z</dcterms:created>
  <dc:creator>михаил</dc:creator>
  <dc:description/>
  <dc:language>en-US</dc:language>
  <cp:lastModifiedBy>михаил</cp:lastModifiedBy>
  <dcterms:modified xsi:type="dcterms:W3CDTF">2013-01-26T21:46:12Z</dcterms:modified>
  <cp:revision>9</cp:revision>
  <dc:subject/>
  <dc:title>Слайд 1</dc:title>
</cp:coreProperties>
</file>