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A713-9631-47A7-9CE2-B9C870C59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9F8F-1FD4-40E8-9D21-EE996DDDEF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732-3B95-4DF3-8233-F62CD813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3BF-8841-4A52-A1B9-2FB3C45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98F-A60C-4BB9-B12B-23E31ADC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DA9-A1A3-431C-98E6-DC54AE38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7F7B-DBD6-4FB5-9A9F-8C09E4F9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ECF0-536A-4BE0-966C-D812EC89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F695-6AC7-438C-921A-95B58571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A152-0A78-42EB-ADEA-A9A96E16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B73A-6ADE-470E-9150-C2AAF5E4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D99B-AC89-4734-A897-F7816064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833D-ED9A-4CD3-BB5B-7842637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CAD-2DB5-476B-9900-4CCA0156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5C09-5C57-4F8C-A6FA-16AF447F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16B8-F264-4941-873F-239A1862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3E31-D538-44CC-BC13-7BAB3881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36D6-0374-42AD-9565-326A1124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D129-3C4C-4B58-9090-A7239AD2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D3EE-C94E-4B1D-88F4-455049C0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8D2DC-A42A-4C28-8EC6-9220C55E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458A-F293-4CD4-B9AE-879324B6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5720-F6B6-4735-BFA3-1D47928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BB13-CA3C-437B-BC97-CD3BED2E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BF6-8983-4B68-972E-11F37BB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8A95-04D1-45F8-B975-78F8F8B8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55F9-D926-48FF-A994-8F4D2B71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A7C1C-3288-42E5-A0DF-8292147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AE9B-DE92-41EA-8478-5A9D919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502E-E7A4-4ED4-8EC9-61455254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E14D-A737-4D50-8EBD-3B239537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E02DC-75FC-4884-B78A-130F7197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7427-BC61-437E-800C-28C5DFF1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449F-9B7D-47E4-954E-C61F1E41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2E60-E8FA-4131-8925-2A7A425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66B-C08D-4F66-AEEB-A3F65AF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DD6B-66BC-415C-B587-A33DEAA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2FC40-6672-4766-AFCC-F46064A0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906F0-0374-4233-897F-5F575439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9094-B896-4ED2-9849-8276808E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52ED-0C53-4038-8CA0-1C27CC75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1913-E6A8-4CBF-A470-26ABEFA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FD99-DD9C-487A-8582-06D5D3C2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6CAA-0D11-4F17-8EBE-7591C50E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4352-7FDF-409E-8FAA-B4C726C8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C33-B4C8-42F6-93F6-8F660F4D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0B6-FD7C-4395-AE75-E55834F6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21A6-0008-4EC0-BBD0-09A32735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B9B-8BCB-4273-8CDD-BFEC8F1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7B5-AAD7-4BF5-ABED-51F924E4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C7B1-EF73-440F-82A8-FB7FC8A3FB0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0079-57C9-4229-9B37-F0645741AC3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00B1-09BA-4A88-B5F3-D708562CC87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61AE-06C6-4D36-B845-984F3B2B097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обществознания в 6 класс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Григорьев А.П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"/>
          <p:cNvSpPr/>
          <p:nvPr/>
        </p:nvSpPr>
        <p:spPr>
          <a:xfrm>
            <a:off x="1785960" y="1643040"/>
            <a:ext cx="6072120" cy="40719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аво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равила поведения, которые установило государство, их исполнение обеспечивает государ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857160" y="500040"/>
          <a:ext cx="7715520" cy="588960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ора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а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ем установлен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ств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записан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игде, передаются устно из поколения в поко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законах – Уголовный кодекс, Административный кодекс, Семейный кодекс, Закон об образовании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ем охраняются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ственным мнение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ом – милиция, армия, спец.служб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то бывает за нарушени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уждение со стороны люд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траф, лишение свободы, исправительные работы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имер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 лгать, завидовать, обижать слабых. Нужно уважать людей, помогать, говорить правду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льзя красть, бить человека. Хранить оружие, переходить улицу на красный сигнал светофора и д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Скругленный прямоугольник 2"/>
          <p:cNvGrpSpPr/>
          <p:nvPr/>
        </p:nvGrpSpPr>
        <p:grpSpPr>
          <a:xfrm>
            <a:off x="639720" y="963720"/>
            <a:ext cx="7864560" cy="5430600"/>
            <a:chOff x="639720" y="963720"/>
            <a:chExt cx="7864560" cy="5430600"/>
          </a:xfrm>
        </p:grpSpPr>
        <p:pic>
          <p:nvPicPr>
            <p:cNvPr id="243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639720" y="963720"/>
              <a:ext cx="7864560" cy="54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973080" y="1258920"/>
              <a:ext cx="719784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Объясни пословицы: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«Доброму  Бог помогает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«За добро добром платят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«Добрый скорее дело сделает, чем сердитый»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Овал 1"/>
          <p:cNvSpPr/>
          <p:nvPr/>
        </p:nvSpPr>
        <p:spPr>
          <a:xfrm>
            <a:off x="428760" y="1071720"/>
            <a:ext cx="8358120" cy="450036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onstantia"/>
              </a:rPr>
              <a:t>Продолжите фраз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«Человека в обществе будут уважать з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2.  «Всеобщее осуждение в обществе   вызывает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Скругленный прямоугольник 1"/>
          <p:cNvSpPr/>
          <p:nvPr/>
        </p:nvSpPr>
        <p:spPr>
          <a:xfrm>
            <a:off x="857160" y="1214280"/>
            <a:ext cx="7429680" cy="27147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Ответь на вопрос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роль морали  и права в жизни обще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826920" y="476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обрыми или злыми являются эти герои сказо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D:\Документы Андрея\Презентации к урокам\354537_original.jpg"/>
          <p:cNvPicPr/>
          <p:nvPr/>
        </p:nvPicPr>
        <p:blipFill>
          <a:blip r:embed="rId1"/>
          <a:stretch/>
        </p:blipFill>
        <p:spPr>
          <a:xfrm>
            <a:off x="179280" y="1916280"/>
            <a:ext cx="2898720" cy="3960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2735280" cy="3960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D:\Документы Андрея\Презентации к урокам\kids__069.jpg"/>
          <p:cNvPicPr/>
          <p:nvPr/>
        </p:nvPicPr>
        <p:blipFill>
          <a:blip r:embed="rId3"/>
          <a:stretch/>
        </p:blipFill>
        <p:spPr>
          <a:xfrm>
            <a:off x="6300720" y="1916280"/>
            <a:ext cx="259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143000" y="2071800"/>
          <a:ext cx="7072200" cy="4343400"/>
        </p:xfrm>
        <a:graphic>
          <a:graphicData uri="http://schemas.openxmlformats.org/drawingml/2006/table">
            <a:tbl>
              <a:tblPr/>
              <a:tblGrid>
                <a:gridCol w="2357280"/>
                <a:gridCol w="2357640"/>
                <a:gridCol w="2357280"/>
              </a:tblGrid>
              <a:tr h="14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Линии срав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 жиз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 сказк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явление доб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явление з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pSp>
        <p:nvGrpSpPr>
          <p:cNvPr id="252" name="Прямоугольник 2"/>
          <p:cNvGrpSpPr/>
          <p:nvPr/>
        </p:nvGrpSpPr>
        <p:grpSpPr>
          <a:xfrm>
            <a:off x="1139760" y="822240"/>
            <a:ext cx="7150320" cy="1214640"/>
            <a:chOff x="1139760" y="822240"/>
            <a:chExt cx="7150320" cy="1214640"/>
          </a:xfrm>
        </p:grpSpPr>
        <p:pic>
          <p:nvPicPr>
            <p:cNvPr id="2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139760" y="822240"/>
              <a:ext cx="715032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214280" y="857160"/>
              <a:ext cx="70009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ff00"/>
                  </a:solidFill>
                  <a:latin typeface="Constantia"/>
                </a:rPr>
                <a:t>Заполни    таблицу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63280" y="1699920"/>
            <a:ext cx="6635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1.К общественным наукам не относитс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истор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экономик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географ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социолог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Улыбающееся лицо 3"/>
          <p:cNvSpPr/>
          <p:nvPr/>
        </p:nvSpPr>
        <p:spPr>
          <a:xfrm>
            <a:off x="1403280" y="4941720"/>
            <a:ext cx="647640" cy="5032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86920" y="1412640"/>
            <a:ext cx="7581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оциологи/ ученые, изучающие общество/ часто используют в своей работе анкеты,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содержащие  вопросы по той или иной жизненной теме. Какой метод исследования общества применяется в этом случа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наблю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 опро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измер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эксперимен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Улыбающееся лицо 4"/>
          <p:cNvSpPr/>
          <p:nvPr/>
        </p:nvSpPr>
        <p:spPr>
          <a:xfrm>
            <a:off x="755640" y="4076640"/>
            <a:ext cx="647640" cy="50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Установлено, что в выборах Президента РФ участвовало больше молодежи, чем на выборах в Государственную Думу. Каким методом исследования это было установлен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наблю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 опрос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измер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. эксперимен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Улыбающееся лицо 3"/>
          <p:cNvSpPr/>
          <p:nvPr/>
        </p:nvSpPr>
        <p:spPr>
          <a:xfrm>
            <a:off x="179280" y="4437000"/>
            <a:ext cx="647640" cy="50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Давайте вспомним!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Объясните, по какому принципу образованы ряды/ что объединяет данные понятия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 философия, история, культорология , политолог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. истина, свобода, справедливость, поль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. опрос, эксперимент, измерение, наблюден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План урок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раль и моральные норм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а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отношения морали и пра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обро и з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Цель урока: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Выявить соотношения морали и права, добра и за?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Скругленный прямоугольник 1"/>
          <p:cNvSpPr/>
          <p:nvPr/>
        </p:nvSpPr>
        <p:spPr>
          <a:xfrm>
            <a:off x="2643120" y="785880"/>
            <a:ext cx="4286160" cy="2214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4f5fa"/>
                </a:solidFill>
                <a:latin typeface="Constantia"/>
              </a:rPr>
              <a:t>Мораль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правила поведения, принимаемые и одобряемые обще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Скругленный прямоугольник 2"/>
          <p:cNvSpPr/>
          <p:nvPr/>
        </p:nvSpPr>
        <p:spPr>
          <a:xfrm>
            <a:off x="142920" y="3071880"/>
            <a:ext cx="3000240" cy="228600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Моральные нормы  основаны на представлении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о добре и зле, хорошем и плохом, о справедливости, чести, сове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Скругленный прямоугольник 3"/>
          <p:cNvSpPr/>
          <p:nvPr/>
        </p:nvSpPr>
        <p:spPr>
          <a:xfrm>
            <a:off x="3214800" y="4786200"/>
            <a:ext cx="3000240" cy="192888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Норма морали – это образец поведения, признанный обязательным в общ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кругленный прямоугольник 4"/>
          <p:cNvSpPr/>
          <p:nvPr/>
        </p:nvSpPr>
        <p:spPr>
          <a:xfrm>
            <a:off x="6286680" y="3000240"/>
            <a:ext cx="2857320" cy="2286000"/>
          </a:xfrm>
          <a:prstGeom prst="roundRect">
            <a:avLst>
              <a:gd name="adj" fmla="val 16667"/>
            </a:avLst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Нормы морали  регулируют поведение люд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1"/>
          <p:cNvSpPr/>
          <p:nvPr/>
        </p:nvSpPr>
        <p:spPr>
          <a:xfrm>
            <a:off x="2857680" y="857160"/>
            <a:ext cx="3214440" cy="19288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оральные  нор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Прямая со стрелкой 3"/>
          <p:cNvCxnSpPr>
            <a:stCxn id="223" idx="2"/>
            <a:endCxn id="225" idx="7"/>
          </p:cNvCxnSpPr>
          <p:nvPr/>
        </p:nvCxnSpPr>
        <p:spPr>
          <a:xfrm flipH="1">
            <a:off x="1686960" y="2785680"/>
            <a:ext cx="2778840" cy="160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Прямая со стрелкой 4"/>
          <p:cNvCxnSpPr>
            <a:stCxn id="223" idx="2"/>
            <a:endCxn id="227" idx="0"/>
          </p:cNvCxnSpPr>
          <p:nvPr/>
        </p:nvCxnSpPr>
        <p:spPr>
          <a:xfrm flipH="1">
            <a:off x="2248920" y="2785680"/>
            <a:ext cx="2215080" cy="250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8" name="Прямая со стрелкой 5"/>
          <p:cNvCxnSpPr>
            <a:stCxn id="223" idx="2"/>
            <a:endCxn id="229" idx="0"/>
          </p:cNvCxnSpPr>
          <p:nvPr/>
        </p:nvCxnSpPr>
        <p:spPr>
          <a:xfrm flipH="1">
            <a:off x="3963240" y="2786040"/>
            <a:ext cx="500760" cy="264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Прямая со стрелкой 6"/>
          <p:cNvCxnSpPr>
            <a:stCxn id="223" idx="2"/>
            <a:endCxn id="231" idx="0"/>
          </p:cNvCxnSpPr>
          <p:nvPr/>
        </p:nvCxnSpPr>
        <p:spPr>
          <a:xfrm>
            <a:off x="4464000" y="2786040"/>
            <a:ext cx="1145520" cy="2000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2" name="Прямая со стрелкой 12"/>
          <p:cNvCxnSpPr>
            <a:stCxn id="223" idx="2"/>
            <a:endCxn id="233" idx="0"/>
          </p:cNvCxnSpPr>
          <p:nvPr/>
        </p:nvCxnSpPr>
        <p:spPr>
          <a:xfrm>
            <a:off x="4464000" y="2785680"/>
            <a:ext cx="3431520" cy="2500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4" name="Прямая со стрелкой 15"/>
          <p:cNvCxnSpPr>
            <a:stCxn id="223" idx="2"/>
            <a:endCxn id="235" idx="1"/>
          </p:cNvCxnSpPr>
          <p:nvPr/>
        </p:nvCxnSpPr>
        <p:spPr>
          <a:xfrm>
            <a:off x="4465800" y="2786040"/>
            <a:ext cx="3134160" cy="117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6" name="Прямая со стрелкой 18"/>
          <p:cNvCxnSpPr>
            <a:stCxn id="223" idx="2"/>
            <a:endCxn id="237" idx="2"/>
          </p:cNvCxnSpPr>
          <p:nvPr/>
        </p:nvCxnSpPr>
        <p:spPr>
          <a:xfrm>
            <a:off x="4464000" y="2786040"/>
            <a:ext cx="3037680" cy="24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Овал 22"/>
          <p:cNvSpPr/>
          <p:nvPr/>
        </p:nvSpPr>
        <p:spPr>
          <a:xfrm>
            <a:off x="285840" y="4214880"/>
            <a:ext cx="1643040" cy="12142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завиду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23"/>
          <p:cNvSpPr/>
          <p:nvPr/>
        </p:nvSpPr>
        <p:spPr>
          <a:xfrm>
            <a:off x="4714920" y="4786200"/>
            <a:ext cx="178596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жаднич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24"/>
          <p:cNvSpPr/>
          <p:nvPr/>
        </p:nvSpPr>
        <p:spPr>
          <a:xfrm>
            <a:off x="6643800" y="5286240"/>
            <a:ext cx="250020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могай нуждающим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Овал 25"/>
          <p:cNvSpPr/>
          <p:nvPr/>
        </p:nvSpPr>
        <p:spPr>
          <a:xfrm>
            <a:off x="7358040" y="378612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предав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Овал 26"/>
          <p:cNvSpPr/>
          <p:nvPr/>
        </p:nvSpPr>
        <p:spPr>
          <a:xfrm>
            <a:off x="7500960" y="2428920"/>
            <a:ext cx="1643040" cy="12142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Овал 27"/>
          <p:cNvSpPr/>
          <p:nvPr/>
        </p:nvSpPr>
        <p:spPr>
          <a:xfrm>
            <a:off x="3143160" y="542916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важай старш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Овал 28"/>
          <p:cNvSpPr/>
          <p:nvPr/>
        </p:nvSpPr>
        <p:spPr>
          <a:xfrm>
            <a:off x="1428840" y="528624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обижай слаб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8"/>
          <p:cNvCxnSpPr>
            <a:stCxn id="223" idx="2"/>
            <a:endCxn id="239" idx="6"/>
          </p:cNvCxnSpPr>
          <p:nvPr/>
        </p:nvCxnSpPr>
        <p:spPr>
          <a:xfrm flipH="1">
            <a:off x="1785600" y="2785680"/>
            <a:ext cx="2680560" cy="60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Овал 41"/>
          <p:cNvSpPr/>
          <p:nvPr/>
        </p:nvSpPr>
        <p:spPr>
          <a:xfrm>
            <a:off x="142920" y="2786040"/>
            <a:ext cx="1643040" cy="121464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1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 л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3:00:39Z</dcterms:created>
  <dc:creator>Kamenka School</dc:creator>
  <dc:description/>
  <dc:language>en-US</dc:language>
  <cp:lastModifiedBy>Андрей</cp:lastModifiedBy>
  <dcterms:modified xsi:type="dcterms:W3CDTF">2012-02-02T13:24:24Z</dcterms:modified>
  <cp:revision>12</cp:revision>
  <dc:subject/>
  <dc:title>Мораль</dc:title>
</cp:coreProperties>
</file>