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6.jpeg" ContentType="image/jpeg"/>
  <Override PartName="/ppt/media/image7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EE5FE-158F-4B66-8AFE-2E926B5DD06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FFDAD-B17C-4F8A-98DB-A00C4F09F9B9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DB1B2-4CDF-4053-B863-CFFD1EBAC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A5EE1-7EAA-400F-B441-68BA39DA2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C3D29-2DC4-43AE-9231-81EE51A64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B184D-09CD-4C8B-B95A-A7CAF1DC4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EB0B6-212F-4495-9C71-E3973A676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98074-1E26-41F2-BF2F-C9350D221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C8A4D-A4AF-44A8-9441-28A502E9C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08849-D4BD-4D70-9152-12ACA24C6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5AE5C-F037-4399-B636-132DEA29E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B6CD2-C0A7-4700-957C-8586D4247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BC40D-F111-4E5D-9F7B-40156FBDA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04B42-A2B7-47FB-8F0E-0D55A2D28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EE4B1-3E73-4148-BB71-A5AC2E286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D2500-A64E-4080-927A-9FA099085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3D30F-FEBD-4CCE-82C6-419A7D15C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44730-848F-43CC-80F0-7D5EDD2B4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0FB79-DE09-46D4-B0F3-4BC5DBCFA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F6E094-C34C-4DCE-9B5B-AE813EE56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2A6D13-7CA9-4F48-B9FF-27C090030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0C38CF-2175-45F8-AE8F-CABE7B15D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4C14F0-7BEF-4320-870C-771CC94D1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85A15D-4F5B-4A78-8194-279FADAAE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7C32D-4E5E-4756-A187-4B034FF25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1D2C50-4D60-4CBA-882B-776B01EC0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D53BE9-A6D6-4315-AD27-2C9348A73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3109CA-20EF-4156-9DB1-C96CBEF86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056A92-B969-4667-840C-0F18300FF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985B6E-7453-4BDE-87D6-6E0A9023C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C9D853-2053-45EF-9DC2-29269812F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4D0269-87AA-4A3F-B80D-4942B6AD7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0A60B6-4627-4A86-BCF7-1AB329655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FD0214-D784-4D2D-A4D1-195A2A93D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027851-310E-437D-8C07-AEE09095A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6DF0C-EF17-4C18-B665-A78940486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A65D87-8F02-45AD-8987-1788CE5E8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AC2A9A-BF60-4BC6-BDA7-B03AEA7A8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8BF148-D790-4EE7-835A-2FD04C108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067A2D-391E-437F-A1DE-F495FEFB6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A35DB3-A30F-4ADC-A299-32A6B34FE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627318-3A92-40C7-B320-BBD1CC495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3D4F98-5A30-4B81-9D8F-3A60B0A22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7C34F9-D90C-4FF0-876E-12ACCA296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3DB33D-8037-49A5-8618-C57921A6A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95FCA-75FB-4888-82DD-E8A12E262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57839-D086-4AD7-AFDE-9C3D159DC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5344F-5334-4301-BC2E-7C3B0AFFB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450A9-A98E-4411-AADB-FB3CF79DD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F7B6F-5E43-4BE1-9B1D-6390FE15F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72592-7A01-400F-B70F-E2396855CBF6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FB242-83FE-4C45-A69D-0F5E68B3A555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A4ED8-A830-4A29-B3DD-4C02D32A33A5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05F7C-8E6D-4652-BDBB-6FA75B5197CA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Заголовок 1" descr=""/>
          <p:cNvPicPr/>
          <p:nvPr/>
        </p:nvPicPr>
        <p:blipFill>
          <a:blip r:embed="rId1"/>
          <a:stretch/>
        </p:blipFill>
        <p:spPr>
          <a:xfrm>
            <a:off x="530280" y="1255680"/>
            <a:ext cx="7864560" cy="201132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Урок обществознания в 6 классе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Учитель Григорьев А.П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Скругленный прямоугольник 2"/>
          <p:cNvSpPr/>
          <p:nvPr/>
        </p:nvSpPr>
        <p:spPr>
          <a:xfrm>
            <a:off x="1785960" y="1643040"/>
            <a:ext cx="6072120" cy="4071960"/>
          </a:xfrm>
          <a:prstGeom prst="roundRect">
            <a:avLst>
              <a:gd name="adj" fmla="val 16667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Право</a:t>
            </a: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 – правила поведения, которые установило государство, их исполнение обеспечивает государств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1" name=""/>
          <p:cNvGraphicFramePr/>
          <p:nvPr/>
        </p:nvGraphicFramePr>
        <p:xfrm>
          <a:off x="857160" y="500040"/>
          <a:ext cx="7715520" cy="5889600"/>
        </p:xfrm>
        <a:graphic>
          <a:graphicData uri="http://schemas.openxmlformats.org/drawingml/2006/table">
            <a:tbl>
              <a:tblPr/>
              <a:tblGrid>
                <a:gridCol w="2571840"/>
                <a:gridCol w="2571840"/>
                <a:gridCol w="25718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Линии сравне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Морал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Прав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Кем установлены?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Обществом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Государством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155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Где записаны?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Нигде, передаются устно из поколения в поколени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В законах – Уголовный кодекс, Административный кодекс, Семейный кодекс, Закон об образовании и др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Кем охраняются?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Общественным мнением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Государством – милиция, армия, спец.службы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Что бывает за нарушение?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Осуждение со стороны людей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Штраф, лишение свободы, исправительные работы и др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155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Пример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Нельзя лгать, завидовать, обижать слабых. Нужно уважать людей, помогать, говорить правду и др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Нельзя красть, бить человека. Хранить оружие, переходить улицу на красный сигнал светофора и др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2" name="Скругленный прямоугольник 2"/>
          <p:cNvGrpSpPr/>
          <p:nvPr/>
        </p:nvGrpSpPr>
        <p:grpSpPr>
          <a:xfrm>
            <a:off x="639720" y="963720"/>
            <a:ext cx="7864560" cy="5430600"/>
            <a:chOff x="639720" y="963720"/>
            <a:chExt cx="7864560" cy="5430600"/>
          </a:xfrm>
        </p:grpSpPr>
        <p:pic>
          <p:nvPicPr>
            <p:cNvPr id="243" name="Скругленный прямоугольник 2" descr=""/>
            <p:cNvPicPr/>
            <p:nvPr/>
          </p:nvPicPr>
          <p:blipFill>
            <a:blip r:embed="rId1"/>
            <a:stretch/>
          </p:blipFill>
          <p:spPr>
            <a:xfrm>
              <a:off x="639720" y="963720"/>
              <a:ext cx="7864560" cy="543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4" name=""/>
            <p:cNvSpPr/>
            <p:nvPr/>
          </p:nvSpPr>
          <p:spPr>
            <a:xfrm>
              <a:off x="973080" y="1258920"/>
              <a:ext cx="7197840" cy="476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Объясни пословицы: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00"/>
                </a:buClr>
                <a:buFont typeface="Times New Roman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«Доброму  Бог помогает»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00"/>
                </a:buClr>
                <a:buFont typeface="Times New Roman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«За добро добром платят»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00"/>
                </a:buClr>
                <a:buFont typeface="Times New Roman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«Добрый скорее дело сделает, чем сердитый»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Овал 1"/>
          <p:cNvSpPr/>
          <p:nvPr/>
        </p:nvSpPr>
        <p:spPr>
          <a:xfrm>
            <a:off x="428760" y="1071720"/>
            <a:ext cx="8358120" cy="4500360"/>
          </a:xfrm>
          <a:prstGeom prst="ellipse">
            <a:avLst/>
          </a:prstGeom>
          <a:solidFill>
            <a:srgbClr val="009dd9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003148">
                <a:alpha val="4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ff0000"/>
                </a:solidFill>
                <a:uFillTx/>
                <a:latin typeface="Constantia"/>
              </a:rPr>
              <a:t>Продолжите фразы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Constantia"/>
              </a:rPr>
              <a:t>«Человека в обществе будут уважать за…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Constantia"/>
              </a:rPr>
              <a:t>2.  «Всеобщее осуждение в обществе   вызывает…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Скругленный прямоугольник 1"/>
          <p:cNvSpPr/>
          <p:nvPr/>
        </p:nvSpPr>
        <p:spPr>
          <a:xfrm>
            <a:off x="857160" y="1214280"/>
            <a:ext cx="7429680" cy="2714760"/>
          </a:xfrm>
          <a:prstGeom prst="roundRect">
            <a:avLst>
              <a:gd name="adj" fmla="val 16667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Ответь на вопрос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ва роль морали  и права в жизни общества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TextBox 1"/>
          <p:cNvSpPr/>
          <p:nvPr/>
        </p:nvSpPr>
        <p:spPr>
          <a:xfrm>
            <a:off x="826920" y="476280"/>
            <a:ext cx="763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Добрыми или злыми являются эти герои сказок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8" name="Picture 2" descr="D:\Документы Андрея\Презентации к урокам\354537_original.jpg"/>
          <p:cNvPicPr/>
          <p:nvPr/>
        </p:nvPicPr>
        <p:blipFill>
          <a:blip r:embed="rId1"/>
          <a:stretch/>
        </p:blipFill>
        <p:spPr>
          <a:xfrm>
            <a:off x="179280" y="1916280"/>
            <a:ext cx="2898720" cy="396072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3" descr=""/>
          <p:cNvPicPr/>
          <p:nvPr/>
        </p:nvPicPr>
        <p:blipFill>
          <a:blip r:embed="rId2"/>
          <a:stretch/>
        </p:blipFill>
        <p:spPr>
          <a:xfrm>
            <a:off x="3276720" y="1916280"/>
            <a:ext cx="2735280" cy="396072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4" descr="D:\Документы Андрея\Презентации к урокам\kids__069.jpg"/>
          <p:cNvPicPr/>
          <p:nvPr/>
        </p:nvPicPr>
        <p:blipFill>
          <a:blip r:embed="rId3"/>
          <a:stretch/>
        </p:blipFill>
        <p:spPr>
          <a:xfrm>
            <a:off x="6300720" y="1916280"/>
            <a:ext cx="259236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1" name=""/>
          <p:cNvGraphicFramePr/>
          <p:nvPr/>
        </p:nvGraphicFramePr>
        <p:xfrm>
          <a:off x="1143000" y="2071800"/>
          <a:ext cx="7072200" cy="4343400"/>
        </p:xfrm>
        <a:graphic>
          <a:graphicData uri="http://schemas.openxmlformats.org/drawingml/2006/table">
            <a:tbl>
              <a:tblPr/>
              <a:tblGrid>
                <a:gridCol w="2357280"/>
                <a:gridCol w="2357640"/>
                <a:gridCol w="2357280"/>
              </a:tblGrid>
              <a:tr h="1438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Линии сравне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В жизн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В сказках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143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Проявление добр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Проявление зл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</a:tbl>
          </a:graphicData>
        </a:graphic>
      </p:graphicFrame>
      <p:grpSp>
        <p:nvGrpSpPr>
          <p:cNvPr id="252" name="Прямоугольник 2"/>
          <p:cNvGrpSpPr/>
          <p:nvPr/>
        </p:nvGrpSpPr>
        <p:grpSpPr>
          <a:xfrm>
            <a:off x="1139760" y="822240"/>
            <a:ext cx="7150320" cy="1214640"/>
            <a:chOff x="1139760" y="822240"/>
            <a:chExt cx="7150320" cy="1214640"/>
          </a:xfrm>
        </p:grpSpPr>
        <p:pic>
          <p:nvPicPr>
            <p:cNvPr id="253" name="Прямоугольник 2" descr=""/>
            <p:cNvPicPr/>
            <p:nvPr/>
          </p:nvPicPr>
          <p:blipFill>
            <a:blip r:embed="rId1"/>
            <a:stretch/>
          </p:blipFill>
          <p:spPr>
            <a:xfrm>
              <a:off x="1139760" y="822240"/>
              <a:ext cx="7150320" cy="121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4" name=""/>
            <p:cNvSpPr/>
            <p:nvPr/>
          </p:nvSpPr>
          <p:spPr>
            <a:xfrm>
              <a:off x="1214280" y="857160"/>
              <a:ext cx="7000920" cy="107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000" spc="-1" strike="noStrike">
                  <a:solidFill>
                    <a:srgbClr val="ffff00"/>
                  </a:solidFill>
                  <a:latin typeface="Constantia"/>
                </a:rPr>
                <a:t>Заполни    таблицу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dbf5f9"/>
                </a:solidFill>
                <a:latin typeface="Calibri"/>
              </a:rPr>
              <a:t>Давайте вспомним!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763280" y="1699920"/>
            <a:ext cx="66358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ffff"/>
                </a:solidFill>
                <a:latin typeface="Constantia"/>
              </a:rPr>
              <a:t>1.К общественным наукам не относится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А. история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Б.экономика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В. география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Г. социология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6" name="Улыбающееся лицо 3"/>
          <p:cNvSpPr/>
          <p:nvPr/>
        </p:nvSpPr>
        <p:spPr>
          <a:xfrm>
            <a:off x="1403280" y="4941720"/>
            <a:ext cx="647640" cy="50328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dbf5f9"/>
                </a:solidFill>
                <a:latin typeface="Calibri"/>
              </a:rPr>
              <a:t>Давайте вспомним!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1186920" y="1412640"/>
            <a:ext cx="758196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2. </a:t>
            </a:r>
            <a:r>
              <a:rPr b="1" i="1" lang="ru-RU" sz="2000" spc="-1" strike="noStrike">
                <a:solidFill>
                  <a:srgbClr val="ffffff"/>
                </a:solidFill>
                <a:latin typeface="Constantia"/>
              </a:rPr>
              <a:t>Социологи/ ученые, изучающие общество/ часто используют в своей работе анкеты,</a:t>
            </a: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1" i="1" lang="ru-RU" sz="2000" spc="-1" strike="noStrike">
                <a:solidFill>
                  <a:srgbClr val="ffffff"/>
                </a:solidFill>
                <a:latin typeface="Constantia"/>
              </a:rPr>
              <a:t>содержащие  вопросы по той или иной жизненной теме. Какой метод исследования общества применяется в этом случае?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 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А. наблюдение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Б. опрос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В. измерение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Г. эксперимент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9" name="Улыбающееся лицо 4"/>
          <p:cNvSpPr/>
          <p:nvPr/>
        </p:nvSpPr>
        <p:spPr>
          <a:xfrm>
            <a:off x="755640" y="4076640"/>
            <a:ext cx="647640" cy="50472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dbf5f9"/>
                </a:solidFill>
                <a:latin typeface="Calibri"/>
              </a:rPr>
              <a:t>Давайте вспомним!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3. </a:t>
            </a:r>
            <a:r>
              <a:rPr b="1" i="1" lang="ru-RU" sz="2400" spc="-1" strike="noStrike">
                <a:solidFill>
                  <a:srgbClr val="ffffff"/>
                </a:solidFill>
                <a:latin typeface="Constantia"/>
              </a:rPr>
              <a:t>Установлено, что в выборах Президента РФ участвовало больше молодежи, чем на выборах в Государственную Думу. Каким методом исследования это было установлено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 ?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А. наблюдение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Б. опрос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В. измерение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Г. эксперимент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2" name="Улыбающееся лицо 3"/>
          <p:cNvSpPr/>
          <p:nvPr/>
        </p:nvSpPr>
        <p:spPr>
          <a:xfrm>
            <a:off x="179280" y="4437000"/>
            <a:ext cx="647640" cy="50472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dbf5f9"/>
                </a:solidFill>
                <a:latin typeface="Calibri"/>
              </a:rPr>
              <a:t>Давайте вспомним!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ffff"/>
                </a:solidFill>
                <a:latin typeface="Constantia"/>
              </a:rPr>
              <a:t>Объясните, по какому принципу образованы ряды/ что объединяет данные понятия/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А. философия, история, культорология , политология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Б. истина, свобода, справедливость, польза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В. опрос, эксперимент, измерение, наблюдение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dbf5f9"/>
                </a:solidFill>
                <a:latin typeface="Calibri"/>
              </a:rPr>
              <a:t>План урока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Мораль и моральные нормы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Право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Соотношения морали и права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Добро и зло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dbf5f9"/>
                </a:solidFill>
                <a:latin typeface="Calibri"/>
              </a:rPr>
              <a:t>Цель урока: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Constantia"/>
              </a:rPr>
              <a:t>Выявить соотношения морали и права, добра и за?</a:t>
            </a:r>
            <a:endParaRPr b="0" lang="en-US" sz="6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Скругленный прямоугольник 1"/>
          <p:cNvSpPr/>
          <p:nvPr/>
        </p:nvSpPr>
        <p:spPr>
          <a:xfrm>
            <a:off x="2643120" y="785880"/>
            <a:ext cx="4286160" cy="2214360"/>
          </a:xfrm>
          <a:prstGeom prst="roundRect">
            <a:avLst>
              <a:gd name="adj" fmla="val 16667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4f5fa"/>
                </a:solidFill>
                <a:latin typeface="Constantia"/>
              </a:rPr>
              <a:t>Мораль</a:t>
            </a: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 – правила поведения, принимаемые и одобряемые общество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Скругленный прямоугольник 2"/>
          <p:cNvSpPr/>
          <p:nvPr/>
        </p:nvSpPr>
        <p:spPr>
          <a:xfrm>
            <a:off x="142920" y="3071880"/>
            <a:ext cx="3000240" cy="2286000"/>
          </a:xfrm>
          <a:prstGeom prst="roundRect">
            <a:avLst>
              <a:gd name="adj" fmla="val 16667"/>
            </a:avLst>
          </a:prstGeom>
          <a:solidFill>
            <a:srgbClr val="0bd0d9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004548">
                <a:alpha val="4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onstantia"/>
              </a:rPr>
              <a:t>Моральные нормы  основаны на представлении люде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onstantia"/>
              </a:rPr>
              <a:t>о добре и зле, хорошем и плохом, о справедливости, чести, совест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Скругленный прямоугольник 3"/>
          <p:cNvSpPr/>
          <p:nvPr/>
        </p:nvSpPr>
        <p:spPr>
          <a:xfrm>
            <a:off x="3214800" y="4786200"/>
            <a:ext cx="3000240" cy="1928880"/>
          </a:xfrm>
          <a:prstGeom prst="roundRect">
            <a:avLst>
              <a:gd name="adj" fmla="val 16667"/>
            </a:avLst>
          </a:prstGeom>
          <a:solidFill>
            <a:srgbClr val="0bd0d9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004548">
                <a:alpha val="4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onstantia"/>
              </a:rPr>
              <a:t>Норма морали – это образец поведения, признанный обязательным в обществ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Скругленный прямоугольник 4"/>
          <p:cNvSpPr/>
          <p:nvPr/>
        </p:nvSpPr>
        <p:spPr>
          <a:xfrm>
            <a:off x="6286680" y="3000240"/>
            <a:ext cx="2857320" cy="2286000"/>
          </a:xfrm>
          <a:prstGeom prst="roundRect">
            <a:avLst>
              <a:gd name="adj" fmla="val 16667"/>
            </a:avLst>
          </a:prstGeom>
          <a:solidFill>
            <a:srgbClr val="0bd0d9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004548">
                <a:alpha val="4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onstantia"/>
              </a:rPr>
              <a:t>Нормы морали  регулируют поведение люде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Скругленный прямоугольник 1"/>
          <p:cNvSpPr/>
          <p:nvPr/>
        </p:nvSpPr>
        <p:spPr>
          <a:xfrm>
            <a:off x="2857680" y="857160"/>
            <a:ext cx="3214440" cy="1928880"/>
          </a:xfrm>
          <a:prstGeom prst="roundRect">
            <a:avLst>
              <a:gd name="adj" fmla="val 16667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Моральные  норм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24" name="Прямая со стрелкой 3"/>
          <p:cNvCxnSpPr>
            <a:stCxn id="223" idx="2"/>
            <a:endCxn id="225" idx="7"/>
          </p:cNvCxnSpPr>
          <p:nvPr/>
        </p:nvCxnSpPr>
        <p:spPr>
          <a:xfrm flipH="1">
            <a:off x="1686960" y="2785680"/>
            <a:ext cx="2778840" cy="16074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26" name="Прямая со стрелкой 4"/>
          <p:cNvCxnSpPr>
            <a:stCxn id="223" idx="2"/>
            <a:endCxn id="227" idx="0"/>
          </p:cNvCxnSpPr>
          <p:nvPr/>
        </p:nvCxnSpPr>
        <p:spPr>
          <a:xfrm flipH="1">
            <a:off x="2248920" y="2785680"/>
            <a:ext cx="2215080" cy="25009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28" name="Прямая со стрелкой 5"/>
          <p:cNvCxnSpPr>
            <a:stCxn id="223" idx="2"/>
            <a:endCxn id="229" idx="0"/>
          </p:cNvCxnSpPr>
          <p:nvPr/>
        </p:nvCxnSpPr>
        <p:spPr>
          <a:xfrm flipH="1">
            <a:off x="3963240" y="2786040"/>
            <a:ext cx="500760" cy="26438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30" name="Прямая со стрелкой 6"/>
          <p:cNvCxnSpPr>
            <a:stCxn id="223" idx="2"/>
            <a:endCxn id="231" idx="0"/>
          </p:cNvCxnSpPr>
          <p:nvPr/>
        </p:nvCxnSpPr>
        <p:spPr>
          <a:xfrm>
            <a:off x="4464000" y="2786040"/>
            <a:ext cx="1145520" cy="20008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32" name="Прямая со стрелкой 12"/>
          <p:cNvCxnSpPr>
            <a:stCxn id="223" idx="2"/>
            <a:endCxn id="233" idx="0"/>
          </p:cNvCxnSpPr>
          <p:nvPr/>
        </p:nvCxnSpPr>
        <p:spPr>
          <a:xfrm>
            <a:off x="4464000" y="2785680"/>
            <a:ext cx="3431520" cy="25009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34" name="Прямая со стрелкой 15"/>
          <p:cNvCxnSpPr>
            <a:stCxn id="223" idx="2"/>
            <a:endCxn id="235" idx="1"/>
          </p:cNvCxnSpPr>
          <p:nvPr/>
        </p:nvCxnSpPr>
        <p:spPr>
          <a:xfrm>
            <a:off x="4465800" y="2786040"/>
            <a:ext cx="3134160" cy="11786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36" name="Прямая со стрелкой 18"/>
          <p:cNvCxnSpPr>
            <a:stCxn id="223" idx="2"/>
            <a:endCxn id="237" idx="2"/>
          </p:cNvCxnSpPr>
          <p:nvPr/>
        </p:nvCxnSpPr>
        <p:spPr>
          <a:xfrm>
            <a:off x="4464000" y="2786040"/>
            <a:ext cx="3037680" cy="2498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25" name="Овал 22"/>
          <p:cNvSpPr/>
          <p:nvPr/>
        </p:nvSpPr>
        <p:spPr>
          <a:xfrm>
            <a:off x="285840" y="4214880"/>
            <a:ext cx="1643040" cy="1214280"/>
          </a:xfrm>
          <a:prstGeom prst="ellipse">
            <a:avLst/>
          </a:prstGeom>
          <a:solidFill>
            <a:srgbClr val="009dd9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003148">
                <a:alpha val="4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не завиду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Овал 23"/>
          <p:cNvSpPr/>
          <p:nvPr/>
        </p:nvSpPr>
        <p:spPr>
          <a:xfrm>
            <a:off x="4714920" y="4786200"/>
            <a:ext cx="1785960" cy="1214640"/>
          </a:xfrm>
          <a:prstGeom prst="ellipse">
            <a:avLst/>
          </a:prstGeom>
          <a:solidFill>
            <a:srgbClr val="009dd9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003148">
                <a:alpha val="4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Не жаднича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Овал 24"/>
          <p:cNvSpPr/>
          <p:nvPr/>
        </p:nvSpPr>
        <p:spPr>
          <a:xfrm>
            <a:off x="6643800" y="5286240"/>
            <a:ext cx="2500200" cy="1214640"/>
          </a:xfrm>
          <a:prstGeom prst="ellipse">
            <a:avLst/>
          </a:prstGeom>
          <a:solidFill>
            <a:srgbClr val="009dd9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003148">
                <a:alpha val="4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Помогай нуждающимс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Овал 25"/>
          <p:cNvSpPr/>
          <p:nvPr/>
        </p:nvSpPr>
        <p:spPr>
          <a:xfrm>
            <a:off x="7358040" y="3786120"/>
            <a:ext cx="1643040" cy="1214640"/>
          </a:xfrm>
          <a:prstGeom prst="ellipse">
            <a:avLst/>
          </a:prstGeom>
          <a:solidFill>
            <a:srgbClr val="009dd9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003148">
                <a:alpha val="4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Не предава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Овал 26"/>
          <p:cNvSpPr/>
          <p:nvPr/>
        </p:nvSpPr>
        <p:spPr>
          <a:xfrm>
            <a:off x="7500960" y="2428920"/>
            <a:ext cx="1643040" cy="1214280"/>
          </a:xfrm>
          <a:prstGeom prst="ellipse">
            <a:avLst/>
          </a:prstGeom>
          <a:solidFill>
            <a:srgbClr val="009dd9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003148">
                <a:alpha val="4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Овал 27"/>
          <p:cNvSpPr/>
          <p:nvPr/>
        </p:nvSpPr>
        <p:spPr>
          <a:xfrm>
            <a:off x="3143160" y="5429160"/>
            <a:ext cx="1643040" cy="1214640"/>
          </a:xfrm>
          <a:prstGeom prst="ellipse">
            <a:avLst/>
          </a:prstGeom>
          <a:solidFill>
            <a:srgbClr val="009dd9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003148">
                <a:alpha val="4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Уважай старши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Овал 28"/>
          <p:cNvSpPr/>
          <p:nvPr/>
        </p:nvSpPr>
        <p:spPr>
          <a:xfrm>
            <a:off x="1428840" y="5286240"/>
            <a:ext cx="1643040" cy="1214640"/>
          </a:xfrm>
          <a:prstGeom prst="ellipse">
            <a:avLst/>
          </a:prstGeom>
          <a:solidFill>
            <a:srgbClr val="009dd9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003148">
                <a:alpha val="4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Не обижай слабы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38" name="Прямая со стрелкой 38"/>
          <p:cNvCxnSpPr>
            <a:stCxn id="223" idx="2"/>
            <a:endCxn id="239" idx="6"/>
          </p:cNvCxnSpPr>
          <p:nvPr/>
        </p:nvCxnSpPr>
        <p:spPr>
          <a:xfrm flipH="1">
            <a:off x="1785600" y="2785680"/>
            <a:ext cx="2680560" cy="6073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39" name="Овал 41"/>
          <p:cNvSpPr/>
          <p:nvPr/>
        </p:nvSpPr>
        <p:spPr>
          <a:xfrm>
            <a:off x="142920" y="2786040"/>
            <a:ext cx="1643040" cy="1214640"/>
          </a:xfrm>
          <a:prstGeom prst="ellipse">
            <a:avLst/>
          </a:prstGeom>
          <a:solidFill>
            <a:srgbClr val="009dd9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003148">
                <a:alpha val="4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Не  лг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5T13:00:39Z</dcterms:created>
  <dc:creator>Kamenka School</dc:creator>
  <dc:description/>
  <dc:language>en-US</dc:language>
  <cp:lastModifiedBy>Андрей</cp:lastModifiedBy>
  <dcterms:modified xsi:type="dcterms:W3CDTF">2012-02-02T13:24:24Z</dcterms:modified>
  <cp:revision>12</cp:revision>
  <dc:subject/>
  <dc:title>Мораль</dc:title>
</cp:coreProperties>
</file>