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215-DC81-4DF4-AFFC-E642AFC1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F72-7808-4853-81D7-74346B7A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0D7-AB50-4648-A7B6-6EA79C3B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FC5-D1F7-4722-9499-DF321927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D94F-ABDF-4FB4-95EE-5271C29A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7EBE-D8A5-4109-9AEC-A79FCF30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E087-475B-48D1-B1C5-8E50AE77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869D-C02F-471C-B485-37BDB8E4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0C33-5275-4EFF-909B-B3AEBF9B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C743-F1DE-43B4-BED5-E34AECF7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D4D4-9AA2-49CA-B8B1-C2B11E5F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B2D-7BCA-4205-B6CA-D1AA6912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1FF1-2B54-4A2F-AC18-47AABC0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E89E-4806-44F7-AB96-2A8C576C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0B1D-323D-4967-BCDA-DCCF55D4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83B0-A0F8-428E-8877-DD47AD85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DA60-0776-4701-972B-BF36AAAF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99C-7984-44F5-8222-EC0E7AC7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FE4-6BA3-45CE-BA1A-0DD1F40D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CEE-E6A8-459A-A1D4-E4B36745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E34-B255-4F85-828D-C63D12F6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BCA-1246-443C-93DB-8E37C9FF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3FD-DD1E-4187-914E-E6111130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180-C8A5-482B-B85F-564B6EF8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19B-8B36-4A6A-951A-333A9A0E80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8BAA-C8A2-47D4-AFEA-2DBE6D6F8F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ЧЕМУ МЫ ТАК ГОВОРИМ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 истории с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Картинка 2 из 2311"/>
          <p:cNvPicPr/>
          <p:nvPr/>
        </p:nvPicPr>
        <p:blipFill>
          <a:blip r:embed="rId1"/>
          <a:stretch/>
        </p:blipFill>
        <p:spPr>
          <a:xfrm>
            <a:off x="1835280" y="981000"/>
            <a:ext cx="6192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00ff"/>
                </a:solidFill>
                <a:latin typeface="Comic Sans MS"/>
              </a:rPr>
              <a:t>Паганус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лат. Крестьяни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Язычник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тому что христианство в Риме долго не могло проникнуть в деревню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 теперь у нас это слово приобрело смысл 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чистый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»,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ерзкий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»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Гриб поганка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ганый характер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Картинка 56 из 872"/>
          <p:cNvPicPr/>
          <p:nvPr/>
        </p:nvPicPr>
        <p:blipFill>
          <a:blip r:embed="rId1"/>
          <a:stretch/>
        </p:blipFill>
        <p:spPr>
          <a:xfrm>
            <a:off x="5364000" y="4437000"/>
            <a:ext cx="2916360" cy="21891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Сорок сорок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67658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а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и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Со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ест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м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ем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вя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24360" y="4292640"/>
            <a:ext cx="2664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</a:t>
            </a:r>
            <a:endParaRPr b="1" lang="en-US" sz="4400" spc="1" strike="noStrike">
              <a:ln w="1908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рок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»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фтан из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кур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том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ких собольих шкурок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том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дцать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оме шкур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том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том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чезло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 rot="333000">
            <a:off x="5940000" y="4652640"/>
            <a:ext cx="230364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0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696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Comic Sans MS"/>
              </a:rPr>
              <a:t>Вратарь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тражник у ворот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р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-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ус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Comic Sans MS"/>
              </a:rPr>
              <a:t>Вратарь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портсмен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овр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Картинка 4 из 48830"/>
          <p:cNvPicPr/>
          <p:nvPr/>
        </p:nvPicPr>
        <p:blipFill>
          <a:blip r:embed="rId1"/>
          <a:stretch/>
        </p:blipFill>
        <p:spPr>
          <a:xfrm>
            <a:off x="5292720" y="4292640"/>
            <a:ext cx="2773440" cy="19908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83" name="" descr="Картинка 1 из 652"/>
          <p:cNvPicPr/>
          <p:nvPr/>
        </p:nvPicPr>
        <p:blipFill>
          <a:blip r:embed="rId2"/>
          <a:stretch/>
        </p:blipFill>
        <p:spPr>
          <a:xfrm>
            <a:off x="2195640" y="3860640"/>
            <a:ext cx="1898640" cy="2781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Самолё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«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Особый отряд был переправлен на правый берег и овладел находившимися там укреплениями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прервав сообщение крепости с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Ниеншанце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Выборго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Кексгольмо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Флотилия блокировала её со стороны Ладожского озера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На самолёте была устроена связь между обоими берегами Невы…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»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о взятии воисками Петра Первого крепости Орешек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Самолёт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р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-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рус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) –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самоходные паромы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вижущиеся силой речной струи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Картинка 16 из 412351"/>
          <p:cNvPicPr/>
          <p:nvPr/>
        </p:nvPicPr>
        <p:blipFill>
          <a:blip r:embed="rId1"/>
          <a:stretch/>
        </p:blipFill>
        <p:spPr>
          <a:xfrm>
            <a:off x="4572000" y="4653000"/>
            <a:ext cx="2808360" cy="201600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68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68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Берегите наш язык, наш прекрасный русский язык, этот клад, это достояние, переданное нашими предшественниками!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зывал Иван Сергеевич Тургене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ргенев  не напрасно призывал относиться к языку с благоговением. Много столетий назад жили наши предки – сначала гордые и самолюбивые 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ант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отом создавшие своё могучее государство 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русич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И они на заре истории говорили уже по-русски, на том языке, которым пользуемся мы с в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69608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сский народ шёл своим историческим путём век за веком. Как ни менялось его лицо, лицо многомиллионного народа, он оставался самим собой и при Владимире Киевском, и при Иване Грозном, и во дн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1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да, и в наши д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такое живёт в этих долгих веках неистребимое, что заставляет чувствовать своим братом и соплеменником и сурового воина Святослава, и мудрого летописца Нестора, и славного флотоводца Ушаков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7839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 думаю, мы не ошибёмся, если ответим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усский язы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 прожил долгие, очень долгие столетия. Он менялся из года в год, из века в век, и всё же за тысячелетия остался тем же русским язы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3132000" y="544500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5280" y="2565360"/>
            <a:ext cx="828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АСИБО ЗА ВНИМАНИЕ!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4000"/>
            </a:br>
            <a:r>
              <a:rPr b="0" lang="en-US" sz="3600" spc="-1" strike="noStrike">
                <a:solidFill>
                  <a:srgbClr val="cc00ff"/>
                </a:solidFill>
                <a:latin typeface="Comic Sans MS"/>
              </a:rPr>
              <a:t>Михаил Васильевич Ломоносов</a:t>
            </a:r>
            <a:br>
              <a:rPr sz="3600"/>
            </a:br>
            <a:r>
              <a:rPr b="0" lang="en-US" sz="3600" spc="-1" strike="noStrike">
                <a:solidFill>
                  <a:srgbClr val="cc00ff"/>
                </a:solidFill>
                <a:latin typeface="Comic Sans MS"/>
              </a:rPr>
              <a:t>1748 год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БЛАЖЕНСТВО РОДА ЧЕЛОВЕЧЕСКОГО КОЛЬ МНОГО ОТ СЛОВ ЗАВИСИТ, ВСЯК ДОВОЛЬНО УСМОТРЕТЬ МОЖЕ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Собираться рассеянным народам в общежития, созидать грады, строить храмы и корабли, ополчаться против неприятеля и другие нужные, союзных сил требующие, дела производить как бы возможно было, если бы они способу не имели сообщить свои мысли друг другу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Картинка 17 из 699"/>
          <p:cNvPicPr/>
          <p:nvPr/>
        </p:nvPicPr>
        <p:blipFill>
          <a:blip r:embed="rId1"/>
          <a:stretch/>
        </p:blipFill>
        <p:spPr>
          <a:xfrm>
            <a:off x="6732720" y="4292640"/>
            <a:ext cx="1720800" cy="230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Афанасий  Ф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ак беден наш язык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очу и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 мо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передать того ни дру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и вра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буйствует в груди прозрачною волною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!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Картинка 36 из 810"/>
          <p:cNvPicPr/>
          <p:nvPr/>
        </p:nvPicPr>
        <p:blipFill>
          <a:blip r:embed="rId1"/>
          <a:stretch/>
        </p:blipFill>
        <p:spPr>
          <a:xfrm>
            <a:off x="6227640" y="1341360"/>
            <a:ext cx="1800360" cy="2808360"/>
          </a:xfrm>
          <a:prstGeom prst="rect">
            <a:avLst/>
          </a:prstGeom>
          <a:ln w="76320">
            <a:solidFill>
              <a:srgbClr val="703dff"/>
            </a:solidFill>
            <a:miter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зык не даётся человеку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природе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»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хотя именно так возникает у него умение дышать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лыбаться от радости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акать от боли и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Языку человек может научиться только у другого человек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у других людей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Язык родится и живёт только там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где люди общаются друг с другом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Comic Sans MS"/>
              </a:rPr>
              <a:t>Почему одна из птиц называется  кукушкой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русских                        кукуш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хии                           кукач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лгар                          кукувиц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мцев                         кук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французов                    ку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румын                           к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-испански                   ку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талии                         кукол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рции                         гуг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Картинка 15 из 728"/>
          <p:cNvPicPr/>
          <p:nvPr/>
        </p:nvPicPr>
        <p:blipFill>
          <a:blip r:embed="rId1"/>
          <a:stretch/>
        </p:blipFill>
        <p:spPr>
          <a:xfrm>
            <a:off x="6300720" y="4292640"/>
            <a:ext cx="2038320" cy="2281320"/>
          </a:xfrm>
          <a:prstGeom prst="rect">
            <a:avLst/>
          </a:prstGeom>
          <a:ln w="7632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171360"/>
            <a:ext cx="6870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6b45"/>
                </a:solidFill>
                <a:latin typeface="Comic Sans MS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ольшая синица ростом с домашнего воробья. Верхняя сторона её тела </a:t>
            </a:r>
            <a:r>
              <a:rPr b="0" lang="ru-RU" sz="2200" spc="-1" strike="noStrike">
                <a:solidFill>
                  <a:srgbClr val="ffcc00"/>
                </a:solidFill>
                <a:latin typeface="Comic Sans MS"/>
              </a:rPr>
              <a:t>желтовато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2200" spc="-1" strike="noStrike">
                <a:solidFill>
                  <a:srgbClr val="00b200"/>
                </a:solidFill>
                <a:latin typeface="Comic Sans MS"/>
              </a:rPr>
              <a:t>зелёного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цвета, переходящего местами в </a:t>
            </a:r>
            <a:r>
              <a:rPr b="0" lang="ru-RU" sz="2200" spc="-1" strike="noStrike">
                <a:solidFill>
                  <a:srgbClr val="808080"/>
                </a:solidFill>
                <a:latin typeface="Comic Sans MS"/>
              </a:rPr>
              <a:t>серый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Нижняя сторона – </a:t>
            </a:r>
            <a:r>
              <a:rPr b="0" lang="ru-RU" sz="2200" spc="-1" strike="noStrike">
                <a:solidFill>
                  <a:srgbClr val="ffcc00"/>
                </a:solidFill>
                <a:latin typeface="Comic Sans MS"/>
              </a:rPr>
              <a:t>жёлта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Шапочка на голове, бока шеи, горло и продольная широкая полоса, идущая по нижней стороне тела, - чёрные. Щёки – белые. Клюв – чёрны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i="1" lang="ru-RU" sz="2200" spc="-1" strike="noStrike">
                <a:solidFill>
                  <a:srgbClr val="ff0000"/>
                </a:solidFill>
                <a:latin typeface="Comic Sans MS"/>
              </a:rPr>
              <a:t>Энциклопедический словарь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 Зинькой и зинзивером синицу прозвали по её крику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иньк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зиниц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иниц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27640" y="4941720"/>
            <a:ext cx="2221200" cy="1659240"/>
          </a:xfrm>
          <a:prstGeom prst="rect">
            <a:avLst/>
          </a:prstGeom>
          <a:ln w="76320">
            <a:solidFill>
              <a:srgbClr val="f76b45"/>
            </a:solidFill>
            <a:miter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ма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первое слово человека, который только что явился в этот мир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сский, немецкий, франц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грузин слово «</a:t>
            </a:r>
            <a:r>
              <a:rPr b="1" lang="en-US" sz="2600" spc="-1" strike="noStrike">
                <a:solidFill>
                  <a:srgbClr val="ff00ff"/>
                </a:solidFill>
                <a:latin typeface="Comic Sans MS"/>
              </a:rPr>
              <a:t>мам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» означает «</a:t>
            </a:r>
            <a:r>
              <a:rPr b="1" lang="en-US" sz="2600" spc="-1" strike="noStrike">
                <a:solidFill>
                  <a:srgbClr val="cc66ff"/>
                </a:solidFill>
                <a:latin typeface="Comic Sans MS"/>
              </a:rPr>
              <a:t>оте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Картинка 11 из 603266"/>
          <p:cNvPicPr/>
          <p:nvPr/>
        </p:nvPicPr>
        <p:blipFill>
          <a:blip r:embed="rId1"/>
          <a:stretch/>
        </p:blipFill>
        <p:spPr>
          <a:xfrm>
            <a:off x="4932360" y="4365720"/>
            <a:ext cx="3259080" cy="21524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й-бай – баюшки – баять – байка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ять значит рассказывать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йка – </a:t>
            </a:r>
            <a:r>
              <a:rPr b="0" lang="ru-RU" sz="27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0" lang="ru-RU" sz="2700" spc="-1" strike="noStrike">
                <a:solidFill>
                  <a:srgbClr val="ffcc00"/>
                </a:solidFill>
                <a:latin typeface="Comic Sans MS"/>
              </a:rPr>
              <a:t>к</a:t>
            </a:r>
            <a:r>
              <a:rPr b="0" lang="ru-RU" sz="2700" spc="-1" strike="noStrike">
                <a:solidFill>
                  <a:srgbClr val="ffef66"/>
                </a:solidFill>
                <a:latin typeface="Comic Sans MS"/>
              </a:rPr>
              <a:t>а</a:t>
            </a:r>
            <a:r>
              <a:rPr b="0" lang="ru-RU" sz="2700" spc="-1" strike="noStrike">
                <a:solidFill>
                  <a:srgbClr val="00b200"/>
                </a:solidFill>
                <a:latin typeface="Comic Sans MS"/>
              </a:rPr>
              <a:t>з</a:t>
            </a:r>
            <a:r>
              <a:rPr b="0" lang="ru-RU" sz="2700" spc="-1" strike="noStrike">
                <a:solidFill>
                  <a:srgbClr val="3399ff"/>
                </a:solidFill>
                <a:latin typeface="Comic Sans MS"/>
              </a:rPr>
              <a:t>к</a:t>
            </a: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а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Ладушки- ладушки, где были?- у бабушки</a:t>
            </a: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»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Ладушка – лада – любимый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Картинка 6 из 10363"/>
          <p:cNvPicPr/>
          <p:nvPr/>
        </p:nvPicPr>
        <p:blipFill>
          <a:blip r:embed="rId1"/>
          <a:stretch/>
        </p:blipFill>
        <p:spPr>
          <a:xfrm>
            <a:off x="5867280" y="4221000"/>
            <a:ext cx="2448000" cy="2400480"/>
          </a:xfrm>
          <a:prstGeom prst="rect">
            <a:avLst/>
          </a:prstGeom>
          <a:ln w="76320">
            <a:solidFill>
              <a:srgbClr val="00b200"/>
            </a:solidFill>
            <a:miter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99ff"/>
                </a:solidFill>
                <a:latin typeface="Comic Sans MS"/>
              </a:rPr>
              <a:t>«Слово о полку Игореве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696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етер-ветрил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. Зачем мечешь ханские стрелы на воинов моего лады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непр-словутич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неси моего ладу ко мне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бы я не оплакивала его по зорям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етлое и пресветлое Солнце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Зачем палишь горячими лучами воинов моего лады?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5:45Z</dcterms:created>
  <dc:creator>АННА</dc:creator>
  <dc:description/>
  <dc:language>en-US</dc:language>
  <cp:lastModifiedBy>АННА</cp:lastModifiedBy>
  <dcterms:modified xsi:type="dcterms:W3CDTF">2010-05-13T12:21:49Z</dcterms:modified>
  <cp:revision>48</cp:revision>
  <dc:subject/>
  <dc:title>ПОЧЕМУ МЫ ТАК ГОВОРИМ</dc:title>
</cp:coreProperties>
</file>