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226-790D-4FA4-9FBC-09C40EFD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B93-7FE0-470F-9F56-025D5781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487-5B83-4276-B5EA-85EFD536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1C0-7DE6-4FD1-9176-B3B523F4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6189-92C6-44D6-B8B7-FCB3B534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142-47E0-499B-BC48-53E8A7B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3B9B-EFA7-4099-8D64-1470EE58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A83-32B8-408E-A61F-E75FED18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8D5D-26E3-40F1-BAD7-07C3DDF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B95A-6929-4BAC-9F64-E0D561E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275D-E551-4AE2-AC9C-3896C33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A44-B9F2-40FD-A4A6-8ABA5AD2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230-0525-4035-B7BC-F13BD92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6955-349E-4ED5-A004-CD22057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245-5376-4739-900F-684F57E1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C99D-DB38-4A1A-AA52-DAFB826B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3441-BCE6-414E-AA7A-D9057104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676-9552-4FCA-B668-FDD5DD8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5C30-DCE3-4FEF-8A5F-39427820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19A-35FF-408D-B7E1-F9B81801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BEFC-56B9-4575-BDE0-6D90DF9F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B2A-4169-4550-889B-DB7A316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A40-9D9B-4281-8AA6-8D9CBC07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1DF-3C24-4099-A112-DE325D9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8BAC-A829-4312-A92B-A071CE6C4C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E49B-3E6C-4068-8DC2-53C023F136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ОЧЕМУ МЫ ТАК ГОВОРИМ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 истории с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Картинка 2 из 2311"/>
          <p:cNvPicPr/>
          <p:nvPr/>
        </p:nvPicPr>
        <p:blipFill>
          <a:blip r:embed="rId1"/>
          <a:stretch/>
        </p:blipFill>
        <p:spPr>
          <a:xfrm>
            <a:off x="1835280" y="981000"/>
            <a:ext cx="61927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ff"/>
                </a:solidFill>
                <a:latin typeface="Comic Sans MS"/>
              </a:rPr>
              <a:t>Паганус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лат. Крестьян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Язычник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тому что христианство в Риме долго не могло проникнуть в деревню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еперь у нас это слово приобрело смысл 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чисты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«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ерзкий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»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Гриб поганка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ганый характер</a:t>
            </a:r>
            <a:r>
              <a:rPr b="0" lang="ru-RU" sz="2200" spc="-1" strike="noStrike">
                <a:solidFill>
                  <a:srgbClr val="ff00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Картинка 56 из 872"/>
          <p:cNvPicPr/>
          <p:nvPr/>
        </p:nvPicPr>
        <p:blipFill>
          <a:blip r:embed="rId1"/>
          <a:stretch/>
        </p:blipFill>
        <p:spPr>
          <a:xfrm>
            <a:off x="5364000" y="4437000"/>
            <a:ext cx="2916360" cy="21891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Comic Sans MS"/>
              </a:rPr>
              <a:t>Сорок соро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676584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а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ри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ц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66ff"/>
                </a:solidFill>
                <a:latin typeface="Comic Sans MS"/>
              </a:rPr>
              <a:t>Со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ест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семь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ся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вя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24360" y="4292640"/>
            <a:ext cx="2664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40</a:t>
            </a:r>
            <a:endParaRPr b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фтан из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х собольих шкурок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дцать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</a:t>
            </a:r>
            <a:r>
              <a:rPr b="0" lang="ru-RU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оме шкур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4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юбых предметов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том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чезло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 rot="333000">
            <a:off x="5940000" y="4652640"/>
            <a:ext cx="2303640" cy="180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0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fad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тражник у ворот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-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Comic Sans MS"/>
              </a:rPr>
              <a:t>Вратарь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спортсмен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овр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Картинка 4 из 48830"/>
          <p:cNvPicPr/>
          <p:nvPr/>
        </p:nvPicPr>
        <p:blipFill>
          <a:blip r:embed="rId1"/>
          <a:stretch/>
        </p:blipFill>
        <p:spPr>
          <a:xfrm>
            <a:off x="5292720" y="4292640"/>
            <a:ext cx="2773440" cy="199080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83" name="" descr="Картинка 1 из 652"/>
          <p:cNvPicPr/>
          <p:nvPr/>
        </p:nvPicPr>
        <p:blipFill>
          <a:blip r:embed="rId2"/>
          <a:stretch/>
        </p:blipFill>
        <p:spPr>
          <a:xfrm>
            <a:off x="2195640" y="3860640"/>
            <a:ext cx="1898640" cy="27813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амолё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собый отряд был переправлен на правый берег и овладел находившимися там укреплениям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прервав сообщение крепости с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Ниеншанце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Выборг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100" spc="-1" strike="noStrike">
                <a:solidFill>
                  <a:srgbClr val="3399ff"/>
                </a:solidFill>
                <a:latin typeface="Comic Sans MS"/>
              </a:rPr>
              <a:t>Кексгольмом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Флотилия блокировала её со стороны Ладожского озера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На самолёте была устроена связь между обоими берегами Невы…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»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о взятии воисками Петра Первого крепости Орешек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Самолёт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р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-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рус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) –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 самоходные паромы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omic Sans MS"/>
              </a:rPr>
              <a:t>движущиеся силой речной струи</a:t>
            </a:r>
            <a:r>
              <a:rPr b="0" lang="ru-RU" sz="2100" spc="-1" strike="noStrike">
                <a:solidFill>
                  <a:srgbClr val="3399ff"/>
                </a:solidFill>
                <a:latin typeface="Comic Sans MS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Картинка 16 из 412351"/>
          <p:cNvPicPr/>
          <p:nvPr/>
        </p:nvPicPr>
        <p:blipFill>
          <a:blip r:embed="rId1"/>
          <a:stretch/>
        </p:blipFill>
        <p:spPr>
          <a:xfrm>
            <a:off x="4572000" y="4653000"/>
            <a:ext cx="2808360" cy="201600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</p:spTree>
  </p:cSld>
  <p:transition>
    <p:wedg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68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68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6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ерегите наш язык, наш прекрасный русский язык, этот клад, это достояние, переданное нашими предшественниками!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зывал Иван Сергеевич Тургене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генев  не напрасно призывал относиться к языку с благоговением. Много столетий назад жили наши предки – сначала гордые и самолюбивые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ант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потом создавшие своё могучее государство </a:t>
            </a:r>
            <a:r>
              <a:rPr b="1" lang="ru-RU" sz="2400" spc="-1" strike="noStrike">
                <a:solidFill>
                  <a:srgbClr val="ff3399"/>
                </a:solidFill>
                <a:latin typeface="Comic Sans MS"/>
              </a:rPr>
              <a:t>русич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И они на заре истории говорили уже по-русски, на том языке, которым пользуемся мы с в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9608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 народ шёл своим историческим путём век за веком. Как ни менялось его лицо, лицо многомиллионного народа, он оставался самим собой и при Владимире Киевском, и при Иване Грозном, и во дни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81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да, и в наши д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такое живёт в этих долгих веках неистребимое, что заставляет чувствовать своим братом и соплеменником и сурового воина Святослава, и мудрого летописца Нестора, и славного флотоводца Ушаков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7839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 думаю, мы не ошибёмся, если ответим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н прожил долгие, очень долгие столетия. Он менялся из года в год, из века в век, и всё же за тысячелетия остался тем же русским язы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5445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2565360"/>
            <a:ext cx="828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40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Михаил Васильевич Ломоносов</a:t>
            </a:r>
            <a:br>
              <a:rPr sz="3600"/>
            </a:br>
            <a:r>
              <a:rPr b="0" lang="en-US" sz="3600" spc="-1" strike="noStrike">
                <a:solidFill>
                  <a:srgbClr val="cc00ff"/>
                </a:solidFill>
                <a:latin typeface="Comic Sans MS"/>
              </a:rPr>
              <a:t>1748 год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ff3399"/>
                </a:solidFill>
                <a:latin typeface="Comic Sans MS"/>
              </a:rPr>
              <a:t>БЛАЖЕНСТВО РОДА ЧЕЛОВЕЧЕСКОГО КОЛЬ МНОГО ОТ СЛОВ ЗАВИСИТ, ВСЯК ДОВОЛЬНО УСМОТРЕТЬ МОЖЕ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Собираться рассеянным народам в общежития, созидать грады, строить храмы и корабли, ополчаться против неприятеля и другие нужные, союзных сил требующие, дела производить как бы возможно было, если бы они способу не имели сообщить свои мысли друг другу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Картинка 17 из 699"/>
          <p:cNvPicPr/>
          <p:nvPr/>
        </p:nvPicPr>
        <p:blipFill>
          <a:blip r:embed="rId1"/>
          <a:stretch/>
        </p:blipFill>
        <p:spPr>
          <a:xfrm>
            <a:off x="6732720" y="4292640"/>
            <a:ext cx="1720800" cy="230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Афанасий  Ф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Как беден наш язык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очу и 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 мо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передать того ни дру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 врагу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то буйствует в груди прозрачною волною</a:t>
            </a:r>
            <a:r>
              <a:rPr b="0" lang="en-US" sz="2400" spc="-1" strike="noStrike">
                <a:solidFill>
                  <a:srgbClr val="3399ff"/>
                </a:solidFill>
                <a:latin typeface="Comic Sans MS"/>
              </a:rPr>
              <a:t>!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Картинка 36 из 810"/>
          <p:cNvPicPr/>
          <p:nvPr/>
        </p:nvPicPr>
        <p:blipFill>
          <a:blip r:embed="rId1"/>
          <a:stretch/>
        </p:blipFill>
        <p:spPr>
          <a:xfrm>
            <a:off x="6227640" y="1341360"/>
            <a:ext cx="1800360" cy="2808360"/>
          </a:xfrm>
          <a:prstGeom prst="rect">
            <a:avLst/>
          </a:prstGeom>
          <a:ln w="76320">
            <a:solidFill>
              <a:srgbClr val="703dff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зык не даётся человек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 природе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»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хотя именно так возникает у него умение дышать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лыбаться от радости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лакать от боли и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Языку человек может научиться только у другого человека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у других людей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Язык родится и живёт только та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где люди общаются друг с другом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Почему одна из птиц называется  кукушкой?</a:t>
            </a:r>
            <a:endParaRPr b="0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сских                        кукуш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хии                           кук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гар                          кукувиц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мцев                         ку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французов                    ку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румын                           к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-испански                   ку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талии                         куко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3399"/>
                </a:solidFill>
                <a:latin typeface="Comic Sans MS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рции                         гуг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Картинка 15 из 728"/>
          <p:cNvPicPr/>
          <p:nvPr/>
        </p:nvPicPr>
        <p:blipFill>
          <a:blip r:embed="rId1"/>
          <a:stretch/>
        </p:blipFill>
        <p:spPr>
          <a:xfrm>
            <a:off x="6300720" y="4292640"/>
            <a:ext cx="2038320" cy="2281320"/>
          </a:xfrm>
          <a:prstGeom prst="rect">
            <a:avLst/>
          </a:prstGeom>
          <a:ln w="7632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71360"/>
            <a:ext cx="6870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6b45"/>
                </a:solidFill>
                <a:latin typeface="Comic Sans MS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ольшая синица ростом с домашнего воробья. Верхняя сторона её тела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елтоват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2200" spc="-1" strike="noStrike">
                <a:solidFill>
                  <a:srgbClr val="00b200"/>
                </a:solidFill>
                <a:latin typeface="Comic Sans MS"/>
              </a:rPr>
              <a:t>зелёного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цвета, переходящего местами в </a:t>
            </a:r>
            <a:r>
              <a:rPr b="0" lang="ru-RU" sz="2200" spc="-1" strike="noStrike">
                <a:solidFill>
                  <a:srgbClr val="808080"/>
                </a:solidFill>
                <a:latin typeface="Comic Sans MS"/>
              </a:rPr>
              <a:t>серый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Нижняя сторона – </a:t>
            </a:r>
            <a:r>
              <a:rPr b="0" lang="ru-RU" sz="2200" spc="-1" strike="noStrike">
                <a:solidFill>
                  <a:srgbClr val="ffcc00"/>
                </a:solidFill>
                <a:latin typeface="Comic Sans MS"/>
              </a:rPr>
              <a:t>жёлта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Шапочка на голове, бока шеи, горло и продольная широкая полоса, идущая по нижней стороне тела, - чёрные. Щёки – белые. Клюв – чёрный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i="1" lang="ru-RU" sz="2200" spc="-1" strike="noStrike">
                <a:solidFill>
                  <a:srgbClr val="ff0000"/>
                </a:solidFill>
                <a:latin typeface="Comic Sans MS"/>
              </a:rPr>
              <a:t>Энциклопедический словар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 Зинькой и зинзивером синицу прозвали по её крику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Зиньк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з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иница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27640" y="4941720"/>
            <a:ext cx="2221200" cy="1659240"/>
          </a:xfrm>
          <a:prstGeom prst="rect">
            <a:avLst/>
          </a:prstGeom>
          <a:ln w="76320">
            <a:solidFill>
              <a:srgbClr val="f76b45"/>
            </a:solidFill>
            <a:miter/>
          </a:ln>
        </p:spPr>
      </p:pic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первое слово человека, который только что явился в этот мир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усский, немецкий, франц.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грузин слово «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мам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 означает «</a:t>
            </a:r>
            <a:r>
              <a:rPr b="1" lang="en-US" sz="2600" spc="-1" strike="noStrike">
                <a:solidFill>
                  <a:srgbClr val="cc66ff"/>
                </a:solidFill>
                <a:latin typeface="Comic Sans MS"/>
              </a:rPr>
              <a:t>оте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Картинка 11 из 603266"/>
          <p:cNvPicPr/>
          <p:nvPr/>
        </p:nvPicPr>
        <p:blipFill>
          <a:blip r:embed="rId1"/>
          <a:stretch/>
        </p:blipFill>
        <p:spPr>
          <a:xfrm>
            <a:off x="4932360" y="4365720"/>
            <a:ext cx="3259080" cy="215244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-бай – баюшки – баять – байка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ять значит рассказывать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Байка – </a:t>
            </a:r>
            <a:r>
              <a:rPr b="0" lang="ru-RU" sz="2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0" lang="ru-RU" sz="27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ffef66"/>
                </a:solidFill>
                <a:latin typeface="Comic Sans MS"/>
              </a:rPr>
              <a:t>а</a:t>
            </a:r>
            <a:r>
              <a:rPr b="0" lang="ru-RU" sz="2700" spc="-1" strike="noStrike">
                <a:solidFill>
                  <a:srgbClr val="00b200"/>
                </a:solidFill>
                <a:latin typeface="Comic Sans MS"/>
              </a:rPr>
              <a:t>з</a:t>
            </a:r>
            <a:r>
              <a:rPr b="0" lang="ru-RU" sz="2700" spc="-1" strike="noStrike">
                <a:solidFill>
                  <a:srgbClr val="3399ff"/>
                </a:solidFill>
                <a:latin typeface="Comic Sans MS"/>
              </a:rPr>
              <a:t>к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а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и- ладушки, где были?- у бабушки</a:t>
            </a: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!</a:t>
            </a:r>
            <a:r>
              <a:rPr b="0" lang="ru-RU" sz="27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mic Sans MS"/>
              </a:rPr>
              <a:t>Ладушка – лада – любимый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Картинка 6 из 10363"/>
          <p:cNvPicPr/>
          <p:nvPr/>
        </p:nvPicPr>
        <p:blipFill>
          <a:blip r:embed="rId1"/>
          <a:stretch/>
        </p:blipFill>
        <p:spPr>
          <a:xfrm>
            <a:off x="5867280" y="4221000"/>
            <a:ext cx="2448000" cy="2400480"/>
          </a:xfrm>
          <a:prstGeom prst="rect">
            <a:avLst/>
          </a:prstGeom>
          <a:ln w="76320">
            <a:solidFill>
              <a:srgbClr val="00b200"/>
            </a:solidFill>
            <a:miter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99ff"/>
                </a:solidFill>
                <a:latin typeface="Comic Sans MS"/>
              </a:rPr>
              <a:t>«Слово о полку Игореве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696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етер-ветрил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. Зачем мечешь ханские стрелы на воинов моего лады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непр-словутич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неси моего ладу ко мн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бы я не оплакивала его по зорям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е и пресветлое Солнце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!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Зачем палишь горячими лучами воинов моего лады?</a:t>
            </a:r>
            <a:r>
              <a:rPr b="0" lang="ru-RU" sz="2400" spc="-1" strike="noStrike">
                <a:solidFill>
                  <a:srgbClr val="9900ff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9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5:45Z</dcterms:created>
  <dc:creator>АННА</dc:creator>
  <dc:description/>
  <dc:language>en-US</dc:language>
  <cp:lastModifiedBy>АННА</cp:lastModifiedBy>
  <dcterms:modified xsi:type="dcterms:W3CDTF">2010-05-13T12:21:49Z</dcterms:modified>
  <cp:revision>48</cp:revision>
  <dc:subject/>
  <dc:title>ПОЧЕМУ МЫ ТАК ГОВОРИМ</dc:title>
</cp:coreProperties>
</file>