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184-2AF0-4993-9C9F-01377DE9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03E-503A-49B8-9644-C22B18B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40C-52C6-46A2-BAB6-1321D15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73D-EB38-42A0-9355-8AF3E3B5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B4C5-7C6F-4E9C-A04E-1F1EAB22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B79-9CB1-4BFF-93B5-55AB4EC6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ECB-A06F-4F67-85FF-8ED92BFF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8BDE-0B88-43B9-B0B5-C1A2ACAD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13A6-23D8-40AA-B136-3FB0E395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4AD-5B7B-48AF-828D-0F32825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5042-A804-44BA-BE67-F1B4E611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B51-8590-4C70-8D50-E2144BB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BE39-3F60-44FC-B4F3-DFB8234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B04B-D544-4EAB-92BB-B3E0F82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F30B-BCB5-4F90-8081-D837D2AD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4B0D-C216-401A-B7F3-78378357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38C4-48B1-44B4-8828-75B8DD85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E98-AA17-4041-B5E6-A059DE4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3F3-8E56-4ED4-9BAA-44CCC21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DBF-58B4-41C0-A4D9-173CE38A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DDF-0EFA-401E-AEE2-E6DB2D30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E6B-A5C1-43CF-894B-2534CDF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456-940A-47E4-964F-FC8D560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166-6799-4857-8A4B-414C795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C08-9A54-413B-A532-1559F3E966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8CD-E9CC-417D-9F09-5D76935587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ЧЕМУ МЫ ТАК ГОВОРИ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 истории с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2 из 2311"/>
          <p:cNvPicPr/>
          <p:nvPr/>
        </p:nvPicPr>
        <p:blipFill>
          <a:blip r:embed="rId1"/>
          <a:stretch/>
        </p:blipFill>
        <p:spPr>
          <a:xfrm>
            <a:off x="1835280" y="981000"/>
            <a:ext cx="6192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ff"/>
                </a:solidFill>
                <a:latin typeface="Comic Sans MS"/>
              </a:rPr>
              <a:t>Паганус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лат. Крестьян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Язычник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тому что христианство в Риме долго не могло проникнуть в деревню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теперь у нас это слово приобрело смысл 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чисты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ерзки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риб поганка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ганый характер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Картинка 56 из 872"/>
          <p:cNvPicPr/>
          <p:nvPr/>
        </p:nvPicPr>
        <p:blipFill>
          <a:blip r:embed="rId1"/>
          <a:stretch/>
        </p:blipFill>
        <p:spPr>
          <a:xfrm>
            <a:off x="5364000" y="4437000"/>
            <a:ext cx="2916360" cy="21891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Сорок соро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67658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Со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я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24360" y="4292640"/>
            <a:ext cx="266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</a:t>
            </a:r>
            <a:endParaRPr b="1" lang="en-US" sz="44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фтан из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х собольих шку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дцать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чезло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 rot="333000">
            <a:off x="5940000" y="4652640"/>
            <a:ext cx="2303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0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тражник у ворот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-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портсмен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в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Картинка 4 из 48830"/>
          <p:cNvPicPr/>
          <p:nvPr/>
        </p:nvPicPr>
        <p:blipFill>
          <a:blip r:embed="rId1"/>
          <a:stretch/>
        </p:blipFill>
        <p:spPr>
          <a:xfrm>
            <a:off x="5292720" y="4292640"/>
            <a:ext cx="2773440" cy="19908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83" name="" descr="Картинка 1 из 652"/>
          <p:cNvPicPr/>
          <p:nvPr/>
        </p:nvPicPr>
        <p:blipFill>
          <a:blip r:embed="rId2"/>
          <a:stretch/>
        </p:blipFill>
        <p:spPr>
          <a:xfrm>
            <a:off x="2195640" y="3860640"/>
            <a:ext cx="1898640" cy="2781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амолё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собый отряд был переправлен на правый берег и овладел находившимися там укреплениям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прервав сообщение крепости с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Ниеншанце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Выборг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Кексгольм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Флотилия блокировала её со стороны Ладожского озера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На самолёте была устроена связь между обоими берегами Невы…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»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 взятии воисками Петра Первого крепости Орешек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Самолёт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-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) –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самоходные паромы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вижущиеся силой речной стру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Картинка 16 из 412351"/>
          <p:cNvPicPr/>
          <p:nvPr/>
        </p:nvPicPr>
        <p:blipFill>
          <a:blip r:embed="rId1"/>
          <a:stretch/>
        </p:blipFill>
        <p:spPr>
          <a:xfrm>
            <a:off x="4572000" y="4653000"/>
            <a:ext cx="2808360" cy="201600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Берегите наш язык, наш прекрасный русский язык, этот клад, это достояние, переданное нашими предшественниками!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зывал Иван Сергеевич Турген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генев  не напрасно призывал относиться к языку с благоговением. Много столетий назад жили наши предки – сначала гордые и самолюбивые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ан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том создавшие своё могучее государство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уси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И они на заре истории говорили уже по-русски, на том языке, которым пользуемся мы с в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9608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 народ шёл своим историческим путём век за веком. Как ни менялось его лицо, лицо многомиллионного народа, он оставался самим собой и при Владимире Киевском, и при Иване Грозном, и во дн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да, и в наши д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живёт в этих долгих веках неистребимое, что заставляет чувствовать своим братом и соплеменником и сурового воина Святослава, и мудрого летописца Нестора, и славного флотоводца Ушаков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7839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думаю, мы не ошибёмся, если ответим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рожил долгие, очень долгие столетия. Он менялся из года в год, из века в век, и всё же за тысячелетия остался тем же русским язы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5445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2565360"/>
            <a:ext cx="828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Михаил Васильевич Ломоносов</a:t>
            </a:r>
            <a:br>
              <a:rPr sz="36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1748 го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БЛАЖЕНСТВО РОДА ЧЕЛОВЕЧЕСКОГО КОЛЬ МНОГО ОТ СЛОВ ЗАВИСИТ, ВСЯК ДОВОЛЬНО УСМОТРЕТЬ МОЖЕ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Собираться рассеянным народам в общежития, созидать грады, строить храмы и корабли, ополчаться против неприятеля и другие нужные, союзных сил требующие, дела производить как бы возможно было, если бы они способу не имели сообщить свои мысли друг другу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Картинка 17 из 699"/>
          <p:cNvPicPr/>
          <p:nvPr/>
        </p:nvPicPr>
        <p:blipFill>
          <a:blip r:embed="rId1"/>
          <a:stretch/>
        </p:blipFill>
        <p:spPr>
          <a:xfrm>
            <a:off x="6732720" y="4292640"/>
            <a:ext cx="1720800" cy="23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Афанасий  Ф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ак беден наш язык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чу и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 мо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передать того ни дру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 вра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буйствует в груди прозрачною волною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Картинка 36 из 810"/>
          <p:cNvPicPr/>
          <p:nvPr/>
        </p:nvPicPr>
        <p:blipFill>
          <a:blip r:embed="rId1"/>
          <a:stretch/>
        </p:blipFill>
        <p:spPr>
          <a:xfrm>
            <a:off x="6227640" y="1341360"/>
            <a:ext cx="1800360" cy="280836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зык не даётся человек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рироде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хотя именно так возникает у него умение дышать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лыбаться от радости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кать от боли 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Языку человек может научиться только у другого человек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у других людей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Язык родится и живёт только та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где люди общаются друг с друго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Почему одна из птиц называется  кукушкой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сских                        кукуш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ии                           кук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гар                          кукув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мцев                         ку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французов                    ку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мын                           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-испански                   ку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талии                         куко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ции                         гуг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Картинка 15 из 728"/>
          <p:cNvPicPr/>
          <p:nvPr/>
        </p:nvPicPr>
        <p:blipFill>
          <a:blip r:embed="rId1"/>
          <a:stretch/>
        </p:blipFill>
        <p:spPr>
          <a:xfrm>
            <a:off x="6300720" y="4292640"/>
            <a:ext cx="2038320" cy="2281320"/>
          </a:xfrm>
          <a:prstGeom prst="rect">
            <a:avLst/>
          </a:prstGeom>
          <a:ln w="7632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171360"/>
            <a:ext cx="6870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6b45"/>
                </a:solidFill>
                <a:latin typeface="Comic Sans MS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ая синица ростом с домашнего воробья. Верхняя сторона её тела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елтоват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2200" spc="-1" strike="noStrike">
                <a:solidFill>
                  <a:srgbClr val="00b200"/>
                </a:solidFill>
                <a:latin typeface="Comic Sans MS"/>
              </a:rPr>
              <a:t>зелёног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цвета, переходящего местами в </a:t>
            </a:r>
            <a:r>
              <a:rPr b="0" lang="ru-RU" sz="2200" spc="-1" strike="noStrike">
                <a:solidFill>
                  <a:srgbClr val="808080"/>
                </a:solidFill>
                <a:latin typeface="Comic Sans MS"/>
              </a:rPr>
              <a:t>серый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Нижняя сторона –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ёлта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Шапочка на голове, бока шеи, горло и продольная широкая полоса, идущая по нижней стороне тела, - чёрные. Щёки – белые. Клюв – чёрны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i="1" lang="ru-RU" sz="2200" spc="-1" strike="noStrike">
                <a:solidFill>
                  <a:srgbClr val="ff0000"/>
                </a:solidFill>
                <a:latin typeface="Comic Sans MS"/>
              </a:rPr>
              <a:t>Энциклопедический словар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 Зинькой и зинзивером синицу прозвали по её крику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иньк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з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2221200" cy="1659240"/>
          </a:xfrm>
          <a:prstGeom prst="rect">
            <a:avLst/>
          </a:prstGeom>
          <a:ln w="76320">
            <a:solidFill>
              <a:srgbClr val="f76b45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первое слово человека, который только что явился в этот мир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, немецкий, франц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грузин слово «</a:t>
            </a:r>
            <a:r>
              <a:rPr b="1" lang="en-US" sz="2600" spc="-1" strike="noStrike">
                <a:solidFill>
                  <a:srgbClr val="ff00ff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 означает «</a:t>
            </a:r>
            <a:r>
              <a:rPr b="1" lang="en-US" sz="2600" spc="-1" strike="noStrike">
                <a:solidFill>
                  <a:srgbClr val="cc66ff"/>
                </a:solidFill>
                <a:latin typeface="Comic Sans MS"/>
              </a:rPr>
              <a:t>оте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Картинка 11 из 603266"/>
          <p:cNvPicPr/>
          <p:nvPr/>
        </p:nvPicPr>
        <p:blipFill>
          <a:blip r:embed="rId1"/>
          <a:stretch/>
        </p:blipFill>
        <p:spPr>
          <a:xfrm>
            <a:off x="4932360" y="4365720"/>
            <a:ext cx="3259080" cy="21524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-бай – баюшки – баять – байка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ять значит рассказывать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ка – </a:t>
            </a:r>
            <a:r>
              <a:rPr b="0" lang="ru-RU" sz="27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ru-RU" sz="27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ffef66"/>
                </a:solidFill>
                <a:latin typeface="Comic Sans MS"/>
              </a:rPr>
              <a:t>а</a:t>
            </a:r>
            <a:r>
              <a:rPr b="0" lang="ru-RU" sz="2700" spc="-1" strike="noStrike">
                <a:solidFill>
                  <a:srgbClr val="00b200"/>
                </a:solidFill>
                <a:latin typeface="Comic Sans MS"/>
              </a:rPr>
              <a:t>з</a:t>
            </a:r>
            <a:r>
              <a:rPr b="0" lang="ru-RU" sz="2700" spc="-1" strike="noStrike">
                <a:solidFill>
                  <a:srgbClr val="3399ff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а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и- ладушки, где были?- у бабушки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а – лада – любимый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Картинка 6 из 10363"/>
          <p:cNvPicPr/>
          <p:nvPr/>
        </p:nvPicPr>
        <p:blipFill>
          <a:blip r:embed="rId1"/>
          <a:stretch/>
        </p:blipFill>
        <p:spPr>
          <a:xfrm>
            <a:off x="5867280" y="4221000"/>
            <a:ext cx="2448000" cy="2400480"/>
          </a:xfrm>
          <a:prstGeom prst="rect">
            <a:avLst/>
          </a:prstGeom>
          <a:ln w="76320">
            <a:solidFill>
              <a:srgbClr val="00b200"/>
            </a:solidFill>
            <a:miter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99ff"/>
                </a:solidFill>
                <a:latin typeface="Comic Sans MS"/>
              </a:rPr>
              <a:t>«Слово о полку Игорев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етер-ветрил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. Зачем мечешь ханские стрелы на воинов моего лады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непр-словутич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неси моего ладу ко мн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бы я не оплакивала его по зорям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лое и пресветлое Солнц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Зачем палишь горячими лучами воинов моего лады?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5:45Z</dcterms:created>
  <dc:creator>АННА</dc:creator>
  <dc:description/>
  <dc:language>en-US</dc:language>
  <cp:lastModifiedBy>АННА</cp:lastModifiedBy>
  <dcterms:modified xsi:type="dcterms:W3CDTF">2010-05-13T12:21:49Z</dcterms:modified>
  <cp:revision>48</cp:revision>
  <dc:subject/>
  <dc:title>ПОЧЕМУ МЫ ТАК ГОВОРИМ</dc:title>
</cp:coreProperties>
</file>