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5AE-0C16-4BA5-AEB6-7C2BFEB1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16A-418D-4F61-82E4-7A49BDDE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315-2410-434C-A980-92BF3E97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ACD-B4C9-4421-83E9-282F3B3A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629-04E1-491E-B08A-F38E0EE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12D-2244-4DB5-8242-B6B78D6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849-5F39-4F61-AF4E-1B3C7FDF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0C3-8AEE-45D9-90B9-62EF61D2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8F0-2A86-45AD-A05B-DD18FB1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9D5-22F5-4DB9-B7FC-C78F1EE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68E-EBCE-46A9-AEF2-73F1709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C48-4F40-4A20-819E-3AB5BE7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ACF-5DF0-40F1-94A7-6D035385B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0"/>
            <a:ext cx="548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АЖЁР ПО ЧТЕНИЮ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08720" y="5589720"/>
            <a:ext cx="20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РЫБКИНА О.К. МОБУ СОШ№9, г.Со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81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2 класс</a:t>
            </a:r>
            <a:r>
              <a:rPr b="0" lang="en-US" sz="1800" spc="-1" strike="noStrike">
                <a:solidFill>
                  <a:srgbClr val="d60093"/>
                </a:solidFill>
                <a:latin typeface="Arial"/>
              </a:rPr>
              <a:t> I</a:t>
            </a: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836640"/>
            <a:ext cx="1152360" cy="84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836640"/>
            <a:ext cx="1152360" cy="81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8720" y="836640"/>
            <a:ext cx="1152360" cy="81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836640"/>
            <a:ext cx="115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1125360"/>
            <a:ext cx="115236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2708280"/>
            <a:ext cx="115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1557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413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едини буквы и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56536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Вв,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Dd,  Ff,  Hh,  Jj,  Kk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581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[dʒ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k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b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f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d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h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708280"/>
            <a:ext cx="115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1557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1125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едини буквы и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5653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Nn,  Pp,  Rr,  Tt,  Zz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581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[t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r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z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m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 p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, [n]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2708280"/>
            <a:ext cx="115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55736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25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Соедини буквы и зву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6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Вв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Dd,  Ff,  Hh, Jj,  Kk, Mm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n,  Pp,  Rr,Tt,  Z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789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[t], [r], [ z], [m], [ p], [n],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[dʒ], [k], [ b], [f],[ d], [h]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06728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Согла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981000"/>
            <a:ext cx="439272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b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b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f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h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Jj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 dʒ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k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k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m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n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n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p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p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r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r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t]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Zz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[z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3280" y="98100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Подбери заглавные и прописные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3068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184464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1916280"/>
            <a:ext cx="1368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42920" y="2781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981000"/>
            <a:ext cx="1584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1484280"/>
            <a:ext cx="1152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528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1484280"/>
            <a:ext cx="1152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270828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35640" y="1484280"/>
            <a:ext cx="115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j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1484280"/>
            <a:ext cx="1152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87280" y="2708280"/>
            <a:ext cx="15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484280"/>
            <a:ext cx="1152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z</a:t>
            </a: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05:35:22Z</dcterms:created>
  <dc:creator>User</dc:creator>
  <dc:description/>
  <dc:language>en-US</dc:language>
  <cp:lastModifiedBy>User</cp:lastModifiedBy>
  <dcterms:modified xsi:type="dcterms:W3CDTF">2012-07-26T06:30:52Z</dcterms:modified>
  <cp:revision>4</cp:revision>
  <dc:subject/>
  <dc:title>Слайд 1</dc:title>
</cp:coreProperties>
</file>