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C39-62F4-45AD-9C6F-C6A6FBA6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9C1-6AD3-4489-92EC-BEC592B0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BE0-58FD-4180-899E-D3271126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F8F-CCE3-486B-91BE-CD351D11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7A1-3CEC-4278-BAA7-C49219A4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1C6-6E1F-48E9-A3D0-3E007E19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C04-408D-4C80-A06E-02A29BCF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CB9-989F-49F3-9EED-A9E8BD88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2A4-031F-452C-919A-C436A19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CB4-7680-4A2B-AAE4-5B6496EC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9A8-A676-495F-B9EF-A7E3D96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741-8165-48A6-933F-C1E7364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53FD-46C9-4C5B-B4EC-874C098A2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АЖЁР ПО ЧТЕНИЮ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720" y="5589720"/>
            <a:ext cx="20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РЫБКИНА О.К. МОБУ СОШ№9, г.С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81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2 класс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I</a:t>
            </a: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836640"/>
            <a:ext cx="1152360" cy="84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836640"/>
            <a:ext cx="1152360" cy="81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836640"/>
            <a:ext cx="1152360" cy="81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836640"/>
            <a:ext cx="1152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1125360"/>
            <a:ext cx="1152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2708280"/>
            <a:ext cx="115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1557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413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едини буквы и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56536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Вв,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Dd,  Ff,  Hh,  Jj,  Kk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5813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[dʒ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k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b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f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d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h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708280"/>
            <a:ext cx="115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1557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1125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едини буквы и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565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Nn,  Pp,  Rr,  Tt,  Zz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4581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[t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r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z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m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p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n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2708280"/>
            <a:ext cx="115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557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25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едини буквы и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56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в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Dd,  Ff,  Hh, Jj,  Kk, Mm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n,  Pp,  Rr,Tt,  Z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789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[t], [r], [ z], [m], [ p], [n],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[dʒ], [k], [ b], [f],[ d], [h]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6728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Со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981000"/>
            <a:ext cx="439272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f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h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J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 dʒ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k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m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m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n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p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r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r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t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Zz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z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3280" y="98100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Подбери заглавные и прописные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3068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184464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916280"/>
            <a:ext cx="1368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42920" y="2781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981000"/>
            <a:ext cx="1584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1484280"/>
            <a:ext cx="1152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484280"/>
            <a:ext cx="1152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484280"/>
            <a:ext cx="1152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484280"/>
            <a:ext cx="1152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484280"/>
            <a:ext cx="1152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05:35:22Z</dcterms:created>
  <dc:creator>User</dc:creator>
  <dc:description/>
  <dc:language>en-US</dc:language>
  <cp:lastModifiedBy>User</cp:lastModifiedBy>
  <dcterms:modified xsi:type="dcterms:W3CDTF">2012-07-26T06:30:52Z</dcterms:modified>
  <cp:revision>4</cp:revision>
  <dc:subject/>
  <dc:title>Слайд 1</dc:title>
</cp:coreProperties>
</file>