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071-3F78-426F-85A8-37E26725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442-BC9D-4522-96B5-C36E062B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0F0-4CCE-457B-A6B0-94385925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E73-30A5-4040-B9F8-A657CB59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4F95-B2F1-4006-AFAA-05F7C46F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EA51-1960-4178-870C-CD1E755E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0D7F-6D37-4465-AC8F-6C71863D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705C-434D-4C2E-97E5-E46331DA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6B0F-D103-40C7-ACC8-9C75AE7A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C0A4-6DE3-44A9-B20C-B88F5A08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CFC1-71A2-4FEA-B19C-BF06FC4D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2FA-74FD-47F2-9FB6-743BEC05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CDCA-3043-440D-AD1B-E195425B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DCA1-A61E-4A3E-A259-893F47FB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C65F-65A9-46A7-B244-9D23E6B7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6F79-A75B-4127-92B5-B024D20B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3C2C-60A5-4067-8D88-A01743C5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D92-55CF-4127-A6A7-32AD6F2B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792-900B-4F11-9FCC-D5CF1EDE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B09-2DB3-4AC0-80F7-5773A557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4C7-86AB-4DF5-8397-95D8DB69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7DC-80A1-4885-B2C9-3E0E1EE8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FD4-8F74-4F60-8B03-E40B1641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080-DEC1-4AAF-9A85-93394490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D593-F631-4258-A6D3-79C7896D4C37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F7FF-81C4-4D57-AF4C-4AC0F1D4F6DC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ВН на тему:</a:t>
            </a:r>
            <a:endParaRPr b="0" lang="en-US" sz="4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«Вычисление интегралов»</a:t>
            </a:r>
            <a:endParaRPr b="0" lang="en-US" sz="4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692280"/>
            <a:ext cx="7081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Не страшно, когда не знаешь –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страшно, когда знать не хочетс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223200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 №6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рно свойство неопределенного интеграла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16000" y="2349360"/>
                <a:ext cx="43927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116000" y="3500280"/>
                <a:ext cx="43196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87280" y="4581360"/>
                <a:ext cx="4176720" cy="6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 №7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ный интеграл это –</a:t>
            </a: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042920" y="2205000"/>
                <a:ext cx="19447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042920" y="3500280"/>
                <a:ext cx="20890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116000" y="4653000"/>
                <a:ext cx="20160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 № 8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ометрический смысл определенного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грала это -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Площадь криволинейной трапеции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Тангенс угла наклона касательной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Множество интегральных кривых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прос № 9: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ула Ньютона-Лейбница имеет вид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547640" y="2133720"/>
                <a:ext cx="288000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476360" y="3284640"/>
                <a:ext cx="28814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476360" y="4508640"/>
                <a:ext cx="295128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прос № 10: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помощью формулы Ньютона-Лейбница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яют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Первообразную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Площадь криволинейной трапеции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Определенный интеграл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14" name=""/>
          <p:cNvSpPr/>
          <p:nvPr/>
        </p:nvSpPr>
        <p:spPr>
          <a:xfrm>
            <a:off x="748800" y="475200"/>
            <a:ext cx="80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курс № 4 «Площадь плоской фигуры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11280" y="2060640"/>
          <a:ext cx="8136000" cy="2919240"/>
        </p:xfrm>
        <a:graphic>
          <a:graphicData uri="http://schemas.openxmlformats.org/drawingml/2006/table">
            <a:tbl>
              <a:tblPr/>
              <a:tblGrid>
                <a:gridCol w="4032360"/>
                <a:gridCol w="4103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оманд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оманд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ти площадь фигуры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аниченной линиям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ти площадь фигуры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аниченной линиям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800" y="1474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908440"/>
            <a:ext cx="184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413160"/>
            <a:ext cx="184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"/>
          <p:cNvSpPr/>
          <p:nvPr/>
        </p:nvSpPr>
        <p:spPr>
          <a:xfrm>
            <a:off x="1800" y="414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"/>
          <p:cNvSpPr/>
          <p:nvPr/>
        </p:nvSpPr>
        <p:spPr>
          <a:xfrm>
            <a:off x="1800" y="1458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57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"/>
          <p:cNvSpPr/>
          <p:nvPr/>
        </p:nvSpPr>
        <p:spPr>
          <a:xfrm>
            <a:off x="-11880" y="3059280"/>
            <a:ext cx="2397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7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34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"/>
          <p:cNvSpPr/>
          <p:nvPr/>
        </p:nvSpPr>
        <p:spPr>
          <a:xfrm>
            <a:off x="1800" y="503100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55640" y="3860640"/>
                <a:ext cx="367200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788000" y="3860640"/>
                <a:ext cx="33843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036000" cy="51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тавьте пропущенное слово в определение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ерация нахождения интеграла называется…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тавьте пропущенное слово: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формуле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….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348000" y="2205000"/>
                <a:ext cx="3168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тавьте пропущенное слово: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формуле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….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2205000"/>
                <a:ext cx="36003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ая сумма вычисляется по формул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059280" y="2637000"/>
                <a:ext cx="295272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6" name=""/>
          <p:cNvSpPr/>
          <p:nvPr/>
        </p:nvSpPr>
        <p:spPr>
          <a:xfrm>
            <a:off x="967680" y="475200"/>
            <a:ext cx="76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курс № 2 «Вычисление интегралов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92360" y="1125360"/>
          <a:ext cx="5832360" cy="5197680"/>
        </p:xfrm>
        <a:graphic>
          <a:graphicData uri="http://schemas.openxmlformats.org/drawingml/2006/table">
            <a:tbl>
              <a:tblPr/>
              <a:tblGrid>
                <a:gridCol w="3066840"/>
                <a:gridCol w="27655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оманд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оманд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195640" y="1773360"/>
                <a:ext cx="13683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95640" y="2637000"/>
                <a:ext cx="1224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195640" y="3573360"/>
                <a:ext cx="12240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24000" y="4508640"/>
                <a:ext cx="18003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195640" y="5445000"/>
                <a:ext cx="10080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800" y="1474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413160"/>
            <a:ext cx="184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"/>
          <p:cNvSpPr/>
          <p:nvPr/>
        </p:nvSpPr>
        <p:spPr>
          <a:xfrm>
            <a:off x="1800" y="414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219640" y="1773360"/>
                <a:ext cx="1152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92720" y="2637000"/>
                <a:ext cx="11509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292720" y="3573360"/>
                <a:ext cx="11509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219640" y="4508640"/>
                <a:ext cx="1656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92720" y="5373720"/>
                <a:ext cx="10796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800" y="1483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57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"/>
          <p:cNvSpPr/>
          <p:nvPr/>
        </p:nvSpPr>
        <p:spPr>
          <a:xfrm>
            <a:off x="-11880" y="3059280"/>
            <a:ext cx="2397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7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34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"/>
          <p:cNvSpPr/>
          <p:nvPr/>
        </p:nvSpPr>
        <p:spPr>
          <a:xfrm>
            <a:off x="1800" y="503100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зовите заштрихованную фигуру: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3311280" cy="2492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916360" y="2349360"/>
            <a:ext cx="33112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8000" y="765000"/>
            <a:ext cx="88567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тавьте пропущенное слово в определение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называется … дл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на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вале (а,в), если  она дифференцируема и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любого х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а,в) выполняется равенство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059280" y="4076640"/>
                <a:ext cx="23745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кажите название формулы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27280" y="2852640"/>
                <a:ext cx="4103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8567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тавьте пропущенное слово в определение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ножество первообразных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x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)+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зывается - …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удента КАТ спрашивают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У вас по математике интегралы были?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удент задумываясь чешет голову, потом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чает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Да, были какие-то, но... неопределенные.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780000" y="4365720"/>
            <a:ext cx="17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курс  №3  «Тест»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стники команд записывают номер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а и номер ответа, результаты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ают жюри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 №1: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называется первообразной дл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на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вале (а,в), если она дифференцируема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для любого х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а,в) выполняется равенство: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3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332000" y="3429000"/>
                <a:ext cx="23763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333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332000" y="4076640"/>
                <a:ext cx="1800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333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332000" y="4724280"/>
                <a:ext cx="16556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 №2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первообразна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то множество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: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Неопределенным интегралом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Первообразной функцией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Непрерывной функцией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 №3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ометрически неопределенный интеграла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Тангенс угла наклона касательной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Семейство касательных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Семейство интегральных кривых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 №3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835280" y="2637000"/>
                <a:ext cx="17017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619280" y="3573360"/>
                <a:ext cx="18730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619280" y="4581360"/>
                <a:ext cx="20890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826920" y="879840"/>
            <a:ext cx="630576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числения площади фигуры     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формула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54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093080" y="981000"/>
            <a:ext cx="15825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684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 №4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верно свойство неопределенного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грала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547640" y="2852640"/>
                <a:ext cx="597708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547640" y="3500280"/>
                <a:ext cx="3095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547640" y="4149720"/>
                <a:ext cx="26654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 №5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верно свойство неопределенного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грала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042920" y="2924280"/>
                <a:ext cx="58341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042920" y="3500280"/>
                <a:ext cx="58341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42920" y="4149720"/>
                <a:ext cx="5834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0:44:37Z</dcterms:created>
  <dc:creator>User</dc:creator>
  <dc:description/>
  <cp:keywords/>
  <dc:language>en-US</dc:language>
  <cp:lastModifiedBy>Один</cp:lastModifiedBy>
  <dcterms:modified xsi:type="dcterms:W3CDTF">2013-02-06T14:47:12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49</vt:lpwstr>
  </property>
</Properties>
</file>