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D25-CBF6-418A-9084-DB1BE493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42E-460C-4B2B-8678-2ACB8BE3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CC7-2C54-4C67-9B05-EF5DC4BF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172-6D6F-478A-A8E6-DBEABF4D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4FF7-3AB8-4BAE-A79F-D80ADC3C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B146-6394-4FE3-B81A-A22AF3F2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4101-3043-40A7-A8FC-BC376DD3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2779-788B-438A-96C0-2C548582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572E-52EC-4442-B445-B28A5FDB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B9A9-4021-4E17-8945-FAA4DA97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364B-8E2C-4653-9177-FC6A31EC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401-3DEF-4F57-8F5D-CAF5D9E2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AEE5-342F-4A9B-B58E-83955A1E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4A9E-B413-4D82-8E44-1B51CC11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2570-E3EA-4AA9-BB6B-2F0470E8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9AB9-8869-46B6-B1B8-C40E4F3E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1ACC-D7A4-42A1-B6CA-F22D5DFE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A3D-0FDD-43D4-82CD-0928E5FF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763-9061-4E9B-9A95-4DFB8D3B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4FB-A0E1-4E00-8B1A-01A0EEE3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D26-5FCB-45EC-9323-19467F89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A2C-ABD6-4B71-ADB3-0538F151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E7F-448D-4DC5-81ED-60AE00B5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1B0-FCE3-4B1F-8EEC-0FC39E38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C993-4BD4-41DA-A787-E73CE40DBB66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5CB3-CE7F-4D6F-951A-BE932CF1CC8A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ВН на тему: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«Вычисление интегралов»</a:t>
            </a:r>
            <a:endParaRPr b="0" lang="en-US" sz="4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692280"/>
            <a:ext cx="7081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Не страшно, когда не знаешь –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страшно, когда знать не хочетс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22320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6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рно свойство неопределенного интеграла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116000" y="2349360"/>
                <a:ext cx="43927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116000" y="3500280"/>
                <a:ext cx="4319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87280" y="4581360"/>
                <a:ext cx="4176720" cy="6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7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ный интеграл это –</a:t>
            </a:r>
            <a:r>
              <a:rPr b="0" lang="ru-RU" sz="32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042920" y="2205000"/>
                <a:ext cx="19447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042920" y="3500280"/>
                <a:ext cx="2089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116000" y="4653000"/>
                <a:ext cx="2016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λ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 8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метрический смысл определенного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ала это -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Площадь криволинейной трапеции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Тангенс угла наклона касательной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Множество интегральных кривых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прос № 9: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ула Ньютона-Лейбница имеет вид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547640" y="2133720"/>
                <a:ext cx="288000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476360" y="3284640"/>
                <a:ext cx="28814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476360" y="4508640"/>
                <a:ext cx="29512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опрос № 10:</a:t>
            </a: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помощью формулы Ньютона-Лейбница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яют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Первообразную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Площадь криволинейной трапеции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Определенный интеграл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748800" y="475200"/>
            <a:ext cx="80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№ 4 «Площадь плоской фигуры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11280" y="2060640"/>
          <a:ext cx="8136000" cy="2919240"/>
        </p:xfrm>
        <a:graphic>
          <a:graphicData uri="http://schemas.openxmlformats.org/drawingml/2006/table">
            <a:tbl>
              <a:tblPr/>
              <a:tblGrid>
                <a:gridCol w="4032360"/>
                <a:gridCol w="4103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оман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оман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ти площадь фигуры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ной линиям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ти площадь фигуры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ной линиям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00" y="1474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908440"/>
            <a:ext cx="184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413160"/>
            <a:ext cx="184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"/>
          <p:cNvSpPr/>
          <p:nvPr/>
        </p:nvSpPr>
        <p:spPr>
          <a:xfrm>
            <a:off x="1800" y="414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"/>
          <p:cNvSpPr/>
          <p:nvPr/>
        </p:nvSpPr>
        <p:spPr>
          <a:xfrm>
            <a:off x="1800" y="1458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57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"/>
          <p:cNvSpPr/>
          <p:nvPr/>
        </p:nvSpPr>
        <p:spPr>
          <a:xfrm>
            <a:off x="-11880" y="3059280"/>
            <a:ext cx="2397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34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503100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55640" y="3860640"/>
                <a:ext cx="36720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788000" y="3860640"/>
                <a:ext cx="33843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036000" cy="51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авьте пропущенное слово в определение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ерация нахождения интеграла называется…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авьте пропущенное слово: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формуле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….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348000" y="2205000"/>
                <a:ext cx="3168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авьте пропущенное слово: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формуле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….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2205000"/>
                <a:ext cx="36003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кая сумма вычисляется по формул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059280" y="2637000"/>
                <a:ext cx="295272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"/>
          <p:cNvSpPr/>
          <p:nvPr/>
        </p:nvSpPr>
        <p:spPr>
          <a:xfrm>
            <a:off x="967680" y="475200"/>
            <a:ext cx="76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№ 2 «Вычисление интегралов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92360" y="1125360"/>
          <a:ext cx="5832360" cy="5197680"/>
        </p:xfrm>
        <a:graphic>
          <a:graphicData uri="http://schemas.openxmlformats.org/drawingml/2006/table">
            <a:tbl>
              <a:tblPr/>
              <a:tblGrid>
                <a:gridCol w="3066840"/>
                <a:gridCol w="27655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оман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оман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195640" y="1773360"/>
                <a:ext cx="13683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95640" y="2637000"/>
                <a:ext cx="1224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195640" y="3573360"/>
                <a:ext cx="12240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4508640"/>
                <a:ext cx="18003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π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195640" y="5445000"/>
                <a:ext cx="1008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800" y="1474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413160"/>
            <a:ext cx="184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1800" y="414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219640" y="1773360"/>
                <a:ext cx="1152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92720" y="2637000"/>
                <a:ext cx="11509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292720" y="3573360"/>
                <a:ext cx="115092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219640" y="4508640"/>
                <a:ext cx="1656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292720" y="5373720"/>
                <a:ext cx="10796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800" y="1483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57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-11880" y="3059280"/>
            <a:ext cx="2397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34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1800" y="5031000"/>
            <a:ext cx="1807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зовите заштрихованную фигуру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3311280" cy="2492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33112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8000" y="765000"/>
            <a:ext cx="88567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авьте пропущенное слово в определение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называется … дл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на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вале (а,в), если  она дифференцируема и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любого х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а,в) выполняется равенство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059280" y="4076640"/>
                <a:ext cx="23745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кажите название формулы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27280" y="2852640"/>
                <a:ext cx="41036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8567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ставьте пропущенное слово в определение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ножество первообразных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F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)+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зывается - …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удента КАТ спрашивают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У вас по математике интегралы были?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удент задумываясь чешет голову, потом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чает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а, были какие-то, но... неопределенные.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780000" y="4365720"/>
            <a:ext cx="17287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курс  №3  «Тест»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ники команд записывают номер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а и номер ответа, результаты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ают жюри.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1: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называется первообразной дл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на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вале (а,в), если она дифференцируема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для любого х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а,в) выполняется равенство: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3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332000" y="3429000"/>
                <a:ext cx="2376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33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332000" y="4076640"/>
                <a:ext cx="1800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33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332000" y="4724280"/>
                <a:ext cx="16556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2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первообразна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то множество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: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Неопределенным интегралом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Первообразной функцией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Непрерывной функцией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3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метрически неопределенный интеграла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Тангенс угла наклона касательной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Семейство касательных 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Семейство интегральных кривых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3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35280" y="2637000"/>
                <a:ext cx="17017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619280" y="3573360"/>
                <a:ext cx="18730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19280" y="4581360"/>
                <a:ext cx="20890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826920" y="879840"/>
            <a:ext cx="630576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числения площади фигуры      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формула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54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5825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684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4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верно свойство неопределенного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ала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547640" y="2852640"/>
                <a:ext cx="597708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547640" y="3500280"/>
                <a:ext cx="3095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547640" y="4149720"/>
                <a:ext cx="26654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прос №5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верно свойство неопределенного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грала: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42920" y="2924280"/>
                <a:ext cx="5834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42920" y="3500280"/>
                <a:ext cx="5834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42920" y="4149720"/>
                <a:ext cx="5834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44:37Z</dcterms:created>
  <dc:creator>User</dc:creator>
  <dc:description/>
  <cp:keywords/>
  <dc:language>en-US</dc:language>
  <cp:lastModifiedBy>Один</cp:lastModifiedBy>
  <dcterms:modified xsi:type="dcterms:W3CDTF">2013-02-06T14:47:12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49</vt:lpwstr>
  </property>
</Properties>
</file>