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547-AC19-4725-A701-8049D699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543-1BB7-4465-AD7D-300FD3A7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94AAF-93CD-4EEC-BBC2-8B511F23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0D928-003A-4B0B-9DCB-0D4B75C1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5BAD4-C766-47BF-9316-9D2F612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CA94B-DDEB-4AD1-8A37-41A6969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5B1D3-8EF1-4D56-B26A-1E6B6F95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14D6E-D130-4396-A66A-B70377A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49D88-D4E4-4851-92F4-DBA03EA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92DFC-4A29-48E1-9BAB-EC36F424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71758-2258-48F5-A83E-CBBE92A6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942-18D2-4BFF-9363-59E50D2A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C26-E237-4FD7-AEF3-D9B7CCBA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DC04-11CB-4E2A-82BA-C8227B5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F7E2-89C9-4BB0-A936-F2FDB482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B41B-3DD4-42F6-99A0-7EE3A4E3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35E7-5273-49EF-8330-D97C6C1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10BF-5147-44C9-AC3D-3F22A9C0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5262-B024-44EE-8451-3F2B7A1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9DB2-D4EA-499A-A1E3-0B37DCC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DE0-439D-4A53-857E-75CCF512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D76B-4800-46C4-988A-999ECFA3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2A2-444B-4FBF-BB34-BF3BF23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483A-881C-44A0-B42A-948BC7F1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910C-D9D7-401C-BCE1-91537C99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7684-3026-4574-861F-804EBBA9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1433-D293-4944-90D3-AD16B9B3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EDE6-1B1E-45E4-A7BF-7C98446E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2AF5-66AE-489A-ADF9-38115CFA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8406-34E9-467B-93A7-783661E8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95A3-7EBA-4C5A-BD3F-219B71BC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7C2-1007-47F8-8251-56EA3380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29A5-E4F9-4679-B144-57D9096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ACF0B-D216-4D73-8004-60F9AFF9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164B-6EBE-43DE-BA33-BAF0679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1BDD-D730-445A-BAE4-5B908956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092E5-FC3D-4DA5-9860-4F8615DE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F7E1-8259-4A67-8802-D3C97C0C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7F0C-9B05-4643-B369-4E140880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3101-B79C-4004-A0BA-BD22C0F9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AA3D-3F93-45C4-B969-1B1744B4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94662-C1AF-4FE4-B707-FF067AA0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282-947B-4050-A7E9-73D92DDA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62B7-CE38-44C4-8022-423FAFFD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3AB9C-4BBF-43C6-9071-88757E2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7AED-3A38-42AF-A3C0-6E57B17B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E408-F5C3-4238-8795-BAB358B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3ADA3-4D7D-4734-A130-915CF076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4544-173B-4B89-A72D-8122F908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0093-D576-4FF2-A392-059641B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5186-151C-4A02-8EC3-970BFDF5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D45E8-85D2-4AF8-B2BF-BE6F460A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CE268-1E1D-4825-9711-3FFA2235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694-1F64-47AB-B4A9-B8F863DD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56D3-272E-4A1B-9855-9A620CB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140D-D6E2-47BF-A664-8E38C325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E5D37-599A-45A7-9B88-7E200E62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DD24-B0E7-4D5B-8E42-9AB98917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D6F0-3B7E-4E5D-B34A-0E7C54F8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6FC6C-7318-4518-A764-7DAEF32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878B-F668-4DF4-8E3C-F99E35C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6E92-71D5-4C27-8EC6-114FED10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4A16F-AED2-48D0-BB23-25EBB46E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95E83-6372-4018-8546-27F537A1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F95-2588-4EAE-B87D-0C22E738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5C8CA-CDC8-48F2-8DF6-39915527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441B1-A44C-471B-87DC-B7CE27D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D5DC-4D06-4719-9C63-A971BCF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826B-885E-4DF9-AACC-1EB90686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AA5C7-51B1-428A-B369-30D8301F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5676C-E72F-497A-A832-8D30982E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BE748-D414-40E1-9747-B910CA9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58A62-909E-47B7-BEEE-2A87953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91577-DB11-4721-8990-AE43A06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AD30C-D144-439E-B085-99670DD4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033-C12D-4623-95A3-8820ABB2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538B-0FDE-4889-AFD8-708A85BC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DC2A-8C50-4303-AC2F-85796F0C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99C24-7F87-4AC6-8FE2-3F2D5287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70508-DFA1-45BC-8DAA-68A0A512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BB92-3A61-4AD5-8657-FC2E594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598D-5606-49EC-B8DD-D349378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7683B-B04F-4BED-8769-E6E80EC3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1D757-3C97-45D8-AEF5-A665E007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022F2-58F7-41DC-9262-AE847003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AD27-CDD6-4040-9D4A-1F525D7E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6C6-5FC8-43EB-99B7-D43538E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CC6A5-60E4-41F3-8AFF-C6131C1F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6131B-1813-4D38-BB80-30A1B4B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DF3F7-9FFE-48AD-8479-2FCC6D39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86607-2821-4E48-8407-D9CD95AE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E856-D311-4015-A9C7-33A12026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3F000-0DC2-4B32-823A-A75277EC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91CE-C9BB-49A9-90EF-8D388E62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A6410-9D9B-4CC0-A6CB-B88D567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4258B-4479-4BB8-93B0-95AE09DA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0F6DC-D192-41CB-B3F4-B9E434F2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040-BEF5-4164-9611-A90A7489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BD45-9AD5-499C-8F05-38AA6BD2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F54A-46D8-41B1-A702-19401AC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B54DD-9D6B-47A0-B2D2-0CC6E061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A9778-69CD-496A-B19B-73A04E6E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FCB75-1019-49D2-A6DC-D41886C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728FB-F710-4630-9B1D-23152844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C8ECC-3629-4191-905E-40BA46C1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60A55-382A-4C74-B2F6-87DA21DF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2D4DD-4E24-417A-9A49-6AD87D1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9232C-D845-4166-978D-681E317A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4143-487B-4232-A42A-E75D854636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297D-92E8-4A45-AAFC-839DB651FF1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F7AF-2DF1-409E-82DB-CC80259AAA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7E3B-3E3F-4A0F-BB10-0C664293E60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C56A-B699-4B74-A35F-56468904C0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71C-3481-4480-921C-4B6E428C9A9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CE10-71C3-4819-B40C-A46AC0C5C2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F0F-B038-4F0E-8CE8-13657A9A341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134-C493-4006-8172-656220A80B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200" spc="-1" strike="noStrike">
              <a:solidFill>
                <a:srgbClr val="4e3b30"/>
              </a:solidFill>
              <a:latin typeface="Times New Roman"/>
              <a:ea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500120" y="5428800"/>
            <a:ext cx="7129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443329"/>
              </a:solidFill>
              <a:latin typeface="Times New Roman"/>
              <a:ea typeface="Times New Roman"/>
            </a:endParaRPr>
          </a:p>
        </p:txBody>
      </p:sp>
      <p:pic>
        <p:nvPicPr>
          <p:cNvPr id="401" name="Picture 2" descr="C:\Documents and Settings\Admin\Рабочий стол\8777b53eb8c97f5e0a299696831ecc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Интернете советуют сделать из НЕГО, например, плащ-накидку для ребенка. А Джеральд Даррелл сравнивал с НИМ отдыхающую летучую мышь. Назовите ЕГО двумя слов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  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улинарная книга Ники Белоцерковской называется "Про вино. Про еду. Провас". Напишите букву, которую мы пропустили в этом вопрос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ы достоверно знаем вес самого большого колокола Свято-Вознесенского Кафедрального собора. Напишите этот вес совершенно точн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одном из слов этого вопроса мы заменили четыре буквы.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Карл Антан с рождения был инвалидом, однако это не помешало ему стать довольно известным скрипачом. Свою автобиографию он с иронией назвал "манускриптом". Какое слово мы изменил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ходу экранизации 1945 года дворецкий спрашивает, сколько человек будет к ужину, и по понятным причинам не получает ответа. Назовите экранизированный рома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гласно китайской легенде, приводимой Борхесом, в древние времена произошла война между людьми и духами, желавшими захватить мир. Последние были побеждены и, подвергнутые заточению, были обречены во всем подражать людям. Данная информация нашла отражение в статье "Какую тайну хранят в себе ОНИ?". Назовите И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своих трудах русский естествоиспытатель XIX века Николай Данилевский сравнивал национальные обычаи и характеры разных народов. Отмечая крайний индивидуализм англичан, он приводил в пример развлечение, которым англичане занимаются вдвоем, в то время как русские — чаще группой. А как это занятие называлось у англичан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гласно одной шутке, в НЕЙ всё не как у людей. ОНА была основана в 1714 году. Назовите ЕЕ словом немецкого происхожд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34" name="Содержимое 5" descr="20120235.jpg"/>
          <p:cNvPicPr/>
          <p:nvPr/>
        </p:nvPicPr>
        <p:blipFill>
          <a:blip r:embed="rId2"/>
          <a:stretch/>
        </p:blipFill>
        <p:spPr>
          <a:xfrm>
            <a:off x="2357280" y="1071720"/>
            <a:ext cx="4927680" cy="38098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4"/>
          <p:cNvSpPr/>
          <p:nvPr/>
        </p:nvSpPr>
        <p:spPr>
          <a:xfrm>
            <a:off x="357120" y="5148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олное имя и фамилию ребенка, которому принадлежали эти игру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6480" y="676440"/>
            <a:ext cx="86997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      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 Ведущий зачитывает вопрос и дает команду «Время» 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 -  После этого игроки имеют право на 60 секунд обсуждения 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 -  За 10 секунд до окончания времени ведущий сообщает об этом и команда должна написать ответ на бланке и сдать его «ласточке» (человеку, который собирает бланки) 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 - После сбора всех бланков ведущий зачитывает правильный ответ и приступает к чтению следующего вопроса.   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-444600" y="1822320"/>
            <a:ext cx="9649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208080" y="1566720"/>
            <a:ext cx="869796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"Месяц ты, месяцович, серебряные рожки, золотые ножки. Сойди ты, месяц, утешь мою боль, унеси ты лихую под небеса, моя скорбь не мала, не тяжка, а твоя сила могуча." Ведущий турнира делал сейчас именно это. Назовите это действие двумя словами, начинающимися с одной и той же букв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  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мнению пятилетней Даши, ИКС — это человек, который фотографирует автомобили. Назовите ИК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тивен Спилберг в фильме "Спасти рядового Райана" хотел показать войну жестокой. Для съемок некоторых сцен были приглашены настоящие бандиты. Какое слово мы заменили в тексте вопрос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Ее мать и сестра умерли от лейкемии в возрасте, соответственно, 66 и 58 лет, а сама она прожила 102 года и написала биографический очерк о матери, за который получила Национальную литературную премию. Назовите имя и фамилию ее отц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верженцы ТАКОЙ геологии считают, что большая часть осадочных пород земной коры отложилась в один момент. В христианской традиции существуют ТАКИЕ песни. Назовите слово, с которым рифмуется слово "Европа" в одной из ТАКИХ песе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вагоны поезда на участке ГолмУд-Лхаса подается... Ответьте одним словом: чт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фильме 1983 года "Военные игры" компьютер, пытаясь просчитать оптимальную стратегию в глобальной термоядерной войне, приходит к выводу, что если участвуют два сильных соперника, ни в одном из сценариев в такой войне нет победителя. Причем всё это сравнивается с некой простой игрой. Назовите эту игр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словам героя повести "А зори здесь тихие..." граната, после потери запала, уступает по эффективности этому "оружию". В чьих руках находится это оружие в произведении 1927 г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1206360"/>
            <a:ext cx="869976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1924 году в Иваново-Вознесенске начала работу пошивочная мастерская. На ее основе сейчас функционирует завод "Полет". Что является основной продукцией этого завода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скоре после смерти была опубликована фотография ЕЕ, лежащей в гробу в дорогом наряде с бриллиантовыми украшениями. В результате, по замечанию журналиста, даже после смерти ЕЙ потребовался ОН. Назовите и ЕЕ, и ЕГ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сландия лежит на Срединно-Атлантическом хребте — зоне, где расходятся две океанические литосферные плиты, причем со скоростью меньше обычного. Поэтому в одной статье Исландия сравнивается с ЭТИМ. Многие используют ЭТО в качестве помощника. Назовите ЭТ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одной постановке Железный Дровосек, отговаривая Страшилу, произносит название произведения. Назовите это произведе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английском языке есть слово, которое можно дословно перевести как "хребет сельди". Слово обозначает способ, которым можно как подниматься, так и класть. Смысловым переводом этого слова на русский можно назвать героиню музыкального произведения. Назовите эту героин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66" name="Содержимое 3" descr="20110693.jpg"/>
          <p:cNvPicPr/>
          <p:nvPr/>
        </p:nvPicPr>
        <p:blipFill>
          <a:blip r:embed="rId2"/>
          <a:stretch/>
        </p:blipFill>
        <p:spPr>
          <a:xfrm>
            <a:off x="1857240" y="1214280"/>
            <a:ext cx="5715000" cy="314352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1"/>
          <p:cNvSpPr/>
          <p:nvPr/>
        </p:nvSpPr>
        <p:spPr>
          <a:xfrm>
            <a:off x="516240" y="4650120"/>
            <a:ext cx="815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фотографии Дмитрия Войцехови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из двух слов, начинающих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у и ту же букву. Воспроизведите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гласно соннику, если вам снится, что у вас ОНА, это значит, что у вас много забот, не дающих вам покоя. Балтийское слово "немига" означает ЕЕ. Назовите Е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-6480" y="853920"/>
            <a:ext cx="86997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58760" y="566640"/>
            <a:ext cx="894240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роиня романа Стига Ларссона — сильная молодая девушка, выросшая без родителей, "трудный ребенок". Она неформально одевается, не признаёт авторитет старших, так и не закончила школу и не любит, когда ее сравнивают... С кем именно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"Девять" по-японски — "кю", "три" по-японски — "сан". Что означает в японском СМС-сленге число 39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ерой Чарльза Фрэзера говорит героине, что та была очень красивой, но тут же понимает, что ОНО было ошибкой. Назовите ЕГО двумя слов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время съемок фильма "Дерсу Узала", которые проходили в Советском Союзе, Акира Куросава никак не мог понять, как ЭТО может продолжаться не несколько минут, а полдня. Назовите ЭТ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 французской киноверсии "Трех мушкетеров" 1953 года Д‘артаньян после схватки у монастыря Дешо несет на шпаге несколько одинаковых предметов. Автор вопроса при просмотре этого эпизода вспомнил спортивный термин. Какой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одной юмористической миниатюре рассказывается, как Сталин победил Троцкого, а в другой миниатюре — как победил контрреволюцию. Полный цикл этих миниатюр представляет собой описание ИХ Сталина. Назовите ИХ двумя слова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4T22:24:22Z</dcterms:modified>
  <cp:revision>14</cp:revision>
  <dc:subject/>
  <dc:title>Слайд 1</dc:title>
</cp:coreProperties>
</file>