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94F-088B-4252-BA48-3F01624E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636-0AF6-4473-8A7A-02FB40F7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93989-C97C-4297-BCCB-A17AE17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9183D-80DA-49E7-BC97-C12D2289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FD585-6776-4B02-9EF1-EC4C17D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3F1EA-D1AE-4F57-8E9C-490DC26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5874D-5424-411E-B3CF-BCE49FF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CDF61-8829-4C46-8A5D-8768A00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4DBFF-12CA-4266-9C29-DF9621A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782C7-2552-4C34-A19B-26676CC3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8722-5BEE-488D-8617-C718A654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778-0AA8-4E0C-9FD1-4FD11246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0DB-2148-4928-8534-129F26DB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96FB-6B48-42CB-A310-6ADF69B1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992-8E79-405C-A623-A3434F07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EB4F-230B-4E5D-B6B2-BC03461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49B-12A1-403F-962C-1CA795A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5636-AB7A-4335-B51E-1A3E325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4920-4789-45B8-BA50-8ADE1DE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38A-9E0B-4BDC-8AC5-5C2CAC1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A86-17F5-4C71-AB86-D019D21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C71-42DD-40D8-BFA6-E99D6CA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44EC-1227-4630-9903-A9056A2B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3B0-F086-4C09-94FA-93A8DA33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6C8-9140-4419-8D2D-DE5DFB9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18E-150D-4252-AC2F-B68F00C0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83C3-C593-453F-B0C2-8D0190A9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9676-C870-4954-8997-9FB65D4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D165-04D1-4094-84A2-BC9F68C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2336-7D04-4263-BCDF-3DBB4A1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DFCE-5415-4B75-A1E5-08DA5845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CB9-9A6D-4388-BB95-76CBC508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9726-448A-4CAC-90B7-A1B0B82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4D95-98C8-4168-8B5B-FDD8245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B079-F30B-4F37-8F4D-B77C9EA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369F-1F39-4A9A-80D6-2D0544D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1FAB-4545-4B83-B283-311CFBA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2C5E-8D21-4FE4-AA3B-BF403DFB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02C1-FA62-4FC8-8422-411CAA54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8015-8E0E-4704-9D78-9EFF24C9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E876-7C4D-4AD1-9064-3FE8D2E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111C-CD35-4622-AF9C-C73E1627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246-1ED6-49EE-9573-6C3C932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F92B-42AD-4482-937B-6C8D06DB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6F16-AE19-42B7-8513-E959F234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E0CA-BDE5-40DE-A5CC-FCE32499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4D24-4F0D-443D-9DC5-C86F199A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548D-AE5D-4D6B-94BE-474E56D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2A8A-81C4-4952-A8CD-775D20C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2D58-49F2-4FB5-AB56-29C62606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1D1F-7065-49C9-9EC3-3F967156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0674-AA7D-4E0E-82DA-96AC12E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34DA9-F759-4B08-B5A3-F35D324F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8CE-6794-4AAA-A19B-83B5E5A2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3C2D-236B-4805-95D6-869BA16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E624-ED61-4694-B6A9-85C85E2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445C-7251-4866-9965-844DF80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C9E0-D93E-4348-801F-E317F1C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7BC0-2482-4442-818B-4309A050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1E7D-FE7B-4E34-A671-447EC2D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84E6-182D-4BDF-810B-1A8513D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2FA5-EDD8-44FC-8B5A-15F7826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6F4F-460D-4E15-B227-6620866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7B3F-D0B3-4E6D-81F5-B6BB1DED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270-8C3E-4CC5-8735-FED5F52A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A4C7-7039-441C-82E3-2B95AD8E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2037-6E58-43D2-A67F-495D372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EF3F2-6C6E-4FF7-A06B-B5A75F6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74A5-793D-4EB4-8B39-E563D9C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BA46-14FD-478F-ADC8-5A9ED8D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C3FD-9BF0-44F4-9A95-5AFCD5EA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8DD1-B98A-4814-A448-C302763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E971F-0640-48F5-B924-E2756C6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4757-F7BB-4E1E-A1D9-A55C45B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E65D-470E-462B-A2C0-A21E735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C5A-99D6-4410-93CE-027DB43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1A13-13B9-486D-B4D3-0375BD1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3949-2220-4C4F-97D7-1544D86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A987-C7AF-4FB2-9C9A-901C5428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CF27-64EC-4379-AF74-1CCEE15E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A502-63AB-43AD-AA20-A93ECF2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36AF-2CD4-4C3A-A387-B9301A98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5159-0AF4-457B-B37A-9CE6D1A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B4B2-DC46-4C7A-AF2E-879E9E8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41A3-AC3E-4D18-9204-21CB993F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2AAA-735D-4172-A9C0-84288F81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26A-DC32-4FAB-871D-0EC7847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E4B4-13D7-4904-A960-A3A104A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9E787-FDEE-474A-98C0-ABA0ABC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3FC77-5131-4DA6-AF20-33A3C16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EE0C7-2738-4101-86D1-722C62F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E51D-0443-40FF-8E87-60DC208A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AC548-3E98-4FAF-BB1D-9E4C6BB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9634-59D0-47F7-855C-0D4C1800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0C141-3059-42BA-80D4-74B6324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94C5-5A5C-4383-B871-477CC232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76B51-E119-42E4-B08F-D64F1F7D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885-2476-4ED0-92D4-86886898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9DAB-568D-46B0-AAFC-6C0B5C3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D884-7B26-4420-8A00-DBB84ACB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A126-7879-4B4F-A9C9-0B3B0A6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ECAE-80AC-4760-9C51-60BD44B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9A38-6EA4-40BD-97FA-D884DF3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2770-D2BA-4341-8AA0-BB1B80F8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AC23C-FA0F-4E58-9F21-D9D0C9D1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317E-D898-408F-8957-C338D53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D4C1-8763-42B6-9BC4-1D385C5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48D01-72C7-4DEC-8599-155E06A2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172-F57F-43E7-ACED-A847A2A0CF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5BE-0DB8-46CE-8CCF-10003DCF87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CDC-DD45-4549-BE04-83B2E8F667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9FA-1E91-474B-B37C-C2F56D6FF4C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C6E-F335-4ADD-87E5-2686FD3CF1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0343-CBB2-4365-A629-4BB5BF3C37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E4B-FC3B-4386-A853-47C79A1EDA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C02-AB91-4522-825C-3317E4B02E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BA14-E955-445F-867C-A8A7E4C725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4e3b30"/>
              </a:solidFill>
              <a:latin typeface="Times New Roman"/>
              <a:ea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500120" y="5428800"/>
            <a:ext cx="712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443329"/>
              </a:solidFill>
              <a:latin typeface="Times New Roman"/>
              <a:ea typeface="Times New Roman"/>
            </a:endParaRPr>
          </a:p>
        </p:txBody>
      </p:sp>
      <p:pic>
        <p:nvPicPr>
          <p:cNvPr id="401" name="Picture 2" descr="C:\Documents and Settings\Admin\Рабочий стол\8777b53eb8c97f5e0a299696831ec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Интернете советуют сделать из НЕГО, например, плащ-накидку для ребенка. А Джеральд Даррелл сравнивал с НИМ отдыхающую летучую мышь. Назовите ЕГО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  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улинарная книга Ники Белоцерковской называется "Про вино. Про еду. Провас". Напишите букву, которую мы пропустили в этом вопрос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ы достоверно знаем вес самого большого колокола Свято-Вознесенского Кафедрального собора. Напишите этот вес совершенно точ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м из слов этого вопроса мы заменили четыре буквы.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Карл Антан с рождения был инвалидом, однако это не помешало ему стать довольно известным скрипачом. Свою автобиографию он с иронией назвал "манускриптом". Какое слово мы изменил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ходу экранизации 1945 года дворецкий спрашивает, сколько человек будет к ужину, и по понятным причинам не получает ответа. Назовите экранизированный ром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китайской легенде, приводимой Борхесом, в древние времена произошла война между людьми и духами, желавшими захватить мир. Последние были побеждены и, подвергнутые заточению, были обречены во всем подражать людям. Данная информация нашла отражение в статье "Какую тайну хранят в себе ОНИ?". Назовите 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воих трудах русский естествоиспытатель XIX века Николай Данилевский сравнивал национальные обычаи и характеры разных народов. Отмечая крайний индивидуализм англичан, он приводил в пример развлечение, которым англичане занимаются вдвоем, в то время как русские — чаще группой. А как это занятие называлось у англичан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одной шутке, в НЕЙ всё не как у людей. ОНА была основана в 1714 году. Назовите ЕЕ словом немецкого происхож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Содержимое 5" descr="20120235.jpg"/>
          <p:cNvPicPr/>
          <p:nvPr/>
        </p:nvPicPr>
        <p:blipFill>
          <a:blip r:embed="rId2"/>
          <a:stretch/>
        </p:blipFill>
        <p:spPr>
          <a:xfrm>
            <a:off x="2357280" y="1071720"/>
            <a:ext cx="4927680" cy="38098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357120" y="5148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олное имя и фамилию ребенка, которому принадлежали эти игр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6480" y="676440"/>
            <a:ext cx="86997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  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 Ведущий зачитывает вопрос и дает команду «Время»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  После этого игроки имеют право на 60 секунд обсуждения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  За 10 секунд до окончания времени ведущий сообщает об этом и команда должна написать ответ на бланке и сдать его «ласточке» (человеку, который собирает бланки)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 После сбора всех бланков ведущий зачитывает правильный ответ и приступает к чтению следующего вопроса.   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-444600" y="1822320"/>
            <a:ext cx="9649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08080" y="1566720"/>
            <a:ext cx="86979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"Месяц ты, месяцович, серебряные рожки, золотые ножки. Сойди ты, месяц, утешь мою боль, унеси ты лихую под небеса, моя скорбь не мала, не тяжка, а твоя сила могуча." Ведущий турнира делал сейчас именно это. Назовите это действие двумя словами, начинающимися с одной и той же букв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мнению пятилетней Даши, ИКС — это человек, который фотографирует автомобили. Назовите ИК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ивен Спилберг в фильме "Спасти рядового Райана" хотел показать войну жестокой. Для съемок некоторых сцен были приглашены настоящие бандиты. Какое слово мы заменили в тексте вопрос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е мать и сестра умерли от лейкемии в возрасте, соответственно, 66 и 58 лет, а сама она прожила 102 года и написала биографический очерк о матери, за который получила Национальную литературную премию. Назовите имя и фамилию ее отц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верженцы ТАКОЙ геологии считают, что большая часть осадочных пород земной коры отложилась в один момент. В христианской традиции существуют ТАКИЕ песни. Назовите слово, с которым рифмуется слово "Европа" в одной из ТАКИХ песе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вагоны поезда на участке ГолмУд-Лхаса подается... Ответьте одним словом: чт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фильме 1983 года "Военные игры" компьютер, пытаясь просчитать оптимальную стратегию в глобальной термоядерной войне, приходит к выводу, что если участвуют два сильных соперника, ни в одном из сценариев в такой войне нет победителя. Причем всё это сравнивается с некой простой игрой. Назовите эту игр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словам героя повести "А зори здесь тихие..." граната, после потери запала, уступает по эффективности этому "оружию". В чьих руках находится это оружие в произведении 1927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1206360"/>
            <a:ext cx="8699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924 году в Иваново-Вознесенске начала работу пошивочная мастерская. На ее основе сейчас функционирует завод "Полет". Что является основной продукцией этого зав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скоре после смерти была опубликована фотография ЕЕ, лежащей в гробу в дорогом наряде с бриллиантовыми украшениями. В результате, по замечанию журналиста, даже после смерти ЕЙ потребовался ОН. Назовите и ЕЕ, и ЕГ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ландия лежит на Срединно-Атлантическом хребте — зоне, где расходятся две океанические литосферные плиты, причем со скоростью меньше обычного. Поэтому в одной статье Исландия сравнивается с ЭТИМ. Многие используют ЭТО в качестве помощника. Назовите Э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й постановке Железный Дровосек, отговаривая Страшилу, произносит название произведения. Назовите это произведе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английском языке есть слово, которое можно дословно перевести как "хребет сельди". Слово обозначает способ, которым можно как подниматься, так и класть. Смысловым переводом этого слова на русский можно назвать героиню музыкального произведения. Назовите эту героин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66" name="Содержимое 3" descr="20110693.jpg"/>
          <p:cNvPicPr/>
          <p:nvPr/>
        </p:nvPicPr>
        <p:blipFill>
          <a:blip r:embed="rId2"/>
          <a:stretch/>
        </p:blipFill>
        <p:spPr>
          <a:xfrm>
            <a:off x="1857240" y="1214280"/>
            <a:ext cx="5715000" cy="31435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"/>
          <p:cNvSpPr/>
          <p:nvPr/>
        </p:nvSpPr>
        <p:spPr>
          <a:xfrm>
            <a:off x="516240" y="4650120"/>
            <a:ext cx="815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фотографии Дмитрия Войцехови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двух слов, начин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у и ту же букву. Воспроизве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соннику, если вам снится, что у вас ОНА, это значит, что у вас много забот, не дающих вам покоя. Балтийское слово "немига" означает ЕЕ. Назовите Е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-6480" y="853920"/>
            <a:ext cx="86997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58760" y="566640"/>
            <a:ext cx="894240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роиня романа Стига Ларссона — сильная молодая девушка, выросшая без родителей, "трудный ребенок". Она неформально одевается, не признаёт авторитет старших, так и не закончила школу и не любит, когда ее сравнивают... С кем именн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"Девять" по-японски — "кю", "три" по-японски — "сан". Что означает в японском СМС-сленге число 39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рой Чарльза Фрэзера говорит героине, что та была очень красивой, но тут же понимает, что ОНО было ошибкой. Назовите ЕГО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съемок фильма "Дерсу Узала", которые проходили в Советском Союзе, Акира Куросава никак не мог понять, как ЭТО может продолжаться не несколько минут, а полдня. Назовите Э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французской киноверсии "Трех мушкетеров" 1953 года Д‘артаньян после схватки у монастыря Дешо несет на шпаге несколько одинаковых предметов. Автор вопроса при просмотре этого эпизода вспомнил спортивный термин. Как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й юмористической миниатюре рассказывается, как Сталин победил Троцкого, а в другой миниатюре — как победил контрреволюцию. Полный цикл этих миниатюр представляет собой описание ИХ Сталина. Назовите ИХ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4T22:24:22Z</dcterms:modified>
  <cp:revision>14</cp:revision>
  <dc:subject/>
  <dc:title>Слайд 1</dc:title>
</cp:coreProperties>
</file>