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DDD-A9FA-4543-8A9E-37839024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A91-34EB-48AB-92CF-0011B85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76B-E4FD-465E-9696-1C2B3D2F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936-1740-42F8-8C1B-564B7844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D76-C537-4258-A250-5F4094E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E8D-211B-4AD1-AEB5-B5438FE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2CB-BDB9-4A66-90B5-B2F2FFC1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B47-0709-4DA3-869F-E0A53950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6E0-1022-4BED-9942-9062365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1A1-177C-47B5-897D-BE2492B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96A-E28A-40CB-A245-D709B4A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404-FC2B-42B1-A9D7-D0CC13A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4C73-6588-4413-991A-1736760B9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Tetrahedron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48;&#1079;&#1086;&#1073;&#1088;&#1072;&#1078;&#1077;&#1085;&#1080;&#1077;:Hexahedron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4"/>
          <a:stretch/>
        </p:blipFill>
        <p:spPr>
          <a:xfrm>
            <a:off x="2286000" y="1066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"/>
          <p:cNvPicPr/>
          <p:nvPr/>
        </p:nvPicPr>
        <p:blipFill>
          <a:blip r:embed="rId5"/>
          <a:stretch/>
        </p:blipFill>
        <p:spPr>
          <a:xfrm>
            <a:off x="5181480" y="1066680"/>
            <a:ext cx="124956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6"/>
          <a:stretch/>
        </p:blipFill>
        <p:spPr>
          <a:xfrm>
            <a:off x="6781680" y="41148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7"/>
          <p:cNvSpPr txBox="1"/>
          <p:nvPr/>
        </p:nvSpPr>
        <p:spPr>
          <a:xfrm>
            <a:off x="685800" y="2438280"/>
            <a:ext cx="7772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равильные многогран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6858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правильные многогранники-тела Архим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029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6"/>
          <p:cNvSpPr/>
          <p:nvPr/>
        </p:nvSpPr>
        <p:spPr>
          <a:xfrm>
            <a:off x="1143000" y="91440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правильные многогранни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тетр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икос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ку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бо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косо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кубоокт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икосододек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окубо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оикосо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лосконосый" (курносый) ку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лосконосый" (курносый) додекаэдр.</a:t>
            </a:r>
            <a:br>
              <a:rPr sz="2400"/>
            </a:b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14400" y="1066680"/>
            <a:ext cx="205740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914400" y="4191120"/>
            <a:ext cx="1981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о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п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71-1630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00400" y="106668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оме правильных многогранников - Платоновых тел, полуправильных многогранников – Архимедовых тел, существуют так называемые правильные звездчатые многогранники. Их всего четыре, они называются такж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ми Кеплера - Пуанс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плер открыл малый додекаэдр, названный им колючим или ежом, и большой додекаэ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5"/>
          <p:cNvSpPr/>
          <p:nvPr/>
        </p:nvSpPr>
        <p:spPr>
          <a:xfrm>
            <a:off x="2590920" y="10666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 Кеплера - Пуанс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19920" y="2438280"/>
            <a:ext cx="1828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1295280"/>
          <a:ext cx="7238880" cy="394668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143000"/>
                <a:gridCol w="1218960"/>
                <a:gridCol w="1195560"/>
                <a:gridCol w="131904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р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ос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ек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ш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гр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ад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2174760" cy="2438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95680" y="1523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онард Эй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07-1788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09480" y="373392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орема Эйлер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Для любого выпуклого многогранника справедливо соотношение:  </a:t>
            </a: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+В-Р=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-число граней, В-число вершин, Р-число рёб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762120" y="1295280"/>
            <a:ext cx="746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р наш исполнен симметрии. С древнейших времен с ней связаны наши представления о красоте. Наверное, этим объясняется непроходящий интерес человека к правильным многогранникам - удивительным символам симметрии, привлекавшим внимание множества выдающихся мысл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85800" y="990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м многогранн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зывается многогранник, у которого все грани правильные равные многоугольники, и все двугранные углы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Тетраэд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2590920"/>
            <a:ext cx="1524240" cy="144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300px-Hexahedr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2514600"/>
            <a:ext cx="1600200" cy="151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Octahedron"/>
          <p:cNvPicPr/>
          <p:nvPr/>
        </p:nvPicPr>
        <p:blipFill>
          <a:blip r:embed="rId6"/>
          <a:stretch/>
        </p:blipFill>
        <p:spPr>
          <a:xfrm>
            <a:off x="6705720" y="2514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odecahedron"/>
          <p:cNvPicPr/>
          <p:nvPr/>
        </p:nvPicPr>
        <p:blipFill>
          <a:blip r:embed="rId7"/>
          <a:stretch/>
        </p:blipFill>
        <p:spPr>
          <a:xfrm>
            <a:off x="5181480" y="4191120"/>
            <a:ext cx="1600200" cy="1568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Икосаэдр"/>
          <p:cNvPicPr/>
          <p:nvPr/>
        </p:nvPicPr>
        <p:blipFill>
          <a:blip r:embed="rId8"/>
          <a:stretch/>
        </p:blipFill>
        <p:spPr>
          <a:xfrm>
            <a:off x="2209680" y="4191120"/>
            <a:ext cx="16002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0666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ды правильных многогранник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16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1904760" cy="1789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286000" y="3962520"/>
            <a:ext cx="177804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184464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352680" y="1874880"/>
            <a:ext cx="19814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62120" y="1143000"/>
            <a:ext cx="7696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Почему правильные многогранники получ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такие имен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связано с числом их гра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Тетр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меет 4 грани, в переводе с греческого "тетра" - четыре, "эдрон" - гр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ексаэдр (ку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ет 6 граней, "гекса" – ше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Окт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восьмигранник, "окто" – восем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Додекаэд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двенадцатигранник, "додека" - двенадца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Икос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меет 20 граней, "икоси" - двадц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20782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6248520" y="3962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248520" y="3809880"/>
            <a:ext cx="2286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век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143000" y="1066680"/>
            <a:ext cx="4952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a1d"/>
                </a:solidFill>
                <a:latin typeface="Arial"/>
                <a:ea typeface="Arial"/>
              </a:rPr>
              <a:t>Пифагорейцы считали правильные многогранники божественными фигурами и использовали в своих философских сочинениях: первоосновам бытия - огню, земле, воздуху, воде придавалась форма соответственно тетраэдра, куба, октаэдра, икосаэдра, а вся Вселенная имела форму додекаэдр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5.jpg"/>
          <p:cNvPicPr/>
          <p:nvPr/>
        </p:nvPicPr>
        <p:blipFill>
          <a:blip r:embed="rId2"/>
          <a:stretch/>
        </p:blipFill>
        <p:spPr>
          <a:xfrm>
            <a:off x="838080" y="13716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4308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617220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вкл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век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62120" y="137160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м многогранникам посвящена последняя, XIII книга знаменитого труда Евклида. XIII книгу Евклида историки математики называют «венцом «Начал». Здесь установлено существование всех пяти типов правильных многогранников, путей их построения и доказано, что других правильных многогранников не существ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Платон.jpg"/>
          <p:cNvPicPr/>
          <p:nvPr/>
        </p:nvPicPr>
        <p:blipFill>
          <a:blip r:embed="rId2"/>
          <a:stretch/>
        </p:blipFill>
        <p:spPr>
          <a:xfrm>
            <a:off x="838080" y="1143000"/>
            <a:ext cx="239580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14400" y="4495680"/>
            <a:ext cx="22096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28-348 гг.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581280" y="1143000"/>
            <a:ext cx="49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еческая математика, в которой впервые появилась теория многогранников, развивалась под большим влиянием знаменитого мыслителя Платона. Философ - идеалист Платон изложил в своих трудах учение о правильных многогранник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 тех пор правильные многогранники стали называ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атоновыми те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223992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838080" y="3809880"/>
            <a:ext cx="2514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м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7-212 гг.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429000" y="1371600"/>
            <a:ext cx="4876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 семейство тел, родственных платоновым - это полуправильные выпуклые многогранники. У них все многогранные углы равны, все грани - правильные многоуголь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мед подробно описал 13 многогранников, которые позже в честь великого учёного были назва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ми Архим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Один</cp:lastModifiedBy>
  <dcterms:modified xsi:type="dcterms:W3CDTF">2013-02-15T12:37:09Z</dcterms:modified>
  <cp:revision>9</cp:revision>
  <dc:subject/>
  <dc:title>Презентация PowerPoint</dc:title>
</cp:coreProperties>
</file>