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563-D30E-4CE6-8FBA-54433046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5AA-8CD6-4990-A89A-5B7C0A1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D67-880D-49C6-9E29-763083DE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E97-E12E-47EB-9FF5-BEFAD1AE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703-1014-4AA8-92FE-EFAACDF4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1CFD-8856-4C4E-AFC9-57F0B7B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47B-1F4E-424F-9A63-A73C58C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D6F-79D9-4603-8294-9DC5D63B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ABF-39CB-4582-822E-37F8FCC9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26B-36B7-4B5C-8BAA-B028D44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495-4D2D-4A5E-8F97-ECDB7A6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42C-2207-4915-BAFC-32296FB8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FFB1-65DB-49CC-B4DA-84B64FC61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8;&#1079;&#1086;&#1073;&#1088;&#1072;&#1078;&#1077;&#1085;&#1080;&#1077;:Tetrahedron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ru.wikipedia.org/wiki/&#1048;&#1079;&#1086;&#1073;&#1088;&#1072;&#1078;&#1077;&#1085;&#1080;&#1077;:Hexahedron.jpg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"/>
          <p:cNvPicPr/>
          <p:nvPr/>
        </p:nvPicPr>
        <p:blipFill>
          <a:blip r:embed="rId3"/>
          <a:stretch/>
        </p:blipFill>
        <p:spPr>
          <a:xfrm>
            <a:off x="3962520" y="4114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4"/>
          <a:stretch/>
        </p:blipFill>
        <p:spPr>
          <a:xfrm>
            <a:off x="2286000" y="1066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"/>
          <p:cNvPicPr/>
          <p:nvPr/>
        </p:nvPicPr>
        <p:blipFill>
          <a:blip r:embed="rId5"/>
          <a:stretch/>
        </p:blipFill>
        <p:spPr>
          <a:xfrm>
            <a:off x="5181480" y="1066680"/>
            <a:ext cx="124956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"/>
          <p:cNvPicPr/>
          <p:nvPr/>
        </p:nvPicPr>
        <p:blipFill>
          <a:blip r:embed="rId6"/>
          <a:stretch/>
        </p:blipFill>
        <p:spPr>
          <a:xfrm>
            <a:off x="6781680" y="41148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17"/>
          <p:cNvSpPr txBox="1"/>
          <p:nvPr/>
        </p:nvSpPr>
        <p:spPr>
          <a:xfrm>
            <a:off x="685800" y="2438280"/>
            <a:ext cx="7772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равильные многогранни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685800" y="9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правильные многогранники-тела Архим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0292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6"/>
          <p:cNvSpPr/>
          <p:nvPr/>
        </p:nvSpPr>
        <p:spPr>
          <a:xfrm>
            <a:off x="1143000" y="91440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управильные многогранник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тетр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окт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икос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ку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додек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боокт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косододек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кубоокт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ечённый икосододек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окубооктаэд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мбоикосододекаэдр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плосконосый" (курносый) ку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"плосконосый" (курносый) додекаэдр.</a:t>
            </a:r>
            <a:br>
              <a:rPr sz="2400"/>
            </a:br>
            <a:r>
              <a:rPr b="0" lang="ru-RU" sz="2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уроки%20по%20математике/урок%20золотое%20сечение/Фестиваль%20педагогических%20идей%20Открытый%20урок%202005-2006%20учебного%20года.files/img3.gif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914400" y="1066680"/>
            <a:ext cx="205740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914400" y="4191120"/>
            <a:ext cx="1981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о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п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571-1630 г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200400" y="1066680"/>
            <a:ext cx="52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роме правильных многогранников - Платоновых тел, полуправильных многогранников – Архимедовых тел, существуют так называемые правильные звездчатые многогранники. Их всего четыре, они называются такж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ми Кеплера - Пуанс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еплер открыл малый додекаэдр, названный им колючим или ежом, и большой додекаэ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5"/>
          <p:cNvSpPr/>
          <p:nvPr/>
        </p:nvSpPr>
        <p:spPr>
          <a:xfrm>
            <a:off x="2590920" y="10666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 Кеплера - Пуанс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668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6019920" y="2438280"/>
            <a:ext cx="1828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1295280"/>
          <a:ext cx="7238880" cy="394668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143000"/>
                <a:gridCol w="1218960"/>
                <a:gridCol w="1195560"/>
                <a:gridCol w="131904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тр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кос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декаэд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ш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б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 гра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ад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и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2174760" cy="2438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495680" y="1523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онард Эй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07-1788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609480" y="3733920"/>
            <a:ext cx="769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орема Эйлера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Для любого выпуклого многогранника справедливо соотношение:  </a:t>
            </a: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Г+В-Р=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Г-число граней, В-число вершин, Р-число рёб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762120" y="1295280"/>
            <a:ext cx="7467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ир наш исполнен симметрии. С древнейших времен с ней связаны наши представления о красоте. Наверное, этим объясняется непроходящий интерес человека к правильным многогранникам - удивительным символам симметрии, привлекавшим внимание множества выдающихся мысл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85800" y="9907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ым многогранн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зывается многогранник, у которого все грани правильные равные многоугольники, и все двугранные углы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Тетраэд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2590920"/>
            <a:ext cx="1524240" cy="144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300px-Hexahedr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86200" y="2514600"/>
            <a:ext cx="1600200" cy="1515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Octahedron"/>
          <p:cNvPicPr/>
          <p:nvPr/>
        </p:nvPicPr>
        <p:blipFill>
          <a:blip r:embed="rId6"/>
          <a:stretch/>
        </p:blipFill>
        <p:spPr>
          <a:xfrm>
            <a:off x="6705720" y="2514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odecahedron"/>
          <p:cNvPicPr/>
          <p:nvPr/>
        </p:nvPicPr>
        <p:blipFill>
          <a:blip r:embed="rId7"/>
          <a:stretch/>
        </p:blipFill>
        <p:spPr>
          <a:xfrm>
            <a:off x="5181480" y="4191120"/>
            <a:ext cx="1600200" cy="1568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Икосаэдр"/>
          <p:cNvPicPr/>
          <p:nvPr/>
        </p:nvPicPr>
        <p:blipFill>
          <a:blip r:embed="rId8"/>
          <a:stretch/>
        </p:blipFill>
        <p:spPr>
          <a:xfrm>
            <a:off x="2209680" y="4191120"/>
            <a:ext cx="160020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762120" y="10666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ды правильных многограннико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1643040" cy="1904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19920" y="1981080"/>
            <a:ext cx="1904760" cy="1789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286000" y="3962520"/>
            <a:ext cx="177804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00600" y="3962520"/>
            <a:ext cx="184464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352680" y="1874880"/>
            <a:ext cx="198144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762120" y="1143000"/>
            <a:ext cx="7696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Почему правильные многогранники получ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такие имен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связано с числом их гра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Тетр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меет 4 грани, в переводе с греческого "тетра" - четыре, "эдрон" - гр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Гексаэдр (ку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ет 6 граней, "гекса" – ше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Окт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восьмигранник, "окто" – восем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Додекаэд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двенадцатигранник, "додека" - двенадцат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333a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a1d"/>
                </a:solidFill>
                <a:latin typeface="Arial"/>
                <a:ea typeface="Arial"/>
              </a:rPr>
              <a:t>Икосаэд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меет 20 граней, "икоси" - двадца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6324480" y="1066680"/>
            <a:ext cx="207828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6248520" y="3962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248520" y="3809880"/>
            <a:ext cx="2286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 век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143000" y="1066680"/>
            <a:ext cx="4952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a1d"/>
                </a:solidFill>
                <a:latin typeface="Arial"/>
                <a:ea typeface="Arial"/>
              </a:rPr>
              <a:t>Пифагорейцы считали правильные многогранники божественными фигурами и использовали в своих философских сочинениях: первоосновам бытия - огню, земле, воздуху, воде придавалась форма соответственно тетраэдра, куба, октаэдра, икосаэдра, а вся Вселенная имела форму додекаэдр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5.jpg"/>
          <p:cNvPicPr/>
          <p:nvPr/>
        </p:nvPicPr>
        <p:blipFill>
          <a:blip r:embed="rId2"/>
          <a:stretch/>
        </p:blipFill>
        <p:spPr>
          <a:xfrm>
            <a:off x="838080" y="13716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214308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9"/>
          <p:cNvSpPr/>
          <p:nvPr/>
        </p:nvSpPr>
        <p:spPr>
          <a:xfrm>
            <a:off x="617220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вкл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век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762120" y="1371600"/>
            <a:ext cx="50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ым многогранникам посвящена последняя, XIII книга знаменитого труда Евклида. XIII книгу Евклида историки математики называют «венцом «Начал». Здесь установлено существование всех пяти типов правильных многогранников, путей их построения и доказано, что других правильных многогранников не существу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Платон.jpg"/>
          <p:cNvPicPr/>
          <p:nvPr/>
        </p:nvPicPr>
        <p:blipFill>
          <a:blip r:embed="rId2"/>
          <a:stretch/>
        </p:blipFill>
        <p:spPr>
          <a:xfrm>
            <a:off x="838080" y="1143000"/>
            <a:ext cx="239580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914400" y="4495680"/>
            <a:ext cx="22096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а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28-348 гг.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581280" y="1143000"/>
            <a:ext cx="4953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еческая математика, в которой впервые появилась теория многогранников, развивалась под большим влиянием знаменитого мыслителя Платона. Философ - идеалист Платон изложил в своих трудах учение о правильных многогранник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 тех пор правильные многогранники стали называ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атоновыми тел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2239920" cy="251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838080" y="3809880"/>
            <a:ext cx="25146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м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7-212 гг. до н.э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429000" y="1371600"/>
            <a:ext cx="4876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ществует семейство тел, родственных платоновым - это полуправильные выпуклые многогранники. У них все многогранные углы равны, все грани - правильные многоуголь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рхимед подробно описал 13 многогранников, которые позже в честь великого учёного были назва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ми Архим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Один</cp:lastModifiedBy>
  <dcterms:modified xsi:type="dcterms:W3CDTF">2013-02-15T12:37:09Z</dcterms:modified>
  <cp:revision>9</cp:revision>
  <dc:subject/>
  <dc:title>Презентация PowerPoint</dc:title>
</cp:coreProperties>
</file>