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E2A-91F2-446D-BAB3-C2A11BF3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17A-1241-4EF0-96F4-CA6BCC4F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32E-EC57-4278-999C-43F9D5B4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8CC-9A4B-4D1A-9995-295C0323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DE04-9BA7-4400-8916-3C1D9035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2F84-E8CE-47FC-B62E-67E45697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4DAA-E709-4C96-B6F0-83F69ED5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7443-AF23-446F-AE15-F49AB485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E139-4C99-46D9-921D-97A7D2CB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86C8-13B4-4215-B678-92F81858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DF1F-155C-4E51-BA5A-9C98519C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D8D-E4CD-4F63-92B0-489D4B04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E50B-E53C-4A2E-BAA4-7D8C119C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1CF7-BEEA-437B-BE30-4EE31C18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EC54-4B65-4E14-8EF8-493799DD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9E97-FEEE-499E-8F28-B46826A6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277B-3A57-4622-A498-3F98A85B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7BB38-E9D5-4988-845A-21C43B86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8562-C16E-49A4-A1D3-D6EB6D26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7A7D-4E54-4CC0-9B2D-6BE58780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31328-85F5-4BB2-A03D-E6812DBF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707D6-A224-4D57-9510-644CDCA7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E9E-25F6-4069-AD8A-B3E3F965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CAD0-4C67-44BD-9686-427AEE6A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BCDF2-F650-496D-AB0A-2F74F5D2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A4EE-9127-4651-AC7D-47689D05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AF24C-1801-44AA-A3B2-58D98AE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C6E47-AC73-4C35-A0C1-CFD6A2CA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A35E-297A-4CD4-9A2E-84807AE0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2929-1A7A-4576-9475-3AE12950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FD811-C8FA-4401-B5F3-FA5789D3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C4D7-4E02-4DCD-94A4-DD2D10D3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B51B-9890-489A-877C-3898DD32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459-0094-45BF-95A1-82FC9152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E015A-D98A-41AB-ADD2-85AD756E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EA6ED-80F5-4C37-85CF-167B0030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AE777-8875-4FD7-88F9-07E20B81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6DE4B-6FBD-4DC8-B78B-419BABE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0C45-D16A-4016-AA83-50C38A45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E47D-7BB9-4A7C-BE2A-7D5E650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99F9-8965-4D86-9E74-6335FB5D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ACE9-56D9-4DE8-BF22-C15AE9AE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8AFE-67A7-4EBA-B5B2-C8E967EC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D399-C691-414D-87E5-4B6B4C74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D76-C2A5-4472-83A5-6F3A346B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11E57-7190-4A2E-90D6-6DD6E458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98129-9E4E-45E4-BE61-B45FC4EB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78586-ABEF-4855-87B2-C17E4C9B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69FF5-B93D-4196-A8D9-4A4CDB7B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32B2-0E48-439C-B8EE-6FA8912F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47689-3469-4C5F-BCA6-63C97263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410FE-DC1B-424B-B879-4B0020C1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1065E-AB0F-4B86-A281-3123B0C9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D9BA4-7F56-42CE-BAA5-2C06300D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11957-9D24-4205-88DF-D4C15BE5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C32-0ECC-4C21-BA34-4BB10E0E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5B52E-F2D5-4BAD-9E17-70CE463C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BB454-D464-4EB4-B585-F068681D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1D021-F0A8-4821-850B-52CFDBF7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2A6BC-350E-4D23-B8BB-CE72756C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FFEF6-1440-4440-A87F-71E4D388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D0F14-CA52-43A6-9218-6DCFD69E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C138F-FDA0-4181-A68A-483BBB18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18CAB-2B50-4757-9ABA-CF7D9D9A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1B7CD-CB81-4D9E-BBE6-8054CB83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497F5-C6A9-4B8F-B927-F8817A1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3CC-F698-42B6-98CF-F32E4606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08E7A-CB64-4437-9A74-A3F1AF74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F0C97-6C2A-49E5-970A-05C9147F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2C033-F877-4124-B01E-E971817A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87EC4-4E18-4F91-A275-E014F2C7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89781-E1A6-4D58-83ED-BAAE32D8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C6206-E460-46E5-927E-E9DAAF91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E036-99B3-4A7F-967F-87C96385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2DC11-239E-4FAF-93A0-138F8484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64717-A8B0-40FA-9952-3A48E3D9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8C78E-292D-4599-AF58-97F0193E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593-6D14-4D09-A943-93C35E9C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65C58-6EA8-4B4C-81A7-1470B27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1FAF4-EBE1-43B7-93BC-0DB389A6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440AA-2F34-4652-BEA8-214C4A7F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B4CCC-0046-49DA-B9DC-D3D03F50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9FE40-E1CA-4E95-ADAB-7FCFDE9A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649-65EF-41FA-A2CB-E9E061D2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E520-998D-411F-9958-F4759BFC667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E072-EF5F-4184-A5A4-A9D3F97A178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F11E-77EE-472F-8CCE-EE8BEB4A565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700F-0E31-46E2-B04D-5D3633E645C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34C5-D80A-4367-ABAD-81A7C2B052E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6EF6-9BB5-46CA-984F-D4476EF8A36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МОУ СОШ №20 г. Ижевск   Кашина Н.П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B4C9-9CA8-498B-9188-01B99E280B7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доровьесберегающие технологии на уроках русского языка и литератур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274760" y="630828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73e87"/>
                </a:solidFill>
                <a:latin typeface="Candara"/>
              </a:rPr>
              <a:t>Преподаватель МСВУ Сюбаева И.В.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2" descr="E:\Мои документы\ИРА\здоровьесбер технологии\фото\IMG_0554.JPG"/>
          <p:cNvPicPr/>
          <p:nvPr/>
        </p:nvPicPr>
        <p:blipFill>
          <a:blip r:embed="rId1"/>
          <a:stretch/>
        </p:blipFill>
        <p:spPr>
          <a:xfrm>
            <a:off x="2268360" y="2637000"/>
            <a:ext cx="44150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98000" y="2565360"/>
            <a:ext cx="8766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i="1" lang="ru-RU" sz="2800" spc="-1" strike="noStrike">
                <a:solidFill>
                  <a:srgbClr val="ffc000"/>
                </a:solidFill>
                <a:latin typeface="Candara"/>
              </a:rPr>
              <a:t>Желтый</a:t>
            </a:r>
            <a:r>
              <a:rPr b="1" i="1" lang="ru-RU" sz="2400" spc="-1" strike="noStrike">
                <a:solidFill>
                  <a:srgbClr val="ffc000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–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стимулирует умственную деятель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i="1" lang="ru-RU" sz="2400" spc="-1" strike="noStrike">
                <a:solidFill>
                  <a:srgbClr val="00b050"/>
                </a:solidFill>
                <a:latin typeface="Candara"/>
              </a:rPr>
              <a:t>З</a:t>
            </a:r>
            <a:r>
              <a:rPr b="1" i="1" lang="ru-RU" sz="2800" spc="-1" strike="noStrike">
                <a:solidFill>
                  <a:srgbClr val="00b050"/>
                </a:solidFill>
                <a:latin typeface="Candara"/>
              </a:rPr>
              <a:t>еленый</a:t>
            </a:r>
            <a:r>
              <a:rPr b="0" i="1" lang="ru-RU" sz="2400" spc="-1" strike="noStrike">
                <a:solidFill>
                  <a:srgbClr val="00b050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– умиротворяет, успокаивае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i="1" lang="ru-RU" sz="2800" spc="-1" strike="noStrike">
                <a:solidFill>
                  <a:srgbClr val="00b0f0"/>
                </a:solidFill>
                <a:latin typeface="Candara"/>
              </a:rPr>
              <a:t>Голубой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–  снижает кровяное давление, успокаивае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1" i="1" lang="ru-RU" sz="2800" spc="-1" strike="noStrike">
                <a:solidFill>
                  <a:srgbClr val="0070c0"/>
                </a:solidFill>
                <a:latin typeface="Candara"/>
              </a:rPr>
              <a:t>Синий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– располагает к серьезности, строгости в поведен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800" spc="-1" strike="noStrike">
                <a:solidFill>
                  <a:srgbClr val="7030a0"/>
                </a:solidFill>
                <a:latin typeface="Candara"/>
              </a:rPr>
              <a:t>Фиолетовый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– возбуждает деятельность сердца и     легких, увеличивает сопротивляемость организма к   простудным заболевания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Черный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в небольшой дозе – сосредотачивает внима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Цветотерап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77800" y="213372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Times New Roman"/>
              </a:rPr>
              <a:t>поговорка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Times New Roman"/>
              </a:rPr>
              <a:t>высказывание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Times New Roman"/>
              </a:rPr>
              <a:t>веселое четверостишие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  <a:ea typeface="Times New Roman"/>
              </a:rPr>
              <a:t>юмористическая или поучительная картинка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  <a:ea typeface="Times New Roman"/>
              </a:rPr>
              <a:t>Наличие эмоциональных разрядок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Прямоугольник 1"/>
          <p:cNvSpPr/>
          <p:nvPr/>
        </p:nvSpPr>
        <p:spPr>
          <a:xfrm>
            <a:off x="318960" y="4281480"/>
            <a:ext cx="828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Больному и мёд не вкусен, а здоровый и камень ест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Прямоугольник 6"/>
          <p:cNvSpPr/>
          <p:nvPr/>
        </p:nvSpPr>
        <p:spPr>
          <a:xfrm>
            <a:off x="324000" y="4846680"/>
            <a:ext cx="828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о яблоку в день – и доктор не нужен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Прямоугольник 7"/>
          <p:cNvSpPr/>
          <p:nvPr/>
        </p:nvSpPr>
        <p:spPr>
          <a:xfrm>
            <a:off x="363600" y="5340240"/>
            <a:ext cx="8529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Великий философ Платон, всю жизнь занимавшийся   гимнастикой, называл хромыми людей, пренебрегавших ежедневной тренировкой мышц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679840" y="3511440"/>
            <a:ext cx="3889080" cy="31035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елаксац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663480" y="1916280"/>
            <a:ext cx="792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имер уро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очинение по картине А.М.Герасим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«После дождя. Мокрая терраса». Урок развития реч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(подготовка к сочинению) в 6 класс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F.SHopen - .mp3" descr=""/>
          <p:cNvPicPr/>
          <p:nvPr/>
        </p:nvPicPr>
        <p:blipFill>
          <a:blip r:embed="rId2"/>
          <a:stretch/>
        </p:blipFill>
        <p:spPr>
          <a:xfrm>
            <a:off x="5651640" y="587700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19004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50920" y="2060640"/>
            <a:ext cx="7408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оздание у детей положительн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эмоциональной настроен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является обязательным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словием правильно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рганизованного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чебного процесс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ложительные эмоци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пособны полностью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нимать последств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трицательных воздействи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а организм учащегос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оложительные эмо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2" descr="E:\Мои документы\ИРА\здоровьесбер технологии\фото\IMG_0532.JPG"/>
          <p:cNvPicPr/>
          <p:nvPr/>
        </p:nvPicPr>
        <p:blipFill>
          <a:blip r:embed="rId1"/>
          <a:stretch/>
        </p:blipFill>
        <p:spPr>
          <a:xfrm>
            <a:off x="4284720" y="2892600"/>
            <a:ext cx="4680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95280" y="2060280"/>
            <a:ext cx="856944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уроках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усского языка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широко использую в качестве контрольных и самостоятельных работ тексты, пропагандирующи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порт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разные его виды,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уризм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зучени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числительных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даёт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озможность использовать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ексты, рассказывающи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тям об истори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лимпийских игр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о завоёванных медаля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шими  спортсменами   в разные период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 изучении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аклонений глаголов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6 класс) рассматриваю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ежим дня суворовца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 последующим его обсуждение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50248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На уроках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усского язы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395280" y="282600"/>
            <a:ext cx="1728720" cy="896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7236000" y="282600"/>
            <a:ext cx="1512720" cy="1000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3"/>
          <a:stretch/>
        </p:blipFill>
        <p:spPr>
          <a:xfrm>
            <a:off x="4788000" y="3213000"/>
            <a:ext cx="414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76120" y="2420640"/>
            <a:ext cx="8640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уроках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литературы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читаем произведения 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животных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одном крае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говорим об их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охранении, 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ащите окружающе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ред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На уроках литературы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5583240" y="299736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1619280" y="3860640"/>
            <a:ext cx="35226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79280" y="2060640"/>
            <a:ext cx="8640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нижени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казателей заболеваемости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те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лучшени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сихологического климата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коллектива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вышение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отивации к учебной деятель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рост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чебных достиж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чителям, освоившим эту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ехнологию, становится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легче 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интереснее работать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поскольку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чезает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облема учебно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дисциплины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 открывается просто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его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едагогического творчест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Результаты внедрения в обучение здоровьесберегающей технологии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5276880" y="3500280"/>
            <a:ext cx="3552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42960" y="2492280"/>
            <a:ext cx="77724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воспитыват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стимулировать у детей желание вести здоровый образ жизн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учить их ощущать радость от каждого прожитого дня, показывать им, что жизнь - это прекрасно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вызывать у них позитивную самооценку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Здоровьесберегающий урок должен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642960" y="256500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отсутствие назидательности и авторитарности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элементы индивидуализации обучения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наличие мотивации на здоровый образ жизни учителя и учеников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интерес к учебе, желание идти на заняти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наличие физкультминуток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наличие гигиенического контрол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тличительные особенности здоровьесберегающих образовательных технологий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684360" y="249192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учет возрастно-половых особенностей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учет состояния здоровья ученика и его индивидуальных психофизических особенностей при выборе форм, методов и средств обучения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структурирование урока на три части в зависимости от уровня умственной работоспособности учащихся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использование здоровьесберегающих действий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Основой  здоровьесберегающей технологии является соблюдение следующих принципов: 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26920" y="2421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о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птимальная плотность урок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Индивидуальное дозирование объёма учебной нагрузки и рациональное распределение её во времени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ч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ередование видов учебной деятельности (самостоятельная работа, работа с учебником (устно и письменно), творческие задания и т.п.)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73e87"/>
                </a:solidFill>
                <a:latin typeface="Candara"/>
                <a:ea typeface="Times New Roman"/>
              </a:rPr>
              <a:t>оздоровительные моменты на уроке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  <a:ea typeface="Times New Roman"/>
              </a:rPr>
              <a:t>Здоровьесберегающие действия:  </a:t>
            </a:r>
            <a:r>
              <a:rPr b="0" lang="ru-RU" sz="36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95280" y="242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физкультминутки, динамические пауз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минутки релаксаци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дыхательная гимнастик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гимнастика для глаз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массаж активных точе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5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Оздоровительные моменты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на уроке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2" descr="E:\Мои документы\ИРА\здоровьесбер технологии\фото\IMG_0555.JPG"/>
          <p:cNvPicPr/>
          <p:nvPr/>
        </p:nvPicPr>
        <p:blipFill>
          <a:blip r:embed="rId1"/>
          <a:stretch/>
        </p:blipFill>
        <p:spPr>
          <a:xfrm>
            <a:off x="4859280" y="299736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2492280"/>
            <a:ext cx="7772400" cy="16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  <a:ea typeface="Times New Roman"/>
              </a:rPr>
              <a:t>Правильная поза ученика во время занятий за столо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авильная рабочая поза при письм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  <a:ea typeface="Times New Roman"/>
              </a:rPr>
              <a:t>Важно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Picture 2" descr="E:\Мои документы\ИРА\здоровьесбер технологии\фото\IMG_0553.JPG"/>
          <p:cNvPicPr/>
          <p:nvPr/>
        </p:nvPicPr>
        <p:blipFill>
          <a:blip r:embed="rId1"/>
          <a:stretch/>
        </p:blipFill>
        <p:spPr>
          <a:xfrm>
            <a:off x="2771640" y="3645000"/>
            <a:ext cx="37753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50560" y="2349000"/>
            <a:ext cx="8569080" cy="40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Пример упражнений на растягивание отделов позвоночника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: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аклоны вперед, назад, в сторону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Голову – к подбородку, затем откидываем ее максимально назад,  потом к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правому плечу, к левому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Тянемся максимально вперед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(спина прямая), назад, в сторону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каждый раз возвращаясь в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исходное положение,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- голова прямо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Физкультминут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2" descr="E:\Мои документы\ИРА\здоровьесбер технологии\фото\IMG_0556.JPG"/>
          <p:cNvPicPr/>
          <p:nvPr/>
        </p:nvPicPr>
        <p:blipFill>
          <a:blip r:embed="rId1"/>
          <a:stretch/>
        </p:blipFill>
        <p:spPr>
          <a:xfrm>
            <a:off x="5203800" y="364500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ренажер для глаз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2" descr="G:\symbol.jpg"/>
          <p:cNvPicPr/>
          <p:nvPr/>
        </p:nvPicPr>
        <p:blipFill>
          <a:blip r:embed="rId1"/>
          <a:stretch/>
        </p:blipFill>
        <p:spPr>
          <a:xfrm>
            <a:off x="755640" y="2422440"/>
            <a:ext cx="7488360" cy="427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Сюбаев Андрей Нагимович</cp:lastModifiedBy>
  <dcterms:modified xsi:type="dcterms:W3CDTF">2013-02-15T10:13:24Z</dcterms:modified>
  <cp:revision>87</cp:revision>
  <dc:subject/>
  <dc:title>PowerPoint Presentation</dc:title>
</cp:coreProperties>
</file>