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D741-1062-404A-8F1B-DACBF38B8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4885-4317-4275-8CC2-C808D098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CD26-96AA-46FE-9716-53F60426F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7694-B1FA-4825-A548-2F6996AEC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83AF-DF69-4E39-8E8A-A1030EB33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78AAA-E929-485B-BDEB-BDA57788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5C87-DD8B-44C4-BAC7-831E74AC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1C69-1F8E-490B-AEC2-1501C789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08AB-5F73-469A-9DFB-C5000AC8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48D0-79BA-423B-A940-04DAE664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8491-9D74-4A2B-88C7-DABB732F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E1A4-FE65-4275-A3B3-C8879A85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73DD8-DFBB-4BEA-B2BA-1183D736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B0EA8-3896-46B4-8DA4-0D4EF867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7154-906A-46DD-A463-E3384105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7B685-835C-4BE3-997B-49F924BA7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7E30-472D-4E84-A547-7C50F0138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685E5-9162-4BB2-A0A7-0F0599315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8B814-F5C8-4716-B652-FE93F060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E99E5-066F-4D75-8179-89EA5353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49985-A0C3-4BB4-A62D-B73963B8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E96B4-9F1F-4FFE-B4D3-5B64C68D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C6DD-92FE-4809-AF43-DDFA2D37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12F8D-4BD7-4601-A41A-96C0623A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B78E5-973D-4691-85B0-31D339DA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DBAB5-EA67-4498-B019-54B99E71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81798-885F-4A92-90E5-54A8CCE4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932DD-E07A-476F-9BD4-F9CB728F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4D0DC-343C-4F46-8758-634D5DE58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23406-9B66-4055-9295-0A6EE88EE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5CBBB-AD33-4136-A5FF-A56B33F93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27536-9B0E-46D1-A2D0-25AAF431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27F17-2024-470A-A41B-7260E017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CFF9-C0ED-49B6-A12E-1906AB6C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F49C5-B9FC-40E3-A006-3D4E5D8A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658B1-C4A3-4387-A914-5A12CC5B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7238A-394C-45F8-8D05-472FA03D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B5028-B16E-4CE6-8EB4-10DDE119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5DD3F-2B90-484A-AD7A-DB8CC3EF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8C3F1-83B4-41C5-BCE0-D065448D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E181D-4105-4BD4-93E5-37112E3B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93DA6-944B-4818-AC91-799D6F052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C699B-827F-4E75-A643-FAA5B42F9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7E548-FE4B-4982-8818-A1401755C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B038-F4BF-4481-AB72-FD793004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D221C-342E-4899-992C-2D001E01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BB6C1-B4F8-4025-9671-DB63B7F1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4D7BE-8267-4B59-A8C3-69FF17EA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C3914-88D6-4A2C-AD00-F3785011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C40B5-7315-4945-89D9-4DC941F7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05B36-53EE-4F6F-B5FB-0181EEB4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2BE0B-889C-41C2-AECD-AC6F5AE8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88CBF-241F-41E1-A986-39C762E5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4EBE7-0D5E-499F-836F-3DF214F1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5057A-142B-4C72-96C9-5B46DCE4C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5BA0-304C-4935-A608-26905D06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24DE3-65B5-4C2E-BA09-9945334F4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9DA62-3648-4861-A66A-84C8CD0C4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EBFAA-6FA3-4355-9AE9-1BCEF380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7176A-E455-4EFC-ABC7-92F564A4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5F10F-C226-498F-A742-9A88E34C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A8AE9-D29A-4A9B-A58A-491B7BA0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F73C2-0ED6-4CA0-B3DB-8C35C354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D471A-1085-4675-B99C-D5E3BC9F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02309-5E31-4FC7-A9D2-FBB8B757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7059F-43D5-4386-90A1-1A47F929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60F4-7E88-4EA5-8E93-C0FA98B6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6CA93-8EB6-435A-B118-1093EA46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30B67-1B85-483A-9B67-8BE004249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26C43-7BE7-45F2-92F6-734BD0F93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C7136-BC64-4425-ADF2-699775D8C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B3D16-055E-4E64-836D-52B2077E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0F28A-1341-45FE-9B1A-4A054C91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09ED9-C3E8-49C4-A8C4-CFF320A5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2AB08-C1A5-4F14-9418-5E4F30A5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EB37B-93AF-41B1-8754-5A935847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F13C4-37FE-4691-B4F0-8BD2C8DE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0AC8-20A2-4421-ACF7-6DCCA982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88A63-4917-4C68-80E7-ED1DCF05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EC2A1-44C4-4130-A306-F69F3922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EA201-1F4A-4114-9735-173F72E1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D66EB-8789-4E94-BD64-2DDA54AA6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A98CC-B692-48F2-914A-E58E837DF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B1A9-3E73-4947-B0AF-25DE8448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МОУ СОШ №20 г. Ижевск   Кашина Н.П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0312-9C6E-4D83-A27D-5B25FC8C71A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МОУ СОШ №20 г. Ижевск   Кашина Н.П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8A2D-5301-4DFF-8B2C-408108B0B70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МОУ СОШ №20 г. Ижевск   Кашина Н.П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FA3E-D0AA-4E3B-9B1A-68DE4FF66AC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МОУ СОШ №20 г. Ижевск   Кашина Н.П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E055-50CB-4BF1-B5A2-67547C66D1D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МОУ СОШ №20 г. Ижевск   Кашина Н.П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CB3C-7F2B-408B-88FE-FB481071763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МОУ СОШ №20 г. Ижевск   Кашина Н.П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A45E-63C5-456F-B1F6-52AB7335B8F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МОУ СОШ №20 г. Ижевск   Кашина Н.П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BF97-668D-4BF2-8A6A-7FAADD9C6BF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Здоровьесберегающие технологии на уроках русского языка и литературы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274760" y="6308280"/>
            <a:ext cx="64008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73e87"/>
                </a:solidFill>
                <a:latin typeface="Candara"/>
              </a:rPr>
              <a:t>Преподаватель МСВУ Сюбаева И.В.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37" name="Picture 2" descr="E:\Мои документы\ИРА\здоровьесбер технологии\фото\IMG_0554.JPG"/>
          <p:cNvPicPr/>
          <p:nvPr/>
        </p:nvPicPr>
        <p:blipFill>
          <a:blip r:embed="rId1"/>
          <a:stretch/>
        </p:blipFill>
        <p:spPr>
          <a:xfrm>
            <a:off x="2268360" y="2637000"/>
            <a:ext cx="44150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198000" y="2565360"/>
            <a:ext cx="87663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1" i="1" lang="ru-RU" sz="2800" spc="-1" strike="noStrike">
                <a:solidFill>
                  <a:srgbClr val="ffc000"/>
                </a:solidFill>
                <a:latin typeface="Candara"/>
              </a:rPr>
              <a:t>Желтый</a:t>
            </a:r>
            <a:r>
              <a:rPr b="1" i="1" lang="ru-RU" sz="2400" spc="-1" strike="noStrike">
                <a:solidFill>
                  <a:srgbClr val="ffc000"/>
                </a:solidFill>
                <a:latin typeface="Candara"/>
              </a:rPr>
              <a:t> 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–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стимулирует умственную деятельность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1" i="1" lang="ru-RU" sz="2400" spc="-1" strike="noStrike">
                <a:solidFill>
                  <a:srgbClr val="00b050"/>
                </a:solidFill>
                <a:latin typeface="Candara"/>
              </a:rPr>
              <a:t>З</a:t>
            </a:r>
            <a:r>
              <a:rPr b="1" i="1" lang="ru-RU" sz="2800" spc="-1" strike="noStrike">
                <a:solidFill>
                  <a:srgbClr val="00b050"/>
                </a:solidFill>
                <a:latin typeface="Candara"/>
              </a:rPr>
              <a:t>еленый</a:t>
            </a:r>
            <a:r>
              <a:rPr b="0" i="1" lang="ru-RU" sz="2400" spc="-1" strike="noStrike">
                <a:solidFill>
                  <a:srgbClr val="00b050"/>
                </a:solidFill>
                <a:latin typeface="Candara"/>
              </a:rPr>
              <a:t> 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– умиротворяет, успокаивае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1" i="1" lang="ru-RU" sz="2800" spc="-1" strike="noStrike">
                <a:solidFill>
                  <a:srgbClr val="00b0f0"/>
                </a:solidFill>
                <a:latin typeface="Candara"/>
              </a:rPr>
              <a:t>Голубой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–  снижает кровяное давление, успокаивае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1" i="1" lang="ru-RU" sz="2800" spc="-1" strike="noStrike">
                <a:solidFill>
                  <a:srgbClr val="0070c0"/>
                </a:solidFill>
                <a:latin typeface="Candara"/>
              </a:rPr>
              <a:t>Синий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– располагает к серьезности, строгости в поведени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i="1" lang="ru-RU" sz="2800" spc="-1" strike="noStrike">
                <a:solidFill>
                  <a:srgbClr val="7030a0"/>
                </a:solidFill>
                <a:latin typeface="Candara"/>
              </a:rPr>
              <a:t>Фиолетовый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– возбуждает деятельность сердца и     легких, увеличивает сопротивляемость организма к   простудным заболеваниям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Candara"/>
              </a:rPr>
              <a:t>Черный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в небольшой дозе – сосредотачивает внимани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Цветотерап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577800" y="213372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  <a:ea typeface="Times New Roman"/>
              </a:rPr>
              <a:t>поговорка,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8040" indent="-2480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  <a:ea typeface="Times New Roman"/>
              </a:rPr>
              <a:t>высказывание,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8040" indent="-2480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  <a:ea typeface="Times New Roman"/>
              </a:rPr>
              <a:t>веселое четверостишие,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8040" indent="-2480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  <a:ea typeface="Times New Roman"/>
              </a:rPr>
              <a:t>юмористическая или поучительная картинка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  <a:ea typeface="Times New Roman"/>
              </a:rPr>
              <a:t>Наличие эмоциональных разрядок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2" name="Прямоугольник 1"/>
          <p:cNvSpPr/>
          <p:nvPr/>
        </p:nvSpPr>
        <p:spPr>
          <a:xfrm>
            <a:off x="318960" y="4281480"/>
            <a:ext cx="828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Больному и мёд не вкусен, а здоровый и камень ест”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Прямоугольник 6"/>
          <p:cNvSpPr/>
          <p:nvPr/>
        </p:nvSpPr>
        <p:spPr>
          <a:xfrm>
            <a:off x="324000" y="4846680"/>
            <a:ext cx="8281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По яблоку в день – и доктор не нужен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Прямоугольник 7"/>
          <p:cNvSpPr/>
          <p:nvPr/>
        </p:nvSpPr>
        <p:spPr>
          <a:xfrm>
            <a:off x="363600" y="5340240"/>
            <a:ext cx="8529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Великий философ Платон, всю жизнь занимавшийся   гимнастикой, называл хромыми людей, пренебрегавших ежедневной тренировкой мышц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2679840" y="3511440"/>
            <a:ext cx="3889080" cy="310356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Релаксац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7" name="Прямоугольник 4"/>
          <p:cNvSpPr/>
          <p:nvPr/>
        </p:nvSpPr>
        <p:spPr>
          <a:xfrm>
            <a:off x="663480" y="1916280"/>
            <a:ext cx="792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Пример урок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Сочинение по картине А.М.Герасимо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«После дождя. Мокрая терраса». Урок развития реч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(подготовка к сочинению) в 6 класс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F.SHopen - .mp3" descr=""/>
          <p:cNvPicPr/>
          <p:nvPr/>
        </p:nvPicPr>
        <p:blipFill>
          <a:blip r:embed="rId2"/>
          <a:stretch/>
        </p:blipFill>
        <p:spPr>
          <a:xfrm>
            <a:off x="5651640" y="5877000"/>
            <a:ext cx="48708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350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3" dur="190041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250920" y="2060640"/>
            <a:ext cx="7408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Создание у детей положительно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эмоциональной настроенност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является обязательным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условием правильно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организованного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учебного процесса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Положительные эмоции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способны полностью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снимать последствия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отрицательных воздействий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на организм учащегос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оложительные эмоци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1" name="Picture 2" descr="E:\Мои документы\ИРА\здоровьесбер технологии\фото\IMG_0532.JPG"/>
          <p:cNvPicPr/>
          <p:nvPr/>
        </p:nvPicPr>
        <p:blipFill>
          <a:blip r:embed="rId1"/>
          <a:stretch/>
        </p:blipFill>
        <p:spPr>
          <a:xfrm>
            <a:off x="4284720" y="2892600"/>
            <a:ext cx="46800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5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95280" y="2060280"/>
            <a:ext cx="856944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а уроках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русского языка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широко использую в качестве контрольных и самостоятельных работ тексты, пропагандирующие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спорт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, разные его виды,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туризм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Изучение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числительных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даёт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озможность использовать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тексты, рассказывающие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детям об истории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Олимпийских игр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, о завоёванных медалях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ашими  спортсменами   в разные периоды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ри изучении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наклонений глаголов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(6 класс) рассматриваю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режим дня суворовца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 последующим его обсуждением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50248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На уроках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русского языка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395280" y="282600"/>
            <a:ext cx="1728720" cy="8967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"/>
          <p:cNvPicPr/>
          <p:nvPr/>
        </p:nvPicPr>
        <p:blipFill>
          <a:blip r:embed="rId2"/>
          <a:stretch/>
        </p:blipFill>
        <p:spPr>
          <a:xfrm>
            <a:off x="7236000" y="282600"/>
            <a:ext cx="1512720" cy="10000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"/>
          <p:cNvPicPr/>
          <p:nvPr/>
        </p:nvPicPr>
        <p:blipFill>
          <a:blip r:embed="rId3"/>
          <a:stretch/>
        </p:blipFill>
        <p:spPr>
          <a:xfrm>
            <a:off x="4788000" y="3213000"/>
            <a:ext cx="41479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2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276120" y="2420640"/>
            <a:ext cx="86407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а уроках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литературы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читаем произведения о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животных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, о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родном крае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и говорим об их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охранении, о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защите окружающей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среды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На уроках литературы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5583240" y="2997360"/>
            <a:ext cx="3360600" cy="25192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" descr=""/>
          <p:cNvPicPr/>
          <p:nvPr/>
        </p:nvPicPr>
        <p:blipFill>
          <a:blip r:embed="rId2"/>
          <a:stretch/>
        </p:blipFill>
        <p:spPr>
          <a:xfrm>
            <a:off x="1619280" y="3860640"/>
            <a:ext cx="352260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4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7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179280" y="2060640"/>
            <a:ext cx="864072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нижение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показателей заболеваемости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детей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улучшение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психологического климата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 коллективах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овышение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мотивации к учебной деятельност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рирост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учебных достижени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Учителям, освоившим эту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технологию, становится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легче 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интереснее работать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, поскольку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исчезает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проблема учебной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дисциплины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и открывается простор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для его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педагогического творчеств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ndara"/>
              </a:rPr>
              <a:t>Результаты внедрения в обучение здоровьесберегающей технологии: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5276880" y="3500280"/>
            <a:ext cx="35528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3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4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642960" y="2492280"/>
            <a:ext cx="7772400" cy="39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воспитывать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стимулировать у детей желание вести здоровый образ жизни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учить их ощущать радость от каждого прожитого дня, показывать им, что жизнь - это прекрасно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вызывать у них позитивную самооценку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28800" y="49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ndara"/>
              </a:rPr>
              <a:t>Здоровьесберегающий урок должен: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642960" y="2565000"/>
            <a:ext cx="77724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отсутствие назидательности и авторитарности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элементы индивидуализации обучения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наличие мотивации на здоровый образ жизни учителя и учеников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интерес к учебе, желание идти на занятия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наличие физкультминуток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наличие гигиенического контроля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ndara"/>
              </a:rPr>
              <a:t>Отличительные особенности здоровьесберегающих образовательных технологий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684360" y="2491920"/>
            <a:ext cx="77724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73e87"/>
                </a:solidFill>
                <a:latin typeface="Candara"/>
                <a:ea typeface="Times New Roman"/>
              </a:rPr>
              <a:t>учет возрастно-половых особенностей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73e87"/>
                </a:solidFill>
                <a:latin typeface="Candara"/>
                <a:ea typeface="Times New Roman"/>
              </a:rPr>
              <a:t>учет состояния здоровья ученика и его индивидуальных психофизических особенностей при выборе форм, методов и средств обучения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73e87"/>
                </a:solidFill>
                <a:latin typeface="Candara"/>
                <a:ea typeface="Times New Roman"/>
              </a:rPr>
              <a:t>структурирование урока на три части в зависимости от уровня умственной работоспособности учащихся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73e87"/>
                </a:solidFill>
                <a:latin typeface="Candara"/>
                <a:ea typeface="Times New Roman"/>
              </a:rPr>
              <a:t>использование здоровьесберегающих действий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ndara"/>
              </a:rPr>
              <a:t>Основой  здоровьесберегающей технологии является соблюдение следующих принципов: 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826920" y="242100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73e87"/>
                </a:solidFill>
                <a:latin typeface="Candara"/>
              </a:rPr>
              <a:t>о</a:t>
            </a:r>
            <a:r>
              <a:rPr b="1" lang="ru-RU" sz="2600" spc="-1" strike="noStrike">
                <a:solidFill>
                  <a:srgbClr val="073e87"/>
                </a:solidFill>
                <a:latin typeface="Candara"/>
                <a:ea typeface="Times New Roman"/>
              </a:rPr>
              <a:t>птимальная плотность урока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73e87"/>
                </a:solidFill>
                <a:latin typeface="Candara"/>
              </a:rPr>
              <a:t>Индивидуальное дозирование объёма учебной нагрузки и рациональное распределение её во времени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73e87"/>
                </a:solidFill>
                <a:latin typeface="Candara"/>
              </a:rPr>
              <a:t>ч</a:t>
            </a:r>
            <a:r>
              <a:rPr b="1" lang="ru-RU" sz="2600" spc="-1" strike="noStrike">
                <a:solidFill>
                  <a:srgbClr val="073e87"/>
                </a:solidFill>
                <a:latin typeface="Candara"/>
                <a:ea typeface="Times New Roman"/>
              </a:rPr>
              <a:t>ередование видов учебной деятельности (самостоятельная работа, работа с учебником (устно и письменно), творческие задания и т.п.)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73e87"/>
                </a:solidFill>
                <a:latin typeface="Candara"/>
                <a:ea typeface="Times New Roman"/>
              </a:rPr>
              <a:t>оздоровительные моменты на уроке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ndara"/>
                <a:ea typeface="Times New Roman"/>
              </a:rPr>
              <a:t>Здоровьесберегающие действия:  </a:t>
            </a: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39528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физкультминутки, динамические паузы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минутки релаксации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дыхательная гимнастика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гимнастика для глаз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массаж активных точек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150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ndara"/>
              </a:rPr>
              <a:t>Оздоровительные моменты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andara"/>
              </a:rPr>
              <a:t>на уроке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8" name="Picture 2" descr="E:\Мои документы\ИРА\здоровьесбер технологии\фото\IMG_0555.JPG"/>
          <p:cNvPicPr/>
          <p:nvPr/>
        </p:nvPicPr>
        <p:blipFill>
          <a:blip r:embed="rId1"/>
          <a:stretch/>
        </p:blipFill>
        <p:spPr>
          <a:xfrm>
            <a:off x="4859280" y="299736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26920" y="2492280"/>
            <a:ext cx="7772400" cy="16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  <a:ea typeface="Times New Roman"/>
              </a:rPr>
              <a:t>Правильная поза ученика во время занятий за столом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Правильная рабочая поза при письм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  <a:ea typeface="Times New Roman"/>
              </a:rPr>
              <a:t>Важно!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1" name="Picture 2" descr="E:\Мои документы\ИРА\здоровьесбер технологии\фото\IMG_0553.JPG"/>
          <p:cNvPicPr/>
          <p:nvPr/>
        </p:nvPicPr>
        <p:blipFill>
          <a:blip r:embed="rId1"/>
          <a:stretch/>
        </p:blipFill>
        <p:spPr>
          <a:xfrm>
            <a:off x="2771640" y="3645000"/>
            <a:ext cx="37753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250560" y="2349000"/>
            <a:ext cx="8569080" cy="40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1" lang="ru-RU" sz="2200" spc="-1" strike="noStrike">
                <a:solidFill>
                  <a:srgbClr val="073e87"/>
                </a:solidFill>
                <a:latin typeface="Candara"/>
              </a:rPr>
              <a:t>Пример упражнений на растягивание отделов позвоночника</a:t>
            </a: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: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Наклоны вперед, назад, в сторону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Голову – к подбородку, затем откидываем ее максимально назад,  потом к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правому плечу, к левому.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Тянемся максимально вперед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(спина прямая), назад, в сторону,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каждый раз возвращаясь в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      </a:t>
            </a: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исходное положение,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- голова прямо.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Физкультминутк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4" name="Picture 2" descr="E:\Мои документы\ИРА\здоровьесбер технологии\фото\IMG_0556.JPG"/>
          <p:cNvPicPr/>
          <p:nvPr/>
        </p:nvPicPr>
        <p:blipFill>
          <a:blip r:embed="rId1"/>
          <a:stretch/>
        </p:blipFill>
        <p:spPr>
          <a:xfrm>
            <a:off x="5203800" y="3645000"/>
            <a:ext cx="374328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2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Тренажер для глаз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7" name="Picture 2" descr="G:\symbol.jpg"/>
          <p:cNvPicPr/>
          <p:nvPr/>
        </p:nvPicPr>
        <p:blipFill>
          <a:blip r:embed="rId1"/>
          <a:stretch/>
        </p:blipFill>
        <p:spPr>
          <a:xfrm>
            <a:off x="755640" y="2422440"/>
            <a:ext cx="7488360" cy="4275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Сюбаев Андрей Нагимович</cp:lastModifiedBy>
  <dcterms:modified xsi:type="dcterms:W3CDTF">2013-02-15T10:13:24Z</dcterms:modified>
  <cp:revision>87</cp:revision>
  <dc:subject/>
  <dc:title>PowerPoint Presentation</dc:title>
</cp:coreProperties>
</file>