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A956E-98A8-49EA-A1E4-8D7023D6E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761A-6375-4117-A030-52A977C7F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D6866-7CE1-4DC4-B2BC-29B93018E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0318A-CEE4-4E37-97D3-43C5C17F8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3B99-D022-4ED8-811E-598A813F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3AD4-8D13-4984-8DD4-9F39244E9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469B-1612-4D1B-A63B-BA92F6D46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C977E-8DA5-4661-8763-7CF13B929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ECC6C-F387-424D-9B25-C9FC9E12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F838-F7B5-40F5-88C7-C5FB7B7A5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5F00-4526-4FCE-AD62-5696EB4C5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1243-D8B8-4DF8-9327-3248DE268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AD3B-B142-4016-9936-82F688AE31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60;&#1072;&#1081;&#1083;:Ostrich_egg.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60;&#1072;&#1081;&#1083;:Ostrich_Foo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60;&#1072;&#1081;&#1083;:Struthio_camelus_-_Strausskueken.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60;&#1072;&#1081;&#1083;:Rubythroathummer65.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javascript:window.open(&apos;p_4full.jpg&apos;,&apos;example&apos;,&apos;toolbar=no,location=no,directories=no,status=no,menubar=no,scrollbars=no,resizable=no,copyhistory=no,width=660,height=500&apos;);void(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43040"/>
            <a:ext cx="777240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амая большая и самая маленькая птицы</a:t>
            </a:r>
            <a:endParaRPr b="0" lang="en-US" sz="4400" spc="-1" strike="noStrike">
              <a:solidFill>
                <a:srgbClr val="000000"/>
              </a:solidFill>
              <a:latin typeface="Calibri"/>
            </a:endParaRPr>
          </a:p>
        </p:txBody>
      </p:sp>
      <p:sp>
        <p:nvSpPr>
          <p:cNvPr id="42" name="PlaceHolder 2"/>
          <p:cNvSpPr>
            <a:spLocks noGrp="1"/>
          </p:cNvSpPr>
          <p:nvPr>
            <p:ph type="subTitle"/>
          </p:nvPr>
        </p:nvSpPr>
        <p:spPr>
          <a:xfrm>
            <a:off x="999720" y="3885840"/>
            <a:ext cx="6643800" cy="2328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457200" y="857160"/>
            <a:ext cx="8229600" cy="526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Яйца страусов, оставленные без присмотра взрослых птиц, часто становятся добычей хищников. Стервятники берут в клюв камень и бросают с высоты на яйцо до тех пор, пока не разобьют ег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457200" y="428400"/>
            <a:ext cx="8229600" cy="2214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Яйца страусов самые крупные в птичьем мире: длина 15-21 см, вес – 1,5-2 кг (это примерно 25 – 30 куриных яи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Содержимое 3" descr="http://upload.wikimedia.org/wikipedia/commons/thumb/a/a6/Ostrich_egg.jpg/180px-Ostrich_egg.jpg">
            <a:hlinkClick r:id="rId2"/>
          </p:cNvPr>
          <p:cNvPicPr/>
          <p:nvPr/>
        </p:nvPicPr>
        <p:blipFill>
          <a:blip r:embed="rId3"/>
          <a:stretch/>
        </p:blipFill>
        <p:spPr>
          <a:xfrm>
            <a:off x="1214280" y="2143080"/>
            <a:ext cx="7215480" cy="450072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457200" y="500040"/>
            <a:ext cx="8229600" cy="5626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тенцов иногда ловят львы. Однако взрослые страусы опасны даже для крупных хищников – одного удара их сильной ноги, вооружённой твёрдым когтем, достаточно чтобы серьёзно поранить или убить льва. </a:t>
            </a:r>
            <a:endParaRPr b="0" lang="en-US" sz="3200" spc="-1" strike="noStrike">
              <a:solidFill>
                <a:srgbClr val="000000"/>
              </a:solidFill>
              <a:latin typeface="Calibri"/>
            </a:endParaRPr>
          </a:p>
        </p:txBody>
      </p:sp>
      <p:pic>
        <p:nvPicPr>
          <p:cNvPr id="61" name="Рисунок 5" descr="http://upload.wikimedia.org/wikipedia/commons/thumb/d/dc/Ostrich_Foot.jpg/180px-Ostrich_Foot.jpg">
            <a:hlinkClick r:id="rId2"/>
          </p:cNvPr>
          <p:cNvPicPr/>
          <p:nvPr/>
        </p:nvPicPr>
        <p:blipFill>
          <a:blip r:embed="rId3"/>
          <a:stretch/>
        </p:blipFill>
        <p:spPr>
          <a:xfrm>
            <a:off x="2071800" y="3500280"/>
            <a:ext cx="4714920" cy="307188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txBox="1"/>
          <p:nvPr/>
        </p:nvSpPr>
        <p:spPr>
          <a:xfrm>
            <a:off x="457200" y="571680"/>
            <a:ext cx="8229600" cy="30002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звестно, что убегающий страус вдруг исчезает из глаз наблюдателя, потому что ложится , прижимаясь к земле и вытянув шею. Это, вероятно и послужило поводом к рассказам, что напуганный страус прячет голову в песок. </a:t>
            </a:r>
            <a:endParaRPr b="0" lang="en-US" sz="3200" spc="-1" strike="noStrike">
              <a:solidFill>
                <a:srgbClr val="000000"/>
              </a:solidFill>
              <a:latin typeface="Calibri"/>
            </a:endParaRPr>
          </a:p>
        </p:txBody>
      </p:sp>
      <p:pic>
        <p:nvPicPr>
          <p:cNvPr id="63" name="Рисунок 3" descr="http://upload.wikimedia.org/wikipedia/commons/thumb/0/0d/Struthio_camelus_-_Strausskueken.jpg/180px-Struthio_camelus_-_Strausskueken.jpg">
            <a:hlinkClick r:id="rId2"/>
          </p:cNvPr>
          <p:cNvPicPr/>
          <p:nvPr/>
        </p:nvPicPr>
        <p:blipFill>
          <a:blip r:embed="rId3"/>
          <a:stretch/>
        </p:blipFill>
        <p:spPr>
          <a:xfrm>
            <a:off x="4857840" y="3071880"/>
            <a:ext cx="3714840" cy="3643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txBox="1"/>
          <p:nvPr/>
        </p:nvSpPr>
        <p:spPr>
          <a:xfrm>
            <a:off x="457200" y="285480"/>
            <a:ext cx="8229600" cy="1785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Если к такой затаившейся птице приблизится, она мгновенно вскакивает и стремглав убегает.</a:t>
            </a:r>
            <a:endParaRPr b="0" lang="en-US" sz="3200" spc="-1" strike="noStrike">
              <a:solidFill>
                <a:srgbClr val="000000"/>
              </a:solidFill>
              <a:latin typeface="Calibri"/>
            </a:endParaRPr>
          </a:p>
        </p:txBody>
      </p:sp>
      <p:pic>
        <p:nvPicPr>
          <p:cNvPr id="65" name="Содержимое 3" descr="Благодаря своему росту и зрению страусы замечают опасность и обращаются в бегство"/>
          <p:cNvPicPr/>
          <p:nvPr/>
        </p:nvPicPr>
        <p:blipFill>
          <a:blip r:embed="rId2"/>
          <a:stretch/>
        </p:blipFill>
        <p:spPr>
          <a:xfrm>
            <a:off x="1143000" y="1857240"/>
            <a:ext cx="7143840" cy="471492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амая маленькая птица</a:t>
            </a:r>
            <a:endParaRPr b="0" lang="en-US" sz="44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еличина колибри колеблется от шмеля (размером 5,7 см, весом  1,6 г) до ласточки (размером 21,6 см, весом до 20г).</a:t>
            </a:r>
            <a:endParaRPr b="0" lang="en-US" sz="3200" spc="-1" strike="noStrike">
              <a:solidFill>
                <a:srgbClr val="000000"/>
              </a:solidFill>
              <a:latin typeface="Calibri"/>
            </a:endParaRPr>
          </a:p>
        </p:txBody>
      </p:sp>
      <p:pic>
        <p:nvPicPr>
          <p:cNvPr id="68" name="Рисунок 3" descr="http://upload.wikimedia.org/wikipedia/commons/8/87/Rubythroathummer65.jpg">
            <a:hlinkClick r:id="rId2"/>
          </p:cNvPr>
          <p:cNvPicPr/>
          <p:nvPr/>
        </p:nvPicPr>
        <p:blipFill>
          <a:blip r:embed="rId3"/>
          <a:stretch/>
        </p:blipFill>
        <p:spPr>
          <a:xfrm>
            <a:off x="1785960" y="2928960"/>
            <a:ext cx="5572080" cy="37148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txBox="1"/>
          <p:nvPr/>
        </p:nvSpPr>
        <p:spPr>
          <a:xfrm>
            <a:off x="457200" y="356760"/>
            <a:ext cx="8229600" cy="576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либри отличаются от других птиц длинным тонким клювом, глубоко раздвоенным языком и длинными тонкими крыльями.</a:t>
            </a:r>
            <a:endParaRPr b="0" lang="en-US" sz="3200" spc="-1" strike="noStrike">
              <a:solidFill>
                <a:srgbClr val="000000"/>
              </a:solidFill>
              <a:latin typeface="Calibri"/>
            </a:endParaRPr>
          </a:p>
        </p:txBody>
      </p:sp>
      <p:pic>
        <p:nvPicPr>
          <p:cNvPr id="70" name="Рисунок 4" descr="http://e-l-k.narod.ru/Ptizi/p_4.jpg">
            <a:hlinkClick r:id="rId2"/>
          </p:cNvPr>
          <p:cNvPicPr/>
          <p:nvPr/>
        </p:nvPicPr>
        <p:blipFill>
          <a:blip r:embed="rId3"/>
          <a:stretch/>
        </p:blipFill>
        <p:spPr>
          <a:xfrm>
            <a:off x="1785960" y="2571840"/>
            <a:ext cx="5715000" cy="38574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457200" y="428400"/>
            <a:ext cx="8229600" cy="5786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перение колибри отличается чрезвычайно яркими цветами и металлическим блеском. Их ловкий и маневренный полёт напоминает полёт                                                 бабочки. В полёте                                                           мелкие виды                                                                    издают жужжание,                                                            делая 80 взмахов                                                                      в секунду.                                                                    Максимальная                                                            продолжительность                                                      жизни 8 лет. </a:t>
            </a:r>
            <a:endParaRPr b="0" lang="en-US" sz="3200" spc="-1" strike="noStrike">
              <a:solidFill>
                <a:srgbClr val="000000"/>
              </a:solidFill>
              <a:latin typeface="Calibri"/>
            </a:endParaRPr>
          </a:p>
        </p:txBody>
      </p:sp>
      <p:pic>
        <p:nvPicPr>
          <p:cNvPr id="72" name="Picture 3" descr="C:\Users\Татьяна\Pictures\опять колибри.jpg"/>
          <p:cNvPicPr/>
          <p:nvPr/>
        </p:nvPicPr>
        <p:blipFill>
          <a:blip r:embed="rId2"/>
          <a:stretch/>
        </p:blipFill>
        <p:spPr>
          <a:xfrm>
            <a:off x="4572000" y="2395440"/>
            <a:ext cx="4357800" cy="367668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txBox="1"/>
          <p:nvPr/>
        </p:nvSpPr>
        <p:spPr>
          <a:xfrm>
            <a:off x="457200" y="357120"/>
            <a:ext cx="8229600" cy="192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громное количество энергии, которое колибри тратит в полёте заставляет её питаться каждые 10 мину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C:\Users\Татьяна\Pictures\кормушка с колибри.jpg"/>
          <p:cNvPicPr/>
          <p:nvPr/>
        </p:nvPicPr>
        <p:blipFill>
          <a:blip r:embed="rId2"/>
          <a:stretch/>
        </p:blipFill>
        <p:spPr>
          <a:xfrm>
            <a:off x="1415880" y="1928880"/>
            <a:ext cx="6390000" cy="478620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txBox="1"/>
          <p:nvPr/>
        </p:nvSpPr>
        <p:spPr>
          <a:xfrm>
            <a:off x="357120" y="571320"/>
            <a:ext cx="8229600" cy="2928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рмятся на цветах не только нектаром, но и мелкими насекомыми. Голос их в основном представляет слабое чириканье.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ткладывают два яйца белого цвета, овальной формы весом от 2 мг.</a:t>
            </a:r>
            <a:endParaRPr b="0" lang="en-US" sz="3200" spc="-1" strike="noStrike">
              <a:solidFill>
                <a:srgbClr val="000000"/>
              </a:solidFill>
              <a:latin typeface="Calibri"/>
            </a:endParaRPr>
          </a:p>
        </p:txBody>
      </p:sp>
      <p:pic>
        <p:nvPicPr>
          <p:cNvPr id="76" name="Рисунок 2" descr="http://e-l-k.narod.ru/Ptizi/p_5.jpg"/>
          <p:cNvPicPr/>
          <p:nvPr/>
        </p:nvPicPr>
        <p:blipFill>
          <a:blip r:embed="rId2"/>
          <a:stretch/>
        </p:blipFill>
        <p:spPr>
          <a:xfrm>
            <a:off x="2286000" y="3357720"/>
            <a:ext cx="4429080" cy="31431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457200" y="500040"/>
            <a:ext cx="8229600" cy="5626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Цель проекта:  </a:t>
            </a:r>
            <a:r>
              <a:rPr b="0" lang="en-US" sz="3200" spc="-1" strike="noStrike">
                <a:solidFill>
                  <a:srgbClr val="000000"/>
                </a:solidFill>
                <a:latin typeface="Calibri"/>
              </a:rPr>
              <a:t>Узнать побольше о страусе и о колибри и вылепить этих пти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Задачи:</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обрать информацию о самой большой птице.</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зучить сведения о самой маленькой птице.</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лепит страуса и колибри.</a:t>
            </a:r>
            <a:endParaRPr b="0" lang="en-US" sz="32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457200" y="500040"/>
            <a:ext cx="8229600" cy="2000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либри обитают только в западном полушарии, везде, где есть цветы.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либри любят жару и страдают от холо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C:\Users\Татьяна\Pictures\зелень колибри.jpg"/>
          <p:cNvPicPr/>
          <p:nvPr/>
        </p:nvPicPr>
        <p:blipFill>
          <a:blip r:embed="rId2"/>
          <a:stretch/>
        </p:blipFill>
        <p:spPr>
          <a:xfrm>
            <a:off x="2071800" y="2357280"/>
            <a:ext cx="4870440" cy="392436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457200" y="356760"/>
            <a:ext cx="8229600" cy="242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либри строят очень искусные гнёзда из растительного пуха и травинок. Гнёзда привешиваются к ветвям или концам листьев.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2" descr="C:\Users\Татьяна\Pictures\Гнездо колибри.jpg"/>
          <p:cNvPicPr/>
          <p:nvPr/>
        </p:nvPicPr>
        <p:blipFill>
          <a:blip r:embed="rId2"/>
          <a:stretch/>
        </p:blipFill>
        <p:spPr>
          <a:xfrm>
            <a:off x="2786040" y="2143080"/>
            <a:ext cx="5772240" cy="4357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457200" y="285840"/>
            <a:ext cx="8229600" cy="292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либри так быстро взмахивает крыльями, что это позволяет ей висеть в воздухе. Это необходимо птичке из-за особенностей  принятия пищи.</a:t>
            </a:r>
            <a:endParaRPr b="0" lang="en-US" sz="3200" spc="-1" strike="noStrike">
              <a:solidFill>
                <a:srgbClr val="000000"/>
              </a:solidFill>
              <a:latin typeface="Calibri"/>
            </a:endParaRPr>
          </a:p>
        </p:txBody>
      </p:sp>
      <p:pic>
        <p:nvPicPr>
          <p:cNvPr id="82" name="Picture 2" descr="C:\Users\Татьяна\Pictures\колби.jpg"/>
          <p:cNvPicPr/>
          <p:nvPr/>
        </p:nvPicPr>
        <p:blipFill>
          <a:blip r:embed="rId2"/>
          <a:stretch/>
        </p:blipFill>
        <p:spPr>
          <a:xfrm>
            <a:off x="2071800" y="2357280"/>
            <a:ext cx="5619600" cy="421488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txBox="1"/>
          <p:nvPr/>
        </p:nvSpPr>
        <p:spPr>
          <a:xfrm>
            <a:off x="500040" y="428760"/>
            <a:ext cx="8229600" cy="3286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Цветочный нектар она добывает из центра цветка, зависая над ним. Несмотря на свой маленький вес, птичка не может сесть на цветок, так как он не выдержит её вес. Поэтому она зависает над ним и проникает своим острым клювом в сердцевину цветка.</a:t>
            </a:r>
            <a:endParaRPr b="0" lang="en-US" sz="3200" spc="-1" strike="noStrike">
              <a:solidFill>
                <a:srgbClr val="000000"/>
              </a:solidFill>
              <a:latin typeface="Calibri"/>
            </a:endParaRPr>
          </a:p>
        </p:txBody>
      </p:sp>
      <p:pic>
        <p:nvPicPr>
          <p:cNvPr id="84" name="Picture 2" descr="C:\Users\Татьяна\Pictures\кол и цвет.jpg"/>
          <p:cNvPicPr/>
          <p:nvPr/>
        </p:nvPicPr>
        <p:blipFill>
          <a:blip r:embed="rId2"/>
          <a:stretch/>
        </p:blipFill>
        <p:spPr>
          <a:xfrm>
            <a:off x="2476440" y="3463920"/>
            <a:ext cx="4524480" cy="339408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txBox="1"/>
          <p:nvPr/>
        </p:nvSpPr>
        <p:spPr>
          <a:xfrm>
            <a:off x="457200" y="428760"/>
            <a:ext cx="8229600" cy="5857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либри отличаются очень маленькими ногами с длинными когтями, совершенно непригодными для ходьбы.</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Эти птицы – задорные  и неуживчивые. В период вывода птенцов проявляют необыкновенную                                        смелость в нападении                                                                на сравнительно                                                       крупных птиц.</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Колибри занесена                                                                             в Красную Книгу.                                                   </a:t>
            </a:r>
            <a:endParaRPr b="0" lang="en-US" sz="3200" spc="-1" strike="noStrike">
              <a:solidFill>
                <a:srgbClr val="000000"/>
              </a:solidFill>
              <a:latin typeface="Calibri"/>
            </a:endParaRPr>
          </a:p>
        </p:txBody>
      </p:sp>
      <p:pic>
        <p:nvPicPr>
          <p:cNvPr id="86" name="Рисунок 2" descr="колибри"/>
          <p:cNvPicPr/>
          <p:nvPr/>
        </p:nvPicPr>
        <p:blipFill>
          <a:blip r:embed="rId2"/>
          <a:stretch/>
        </p:blipFill>
        <p:spPr>
          <a:xfrm>
            <a:off x="5000760" y="3143160"/>
            <a:ext cx="3929040" cy="34290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Выводы, к которым я пришёл, работая над проектом</a:t>
            </a:r>
            <a:endParaRPr b="0" lang="en-US" sz="4000" spc="-1" strike="noStrike">
              <a:solidFill>
                <a:srgbClr val="000000"/>
              </a:solidFill>
              <a:latin typeface="Calibri"/>
            </a:endParaRPr>
          </a:p>
        </p:txBody>
      </p:sp>
      <p:sp>
        <p:nvSpPr>
          <p:cNvPr id="88" name=""/>
          <p:cNvSpPr txBox="1"/>
          <p:nvPr/>
        </p:nvSpPr>
        <p:spPr>
          <a:xfrm>
            <a:off x="457200" y="1600200"/>
            <a:ext cx="8229600" cy="2471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Я узнал много нового                                          и интересного о жизни                                                         и особенностях                                                             поведения страуса                                                  и колибри.</a:t>
            </a:r>
            <a:endParaRPr b="0" lang="en-US" sz="3200" spc="-1" strike="noStrike">
              <a:solidFill>
                <a:srgbClr val="000000"/>
              </a:solidFill>
              <a:latin typeface="Calibri"/>
            </a:endParaRPr>
          </a:p>
        </p:txBody>
      </p:sp>
      <p:pic>
        <p:nvPicPr>
          <p:cNvPr id="89" name="Рисунок 3" descr="Страус"/>
          <p:cNvPicPr/>
          <p:nvPr/>
        </p:nvPicPr>
        <p:blipFill>
          <a:blip r:embed="rId2"/>
          <a:stretch/>
        </p:blipFill>
        <p:spPr>
          <a:xfrm>
            <a:off x="5214960" y="1500120"/>
            <a:ext cx="3714840" cy="5214960"/>
          </a:xfrm>
          <a:prstGeom prst="rect">
            <a:avLst/>
          </a:prstGeom>
          <a:ln w="0">
            <a:noFill/>
          </a:ln>
        </p:spPr>
      </p:pic>
      <p:pic>
        <p:nvPicPr>
          <p:cNvPr id="90" name="Picture 4" descr="C:\Users\Татьяна\Pictures\опять колибри.jpg"/>
          <p:cNvPicPr/>
          <p:nvPr/>
        </p:nvPicPr>
        <p:blipFill>
          <a:blip r:embed="rId3"/>
          <a:stretch/>
        </p:blipFill>
        <p:spPr>
          <a:xfrm>
            <a:off x="1201680" y="4286160"/>
            <a:ext cx="2570400" cy="201780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ыводы, к которым я пришёл, работая над проектом</a:t>
            </a:r>
            <a:endParaRPr b="0" lang="en-US" sz="4400" spc="-1" strike="noStrike">
              <a:solidFill>
                <a:srgbClr val="000000"/>
              </a:solidFill>
              <a:latin typeface="Calibri"/>
            </a:endParaRPr>
          </a:p>
        </p:txBody>
      </p:sp>
      <p:sp>
        <p:nvSpPr>
          <p:cNvPr id="92" name=""/>
          <p:cNvSpPr txBox="1"/>
          <p:nvPr/>
        </p:nvSpPr>
        <p:spPr>
          <a:xfrm>
            <a:off x="500040" y="1571400"/>
            <a:ext cx="8229600" cy="185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нял, что существует много способов для того, чтобы найти информацию по интересующей тем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Рисунок 3" descr="http://e-l-k.narod.ru/Ptizi/p_6.jpg"/>
          <p:cNvPicPr/>
          <p:nvPr/>
        </p:nvPicPr>
        <p:blipFill>
          <a:blip r:embed="rId2"/>
          <a:stretch/>
        </p:blipFill>
        <p:spPr>
          <a:xfrm>
            <a:off x="4857840" y="2643120"/>
            <a:ext cx="4000320" cy="3929040"/>
          </a:xfrm>
          <a:prstGeom prst="rect">
            <a:avLst/>
          </a:prstGeom>
          <a:ln w="0">
            <a:noFill/>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ыводы, к которым я пришёл, работая над проектом</a:t>
            </a:r>
            <a:endParaRPr b="0" lang="en-US" sz="4400" spc="-1" strike="noStrike">
              <a:solidFill>
                <a:srgbClr val="000000"/>
              </a:solidFill>
              <a:latin typeface="Calibri"/>
            </a:endParaRPr>
          </a:p>
        </p:txBody>
      </p:sp>
      <p:sp>
        <p:nvSpPr>
          <p:cNvPr id="95" name=""/>
          <p:cNvSpPr txBox="1"/>
          <p:nvPr/>
        </p:nvSpPr>
        <p:spPr>
          <a:xfrm>
            <a:off x="571680" y="1642680"/>
            <a:ext cx="8229600" cy="1785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ешение любого вопроса – в твоих руках: если ты хочешь чего-то добиться – добьёш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C:\Users\Татьяна\Pictures\колби на цветке.jpg"/>
          <p:cNvPicPr/>
          <p:nvPr/>
        </p:nvPicPr>
        <p:blipFill>
          <a:blip r:embed="rId2"/>
          <a:stretch/>
        </p:blipFill>
        <p:spPr>
          <a:xfrm>
            <a:off x="5214960" y="2714760"/>
            <a:ext cx="2714760" cy="391788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сточники информации:</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harunyahya.ru/…/world_of_animals_ru09.ph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wikipedia.org/wiki/Struth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wikipedia.org/wiki/Trochi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1001chudo.ru/cuba_67.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sunhome.ru/image/1588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амая крупная птица</a:t>
            </a:r>
            <a:endParaRPr b="0" lang="en-US" sz="4400" spc="-1" strike="noStrike">
              <a:solidFill>
                <a:srgbClr val="000000"/>
              </a:solidFill>
              <a:latin typeface="Calibri"/>
            </a:endParaRPr>
          </a:p>
        </p:txBody>
      </p:sp>
      <p:sp>
        <p:nvSpPr>
          <p:cNvPr id="45" name=""/>
          <p:cNvSpPr txBox="1"/>
          <p:nvPr/>
        </p:nvSpPr>
        <p:spPr>
          <a:xfrm>
            <a:off x="457200" y="1142640"/>
            <a:ext cx="840096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ост Африканского страуса 270 см, вес 175 кг глаза самые крупные из всех земноводных (диаметр около 5 см, а вес обоих глаз превышает вес                                                            головного мозга.                                                               Ротовая щель                                                              доходит до глаз. </a:t>
            </a:r>
            <a:endParaRPr b="0" lang="en-US" sz="3200" spc="-1" strike="noStrike">
              <a:solidFill>
                <a:srgbClr val="000000"/>
              </a:solidFill>
              <a:latin typeface="Calibri"/>
            </a:endParaRPr>
          </a:p>
        </p:txBody>
      </p:sp>
      <p:pic>
        <p:nvPicPr>
          <p:cNvPr id="46" name="Picture 4" descr="C:\Users\Татьяна\Pictures\крупные птицы.jpg"/>
          <p:cNvPicPr/>
          <p:nvPr/>
        </p:nvPicPr>
        <p:blipFill>
          <a:blip r:embed="rId2"/>
          <a:stretch/>
        </p:blipFill>
        <p:spPr>
          <a:xfrm>
            <a:off x="4000680" y="2786040"/>
            <a:ext cx="4857480" cy="37861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457200" y="356760"/>
            <a:ext cx="8229600" cy="20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раусы – нелетающие птицы. При беге страус способен развивать скорость до 60 – 70 км в ча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3" descr="C:\Users\Татьяна\Pictures\танцует страус.jpg"/>
          <p:cNvPicPr/>
          <p:nvPr/>
        </p:nvPicPr>
        <p:blipFill>
          <a:blip r:embed="rId2"/>
          <a:stretch/>
        </p:blipFill>
        <p:spPr>
          <a:xfrm>
            <a:off x="1636560" y="2017800"/>
            <a:ext cx="6435720" cy="4626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457200" y="57168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перение у                                                                    страуса                                                                          рыхлое и курчавое.                                                                                 На груди имеется                                                                                голый участок,                                                                        так называемая                                                                   грудная мозоль,                                                                                    на которую                                                                             страус  опирается,                                                                                   когда ложится.</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C:\Users\Татьяна\Pictures\эму.jpg"/>
          <p:cNvPicPr/>
          <p:nvPr/>
        </p:nvPicPr>
        <p:blipFill>
          <a:blip r:embed="rId2"/>
          <a:stretch/>
        </p:blipFill>
        <p:spPr>
          <a:xfrm>
            <a:off x="4429080" y="785880"/>
            <a:ext cx="4714920" cy="53737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57200" y="428760"/>
            <a:ext cx="8229600" cy="27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раус обитает в открытых саваннах и полупустынях, севернее и южнее зоны экваториальных лесов.</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аксимальная продолжительность жизни страусов 35-40 л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Рисунок 4" descr="СТРАУС"/>
          <p:cNvPicPr/>
          <p:nvPr/>
        </p:nvPicPr>
        <p:blipFill>
          <a:blip r:embed="rId2"/>
          <a:stretch/>
        </p:blipFill>
        <p:spPr>
          <a:xfrm>
            <a:off x="4572000" y="2714760"/>
            <a:ext cx="4286160" cy="39290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емья страусов</a:t>
            </a:r>
            <a:endParaRPr b="0" lang="en-US" sz="4400" spc="-1" strike="noStrike">
              <a:solidFill>
                <a:srgbClr val="000000"/>
              </a:solidFill>
              <a:latin typeface="Calibri"/>
            </a:endParaRPr>
          </a:p>
        </p:txBody>
      </p:sp>
      <p:pic>
        <p:nvPicPr>
          <p:cNvPr id="54" name="Picture 3" descr="C:\Users\Татьяна\Pictures\с маленькими страусятами.jpg"/>
          <p:cNvPicPr/>
          <p:nvPr/>
        </p:nvPicPr>
        <p:blipFill>
          <a:blip r:embed="rId2"/>
          <a:stretch/>
        </p:blipFill>
        <p:spPr>
          <a:xfrm>
            <a:off x="490680" y="1282680"/>
            <a:ext cx="8153280" cy="506556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бычной пищей страусов являются растения и плоды, но при случае они поедают мелких животных. Поскольку у страусов нет зубов, они глотают мелкие камешки, а то и гвозди, куски дерева, пластмассу. Долгое время страусы могут обходится без воды, однако при случае охотно пьют и любят купаться. </a:t>
            </a:r>
            <a:endParaRPr b="0" lang="en-US" sz="32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Picture 2" descr="C:\Users\Татьяна\Pictures\красивые страусы.jpg"/>
          <p:cNvPicPr/>
          <p:nvPr/>
        </p:nvPicPr>
        <p:blipFill>
          <a:blip r:embed="rId2"/>
          <a:stretch/>
        </p:blipFill>
        <p:spPr>
          <a:xfrm>
            <a:off x="914400" y="685800"/>
            <a:ext cx="7315200" cy="54864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1T17:41:01Z</dcterms:created>
  <dc:creator>Татьяна</dc:creator>
  <dc:description/>
  <dc:language>en-US</dc:language>
  <cp:lastModifiedBy>дом</cp:lastModifiedBy>
  <dcterms:modified xsi:type="dcterms:W3CDTF">2013-02-12T17:54:32Z</dcterms:modified>
  <cp:revision>45</cp:revision>
  <dc:subject/>
  <dc:title>Самая большая и самая маленькая птицы</dc:title>
</cp:coreProperties>
</file>