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ACE4-073D-480E-9703-8BB6D66187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0F19-8B8A-4447-A432-0532689B6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35B7-5BEB-40DF-9BBF-C6645867F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6017-57F1-4DC8-A9BD-45487AEE2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ADAB-C99E-4115-B510-2495FA1934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50D9-95AA-490C-A632-E6BDB7519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C445-B00F-4832-B7C6-E21E690E3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5AC3-8268-4488-83D0-B938DADE81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F92F-B7C0-4E8D-9B9D-0AB1C7EF3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27B3-27E8-4C79-A876-251100FF8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1A97-1C58-41F4-A250-EF5985B0F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CCF-0500-4962-ADC9-17542155E5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F15C-5A5C-4243-BB53-BFB72D94C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8256-DB72-4400-82DA-52B46D920E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1638-EB56-49E7-AB05-CAFBDC9036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FC81-BBD0-457B-B140-9C4A471128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CAA1-6F54-4E32-B090-5C547EFD6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CD84-D8CD-4613-AD11-0DD691420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1D79-7586-4968-A8FD-149813A8EF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6033-0D2A-4CB2-95F0-42E907378F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921-5DB1-4900-A1EB-0F280E09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8FB-D295-453B-9C41-52F6D9C6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768-D248-4979-9A9B-5BC6FC11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748-8099-4432-97DA-B1D72CDE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416-7A2C-468A-87B6-49FEB991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63F-944A-4074-90E9-37E39C18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4A6-FBD3-4B02-B981-6FFF5886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50C-40B0-48B0-A92B-E12BB35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5EC7-8179-4D47-9DD3-4AB01F2E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051-01F6-4305-AB5E-8DD68EEC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C57-921A-42FD-B299-5166B85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CD7-7511-4A37-917E-9EAB3F0C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A04E-8B76-49E6-B29A-216A06DA90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49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ectangle 17"/>
          <p:cNvGrpSpPr/>
          <p:nvPr/>
        </p:nvGrpSpPr>
        <p:grpSpPr>
          <a:xfrm>
            <a:off x="328680" y="5473800"/>
            <a:ext cx="8583480" cy="853920"/>
            <a:chOff x="328680" y="5473800"/>
            <a:chExt cx="8583480" cy="853920"/>
          </a:xfrm>
        </p:grpSpPr>
        <p:pic>
          <p:nvPicPr>
            <p:cNvPr id="55" name="Rectangle 17" descr=""/>
            <p:cNvPicPr/>
            <p:nvPr/>
          </p:nvPicPr>
          <p:blipFill>
            <a:blip r:embed="rId1"/>
            <a:stretch/>
          </p:blipFill>
          <p:spPr>
            <a:xfrm>
              <a:off x="328680" y="5473800"/>
              <a:ext cx="85834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80880" y="5562720"/>
              <a:ext cx="847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Желаем удач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ectangle 17"/>
          <p:cNvGrpSpPr/>
          <p:nvPr/>
        </p:nvGrpSpPr>
        <p:grpSpPr>
          <a:xfrm>
            <a:off x="5078520" y="2152800"/>
            <a:ext cx="4120920" cy="1693800"/>
            <a:chOff x="5078520" y="2152800"/>
            <a:chExt cx="4120920" cy="1693800"/>
          </a:xfrm>
        </p:grpSpPr>
        <p:pic>
          <p:nvPicPr>
            <p:cNvPr id="58" name="Rectangle 17" descr=""/>
            <p:cNvPicPr/>
            <p:nvPr/>
          </p:nvPicPr>
          <p:blipFill>
            <a:blip r:embed="rId2"/>
            <a:stretch/>
          </p:blipFill>
          <p:spPr>
            <a:xfrm>
              <a:off x="5078520" y="2152800"/>
              <a:ext cx="412092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181480" y="2209680"/>
              <a:ext cx="3962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6600"/>
                  </a:solidFill>
                  <a:latin typeface="Times New Roman"/>
                </a:rPr>
                <a:t>Данный тест составлен по книге Жюля Верна «Дети капитана Гранта». Пройдите тест и  проверьте, насколько внимательно вы читали произведение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225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8. Вопрос: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то произвел выстрел, спасая Роберта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AutoShape 8"/>
          <p:cNvSpPr/>
          <p:nvPr/>
        </p:nvSpPr>
        <p:spPr>
          <a:xfrm>
            <a:off x="990720" y="1447920"/>
            <a:ext cx="7272360" cy="4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ьк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5"/>
          <p:cNvSpPr/>
          <p:nvPr/>
        </p:nvSpPr>
        <p:spPr>
          <a:xfrm>
            <a:off x="990720" y="281952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дуард Гленар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6"/>
          <p:cNvSpPr/>
          <p:nvPr/>
        </p:nvSpPr>
        <p:spPr>
          <a:xfrm>
            <a:off x="990720" y="4038480"/>
            <a:ext cx="727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Мангл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914400" y="5334120"/>
            <a:ext cx="72723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ган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1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2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4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4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246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9.Вопрос:      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ого называют кайманами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AutoShape 8"/>
          <p:cNvSpPr/>
          <p:nvPr/>
        </p:nvSpPr>
        <p:spPr>
          <a:xfrm>
            <a:off x="990720" y="525780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коди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990720" y="2666880"/>
            <a:ext cx="727236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990720" y="3886200"/>
            <a:ext cx="72723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мя тузем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1011240" y="133524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енг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9"/>
          <p:cNvSpPr/>
          <p:nvPr/>
        </p:nvSpPr>
        <p:spPr>
          <a:xfrm>
            <a:off x="8458200" y="5342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2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267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0.Вопрос:     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Главное дерево Австралии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AutoShape 8"/>
          <p:cNvSpPr/>
          <p:nvPr/>
        </p:nvSpPr>
        <p:spPr>
          <a:xfrm>
            <a:off x="990720" y="3962520"/>
            <a:ext cx="7272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калип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990720" y="2666880"/>
            <a:ext cx="727236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т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4"/>
          <p:cNvSpPr/>
          <p:nvPr/>
        </p:nvSpPr>
        <p:spPr>
          <a:xfrm>
            <a:off x="990720" y="518148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мбакс эллиптик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5"/>
          <p:cNvSpPr/>
          <p:nvPr/>
        </p:nvSpPr>
        <p:spPr>
          <a:xfrm>
            <a:off x="990720" y="144792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оба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288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1.Вопрос: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им было настоящее имя Айртона?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AutoShape 8"/>
          <p:cNvSpPr/>
          <p:nvPr/>
        </p:nvSpPr>
        <p:spPr>
          <a:xfrm>
            <a:off x="990720" y="2666880"/>
            <a:ext cx="727236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 Джой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990720" y="396252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 Менгл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4"/>
          <p:cNvSpPr/>
          <p:nvPr/>
        </p:nvSpPr>
        <p:spPr>
          <a:xfrm>
            <a:off x="990720" y="5334120"/>
            <a:ext cx="7272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дуард Гленар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990720" y="144792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к-Набб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1" dur="indefinite" restart="never" nodeType="tmRoot">
          <p:childTnLst>
            <p:seq>
              <p:cTn id="97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6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045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4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Rectangle 7"/>
          <p:cNvGrpSpPr/>
          <p:nvPr/>
        </p:nvGrpSpPr>
        <p:grpSpPr>
          <a:xfrm>
            <a:off x="49320" y="139680"/>
            <a:ext cx="8796240" cy="1098720"/>
            <a:chOff x="49320" y="139680"/>
            <a:chExt cx="8796240" cy="1098720"/>
          </a:xfrm>
        </p:grpSpPr>
        <p:pic>
          <p:nvPicPr>
            <p:cNvPr id="309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9624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28600" y="228600"/>
              <a:ext cx="84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2.Вопрос: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им образом каторжники легко могли следовать за путешественниками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AutoShape 8"/>
          <p:cNvSpPr/>
          <p:nvPr/>
        </p:nvSpPr>
        <p:spPr>
          <a:xfrm>
            <a:off x="990720" y="403848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ней необычные подковы с трилист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3"/>
          <p:cNvSpPr/>
          <p:nvPr/>
        </p:nvSpPr>
        <p:spPr>
          <a:xfrm>
            <a:off x="990720" y="2743200"/>
            <a:ext cx="727236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ломанным веткам на деревь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990720" y="518148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рубкам на деревь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5"/>
          <p:cNvSpPr/>
          <p:nvPr/>
        </p:nvSpPr>
        <p:spPr>
          <a:xfrm>
            <a:off x="990720" y="144792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мешка сыпалось з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68" dur="indefinite" restart="never" nodeType="tmRoot">
          <p:childTnLst>
            <p:seq>
              <p:cTn id="1069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070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9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142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2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Rectangle 7"/>
          <p:cNvGrpSpPr/>
          <p:nvPr/>
        </p:nvGrpSpPr>
        <p:grpSpPr>
          <a:xfrm>
            <a:off x="49320" y="139680"/>
            <a:ext cx="8978760" cy="1219320"/>
            <a:chOff x="49320" y="139680"/>
            <a:chExt cx="8978760" cy="1219320"/>
          </a:xfrm>
        </p:grpSpPr>
        <p:pic>
          <p:nvPicPr>
            <p:cNvPr id="330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97876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28600" y="228600"/>
              <a:ext cx="847872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3.Вопрос: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ое оружие использует только коренное население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                        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Австралии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AutoShape 8"/>
          <p:cNvSpPr/>
          <p:nvPr/>
        </p:nvSpPr>
        <p:spPr>
          <a:xfrm>
            <a:off x="990720" y="259092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ер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3"/>
          <p:cNvSpPr/>
          <p:nvPr/>
        </p:nvSpPr>
        <p:spPr>
          <a:xfrm>
            <a:off x="990720" y="4038480"/>
            <a:ext cx="727236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4"/>
          <p:cNvSpPr/>
          <p:nvPr/>
        </p:nvSpPr>
        <p:spPr>
          <a:xfrm>
            <a:off x="990720" y="525780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5"/>
          <p:cNvSpPr/>
          <p:nvPr/>
        </p:nvSpPr>
        <p:spPr>
          <a:xfrm>
            <a:off x="990720" y="137160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к и стр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65" dur="indefinite" restart="never" nodeType="tmRoot">
          <p:childTnLst>
            <p:seq>
              <p:cTn id="116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7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191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215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6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Rectangle 7"/>
          <p:cNvGrpSpPr/>
          <p:nvPr/>
        </p:nvGrpSpPr>
        <p:grpSpPr>
          <a:xfrm>
            <a:off x="49320" y="139680"/>
            <a:ext cx="8710560" cy="1098720"/>
            <a:chOff x="49320" y="139680"/>
            <a:chExt cx="8710560" cy="1098720"/>
          </a:xfrm>
        </p:grpSpPr>
        <p:pic>
          <p:nvPicPr>
            <p:cNvPr id="351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28600" y="228600"/>
              <a:ext cx="84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4.Вопрос: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ая фантастическая ошибка Паганеля в конечном итоге спасла жизнь всем остальным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AutoShape 8"/>
          <p:cNvSpPr/>
          <p:nvPr/>
        </p:nvSpPr>
        <p:spPr>
          <a:xfrm>
            <a:off x="990720" y="3962520"/>
            <a:ext cx="727236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ил судно в Новую Зеландию, а не в Австрал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3"/>
          <p:cNvSpPr/>
          <p:nvPr/>
        </p:nvSpPr>
        <p:spPr>
          <a:xfrm>
            <a:off x="990720" y="274320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 перевел найденную зап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4"/>
          <p:cNvSpPr/>
          <p:nvPr/>
        </p:nvSpPr>
        <p:spPr>
          <a:xfrm>
            <a:off x="990720" y="525780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л не испанский, а португаль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5"/>
          <p:cNvSpPr/>
          <p:nvPr/>
        </p:nvSpPr>
        <p:spPr>
          <a:xfrm>
            <a:off x="990720" y="144792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махнулся при выстр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9"/>
          <p:cNvSpPr/>
          <p:nvPr/>
        </p:nvSpPr>
        <p:spPr>
          <a:xfrm>
            <a:off x="8458200" y="412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262" dur="indefinite" restart="never" nodeType="tmRoot">
          <p:childTnLst>
            <p:seq>
              <p:cTn id="1263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2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0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1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1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372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5.Вопрос:    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В чём заключалась тайна Паганеля? 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AutoShape 8"/>
          <p:cNvSpPr/>
          <p:nvPr/>
        </p:nvSpPr>
        <p:spPr>
          <a:xfrm>
            <a:off x="990720" y="2514600"/>
            <a:ext cx="7272360" cy="63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татуиров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990720" y="4038480"/>
            <a:ext cx="727236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  курить труб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4"/>
          <p:cNvSpPr/>
          <p:nvPr/>
        </p:nvSpPr>
        <p:spPr>
          <a:xfrm>
            <a:off x="990720" y="5181480"/>
            <a:ext cx="7272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е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5"/>
          <p:cNvSpPr/>
          <p:nvPr/>
        </p:nvSpPr>
        <p:spPr>
          <a:xfrm>
            <a:off x="990720" y="1371600"/>
            <a:ext cx="7272360" cy="5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главарем шайки разбой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17"/>
          <p:cNvSpPr/>
          <p:nvPr/>
        </p:nvSpPr>
        <p:spPr>
          <a:xfrm>
            <a:off x="8458200" y="5388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8"/>
          <p:cNvSpPr/>
          <p:nvPr/>
        </p:nvSpPr>
        <p:spPr>
          <a:xfrm>
            <a:off x="845820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19"/>
          <p:cNvSpPr/>
          <p:nvPr/>
        </p:nvSpPr>
        <p:spPr>
          <a:xfrm>
            <a:off x="8458200" y="2751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0"/>
          <p:cNvSpPr/>
          <p:nvPr/>
        </p:nvSpPr>
        <p:spPr>
          <a:xfrm>
            <a:off x="8458200" y="1555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359" dur="indefinite" restart="never" nodeType="tmRoot">
          <p:childTnLst>
            <p:seq>
              <p:cTn id="1360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361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3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385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8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409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1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8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433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8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Rectangle 7"/>
          <p:cNvGrpSpPr/>
          <p:nvPr/>
        </p:nvGrpSpPr>
        <p:grpSpPr>
          <a:xfrm>
            <a:off x="49320" y="139680"/>
            <a:ext cx="8710560" cy="1098720"/>
            <a:chOff x="49320" y="139680"/>
            <a:chExt cx="8710560" cy="1098720"/>
          </a:xfrm>
        </p:grpSpPr>
        <p:pic>
          <p:nvPicPr>
            <p:cNvPr id="393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28600" y="228600"/>
              <a:ext cx="84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6.Вопрос: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 назывался остров, на котором нашли капитана Гранта?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AutoShape 8"/>
          <p:cNvSpPr/>
          <p:nvPr/>
        </p:nvSpPr>
        <p:spPr>
          <a:xfrm>
            <a:off x="992160" y="1341360"/>
            <a:ext cx="7272360" cy="56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3"/>
          <p:cNvSpPr/>
          <p:nvPr/>
        </p:nvSpPr>
        <p:spPr>
          <a:xfrm>
            <a:off x="990720" y="274320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. Е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4"/>
          <p:cNvSpPr/>
          <p:nvPr/>
        </p:nvSpPr>
        <p:spPr>
          <a:xfrm>
            <a:off x="990720" y="4038480"/>
            <a:ext cx="7272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агаск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5"/>
          <p:cNvSpPr/>
          <p:nvPr/>
        </p:nvSpPr>
        <p:spPr>
          <a:xfrm>
            <a:off x="990720" y="5257800"/>
            <a:ext cx="7272360" cy="54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м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8"/>
          <p:cNvSpPr/>
          <p:nvPr/>
        </p:nvSpPr>
        <p:spPr>
          <a:xfrm>
            <a:off x="845820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9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6" dur="indefinite" restart="never" nodeType="tmRoot">
          <p:childTnLst>
            <p:seq>
              <p:cTn id="145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458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1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482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1506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4"/>
          <p:cNvGrpSpPr/>
          <p:nvPr/>
        </p:nvGrpSpPr>
        <p:grpSpPr>
          <a:xfrm>
            <a:off x="76320" y="76320"/>
            <a:ext cx="8937000" cy="6668640"/>
            <a:chOff x="76320" y="76320"/>
            <a:chExt cx="8937000" cy="6668640"/>
          </a:xfrm>
        </p:grpSpPr>
        <p:sp>
          <p:nvSpPr>
            <p:cNvPr id="409" name="Line 5"/>
            <p:cNvSpPr/>
            <p:nvPr/>
          </p:nvSpPr>
          <p:spPr>
            <a:xfrm>
              <a:off x="76320" y="76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6"/>
            <p:cNvSpPr/>
            <p:nvPr/>
          </p:nvSpPr>
          <p:spPr>
            <a:xfrm>
              <a:off x="76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7"/>
            <p:cNvSpPr/>
            <p:nvPr/>
          </p:nvSpPr>
          <p:spPr>
            <a:xfrm>
              <a:off x="76320" y="674496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8"/>
            <p:cNvSpPr/>
            <p:nvPr/>
          </p:nvSpPr>
          <p:spPr>
            <a:xfrm>
              <a:off x="9013320" y="7632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0"/>
          <p:cNvSpPr/>
          <p:nvPr/>
        </p:nvSpPr>
        <p:spPr>
          <a:xfrm>
            <a:off x="5410080" y="6095880"/>
            <a:ext cx="3505320" cy="55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йти к нач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ectangle 9"/>
          <p:cNvGrpSpPr/>
          <p:nvPr/>
        </p:nvGrpSpPr>
        <p:grpSpPr>
          <a:xfrm>
            <a:off x="633240" y="6083280"/>
            <a:ext cx="7577280" cy="853920"/>
            <a:chOff x="633240" y="6083280"/>
            <a:chExt cx="7577280" cy="853920"/>
          </a:xfrm>
        </p:grpSpPr>
        <p:pic>
          <p:nvPicPr>
            <p:cNvPr id="66" name="Rectangle 9" descr=""/>
            <p:cNvPicPr/>
            <p:nvPr/>
          </p:nvPicPr>
          <p:blipFill>
            <a:blip r:embed="rId1"/>
            <a:stretch/>
          </p:blipFill>
          <p:spPr>
            <a:xfrm>
              <a:off x="633240" y="6083280"/>
              <a:ext cx="7577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85800" y="6172200"/>
              <a:ext cx="746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6600"/>
                  </a:solidFill>
                  <a:latin typeface="Times New Roman"/>
                </a:rPr>
                <a:t>Инструкция по работе с тест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TextBox 4"/>
          <p:cNvGrpSpPr/>
          <p:nvPr/>
        </p:nvGrpSpPr>
        <p:grpSpPr>
          <a:xfrm>
            <a:off x="3968640" y="2097000"/>
            <a:ext cx="5083200" cy="1541520"/>
            <a:chOff x="3968640" y="2097000"/>
            <a:chExt cx="5083200" cy="1541520"/>
          </a:xfrm>
        </p:grpSpPr>
        <p:pic>
          <p:nvPicPr>
            <p:cNvPr id="69" name="TextBox 4" descr=""/>
            <p:cNvPicPr/>
            <p:nvPr/>
          </p:nvPicPr>
          <p:blipFill>
            <a:blip r:embed="rId2"/>
            <a:stretch/>
          </p:blipFill>
          <p:spPr>
            <a:xfrm>
              <a:off x="3968640" y="2097000"/>
              <a:ext cx="50832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038480" y="2133720"/>
              <a:ext cx="49532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.Каждое задание имеет 4 варианта ответа. Ты должен выбрать один правильны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. Если ты выбрал правильный ответ, появится   «плюс»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3. Если ты выбрал неверный ответ, появится «минус»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4. Переход к следующему заданию осуществляется по кнопке внизу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73" name="Line 5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ectangle 9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78" name="Rectangle 9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1. Вопрос:    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Дата, с которой начинается роман?</a:t>
              </a: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AutoShape 10"/>
          <p:cNvSpPr/>
          <p:nvPr/>
        </p:nvSpPr>
        <p:spPr>
          <a:xfrm>
            <a:off x="990720" y="1371600"/>
            <a:ext cx="727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6 июня 186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>
            <a:off x="990720" y="274320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июля 186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/>
          <p:cNvSpPr/>
          <p:nvPr/>
        </p:nvSpPr>
        <p:spPr>
          <a:xfrm>
            <a:off x="990720" y="3886200"/>
            <a:ext cx="727236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июля 186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9"/>
          <p:cNvSpPr/>
          <p:nvPr/>
        </p:nvSpPr>
        <p:spPr>
          <a:xfrm>
            <a:off x="990720" y="5257800"/>
            <a:ext cx="7272360" cy="54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 февраля 182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9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ectangle 9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99" name="Rectangle 9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2. Вопрос:  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ая рыба доставила послание капитана Гранта?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0"/>
          <p:cNvSpPr/>
          <p:nvPr/>
        </p:nvSpPr>
        <p:spPr>
          <a:xfrm>
            <a:off x="990720" y="1447920"/>
            <a:ext cx="7272360" cy="56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а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1"/>
          <p:cNvSpPr/>
          <p:nvPr/>
        </p:nvSpPr>
        <p:spPr>
          <a:xfrm>
            <a:off x="38088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380880" y="1523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990720" y="2666880"/>
            <a:ext cx="727236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990720" y="3962520"/>
            <a:ext cx="72723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990720" y="5257800"/>
            <a:ext cx="7272360" cy="54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4"/>
          <p:cNvSpPr/>
          <p:nvPr/>
        </p:nvSpPr>
        <p:spPr>
          <a:xfrm>
            <a:off x="8534520" y="2819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15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9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120" name="Rectangle 9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3. Вопрос: 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На каких языках был написан найденный документ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10"/>
          <p:cNvSpPr/>
          <p:nvPr/>
        </p:nvSpPr>
        <p:spPr>
          <a:xfrm>
            <a:off x="990720" y="1523880"/>
            <a:ext cx="7272360" cy="56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лийский, русский, немец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1"/>
          <p:cNvSpPr/>
          <p:nvPr/>
        </p:nvSpPr>
        <p:spPr>
          <a:xfrm>
            <a:off x="457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>
            <a:off x="990720" y="274320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цкий, португальский, 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990720" y="3886200"/>
            <a:ext cx="727236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ий, немецкий, италья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>
            <a:off x="990720" y="5181480"/>
            <a:ext cx="7272360" cy="62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ий, немецкий, француз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36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Rectangle 7"/>
          <p:cNvGrpSpPr/>
          <p:nvPr/>
        </p:nvGrpSpPr>
        <p:grpSpPr>
          <a:xfrm>
            <a:off x="49320" y="139680"/>
            <a:ext cx="8710560" cy="1098720"/>
            <a:chOff x="49320" y="139680"/>
            <a:chExt cx="8710560" cy="1098720"/>
          </a:xfrm>
        </p:grpSpPr>
        <p:pic>
          <p:nvPicPr>
            <p:cNvPr id="141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28600" y="228600"/>
              <a:ext cx="84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4. Вопрос: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 называлось судно, на котором потерпел крушение капитан Грант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AutoShape 8"/>
          <p:cNvSpPr/>
          <p:nvPr/>
        </p:nvSpPr>
        <p:spPr>
          <a:xfrm>
            <a:off x="992160" y="1341360"/>
            <a:ext cx="7272360" cy="56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рве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990720" y="2666880"/>
            <a:ext cx="727236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т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990720" y="4038480"/>
            <a:ext cx="7272360" cy="55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990720" y="5334120"/>
            <a:ext cx="7272360" cy="54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таг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5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Rectangle 7"/>
          <p:cNvGrpSpPr/>
          <p:nvPr/>
        </p:nvGrpSpPr>
        <p:grpSpPr>
          <a:xfrm>
            <a:off x="49320" y="139680"/>
            <a:ext cx="8710560" cy="853920"/>
            <a:chOff x="49320" y="139680"/>
            <a:chExt cx="8710560" cy="853920"/>
          </a:xfrm>
        </p:grpSpPr>
        <p:pic>
          <p:nvPicPr>
            <p:cNvPr id="162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28600" y="228600"/>
              <a:ext cx="84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5. Вопрос: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ой язык выучил Паганель вместо испанского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8"/>
          <p:cNvSpPr/>
          <p:nvPr/>
        </p:nvSpPr>
        <p:spPr>
          <a:xfrm>
            <a:off x="990720" y="1447920"/>
            <a:ext cx="7272360" cy="4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б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3"/>
          <p:cNvSpPr/>
          <p:nvPr/>
        </p:nvSpPr>
        <p:spPr>
          <a:xfrm>
            <a:off x="990720" y="2666880"/>
            <a:ext cx="7272360" cy="55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уга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4"/>
          <p:cNvSpPr/>
          <p:nvPr/>
        </p:nvSpPr>
        <p:spPr>
          <a:xfrm>
            <a:off x="990720" y="3962520"/>
            <a:ext cx="7272360" cy="55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ланд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990720" y="5257800"/>
            <a:ext cx="7272360" cy="54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л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178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ectangle 7"/>
          <p:cNvGrpSpPr/>
          <p:nvPr/>
        </p:nvGrpSpPr>
        <p:grpSpPr>
          <a:xfrm>
            <a:off x="201600" y="139680"/>
            <a:ext cx="8710560" cy="853920"/>
            <a:chOff x="201600" y="139680"/>
            <a:chExt cx="8710560" cy="853920"/>
          </a:xfrm>
        </p:grpSpPr>
        <p:pic>
          <p:nvPicPr>
            <p:cNvPr id="183" name="Rectangle 7" descr=""/>
            <p:cNvPicPr/>
            <p:nvPr/>
          </p:nvPicPr>
          <p:blipFill>
            <a:blip r:embed="rId1"/>
            <a:stretch/>
          </p:blipFill>
          <p:spPr>
            <a:xfrm>
              <a:off x="201600" y="139680"/>
              <a:ext cx="87105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80880" y="228600"/>
              <a:ext cx="847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6. Вопрос: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 звали детей капитана Гранта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AutoShape 8"/>
          <p:cNvSpPr/>
          <p:nvPr/>
        </p:nvSpPr>
        <p:spPr>
          <a:xfrm>
            <a:off x="990720" y="1447920"/>
            <a:ext cx="7272360" cy="56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ия, Миш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990720" y="274320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и, Роб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914400" y="3962520"/>
            <a:ext cx="72723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н, Э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990720" y="5257800"/>
            <a:ext cx="7272360" cy="62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изабет, Б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199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Rectangle 7"/>
          <p:cNvGrpSpPr/>
          <p:nvPr/>
        </p:nvGrpSpPr>
        <p:grpSpPr>
          <a:xfrm>
            <a:off x="49320" y="139680"/>
            <a:ext cx="8710560" cy="1098720"/>
            <a:chOff x="49320" y="139680"/>
            <a:chExt cx="8710560" cy="1098720"/>
          </a:xfrm>
        </p:grpSpPr>
        <p:pic>
          <p:nvPicPr>
            <p:cNvPr id="204" name="Rectangle 7" descr=""/>
            <p:cNvPicPr/>
            <p:nvPr/>
          </p:nvPicPr>
          <p:blipFill>
            <a:blip r:embed="rId1"/>
            <a:stretch/>
          </p:blipFill>
          <p:spPr>
            <a:xfrm>
              <a:off x="49320" y="139680"/>
              <a:ext cx="871056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28600" y="228600"/>
              <a:ext cx="84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505050"/>
                  </a:solidFill>
                  <a:latin typeface="Times New Roman"/>
                </a:rPr>
                <a:t>7. Вопрос: </a:t>
              </a:r>
              <a:r>
                <a:rPr b="1" lang="ru-RU" sz="2000" spc="-1" strike="noStrike">
                  <a:solidFill>
                    <a:srgbClr val="505050"/>
                  </a:solidFill>
                  <a:latin typeface="Times New Roman"/>
                </a:rPr>
                <a:t>Какие горы в Южной Америке преодолели путешественники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8"/>
          <p:cNvSpPr/>
          <p:nvPr/>
        </p:nvSpPr>
        <p:spPr>
          <a:xfrm>
            <a:off x="990720" y="1447920"/>
            <a:ext cx="7272360" cy="48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ль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990720" y="2565360"/>
            <a:ext cx="727236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990720" y="3886200"/>
            <a:ext cx="72723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диль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>
            <a:off x="990720" y="5181480"/>
            <a:ext cx="7272360" cy="62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ен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user</cp:lastModifiedBy>
  <dcterms:modified xsi:type="dcterms:W3CDTF">2013-02-15T08:13:09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