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E52-02B2-4B3A-822D-43F38B724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837-1630-4706-AEA3-FA26FFF66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A15E-1863-4717-A4A1-AFCFA6A31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8A88-3A93-40D5-8992-71186CD8D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B67-F5AF-4D97-B2C7-50FD89901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CD91-4A78-473F-8B4C-0155BEE7D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D8D-64B6-491B-B151-90B9B1899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8DC-03DF-4529-9F2C-B3B4D611F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F346-B265-40EC-9097-DC40EBE37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680E-1E01-438B-A1E6-0B7B70357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D24-1098-407B-A2B7-9050C3E54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0791-331B-474C-96DC-F2CA2B678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6A3-8DD2-416D-993C-A3EDA8B5E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0ACE-BF7D-4988-AECB-A6EB4C5D6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A25-4A2E-48E3-A6CE-E956BE450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686B-3AD6-433D-AFD0-17FAF834B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9EBB-D43B-4955-9E43-1264DD761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BE2-B504-4254-858C-7638E0A8A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CFD4-7B95-4B90-9662-ACBCECBF5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C92-A1D3-49A6-B010-685E8E77B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05C-B847-4149-A9FE-7FABDD4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78D-06B5-43DD-B275-04695E72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F83-EFD7-4217-88E0-A791171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4B7-DA9A-4B33-87B9-50C34952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527-2061-413C-889F-857BECA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792-4F36-4C0F-B81F-AC12B25D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6A3-DD80-4795-BE45-428DD02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8DF-BB61-4A26-AD72-EADC7362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342-926F-4156-B463-BE198144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7AD-3E3F-46C5-9392-85CBDD3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60F-9CB9-49A2-86B9-9AE5D53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253-57EA-4AE1-9304-89EB91A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FC9-F3F1-4CAE-8915-134387BCF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4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ctangle 17"/>
          <p:cNvGrpSpPr/>
          <p:nvPr/>
        </p:nvGrpSpPr>
        <p:grpSpPr>
          <a:xfrm>
            <a:off x="328680" y="5473800"/>
            <a:ext cx="8583480" cy="853920"/>
            <a:chOff x="328680" y="5473800"/>
            <a:chExt cx="8583480" cy="853920"/>
          </a:xfrm>
        </p:grpSpPr>
        <p:pic>
          <p:nvPicPr>
            <p:cNvPr id="55" name="Rectangle 17" descr=""/>
            <p:cNvPicPr/>
            <p:nvPr/>
          </p:nvPicPr>
          <p:blipFill>
            <a:blip r:embed="rId1"/>
            <a:stretch/>
          </p:blipFill>
          <p:spPr>
            <a:xfrm>
              <a:off x="328680" y="5473800"/>
              <a:ext cx="85834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0880" y="5562720"/>
              <a:ext cx="84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Желаем удач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7"/>
          <p:cNvGrpSpPr/>
          <p:nvPr/>
        </p:nvGrpSpPr>
        <p:grpSpPr>
          <a:xfrm>
            <a:off x="5078520" y="2152800"/>
            <a:ext cx="4120920" cy="1693800"/>
            <a:chOff x="5078520" y="2152800"/>
            <a:chExt cx="4120920" cy="1693800"/>
          </a:xfrm>
        </p:grpSpPr>
        <p:pic>
          <p:nvPicPr>
            <p:cNvPr id="58" name="Rectangle 17" descr=""/>
            <p:cNvPicPr/>
            <p:nvPr/>
          </p:nvPicPr>
          <p:blipFill>
            <a:blip r:embed="rId2"/>
            <a:stretch/>
          </p:blipFill>
          <p:spPr>
            <a:xfrm>
              <a:off x="5078520" y="2152800"/>
              <a:ext cx="41209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181480" y="2209680"/>
              <a:ext cx="3962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Times New Roman"/>
                </a:rPr>
                <a:t>Данный тест составлен по книге Жюля Верна «Дети капитана Гранта». Пройдите тест и  проверьте, насколько внимательно вы читали произведение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25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8. Вопрос: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то произвел выстрел, спасая Роберта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ьк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990720" y="281952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уард Гленар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990720" y="403848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анг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914400" y="533412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г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46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9.Вопрос: 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ого называют кайманами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8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990720" y="388620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я тузем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011240" y="133524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67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0.Вопрос: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Главное дерево Австралии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8"/>
          <p:cNvSpPr/>
          <p:nvPr/>
        </p:nvSpPr>
        <p:spPr>
          <a:xfrm>
            <a:off x="990720" y="39625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кали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4"/>
          <p:cNvSpPr/>
          <p:nvPr/>
        </p:nvSpPr>
        <p:spPr>
          <a:xfrm>
            <a:off x="990720" y="5181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мбакс эллипт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88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1.Вопрос: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м было настоящее имя Айртона?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AutoShape 8"/>
          <p:cNvSpPr/>
          <p:nvPr/>
        </p:nvSpPr>
        <p:spPr>
          <a:xfrm>
            <a:off x="990720" y="26668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 Джо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990720" y="39625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енг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990720" y="53341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уард Гленар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-Набб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Rectangle 7"/>
          <p:cNvGrpSpPr/>
          <p:nvPr/>
        </p:nvGrpSpPr>
        <p:grpSpPr>
          <a:xfrm>
            <a:off x="49320" y="139680"/>
            <a:ext cx="8796240" cy="1098720"/>
            <a:chOff x="49320" y="139680"/>
            <a:chExt cx="8796240" cy="1098720"/>
          </a:xfrm>
        </p:grpSpPr>
        <p:pic>
          <p:nvPicPr>
            <p:cNvPr id="309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9624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2.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м образом каторжники легко могли следовать за путешественниками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8"/>
          <p:cNvSpPr/>
          <p:nvPr/>
        </p:nvSpPr>
        <p:spPr>
          <a:xfrm>
            <a:off x="990720" y="4038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ей необычные подковы с трилист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3"/>
          <p:cNvSpPr/>
          <p:nvPr/>
        </p:nvSpPr>
        <p:spPr>
          <a:xfrm>
            <a:off x="990720" y="2743200"/>
            <a:ext cx="727236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манным веткам на дерев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990720" y="5181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рубкам на дерев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5"/>
          <p:cNvSpPr/>
          <p:nvPr/>
        </p:nvSpPr>
        <p:spPr>
          <a:xfrm>
            <a:off x="990720" y="144792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мешка сыпалось 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7"/>
          <p:cNvGrpSpPr/>
          <p:nvPr/>
        </p:nvGrpSpPr>
        <p:grpSpPr>
          <a:xfrm>
            <a:off x="49320" y="139680"/>
            <a:ext cx="8978760" cy="1219320"/>
            <a:chOff x="49320" y="139680"/>
            <a:chExt cx="8978760" cy="1219320"/>
          </a:xfrm>
        </p:grpSpPr>
        <p:pic>
          <p:nvPicPr>
            <p:cNvPr id="330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9787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28600" y="228600"/>
              <a:ext cx="84787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3.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ое оружие использует только коренное население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                   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Австралии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8"/>
          <p:cNvSpPr/>
          <p:nvPr/>
        </p:nvSpPr>
        <p:spPr>
          <a:xfrm>
            <a:off x="990720" y="2590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ер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990720" y="40384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4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990720" y="13716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к и стр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351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4.Вопрос: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ая фантастическая ошибка Паганеля в конечном итоге спасла жизнь всем остальным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8"/>
          <p:cNvSpPr/>
          <p:nvPr/>
        </p:nvSpPr>
        <p:spPr>
          <a:xfrm>
            <a:off x="990720" y="3962520"/>
            <a:ext cx="7272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л судно в Новую Зеландию, а не в Австрал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 перевел найден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л не испанский, а португаль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ахнулся при выстр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372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5.Вопрос: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В чём заключалась тайна Паганеля?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AutoShape 8"/>
          <p:cNvSpPr/>
          <p:nvPr/>
        </p:nvSpPr>
        <p:spPr>
          <a:xfrm>
            <a:off x="990720" y="251460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татуир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990720" y="40384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 курить тру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990720" y="5181480"/>
            <a:ext cx="7272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е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990720" y="13716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главарем шайки разбой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393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6.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назывался остров, на котором нашли капитана Гранта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8"/>
          <p:cNvSpPr/>
          <p:nvPr/>
        </p:nvSpPr>
        <p:spPr>
          <a:xfrm>
            <a:off x="992160" y="134136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. Е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4"/>
          <p:cNvSpPr/>
          <p:nvPr/>
        </p:nvSpPr>
        <p:spPr>
          <a:xfrm>
            <a:off x="990720" y="4038480"/>
            <a:ext cx="7272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гас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5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м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40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0"/>
          <p:cNvSpPr/>
          <p:nvPr/>
        </p:nvSpPr>
        <p:spPr>
          <a:xfrm>
            <a:off x="5410080" y="6095880"/>
            <a:ext cx="350532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нач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ectangle 9"/>
          <p:cNvGrpSpPr/>
          <p:nvPr/>
        </p:nvGrpSpPr>
        <p:grpSpPr>
          <a:xfrm>
            <a:off x="633240" y="6083280"/>
            <a:ext cx="7577280" cy="853920"/>
            <a:chOff x="633240" y="6083280"/>
            <a:chExt cx="7577280" cy="853920"/>
          </a:xfrm>
        </p:grpSpPr>
        <p:pic>
          <p:nvPicPr>
            <p:cNvPr id="66" name="Rectangle 9" descr=""/>
            <p:cNvPicPr/>
            <p:nvPr/>
          </p:nvPicPr>
          <p:blipFill>
            <a:blip r:embed="rId1"/>
            <a:stretch/>
          </p:blipFill>
          <p:spPr>
            <a:xfrm>
              <a:off x="633240" y="6083280"/>
              <a:ext cx="7577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85800" y="6172200"/>
              <a:ext cx="74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Инструкция по работе с тест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4"/>
          <p:cNvGrpSpPr/>
          <p:nvPr/>
        </p:nvGrpSpPr>
        <p:grpSpPr>
          <a:xfrm>
            <a:off x="3968640" y="2097000"/>
            <a:ext cx="5083200" cy="1541520"/>
            <a:chOff x="3968640" y="2097000"/>
            <a:chExt cx="5083200" cy="1541520"/>
          </a:xfrm>
        </p:grpSpPr>
        <p:pic>
          <p:nvPicPr>
            <p:cNvPr id="69" name="TextBox 4" descr=""/>
            <p:cNvPicPr/>
            <p:nvPr/>
          </p:nvPicPr>
          <p:blipFill>
            <a:blip r:embed="rId2"/>
            <a:stretch/>
          </p:blipFill>
          <p:spPr>
            <a:xfrm>
              <a:off x="3968640" y="2097000"/>
              <a:ext cx="50832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038480" y="2133720"/>
              <a:ext cx="4953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.Каждое задание имеет 4 варианта ответа. Ты должен выбрать один правильны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. Если ты выбрал правильный ответ, появится   «плюс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3. Если ты выбрал неверный ответ, появится «минус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4. Переход к следующему заданию осуществляется по кнопке внизу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78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. Вопрос: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Дата, с которой начинается роман?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"/>
          <p:cNvSpPr/>
          <p:nvPr/>
        </p:nvSpPr>
        <p:spPr>
          <a:xfrm>
            <a:off x="990720" y="137160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6 июня 186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июля 186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886200"/>
            <a:ext cx="727236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июля 186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февраля 182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99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2. 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ая рыба доставила послание капитана Гранта?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0"/>
          <p:cNvSpPr/>
          <p:nvPr/>
        </p:nvSpPr>
        <p:spPr>
          <a:xfrm>
            <a:off x="990720" y="1447920"/>
            <a:ext cx="7272360" cy="56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38088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80880" y="1523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990720" y="39625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853452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120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3. Вопрос: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На каких языках был написан найденный документ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0"/>
          <p:cNvSpPr/>
          <p:nvPr/>
        </p:nvSpPr>
        <p:spPr>
          <a:xfrm>
            <a:off x="990720" y="152388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, русский, неме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457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, португальский, 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990720" y="3886200"/>
            <a:ext cx="727236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, немецкий, италья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990720" y="5181480"/>
            <a:ext cx="7272360" cy="6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, немецкий, француз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3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141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4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называлось судно, на котором потерпел крушение капитан Грант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8"/>
          <p:cNvSpPr/>
          <p:nvPr/>
        </p:nvSpPr>
        <p:spPr>
          <a:xfrm>
            <a:off x="992160" y="134136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ве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990720" y="4038480"/>
            <a:ext cx="7272360" cy="5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990720" y="5334120"/>
            <a:ext cx="7272360" cy="54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таг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162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5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ой язык выучил Паганель вместо испанского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уга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990720" y="3962520"/>
            <a:ext cx="7272360" cy="5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лан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ectangle 7"/>
          <p:cNvGrpSpPr/>
          <p:nvPr/>
        </p:nvGrpSpPr>
        <p:grpSpPr>
          <a:xfrm>
            <a:off x="201600" y="139680"/>
            <a:ext cx="8710560" cy="853920"/>
            <a:chOff x="201600" y="139680"/>
            <a:chExt cx="8710560" cy="853920"/>
          </a:xfrm>
        </p:grpSpPr>
        <p:pic>
          <p:nvPicPr>
            <p:cNvPr id="183" name="Rectangle 7" descr=""/>
            <p:cNvPicPr/>
            <p:nvPr/>
          </p:nvPicPr>
          <p:blipFill>
            <a:blip r:embed="rId1"/>
            <a:stretch/>
          </p:blipFill>
          <p:spPr>
            <a:xfrm>
              <a:off x="20160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0880" y="228600"/>
              <a:ext cx="84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6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звали детей капитана Гранта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8"/>
          <p:cNvSpPr/>
          <p:nvPr/>
        </p:nvSpPr>
        <p:spPr>
          <a:xfrm>
            <a:off x="990720" y="1447920"/>
            <a:ext cx="7272360" cy="56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я, Миш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, Роб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914400" y="396252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, Э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990720" y="5257800"/>
            <a:ext cx="7272360" cy="62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изабет, 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99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204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7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е горы в Южной Америке преодолели путешественники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990720" y="256536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990720" y="388620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диль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990720" y="5181480"/>
            <a:ext cx="7272360" cy="6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ен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3-02-15T08:13:0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