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6B9-130B-4C68-B6B7-94F2AE82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4CC-0540-4FD7-BD75-A1A6B99A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874F-A607-450E-A54F-FB567E4F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7B8-9FEB-4AC4-B56E-5C76C348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72B6-6123-446C-AD06-2CC1CA1B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1E80-3795-47F3-8CD1-ADA0136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2E94-4A09-4305-8C37-1CDB9510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B116-5BD5-43C7-91CF-C03BE087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7EF0-A8BF-43C2-966E-C645A55E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1B15-17B7-4D9F-95CD-CCC9F360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C10E-1D64-45AB-843D-D807A6D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2D7-9279-4CD4-9518-8FDC6062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0D25-0AD6-4490-9BCE-4BDFB92A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6D3A-5A53-4EA9-A6CF-C70FCDE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CCEC-810E-4F11-9B29-2F340F3E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375B-0D1D-48B8-B382-A4407B85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B298-46D9-4F2D-8B1D-645A18AF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629-86DF-429A-BEE2-C7CE47FD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139-B94C-4948-BE98-59076C20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E4B-8D82-4FA1-AF8B-8C0D8A56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73C-F62E-42E6-9C57-00218756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CD1-1CF8-4DCB-885B-F1EFEAF1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904-893F-47B0-BE9E-A738D6D5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0D8-9E7E-47CD-AD46-56BB598C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04FE-DA80-4152-B8DA-A7CB9C82857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A018-7EF9-4164-8FEB-8B62B42ACE6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c4c3aa"/>
                </a:solidFill>
                <a:latin typeface="Arial"/>
              </a:rPr>
              <a:t>УКРАЇНА </a:t>
            </a:r>
            <a:br>
              <a:rPr sz="8000"/>
            </a:br>
            <a:r>
              <a:rPr b="0" lang="uk-UA" sz="8000" spc="-1" strike="noStrike">
                <a:solidFill>
                  <a:srgbClr val="c4c3aa"/>
                </a:solidFill>
                <a:latin typeface="Arial"/>
              </a:rPr>
              <a:t>Й</a:t>
            </a:r>
            <a:br>
              <a:rPr sz="8000"/>
            </a:br>
            <a:r>
              <a:rPr b="0" lang="uk-UA" sz="8000" spc="-1" strike="noStrike">
                <a:solidFill>
                  <a:srgbClr val="c4c3aa"/>
                </a:solidFill>
                <a:latin typeface="Arial"/>
              </a:rPr>
              <a:t>КОСМОНАВТИКА</a:t>
            </a:r>
            <a:r>
              <a:rPr b="0" lang="uk-UA" sz="4700" spc="-1" strike="noStrike">
                <a:solidFill>
                  <a:srgbClr val="c4c3aa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ВАЛЕНТИН ГЛУШКО (1908-1989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392280" cy="4753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 rot="465000">
            <a:off x="7164360" y="3357720"/>
            <a:ext cx="1832040" cy="28922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 rot="20887800">
            <a:off x="4067280" y="4292640"/>
            <a:ext cx="2736720" cy="2190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ПАВЛО ПОПОВИЧ (1930 р.)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32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Чув не раз я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ро любов до мор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І до неба в серці ніс люб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ід високим голубим просторо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Безліч кілометрів сам пройш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Я іду, Галактико! Завія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 шляху не спинить мій прилі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розумійте, зорі, син Землі я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Це від неї вам несу привіт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А якщо ж десь в зоряному неб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ід сліпим дощем я упаду, 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Земле, буду линути до тебе –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І в тобі продовження знайд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. Попович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057640" y="1341360"/>
            <a:ext cx="3773520" cy="5327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Українські космонавт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560" y="5660640"/>
            <a:ext cx="889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Романенко Ю.В.     Филипченко А.В.     Атьков О.Ю.      Савіних В.П.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2120760" cy="3529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064280" y="1700280"/>
            <a:ext cx="2079720" cy="35290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2340000" y="1700280"/>
            <a:ext cx="2376360" cy="35290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4859280" y="1700280"/>
            <a:ext cx="2092320" cy="35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ЛЕОНІД КАДЕНЮК (1951 р.н.)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fffff"/>
                </a:solidFill>
                <a:latin typeface="Verdana"/>
              </a:rPr>
              <a:t>ПЕРШИЙ КОСМОНАВТ НЕЗАЛЕЖНОЇ УКРАЇН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Verdana"/>
              </a:rPr>
              <a:t>ГЕРОЙ УКРАЇ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2280" y="1341360"/>
            <a:ext cx="4262400" cy="5327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Леонід Каденю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403280" y="1552680"/>
            <a:ext cx="6624720" cy="504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c4c3aa"/>
                </a:solidFill>
                <a:uFillTx/>
                <a:latin typeface="Arial"/>
              </a:rPr>
              <a:t>Українські космічні підприємства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КОМУНАР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АРСЕНАЛ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ОНОЛІТ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ЄВПАТОРІЙСЬКИЙ КОСМІЧНИЙ ЦЕНТ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М.К.ЯНГЕЛЬ         </a:t>
            </a: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Конструкторське бюр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ВДЕННЕ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84800" cy="48956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206960" cy="525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Українське конструкторське бюро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 “ПІВДЕННЕ” (1954 р.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4581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>
                <a:solidFill>
                  <a:srgbClr val="ffffff"/>
                </a:solidFill>
                <a:latin typeface="바탕"/>
              </a:rPr>
              <a:t>ДЯКУЄМО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1" i="1" lang="uk-UA" sz="8800" spc="-1" strike="noStrike">
                <a:solidFill>
                  <a:srgbClr val="ffffff"/>
                </a:solidFill>
                <a:latin typeface="바탕"/>
              </a:rPr>
              <a:t>ЗА УВАГУ !!!</a:t>
            </a:r>
            <a:endParaRPr b="0" lang="en-US" sz="8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95280" y="50760"/>
            <a:ext cx="8209080" cy="671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12 КВІТНЯ 1961 РІ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С.П. Короле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Ю.О. Гагарі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43280" cy="4464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456000" cy="4427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4 ЖОВТНЯ 1957 РІ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Verdana"/>
              </a:rPr>
              <a:t>ПЕРШИЙ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Verdana"/>
              </a:rPr>
              <a:t>У СВІТІ ШТУЧНИЙ СУПУТНИК ЗЕМЛ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 rot="21149400">
            <a:off x="324000" y="1557000"/>
            <a:ext cx="4481280" cy="475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4 СІЧНЯ 1959 рі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Verdana"/>
              </a:rPr>
              <a:t>СРС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Verdana"/>
              </a:rPr>
              <a:t>Запуск першого штучного супутника Сонц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uk-UA" sz="4000" spc="-1" strike="noStrike">
                <a:solidFill>
                  <a:srgbClr val="ffffff"/>
                </a:solidFill>
                <a:latin typeface="Verdana"/>
              </a:rPr>
              <a:t>Місяць - 1”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297320" cy="525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1881 рік – Микола Іванович Кибальчич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105440" cy="4968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743280" cy="4968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4c3aa"/>
                </a:solidFill>
                <a:latin typeface="Arial"/>
              </a:rPr>
              <a:t>К. Е. ЦІОЛКОВСЬКИЙ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475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роил на бумаге физик гениальн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ервые ракеты, первый космодр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таренькой Калуге мир провинциальны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крестил ученого старым чудак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д окошком шли южные метели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 мудрец фантазии разжигал костер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Человек не будет вечно в колыбе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йдет он на солнечный прост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ыстро пролетели голубые весны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Шел провидец к цели и не знал о том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то Колумб вселенной по тропинке росн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бежал на встречу Солнцу босик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32000" y="1484280"/>
            <a:ext cx="4211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4905360" y="1341360"/>
            <a:ext cx="4238640" cy="5256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Ю.В. КОНДРАТЮК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208320" cy="5184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664160" y="1628640"/>
            <a:ext cx="3940200" cy="4824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35280" y="260280"/>
            <a:ext cx="5051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                       </a:t>
            </a:r>
            <a:r>
              <a:rPr b="0" lang="uk-UA" sz="4000" spc="-1" strike="noStrike">
                <a:solidFill>
                  <a:srgbClr val="c4c3aa"/>
                </a:solidFill>
                <a:latin typeface="Arial"/>
              </a:rPr>
              <a:t>СЕРГІЙ КОРОЛЬОВ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6360" y="1413000"/>
            <a:ext cx="3566880" cy="51847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2328840" cy="2735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4176720" cy="27846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04:22:17Z</dcterms:created>
  <dc:creator>1</dc:creator>
  <dc:description/>
  <dc:language>en-US</dc:language>
  <cp:lastModifiedBy>1</cp:lastModifiedBy>
  <dcterms:modified xsi:type="dcterms:W3CDTF">2012-04-11T09:21:10Z</dcterms:modified>
  <cp:revision>6</cp:revision>
  <dc:subject/>
  <dc:title>УКРАЇНА  Й КОСМОНАВТИКА </dc:title>
</cp:coreProperties>
</file>