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269-1FB5-421F-ABF3-C4F78980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6A0-DB9E-4EDB-A456-9FB4501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2B4-0698-42F9-98DA-ACE9E052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6A3-0C95-47CB-9047-CB17AFE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E7D4-58C3-4C2E-AA40-5A4FF28A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6FD-32F3-4285-977A-BA77D3E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E74-B75E-429D-BC40-EDADFFB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6B60-EA73-44CF-86ED-697FCCEF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F28B-CAC1-472F-9C08-6BB64395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2DE2-5F7C-4EF0-BFF4-F31BE19A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F488-BFEE-4860-AAE6-77097B1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429-8894-4482-8C74-2CEC43BE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CE32-5C1B-4B26-B2C2-376F07F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C372-9E95-451B-85CC-1C06AAD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411-3C5F-43D5-8755-2783457C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41E0-F7CA-4F9E-88A8-E85A5F37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D4CF-B74C-44E6-A4C5-BF6123A3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55E-9B60-46D1-A556-069A68E3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772-EAC2-412A-A7C1-141A1057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EC4-BE8F-47D3-9095-939C9EE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66A-E1F4-496C-8E34-44075E4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384-F2F9-4EBF-AF01-884B13A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B1C-AAE8-4F6A-B42F-4C0CF54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B3F-7FE0-40F7-A5F0-FBC0803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A1C-AC6A-4651-B424-D47675917B4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BA1F-CB75-4AC7-BA26-9A9BC971B31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4c3aa"/>
                </a:solidFill>
                <a:latin typeface="Arial"/>
              </a:rPr>
              <a:t>УКРАЇНА </a:t>
            </a:r>
            <a:br>
              <a:rPr sz="8000"/>
            </a:br>
            <a:r>
              <a:rPr b="0" lang="uk-UA" sz="8000" spc="-1" strike="noStrike">
                <a:solidFill>
                  <a:srgbClr val="c4c3aa"/>
                </a:solidFill>
                <a:latin typeface="Arial"/>
              </a:rPr>
              <a:t>Й</a:t>
            </a:r>
            <a:br>
              <a:rPr sz="8000"/>
            </a:br>
            <a:r>
              <a:rPr b="0" lang="uk-UA" sz="8000" spc="-1" strike="noStrike">
                <a:solidFill>
                  <a:srgbClr val="c4c3aa"/>
                </a:solidFill>
                <a:latin typeface="Arial"/>
              </a:rPr>
              <a:t>КОСМОНАВТИКА</a:t>
            </a:r>
            <a:r>
              <a:rPr b="0" lang="uk-UA" sz="47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ВАЛЕНТИН ГЛУШКО (1908-1989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92280" cy="4753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 rot="465000">
            <a:off x="7164360" y="3357720"/>
            <a:ext cx="1832040" cy="2892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 rot="20887800">
            <a:off x="4067280" y="4292640"/>
            <a:ext cx="2736720" cy="2190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ПАВЛО ПОПОВИЧ (1930 р.)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32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Чув не раз я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ро любов до мор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 до неба в серці ніс люб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ід високим голубим простор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езліч кілометрів сам пройш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Я іду, Галактико! Заві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 шляху не спинить мій прилі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розумійте, зорі, син Землі я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Це від неї вам несу привіт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А якщо ж десь в зоряному неб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ід сліпим дощем я упаду, 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емле, буду линути до тебе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 в тобі продовження знайд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. Попови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057640" y="1341360"/>
            <a:ext cx="3773520" cy="53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Українські космонавт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560" y="566064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маненко Ю.В.     Филипченко А.В.     Атьков О.Ю.      Савіних В.П.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2120760" cy="3529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064280" y="1700280"/>
            <a:ext cx="2079720" cy="3529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340000" y="170028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2092320" cy="35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ЛЕОНІД КАДЕНЮК (1951 р.н.)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Verdana"/>
              </a:rPr>
              <a:t>ПЕРШИЙ КОСМОНАВТ НЕЗАЛЕЖНОЇ УКРАЇН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Verdana"/>
              </a:rPr>
              <a:t>ГЕРОЙ УКРАЇ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2280" y="1341360"/>
            <a:ext cx="4262400" cy="53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Леонід Каденю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403280" y="1552680"/>
            <a:ext cx="6624720" cy="504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c4c3aa"/>
                </a:solidFill>
                <a:uFillTx/>
                <a:latin typeface="Arial"/>
              </a:rPr>
              <a:t>Українські космічні підприємства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МУНАР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РСЕНАЛ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НОЛІТ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ВПАТОРІЙСЬКИЙ КОСМІЧНИЙ ЦЕНТ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М.К.ЯНГЕЛЬ     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Конструкторське бюр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ВДЕННЕ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84800" cy="4895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206960" cy="52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Українське конструкторське бюро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 “ПІВДЕННЕ” (1954 р.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4581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ff"/>
                </a:solidFill>
                <a:latin typeface="바탕"/>
              </a:rPr>
              <a:t>ДЯКУЄМО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1" i="1" lang="uk-UA" sz="8800" spc="-1" strike="noStrike">
                <a:solidFill>
                  <a:srgbClr val="ffffff"/>
                </a:solidFill>
                <a:latin typeface="바탕"/>
              </a:rPr>
              <a:t>ЗА УВАГУ !!!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95280" y="50760"/>
            <a:ext cx="8209080" cy="671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12 КВІТНЯ 1961 РІ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С.П. Короле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Ю.О. Гагарі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43280" cy="4464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44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4 ЖОВТНЯ 1957 РІ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Verdana"/>
              </a:rPr>
              <a:t>ПЕРШИЙ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Verdana"/>
              </a:rPr>
              <a:t>У СВІТІ ШТУЧНИЙ СУПУТНИК ЗЕМЛ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 rot="21149400">
            <a:off x="324000" y="1557000"/>
            <a:ext cx="4481280" cy="47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4 СІЧНЯ 1959 рі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СРС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Запуск першого штучного супутника Сонц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Місяць - 1”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297320" cy="52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1881 рік – Микола Іванович Кибальчич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05440" cy="4968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43280" cy="496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К. Е. ЦІОЛКОВСЬКИЙ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7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роил на бумаге физик гениаль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вые ракеты, первый космодр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таренькой Калуге мир провинциаль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крестил ученого старым чудак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 окошком шли южные метел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мудрец фантазии разжигал костер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Человек не будет вечно в колыбе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йдет он на солнечный прост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стро пролетели голубые весны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Шел провидец к цели и не знал о том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о Колумб вселенной по тропинке росн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бежал на встречу Солнцу босик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32000" y="1484280"/>
            <a:ext cx="42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905360" y="1341360"/>
            <a:ext cx="4238640" cy="525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Ю.В. КОНДРАТЮ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208320" cy="5184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64160" y="1628640"/>
            <a:ext cx="3940200" cy="4824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051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                       </a:t>
            </a: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СЕРГІЙ КОРОЛЬ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6360" y="1413000"/>
            <a:ext cx="3566880" cy="5184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2328840" cy="2735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4:22:17Z</dcterms:created>
  <dc:creator>1</dc:creator>
  <dc:description/>
  <dc:language>en-US</dc:language>
  <cp:lastModifiedBy>1</cp:lastModifiedBy>
  <dcterms:modified xsi:type="dcterms:W3CDTF">2012-04-11T09:21:10Z</dcterms:modified>
  <cp:revision>6</cp:revision>
  <dc:subject/>
  <dc:title>УКРАЇНА  Й КОСМОНАВТИКА </dc:title>
</cp:coreProperties>
</file>