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BFBBB-1785-4514-87FF-8123B0CFE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E077-B7E5-4A59-97C0-C25DAB075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25A70-EB7D-462E-A284-B89EDC278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320E1-274F-442C-9042-80516433E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1AE99F-2A3A-4211-B090-7D7E2F359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0DA86-1542-4DCB-8E14-07F554A5D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6AB1D-6914-4B00-AEB1-559EAFF41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F391C-1140-4AD5-8C23-E006B21B8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D3C19-4BF4-4BD7-9E33-3F2E1584F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64328-0542-4B1C-9173-F97C8611F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1F68E-8145-4D10-9B2D-206077127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C7D8E-8476-44EE-A78F-F1654CACA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A9430-8664-4F73-8470-59B03DCC1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49B21-341C-4DDF-80B7-CCCCB6CDB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88EFA-6ADD-4B28-946E-F8BE959FB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BE9D3-FDDD-4536-9CD6-09A367D73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E50BA-3C9F-4947-A091-C64860CDE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188C3-0A69-4243-A530-BA9830E9F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2A384-F302-4AF5-8786-9116BD925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1727F-CAEB-43A1-B01B-1CB7CE4F9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B2CD6-49A1-4DBC-BB00-BC22056D9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94B37-F996-4FFE-BC00-46A484157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42301-031D-4FAE-9DE7-82E9551FE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A845F-8092-4A4D-8CDD-5DC4572E2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gd name="textAreaLeft" fmla="*/ 0 w 884520"/>
                      <a:gd name="textAreaRight" fmla="*/ 884880 w 88452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gd name="textAreaLeft" fmla="*/ 0 w 474480"/>
                      <a:gd name="textAreaRight" fmla="*/ 47484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gd name="textAreaLeft" fmla="*/ 0 w 931320"/>
                      <a:gd name="textAreaRight" fmla="*/ 93168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gd name="textAreaLeft" fmla="*/ 0 w 499680"/>
                      <a:gd name="textAreaRight" fmla="*/ 500040 w 499680"/>
                      <a:gd name="textAreaTop" fmla="*/ 0 h 279360"/>
                      <a:gd name="textAreaBottom" fmla="*/ 279720 h 279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gd name="textAreaLeft" fmla="*/ 0 w 890280"/>
                      <a:gd name="textAreaRight" fmla="*/ 89064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gd name="textAreaLeft" fmla="*/ 0 w 478080"/>
                      <a:gd name="textAreaRight" fmla="*/ 47844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gd name="textAreaLeft" fmla="*/ 0 w 860040"/>
                      <a:gd name="textAreaRight" fmla="*/ 860400 w 860040"/>
                      <a:gd name="textAreaTop" fmla="*/ 0 h 172080"/>
                      <a:gd name="textAreaBottom" fmla="*/ 172440 h 172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gd name="textAreaLeft" fmla="*/ 0 w 461880"/>
                      <a:gd name="textAreaRight" fmla="*/ 462240 w 46188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gd name="textAreaLeft" fmla="*/ 0 w 792720"/>
                      <a:gd name="textAreaRight" fmla="*/ 793080 w 79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gd name="textAreaLeft" fmla="*/ 0 w 425880"/>
                      <a:gd name="textAreaRight" fmla="*/ 426240 w 4258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gd name="textAreaLeft" fmla="*/ 0 w 386640"/>
                      <a:gd name="textAreaRight" fmla="*/ 387000 w 38664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gd name="textAreaLeft" fmla="*/ 0 w 339840"/>
                      <a:gd name="textAreaRight" fmla="*/ 340200 w 33984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gd name="textAreaLeft" fmla="*/ 360 w 884880"/>
                      <a:gd name="textAreaRight" fmla="*/ 885600 w 8848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gd name="textAreaLeft" fmla="*/ 360 w 474480"/>
                      <a:gd name="textAreaRight" fmla="*/ 47520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gd name="textAreaLeft" fmla="*/ -360 w 931320"/>
                      <a:gd name="textAreaRight" fmla="*/ 93132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gd name="textAreaLeft" fmla="*/ 360 w 890640"/>
                      <a:gd name="textAreaRight" fmla="*/ 89136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gd name="textAreaLeft" fmla="*/ 360 w 478080"/>
                      <a:gd name="textAreaRight" fmla="*/ 47880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gd name="textAreaLeft" fmla="*/ 360 w 860400"/>
                      <a:gd name="textAreaRight" fmla="*/ 861120 w 86040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gd name="textAreaLeft" fmla="*/ -360 w 461880"/>
                      <a:gd name="textAreaRight" fmla="*/ 461880 w 46188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gd name="textAreaLeft" fmla="*/ -360 w 792360"/>
                      <a:gd name="textAreaRight" fmla="*/ 792360 w 792360"/>
                      <a:gd name="textAreaTop" fmla="*/ 0 h 159480"/>
                      <a:gd name="textAreaBottom" fmla="*/ 159840 h 159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gd name="textAreaLeft" fmla="*/ 360 w 425520"/>
                      <a:gd name="textAreaRight" fmla="*/ 426240 w 4255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gd name="textAreaLeft" fmla="*/ -360 w 387000"/>
                      <a:gd name="textAreaRight" fmla="*/ 38700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gd name="textAreaLeft" fmla="*/ -360 w 339480"/>
                      <a:gd name="textAreaRight" fmla="*/ 33948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gd name="textAreaLeft" fmla="*/ 360 w 632160"/>
                      <a:gd name="textAreaRight" fmla="*/ 632880 w 6321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gd name="textAreaLeft" fmla="*/ 360 w 339840"/>
                      <a:gd name="textAreaRight" fmla="*/ 34056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gd name="textAreaLeft" fmla="*/ 360 w 633600"/>
                      <a:gd name="textAreaRight" fmla="*/ 634320 w 63360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gd name="textAreaLeft" fmla="*/ 360 w 339840"/>
                      <a:gd name="textAreaRight" fmla="*/ 340560 w 3398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gd name="textAreaLeft" fmla="*/ -360 w 641880"/>
                      <a:gd name="textAreaRight" fmla="*/ 641880 w 6418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gd name="textAreaLeft" fmla="*/ 0 w 345240"/>
                      <a:gd name="textAreaRight" fmla="*/ 345240 w 3452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gd name="textAreaLeft" fmla="*/ -360 w 564840"/>
                      <a:gd name="textAreaRight" fmla="*/ 564840 w 5648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gd name="textAreaLeft" fmla="*/ -360 w 303480"/>
                      <a:gd name="textAreaRight" fmla="*/ 303480 w 303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gd name="textAreaLeft" fmla="*/ -360 w 543960"/>
                      <a:gd name="textAreaRight" fmla="*/ 543960 w 5439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gd name="textAreaLeft" fmla="*/ 360 w 292320"/>
                      <a:gd name="textAreaRight" fmla="*/ 293040 w 29232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gd name="textAreaLeft" fmla="*/ 0 w 632160"/>
                      <a:gd name="textAreaRight" fmla="*/ 632520 w 6321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gd name="textAreaLeft" fmla="*/ 0 w 339480"/>
                      <a:gd name="textAreaRight" fmla="*/ 339840 w 339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gd name="textAreaLeft" fmla="*/ 0 w 633240"/>
                      <a:gd name="textAreaRight" fmla="*/ 633600 w 63324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gd name="textAreaLeft" fmla="*/ 0 w 339840"/>
                      <a:gd name="textAreaRight" fmla="*/ 34020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gd name="textAreaLeft" fmla="*/ 360 w 282240"/>
                    <a:gd name="textAreaRight" fmla="*/ 282960 w 282240"/>
                    <a:gd name="textAreaTop" fmla="*/ 0 h 117720"/>
                    <a:gd name="textAreaBottom" fmla="*/ 118080 h 117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gd name="textAreaLeft" fmla="*/ 0 w 545040"/>
                      <a:gd name="textAreaRight" fmla="*/ 545400 w 545040"/>
                      <a:gd name="textAreaTop" fmla="*/ 0 h 94320"/>
                      <a:gd name="textAreaBottom" fmla="*/ 94680 h 94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gd name="textAreaLeft" fmla="*/ 0 w 292320"/>
                      <a:gd name="textAreaRight" fmla="*/ 292680 w 292320"/>
                      <a:gd name="textAreaTop" fmla="*/ 0 h 148320"/>
                      <a:gd name="textAreaBottom" fmla="*/ 148680 h 14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gd name="textAreaLeft" fmla="*/ 0 w 592560"/>
                      <a:gd name="textAreaRight" fmla="*/ 592920 w 592560"/>
                      <a:gd name="textAreaTop" fmla="*/ 0 h 138240"/>
                      <a:gd name="textAreaBottom" fmla="*/ 138600 h 138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gd name="textAreaLeft" fmla="*/ 0 w 317880"/>
                      <a:gd name="textAreaRight" fmla="*/ 318240 w 317880"/>
                      <a:gd name="textAreaTop" fmla="*/ 0 h 216360"/>
                      <a:gd name="textAreaBottom" fmla="*/ 216720 h 216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gd name="textAreaLeft" fmla="*/ 0 w 488880"/>
                      <a:gd name="textAreaRight" fmla="*/ 489240 w 488880"/>
                      <a:gd name="textAreaTop" fmla="*/ 0 h 43920"/>
                      <a:gd name="textAreaBottom" fmla="*/ 44280 h 43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gd name="textAreaLeft" fmla="*/ 0 w 262440"/>
                      <a:gd name="textAreaRight" fmla="*/ 262800 w 262440"/>
                      <a:gd name="textAreaTop" fmla="*/ 0 h 69120"/>
                      <a:gd name="textAreaBottom" fmla="*/ 69480 h 69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gd name="textAreaLeft" fmla="*/ 360 w 884160"/>
                      <a:gd name="textAreaRight" fmla="*/ 88488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gd name="textAreaLeft" fmla="*/ -360 w 474120"/>
                      <a:gd name="textAreaRight" fmla="*/ 474120 w 4741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gd name="textAreaLeft" fmla="*/ -360 w 818280"/>
                      <a:gd name="textAreaRight" fmla="*/ 818280 w 8182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gd name="textAreaLeft" fmla="*/ 360 w 439200"/>
                      <a:gd name="textAreaRight" fmla="*/ 439920 w 43920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gd name="textAreaLeft" fmla="*/ -360 w 785160"/>
                      <a:gd name="textAreaRight" fmla="*/ 785160 w 785160"/>
                      <a:gd name="textAreaTop" fmla="*/ 0 h 144000"/>
                      <a:gd name="textAreaBottom" fmla="*/ 144360 h 144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gd name="textAreaLeft" fmla="*/ 360 w 421200"/>
                      <a:gd name="textAreaRight" fmla="*/ 421920 w 421200"/>
                      <a:gd name="textAreaTop" fmla="*/ 0 h 226440"/>
                      <a:gd name="textAreaBottom" fmla="*/ 226800 h 22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gd name="textAreaLeft" fmla="*/ 0 w 884880"/>
                      <a:gd name="textAreaRight" fmla="*/ 885240 w 88488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gd name="textAreaLeft" fmla="*/ 0 w 474480"/>
                      <a:gd name="textAreaRight" fmla="*/ 474840 w 47448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gd name="textAreaLeft" fmla="*/ 0 w 846720"/>
                      <a:gd name="textAreaRight" fmla="*/ 847080 w 84672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gd name="textAreaLeft" fmla="*/ 0 w 821160"/>
                      <a:gd name="textAreaRight" fmla="*/ 821520 w 8211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gd name="textAreaLeft" fmla="*/ 0 w 440280"/>
                      <a:gd name="textAreaRight" fmla="*/ 440640 w 44028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gd name="textAreaLeft" fmla="*/ 0 w 754920"/>
                      <a:gd name="textAreaRight" fmla="*/ 755280 w 754920"/>
                      <a:gd name="textAreaTop" fmla="*/ 0 h 126000"/>
                      <a:gd name="textAreaBottom" fmla="*/ 126360 h 126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gd name="textAreaLeft" fmla="*/ 0 w 405360"/>
                      <a:gd name="textAreaRight" fmla="*/ 405720 w 40536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gd name="textAreaLeft" fmla="*/ 0 w 737640"/>
                      <a:gd name="textAreaRight" fmla="*/ 738000 w 737640"/>
                      <a:gd name="textAreaTop" fmla="*/ 0 h 96480"/>
                      <a:gd name="textAreaBottom" fmla="*/ 96840 h 96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gd name="textAreaLeft" fmla="*/ 0 w 395640"/>
                      <a:gd name="textAreaRight" fmla="*/ 396000 w 39564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gd name="textAreaLeft" fmla="*/ 360 w 249840"/>
                  <a:gd name="textAreaRight" fmla="*/ 250560 w 24984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gd name="textAreaLeft" fmla="*/ 360 w 637200"/>
                  <a:gd name="textAreaRight" fmla="*/ 637920 w 63720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gd name="textAreaLeft" fmla="*/ -360 w 1035000"/>
                  <a:gd name="textAreaRight" fmla="*/ 1035000 w 1035000"/>
                  <a:gd name="textAreaTop" fmla="*/ 0 h 1219680"/>
                  <a:gd name="textAreaBottom" fmla="*/ 1220040 h 12196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gd name="textAreaLeft" fmla="*/ 0 w 515520"/>
                  <a:gd name="textAreaRight" fmla="*/ 515880 w 515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gd name="textAreaLeft" fmla="*/ 0 w 248400"/>
                  <a:gd name="textAreaRight" fmla="*/ 248760 w 24840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gd name="textAreaLeft" fmla="*/ 0 w 226080"/>
                  <a:gd name="textAreaRight" fmla="*/ 226440 w 226080"/>
                  <a:gd name="textAreaTop" fmla="*/ -360 h 429480"/>
                  <a:gd name="textAreaBottom" fmla="*/ 429480 h 429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gd name="textAreaLeft" fmla="*/ -360 w 948600"/>
                  <a:gd name="textAreaRight" fmla="*/ 948600 w 94860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gd name="textAreaLeft" fmla="*/ 0 w 391320"/>
                  <a:gd name="textAreaRight" fmla="*/ 391680 w 391320"/>
                  <a:gd name="textAreaTop" fmla="*/ 0 h 1182960"/>
                  <a:gd name="textAreaBottom" fmla="*/ 1183320 h 11829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gd name="textAreaLeft" fmla="*/ -360 w 556200"/>
                  <a:gd name="textAreaRight" fmla="*/ 556200 w 55620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gd name="textAreaLeft" fmla="*/ 0 w 357120"/>
                  <a:gd name="textAreaRight" fmla="*/ 357120 w 35712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gd name="textAreaLeft" fmla="*/ 0 w 778680"/>
                  <a:gd name="textAreaRight" fmla="*/ 779040 w 778680"/>
                  <a:gd name="textAreaTop" fmla="*/ 0 h 548280"/>
                  <a:gd name="textAreaBottom" fmla="*/ 548280 h 548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gd name="textAreaLeft" fmla="*/ 0 w 340200"/>
                  <a:gd name="textAreaRight" fmla="*/ 340560 w 340200"/>
                  <a:gd name="textAreaTop" fmla="*/ 0 h 735480"/>
                  <a:gd name="textAreaBottom" fmla="*/ 735840 h 735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gd name="textAreaLeft" fmla="*/ 0 w 227520"/>
                  <a:gd name="textAreaRight" fmla="*/ 227880 w 22752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gd name="textAreaLeft" fmla="*/ -360 w 226440"/>
                  <a:gd name="textAreaRight" fmla="*/ 226440 w 22644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C775-D6C1-4130-B8D6-B4FE2822CF3B}"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gd name="textAreaLeft" fmla="*/ 0 w 2125440"/>
                        <a:gd name="textAreaRight" fmla="*/ 212580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gd name="textAreaLeft" fmla="*/ 0 w 2236680"/>
                        <a:gd name="textAreaRight" fmla="*/ 223704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gd name="textAreaLeft" fmla="*/ 0 w 1200600"/>
                        <a:gd name="textAreaRight" fmla="*/ 1200960 w 120060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gd name="textAreaLeft" fmla="*/ 0 w 1110600"/>
                        <a:gd name="textAreaRight" fmla="*/ 111096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gd name="textAreaLeft" fmla="*/ 0 w 1023480"/>
                        <a:gd name="textAreaRight" fmla="*/ 1023840 w 102348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gd name="textAreaLeft" fmla="*/ 0 w 816480"/>
                        <a:gd name="textAreaRight" fmla="*/ 81684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gd name="textAreaLeft" fmla="*/ -360 w 2125800"/>
                        <a:gd name="textAreaRight" fmla="*/ 212580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gd name="textAreaLeft" fmla="*/ -360 w 1140840"/>
                        <a:gd name="textAreaRight" fmla="*/ 1140840 w 11408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gd name="textAreaLeft" fmla="*/ -360 w 2236680"/>
                        <a:gd name="textAreaRight" fmla="*/ 223668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gd name="textAreaLeft" fmla="*/ 360 w 1200960"/>
                        <a:gd name="textAreaRight" fmla="*/ 120168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gd name="textAreaLeft" fmla="*/ -360 w 1110600"/>
                        <a:gd name="textAreaRight" fmla="*/ 111060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gd name="textAreaLeft" fmla="*/ -360 w 1904760"/>
                        <a:gd name="textAreaRight" fmla="*/ 1904760 w 190476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gd name="textAreaLeft" fmla="*/ -360 w 816120"/>
                        <a:gd name="textAreaRight" fmla="*/ 81612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gd name="textAreaLeft" fmla="*/ 360 w 816480"/>
                        <a:gd name="textAreaRight" fmla="*/ 81720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gd name="textAreaLeft" fmla="*/ -360 w 816120"/>
                        <a:gd name="textAreaRight" fmla="*/ 81612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gd name="textAreaLeft" fmla="*/ -360 w 828360"/>
                        <a:gd name="textAreaRight" fmla="*/ 828360 w 8283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gd name="textAreaLeft" fmla="*/ 360 w 1356480"/>
                        <a:gd name="textAreaRight" fmla="*/ 1357200 w 13564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gd name="textAreaLeft" fmla="*/ 0 w 816120"/>
                        <a:gd name="textAreaRight" fmla="*/ 81648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gd name="textAreaLeft" fmla="*/ 0 w 1266120"/>
                      <a:gd name="textAreaRight" fmla="*/ 1266120 w 126612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gd name="textAreaLeft" fmla="*/ 0 w 702360"/>
                        <a:gd name="textAreaRight" fmla="*/ 702720 w 702360"/>
                        <a:gd name="textAreaTop" fmla="*/ 0 h 356040"/>
                        <a:gd name="textAreaBottom" fmla="*/ 356400 h 356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gd name="textAreaLeft" fmla="*/ 0 w 764280"/>
                        <a:gd name="textAreaRight" fmla="*/ 764640 w 76428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gd name="textAreaLeft" fmla="*/ 0 w 631080"/>
                        <a:gd name="textAreaRight" fmla="*/ 631440 w 631080"/>
                        <a:gd name="textAreaTop" fmla="*/ 0 h 165960"/>
                        <a:gd name="textAreaBottom" fmla="*/ 166320 h 165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gd name="textAreaLeft" fmla="*/ 360 w 2125440"/>
                        <a:gd name="textAreaRight" fmla="*/ 212616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gd name="textAreaLeft" fmla="*/ 360 w 1140480"/>
                        <a:gd name="textAreaRight" fmla="*/ 114120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gd name="textAreaLeft" fmla="*/ -360 w 1966680"/>
                        <a:gd name="textAreaRight" fmla="*/ 1966680 w 1966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gd name="textAreaLeft" fmla="*/ -360 w 1055160"/>
                        <a:gd name="textAreaRight" fmla="*/ 1055160 w 105516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gd name="textAreaLeft" fmla="*/ 0 w 2125800"/>
                        <a:gd name="textAreaRight" fmla="*/ 212616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gd name="textAreaLeft" fmla="*/ 0 w 2034360"/>
                        <a:gd name="textAreaRight" fmla="*/ 2034720 w 203436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gd name="textAreaLeft" fmla="*/ 0 w 1091160"/>
                        <a:gd name="textAreaRight" fmla="*/ 1091520 w 109116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gd name="textAreaLeft" fmla="*/ 0 w 1973880"/>
                        <a:gd name="textAreaRight" fmla="*/ 1974240 w 19738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gd name="textAreaLeft" fmla="*/ 0 w 1059120"/>
                        <a:gd name="textAreaRight" fmla="*/ 1059480 w 105912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gd name="textAreaLeft" fmla="*/ 0 w 974160"/>
                        <a:gd name="textAreaRight" fmla="*/ 974520 w 97416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gd name="textAreaLeft" fmla="*/ 0 w 3165480"/>
                      <a:gd name="textAreaRight" fmla="*/ 3165840 w 3165480"/>
                      <a:gd name="textAreaTop" fmla="*/ -360 h 2522520"/>
                      <a:gd name="textAreaBottom" fmla="*/ 2522520 h 25225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gd name="textAreaLeft" fmla="*/ -360 w 2485800"/>
                      <a:gd name="textAreaRight" fmla="*/ 2485800 w 248580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gd name="textAreaLeft" fmla="*/ 0 w 1758240"/>
                      <a:gd name="textAreaRight" fmla="*/ 1758600 w 1758240"/>
                      <a:gd name="textAreaTop" fmla="*/ 0 h 2933280"/>
                      <a:gd name="textAreaBottom" fmla="*/ 2933640 h 29332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gd name="textAreaLeft" fmla="*/ 360 w 3132000"/>
                      <a:gd name="textAreaRight" fmla="*/ 3132720 w 3132000"/>
                      <a:gd name="textAreaTop" fmla="*/ 0 h 2933280"/>
                      <a:gd name="textAreaBottom" fmla="*/ 2933640 h 29332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gd name="textAreaLeft" fmla="*/ 360 w 2280960"/>
                      <a:gd name="textAreaRight" fmla="*/ 2281680 w 22809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gd name="textAreaLeft" fmla="*/ 0 w 941760"/>
                      <a:gd name="textAreaRight" fmla="*/ 942120 w 94176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4240"/>
              <a:ext cx="6411960" cy="4708440"/>
              <a:chOff x="2343960" y="714240"/>
              <a:chExt cx="6411960" cy="4708440"/>
            </a:xfrm>
          </p:grpSpPr>
          <p:sp>
            <p:nvSpPr>
              <p:cNvPr id="295"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39160"/>
                <a:ext cx="2930760" cy="2933640"/>
              </a:xfrm>
              <a:custGeom>
                <a:avLst/>
                <a:gdLst>
                  <a:gd name="textAreaLeft" fmla="*/ -360 w 2930760"/>
                  <a:gd name="textAreaRight" fmla="*/ 2930760 w 2930760"/>
                  <a:gd name="textAreaTop" fmla="*/ 0 h 2933640"/>
                  <a:gd name="textAreaBottom" fmla="*/ 2934000 h 293364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708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5400" y="2949840"/>
                <a:ext cx="544680" cy="1032120"/>
              </a:xfrm>
              <a:custGeom>
                <a:avLst/>
                <a:gdLst>
                  <a:gd name="textAreaLeft" fmla="*/ 0 w 544680"/>
                  <a:gd name="textAreaRight" fmla="*/ 545040 w 544680"/>
                  <a:gd name="textAreaTop" fmla="*/ -360 h 1032120"/>
                  <a:gd name="textAreaBottom" fmla="*/ 103212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868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040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4240"/>
                <a:ext cx="817560" cy="1768680"/>
              </a:xfrm>
              <a:custGeom>
                <a:avLst/>
                <a:gdLst>
                  <a:gd name="textAreaLeft" fmla="*/ 0 w 817560"/>
                  <a:gd name="textAreaRight" fmla="*/ 817920 w 81756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4640" y="21560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3C5E-D0D4-4582-9D99-2E4FE96E6C0E}" type="slidenum">
              <a:rPr b="0" lang="ru-RU"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331640" y="1557000"/>
            <a:ext cx="6985080" cy="276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 </a:t>
            </a:r>
            <a:r>
              <a:rPr b="1" lang="en-US" sz="4400" spc="-1" strike="noStrike">
                <a:solidFill>
                  <a:srgbClr val="ffffff"/>
                </a:solidFill>
                <a:latin typeface="Arial Black"/>
              </a:rPr>
              <a:t>Halloween</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0" lang="en-US" sz="4800" spc="-1" strike="noStrike">
                <a:solidFill>
                  <a:srgbClr val="af273e"/>
                </a:solidFill>
                <a:latin typeface="Arial Black"/>
              </a:rPr>
              <a:t>          </a:t>
            </a:r>
            <a:br>
              <a:rPr sz="4800"/>
            </a:br>
            <a:br>
              <a:rPr sz="4800"/>
            </a:br>
            <a:r>
              <a:rPr b="0" lang="en-US" sz="4800" spc="-1" strike="noStrike">
                <a:solidFill>
                  <a:srgbClr val="af273e"/>
                </a:solidFill>
                <a:latin typeface="Arial Black"/>
              </a:rPr>
              <a:t>          </a:t>
            </a:r>
            <a:r>
              <a:rPr b="0" lang="en-US" sz="4800" spc="-1" strike="noStrike">
                <a:solidFill>
                  <a:srgbClr val="af273e"/>
                </a:solidFill>
                <a:latin typeface="Arial Black"/>
              </a:rPr>
              <a:t>T</a:t>
            </a:r>
            <a:r>
              <a:rPr b="0" lang="en-US" sz="4800" spc="-1" strike="noStrike">
                <a:solidFill>
                  <a:srgbClr val="ffe103"/>
                </a:solidFill>
                <a:latin typeface="Arial Black"/>
              </a:rPr>
              <a:t>h</a:t>
            </a:r>
            <a:r>
              <a:rPr b="0" lang="en-US" sz="4800" spc="-1" strike="noStrike">
                <a:solidFill>
                  <a:srgbClr val="fe1f08"/>
                </a:solidFill>
                <a:latin typeface="Arial Black"/>
              </a:rPr>
              <a:t>e</a:t>
            </a:r>
            <a:r>
              <a:rPr b="0" lang="en-US" sz="4800" spc="-1" strike="noStrike">
                <a:solidFill>
                  <a:srgbClr val="d60093"/>
                </a:solidFill>
                <a:latin typeface="Arial Black"/>
              </a:rPr>
              <a:t> E</a:t>
            </a:r>
            <a:r>
              <a:rPr b="0" lang="en-US" sz="4800" spc="-1" strike="noStrike">
                <a:solidFill>
                  <a:srgbClr val="3e13f3"/>
                </a:solidFill>
                <a:latin typeface="Arial Black"/>
              </a:rPr>
              <a:t>n</a:t>
            </a:r>
            <a:r>
              <a:rPr b="0" lang="en-US" sz="4800" spc="-1" strike="noStrike">
                <a:solidFill>
                  <a:srgbClr val="ffcc00"/>
                </a:solidFill>
                <a:latin typeface="Arial Black"/>
              </a:rPr>
              <a:t>d</a:t>
            </a:r>
            <a:r>
              <a:rPr b="0" lang="en-US" sz="4800" spc="-1" strike="noStrike">
                <a:solidFill>
                  <a:srgbClr val="fe1f08"/>
                </a:solidFill>
                <a:latin typeface="Arial Black"/>
              </a:rPr>
              <a:t>.</a:t>
            </a:r>
            <a:endParaRPr b="0" lang="en-US" sz="4800" spc="-1" strike="noStrike">
              <a:solidFill>
                <a:srgbClr val="ffffff"/>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4" descr="Trick or Treat"/>
          <p:cNvPicPr/>
          <p:nvPr/>
        </p:nvPicPr>
        <p:blipFill>
          <a:blip r:embed="rId1"/>
          <a:stretch/>
        </p:blipFill>
        <p:spPr>
          <a:xfrm>
            <a:off x="5724360" y="4076640"/>
            <a:ext cx="2735280" cy="2430360"/>
          </a:xfrm>
          <a:prstGeom prst="rect">
            <a:avLst/>
          </a:prstGeom>
          <a:ln w="0">
            <a:noFill/>
          </a:ln>
        </p:spPr>
      </p:pic>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a:rPr>
              <a:t>Hangman - </a:t>
            </a:r>
            <a:r>
              <a:rPr b="1" lang="en-US" sz="4000" spc="-1" strike="noStrike">
                <a:solidFill>
                  <a:srgbClr val="ffffff"/>
                </a:solidFill>
                <a:latin typeface="comic"/>
              </a:rPr>
              <a:t>Halloween</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53" name="PlaceHolder 2"/>
          <p:cNvSpPr>
            <a:spLocks noGrp="1"/>
          </p:cNvSpPr>
          <p:nvPr>
            <p:ph/>
          </p:nvPr>
        </p:nvSpPr>
        <p:spPr>
          <a:xfrm>
            <a:off x="642960" y="1571400"/>
            <a:ext cx="7772400" cy="2662200"/>
          </a:xfrm>
          <a:prstGeom prst="rect">
            <a:avLst/>
          </a:prstGeom>
          <a:noFill/>
          <a:ln w="0">
            <a:noFill/>
          </a:ln>
        </p:spPr>
        <p:txBody>
          <a:bodyPr anchor="t">
            <a:normAutofit fontScale="92000"/>
          </a:bodyPr>
          <a:p>
            <a:pPr marL="315360" indent="-3153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lloween, the time of pumpkins, candies, ghosts, witches and much more, is annually celebrated on 31 October.</a:t>
            </a:r>
            <a:br>
              <a:rPr sz="3200"/>
            </a:br>
            <a:br>
              <a:rPr sz="3200"/>
            </a:b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6920" y="259920"/>
            <a:ext cx="7772400" cy="377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ruids in Britain and Ireland would light bonfires, dance around them and offer sacrifices of animal and crops. The fires were also intended to give warmth to the households and to keep free from evil spirits. Through the ages these practices changed.</a:t>
            </a:r>
            <a:endParaRPr b="0" lang="en-US" sz="2400" spc="-1" strike="noStrike">
              <a:solidFill>
                <a:srgbClr val="ffffff"/>
              </a:solidFill>
              <a:latin typeface="Arial Black"/>
            </a:endParaRPr>
          </a:p>
        </p:txBody>
      </p:sp>
      <p:pic>
        <p:nvPicPr>
          <p:cNvPr id="355" name="Picture 4" descr="РРП"/>
          <p:cNvPicPr/>
          <p:nvPr/>
        </p:nvPicPr>
        <p:blipFill>
          <a:blip r:embed="rId1"/>
          <a:stretch/>
        </p:blipFill>
        <p:spPr>
          <a:xfrm>
            <a:off x="2124000" y="3429000"/>
            <a:ext cx="4762440" cy="2971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4360" y="33300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87d2"/>
                </a:solidFill>
                <a:latin typeface="Arial Black"/>
              </a:rPr>
              <a:t>During the centuries the cultures have added their own elements to the way Halloween is celebrated.</a:t>
            </a:r>
            <a:endParaRPr b="0" lang="en-US" sz="2800" spc="-1" strike="noStrike">
              <a:solidFill>
                <a:srgbClr val="ffffff"/>
              </a:solidFill>
              <a:latin typeface="Arial Black"/>
            </a:endParaRPr>
          </a:p>
        </p:txBody>
      </p:sp>
      <p:pic>
        <p:nvPicPr>
          <p:cNvPr id="357" name="Picture 4" descr="2"/>
          <p:cNvPicPr/>
          <p:nvPr/>
        </p:nvPicPr>
        <p:blipFill>
          <a:blip r:embed="rId1"/>
          <a:stretch/>
        </p:blipFill>
        <p:spPr>
          <a:xfrm>
            <a:off x="2700360" y="1700280"/>
            <a:ext cx="3456000" cy="4579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pic>
        <p:nvPicPr>
          <p:cNvPr id="359" name="Picture 4" descr="ХЕЛЛОУИН"/>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pic>
        <p:nvPicPr>
          <p:cNvPr id="361" name="Picture 4" descr="1"/>
          <p:cNvPicPr/>
          <p:nvPr/>
        </p:nvPicPr>
        <p:blipFill>
          <a:blip r:embed="rId1"/>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cc00"/>
              </a:solidFill>
              <a:latin typeface="Arial Black"/>
            </a:endParaRPr>
          </a:p>
        </p:txBody>
      </p:sp>
      <p:pic>
        <p:nvPicPr>
          <p:cNvPr id="364" name="Picture 4" descr="Безымянный"/>
          <p:cNvPicPr/>
          <p:nvPr/>
        </p:nvPicPr>
        <p:blipFill>
          <a:blip r:embed="rId1"/>
          <a:stretch/>
        </p:blipFill>
        <p:spPr>
          <a:xfrm>
            <a:off x="0" y="0"/>
            <a:ext cx="91440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5" descr="РОЬПО"/>
          <p:cNvPicPr/>
          <p:nvPr/>
        </p:nvPicPr>
        <p:blipFill>
          <a:blip r:embed="rId1"/>
          <a:stretch/>
        </p:blipFill>
        <p:spPr>
          <a:xfrm>
            <a:off x="1116000" y="765000"/>
            <a:ext cx="7201080" cy="5472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Black"/>
            </a:endParaRPr>
          </a:p>
        </p:txBody>
      </p:sp>
      <p:pic>
        <p:nvPicPr>
          <p:cNvPr id="367" name="Picture 4" descr="ДДД"/>
          <p:cNvPicPr/>
          <p:nvPr/>
        </p:nvPicPr>
        <p:blipFill>
          <a:blip r:embed="rId1"/>
          <a:stretch/>
        </p:blipFill>
        <p:spPr>
          <a:xfrm>
            <a:off x="142920" y="0"/>
            <a:ext cx="900108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14:45:38Z</dcterms:created>
  <dc:creator>Rustam</dc:creator>
  <dc:description/>
  <dc:language>en-US</dc:language>
  <cp:lastModifiedBy>Admin</cp:lastModifiedBy>
  <dcterms:modified xsi:type="dcterms:W3CDTF">2012-10-29T18:14:43Z</dcterms:modified>
  <cp:revision>4</cp:revision>
  <dc:subject/>
  <dc:title>Hangman - Halloween </dc:title>
</cp:coreProperties>
</file>