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83F-9889-44A0-8E9C-66C5D8F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8DF-8E6B-4706-BE73-A2437205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540-30D3-4D01-AA69-02F5301C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28E-4E90-4074-97BD-71945A8F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4D4-E629-462E-9E1E-4C6B3441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2FE-DCC2-4071-A553-06B0DB6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EA4-22D7-40F2-A5BA-EFCA31F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D0DD-99CD-413E-B566-5D912F70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708D-8B38-4D95-86B3-F8BC562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5E5-B4EF-4897-A154-8E25219B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383-8722-42DE-BFDD-85A3467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1AE-16C5-4B1C-9C90-8ABBA2C9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142-8A90-49B4-9E0D-AE85BBC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EC6E-ECF9-490C-B257-A50C962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80B-2C5E-4AC0-A74F-BBB266B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C267-C0E8-4754-AEAB-28FF1DF2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5307-74BA-4751-BC97-507DB9CD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C61-C3CD-445C-9CE2-AEB130B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3B8-9E59-437E-9A04-383C9690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3F7-90B5-45BD-869C-20D9690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AA4-9460-4E44-8CAA-90057B8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4A7-AC3A-4747-8286-269F97F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0D1-643B-4FCC-AA0C-B072581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51-3C8C-4020-AA29-D5CC16B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3931-10E9-4100-A61D-1651777F75F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926-F37C-4B12-9C67-CF48314337B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o.by/uploads/tinymce_images/Blog-Simbada/Kvinsland/938dacd17e83e4347db578acc421b4a7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висимость роста и развития растений от условий окружающей сре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ыращивание растений при искусственном освеще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408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Экологические факторы"/>
          <p:cNvPicPr/>
          <p:nvPr/>
        </p:nvPicPr>
        <p:blipFill>
          <a:blip r:embed="rId1"/>
          <a:stretch/>
        </p:blipFill>
        <p:spPr>
          <a:xfrm>
            <a:off x="468360" y="260280"/>
            <a:ext cx="8329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74120"/>
            <a:ext cx="7732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Биотически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всевозможные формы влияния живых организмов друг на друга (например, опыление насекомыми растений, конкуренция, поедание одних насекомых другими, паразитизм) и на среду. Биотические взаимоотношения имеют чрезвычайно сложный и своеобразный характер и также могут быть прямыми и косвенными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     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биотически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факторы неживой природы, прежде всего климатические: солнечный свет, температура, влажность, и местные: рельеф, свойства почвы, соленость, течения, ветер, радиация и т.д. Эти факторы могут влиять на организмы прямо, то есть непосредственно, как свет или тепло, либо косвенно, как например, рельеф, который обуславливает действие прямых факторов - освещенности, увлажнения, ветра и пр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     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нтропогенны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все те формы деятельности человека, которые воздействуют на естественную природную среду, изменяя условия обитания живых организмов, или непосредственно влияют на отдельные виды растений и животных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240" y="189000"/>
            <a:ext cx="9006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иотические факторы влияния на жизнь расте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5280" y="620640"/>
            <a:ext cx="1800000" cy="201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620640"/>
            <a:ext cx="1513080" cy="19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4210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зооген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6160" y="2421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фитогенны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880"/>
            <a:ext cx="47530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Зоогенные биотические факторы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- это влияние животных на растения. Прежде всего, к ним относят поедание растений животными. Животное может поедать растение целиком либо его отдельные части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5194440" y="1916280"/>
            <a:ext cx="3535200" cy="36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В результате объедания животными ветвей и побегов растений, изменяется крона деревье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539640" y="1773360"/>
            <a:ext cx="4373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кологически значимый фактор - механическое воздействие, оказываемое животными на растения: это повреждение всего растения при поедании животным, а также вытаптывание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1908000" y="1989000"/>
            <a:ext cx="5367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Но существует и весьма положительная сторона во влиянии животных на растения: один из них это - опылени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4788000" y="2492280"/>
            <a:ext cx="3790800" cy="39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5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23160"/>
            <a:ext cx="50007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К фитогенным биотическим факторам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относят влияние растений, находящихся на небольшом расстоянии, друг на друга. Существует множество форм взаимоотношений между растениями: переплетение и срастание корнями, переплетение крон, схлестывание ветвей, использование одним растением другого для прикрепления и т.п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DSC_6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141720"/>
            <a:ext cx="2600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лияние антропогенных факторов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замусоривание территории (3,9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незаконная вырубка (1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результаты вытаптывания (5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уничтожение подходящих местообитаний (2,7,8,10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сбор в букеты красивоцветущих растений (4)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Памятник природы  Саблинский"/>
          <p:cNvPicPr/>
          <p:nvPr/>
        </p:nvPicPr>
        <p:blipFill>
          <a:blip r:embed="rId1"/>
          <a:stretch/>
        </p:blipFill>
        <p:spPr>
          <a:xfrm>
            <a:off x="395280" y="2719440"/>
            <a:ext cx="8280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25480" y="229680"/>
            <a:ext cx="5693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тихотворение посвящённое временам года. 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сё начинается с весны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 капелей ледяного снега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первый маленький росток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бьётся сквозь сугробы снег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аступит лето … жарких дней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гулок, моря, солнца врем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мчится вновь волна страстей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детворы весёлой плем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Осенний ветер - перемен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листья падают как перь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рывает краски он с ветвей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Зима стук жизни прекращает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молкают звуки, спит весь мир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о тихо чьё-то сердце бьётс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обязательно проснётся как утром свежая сирень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есною юной новый день. 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Свалки в Шалово-Перечицком заказнике"/>
          <p:cNvPicPr/>
          <p:nvPr/>
        </p:nvPicPr>
        <p:blipFill>
          <a:blip r:embed="rId1"/>
          <a:stretch/>
        </p:blipFill>
        <p:spPr>
          <a:xfrm>
            <a:off x="684360" y="3716280"/>
            <a:ext cx="38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Пожары в Шалово-Перечицком заказнике"/>
          <p:cNvPicPr/>
          <p:nvPr/>
        </p:nvPicPr>
        <p:blipFill>
          <a:blip r:embed="rId2"/>
          <a:stretch/>
        </p:blipFill>
        <p:spPr>
          <a:xfrm>
            <a:off x="4859280" y="3716280"/>
            <a:ext cx="3824280" cy="2873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Вырубки в Шалово-Перечицком заказнике"/>
          <p:cNvPicPr/>
          <p:nvPr/>
        </p:nvPicPr>
        <p:blipFill>
          <a:blip r:embed="rId3"/>
          <a:stretch/>
        </p:blipFill>
        <p:spPr>
          <a:xfrm>
            <a:off x="755640" y="333360"/>
            <a:ext cx="3887640" cy="2913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Разработка песчаных карьеров в Шалово-Перечицком заказнике"/>
          <p:cNvPicPr/>
          <p:nvPr/>
        </p:nvPicPr>
        <p:blipFill>
          <a:blip r:embed="rId4"/>
          <a:stretch/>
        </p:blipFill>
        <p:spPr>
          <a:xfrm>
            <a:off x="4859280" y="404640"/>
            <a:ext cx="3756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11280" y="1125360"/>
            <a:ext cx="8208720" cy="29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MT Ext Condensed Bold"/>
              </a:rPr>
              <a:t>Охранять природу - значит охранять Родину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MT Ext Condensed Bold"/>
              <a:ea typeface="Gill Sans MT Ext Condense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Суточные рит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итмы, которые приспосабливают организмы к смене дня и ноч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чины: движение Земл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круг своей ос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Суточные ритмы растен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4087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Годовые рит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Ритмы, которые приспосабливают организм к сезонной смене усло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Причина: движение Земли вокруг Солнца, благодаря чему происходит смена времен год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мена времен г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384720" cy="295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вет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26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4386600" cy="328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3876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озревание плодов и семя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681440" cy="380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топериодизм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Фотопериод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– соотношение светлого и темного времени сут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Фотопериодиз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способность организмов реагирова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изменение дня и ноч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43640" y="4527720"/>
            <a:ext cx="25416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8:49:15Z</dcterms:created>
  <dc:creator>Loner-XP</dc:creator>
  <dc:description/>
  <dc:language>en-US</dc:language>
  <cp:lastModifiedBy>Loner-XP</cp:lastModifiedBy>
  <dcterms:modified xsi:type="dcterms:W3CDTF">2013-02-14T15:29:30Z</dcterms:modified>
  <cp:revision>2</cp:revision>
  <dc:subject/>
  <dc:title>Слайд 1</dc:title>
</cp:coreProperties>
</file>