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C7FD-CA23-4485-9395-82E59CBB8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B779-AF2A-4894-AE86-ACBCE20B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3537-DBA7-4B5E-A6E6-4EB4F6E50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F7E0-CFB6-44CE-A231-8236C2C4D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900B2-E4F7-48D1-9463-DE7997460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345F-A5F8-4A01-A575-512BA38E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558D-FEFA-4704-B350-C99F04FD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B80B-16FB-45CF-8A54-261E94CC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2AFC-C8FA-4680-8BB6-234D0522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5D62-630A-4BA6-8B86-AC21E0EC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A4B70-11D4-46A9-AA22-99168074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9B4B-4F3C-46E9-9DC0-D7E6A8CE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8BB7-BC41-41F1-8F41-C56825BD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718E-CA96-4B39-8602-DC77F6E8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EB7B-225B-448E-BD2E-295F47C4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2EE69-6D43-42EA-8B33-F95EAD67E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40B3-9564-417E-B67B-0CCD25F86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F4F1-42E3-4F67-8CE4-281271EC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D26A-A670-4239-9276-5B1626B5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AEEF-D128-47DC-AF94-74085CBA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E408-8644-47CE-A6EB-1012606F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F85C-201F-4CED-918B-3CC74622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55ED-5008-4C0B-A810-5B90A6AD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A74B-B16E-4F70-A10B-966A1F32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7136-B84D-4369-9B8B-71976D4F4334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7D7D-1686-471F-9E15-711AA63C5304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tio.by/uploads/tinymce_images/Blog-Simbada/Kvinsland/938dacd17e83e4347db578acc421b4a7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85952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Зависимость роста и развития растений от условий окружающей сред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Выращивание растений при искусственном освещени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640872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Экологические факторы"/>
          <p:cNvPicPr/>
          <p:nvPr/>
        </p:nvPicPr>
        <p:blipFill>
          <a:blip r:embed="rId1"/>
          <a:stretch/>
        </p:blipFill>
        <p:spPr>
          <a:xfrm>
            <a:off x="468360" y="260280"/>
            <a:ext cx="83296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55640" y="474120"/>
            <a:ext cx="77328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Биотические факторы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- это всевозможные формы влияния живых организмов друг на друга (например, опыление насекомыми растений, конкуренция, поедание одних насекомых другими, паразитизм) и на среду. Биотические взаимоотношения имеют чрезвычайно сложный и своеобразный характер и также могут быть прямыми и косвенными.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      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Абиотические факторы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- это факторы неживой природы, прежде всего климатические: солнечный свет, температура, влажность, и местные: рельеф, свойства почвы, соленость, течения, ветер, радиация и т.д. Эти факторы могут влиять на организмы прямо, то есть непосредственно, как свет или тепло, либо косвенно, как например, рельеф, который обуславливает действие прямых факторов - освещенности, увлажнения, ветра и пр.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      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Антропогенные факторы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- это все те формы деятельности человека, которые воздействуют на естественную природную среду, изменяя условия обитания живых организмов, или непосредственно влияют на отдельные виды растений и животных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29240" y="189000"/>
            <a:ext cx="90061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Биотические факторы влияния на жизнь растений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835280" y="620640"/>
            <a:ext cx="1800000" cy="2016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03640" y="620640"/>
            <a:ext cx="1513080" cy="19447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1280" y="2421000"/>
            <a:ext cx="243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зоогенные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6160" y="2421000"/>
            <a:ext cx="254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фитогенные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2880"/>
            <a:ext cx="475308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Зоогенные биотические факторы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- это влияние животных на растения. Прежде всего, к ним относят поедание растений животными. Животное может поедать растение целиком либо его отдельные части.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8" name="" descr="Биотические факторы влияния на жизнь растений"/>
          <p:cNvPicPr/>
          <p:nvPr/>
        </p:nvPicPr>
        <p:blipFill>
          <a:blip r:embed="rId1"/>
          <a:stretch/>
        </p:blipFill>
        <p:spPr>
          <a:xfrm>
            <a:off x="5194440" y="1916280"/>
            <a:ext cx="3535200" cy="36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В результате объедания животными ветвей и побегов растений, изменяется крона деревьев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0" name="" descr="Биотические факторы влияния на жизнь растений"/>
          <p:cNvPicPr/>
          <p:nvPr/>
        </p:nvPicPr>
        <p:blipFill>
          <a:blip r:embed="rId1"/>
          <a:stretch/>
        </p:blipFill>
        <p:spPr>
          <a:xfrm>
            <a:off x="539640" y="1773360"/>
            <a:ext cx="43736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Экологически значимый фактор - механическое воздействие, оказываемое животными на растения: это повреждение всего растения при поедании животным, а также вытаптывание.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2" name="" descr="Биотические факторы влияния на жизнь растений"/>
          <p:cNvPicPr/>
          <p:nvPr/>
        </p:nvPicPr>
        <p:blipFill>
          <a:blip r:embed="rId1"/>
          <a:stretch/>
        </p:blipFill>
        <p:spPr>
          <a:xfrm>
            <a:off x="1908000" y="1989000"/>
            <a:ext cx="53676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Но существует и весьма положительная сторона во влиянии животных на растения: один из них это - опыление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4" name="" descr="Биотические факторы влияния на жизнь растений"/>
          <p:cNvPicPr/>
          <p:nvPr/>
        </p:nvPicPr>
        <p:blipFill>
          <a:blip r:embed="rId1"/>
          <a:stretch/>
        </p:blipFill>
        <p:spPr>
          <a:xfrm>
            <a:off x="4788000" y="2492280"/>
            <a:ext cx="3790800" cy="39340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40528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9280" y="623160"/>
            <a:ext cx="500076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К фитогенным биотическим факторам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относят влияние растений, находящихся на небольшом расстоянии, друг на друга. Существует множество форм взаимоотношений между растениями: переплетение и срастание корнями, переплетение крон, схлестывание ветвей, использование одним растением другого для прикрепления и т.п.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7" name="" descr="DSC_67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3141720"/>
            <a:ext cx="260028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Влияние антропогенных факторов</a:t>
            </a:r>
            <a:br>
              <a:rPr sz="4000"/>
            </a:b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aeaea"/>
                </a:solidFill>
                <a:latin typeface="Verdana"/>
              </a:rPr>
              <a:t>замусоривание территории (3,9),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aeaea"/>
                </a:solidFill>
                <a:latin typeface="Verdana"/>
              </a:rPr>
              <a:t>незаконная вырубка (1),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aeaea"/>
                </a:solidFill>
                <a:latin typeface="Verdana"/>
              </a:rPr>
              <a:t>результаты вытаптывания (5),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aeaea"/>
                </a:solidFill>
                <a:latin typeface="Verdana"/>
              </a:rPr>
              <a:t>уничтожение подходящих местообитаний (2,7,8,10),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aeaea"/>
                </a:solidFill>
                <a:latin typeface="Verdana"/>
              </a:rPr>
              <a:t>сбор в букеты красивоцветущих растений (4),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0" name="" descr="Памятник природы  Саблинский"/>
          <p:cNvPicPr/>
          <p:nvPr/>
        </p:nvPicPr>
        <p:blipFill>
          <a:blip r:embed="rId1"/>
          <a:stretch/>
        </p:blipFill>
        <p:spPr>
          <a:xfrm>
            <a:off x="395280" y="2719440"/>
            <a:ext cx="828036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725480" y="229680"/>
            <a:ext cx="56930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Стихотворение посвящённое временам года. </a:t>
            </a: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Всё начинается с весны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С капелей ледяного снега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И первый маленький росток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Пробьётся сквозь сугробы снега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Наступит лето … жарких дней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Прогулок, моря, солнца время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Промчится вновь волна страстей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И детворы весёлой племя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Осенний ветер - перемен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И листья падают как перья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Срывает краски он с ветвей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Зима стук жизни прекращает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Смолкают звуки, спит весь мир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Но тихо чьё-то сердце бьётся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И обязательно проснётся как утром свежая сирень 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Весною юной новый день. </a:t>
            </a: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Свалки в Шалово-Перечицком заказнике"/>
          <p:cNvPicPr/>
          <p:nvPr/>
        </p:nvPicPr>
        <p:blipFill>
          <a:blip r:embed="rId1"/>
          <a:stretch/>
        </p:blipFill>
        <p:spPr>
          <a:xfrm>
            <a:off x="684360" y="3716280"/>
            <a:ext cx="3887640" cy="29224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Пожары в Шалово-Перечицком заказнике"/>
          <p:cNvPicPr/>
          <p:nvPr/>
        </p:nvPicPr>
        <p:blipFill>
          <a:blip r:embed="rId2"/>
          <a:stretch/>
        </p:blipFill>
        <p:spPr>
          <a:xfrm>
            <a:off x="4859280" y="3716280"/>
            <a:ext cx="3824280" cy="28735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Вырубки в Шалово-Перечицком заказнике"/>
          <p:cNvPicPr/>
          <p:nvPr/>
        </p:nvPicPr>
        <p:blipFill>
          <a:blip r:embed="rId3"/>
          <a:stretch/>
        </p:blipFill>
        <p:spPr>
          <a:xfrm>
            <a:off x="755640" y="333360"/>
            <a:ext cx="3887640" cy="29131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Разработка песчаных карьеров в Шалово-Перечицком заказнике"/>
          <p:cNvPicPr/>
          <p:nvPr/>
        </p:nvPicPr>
        <p:blipFill>
          <a:blip r:embed="rId4"/>
          <a:stretch/>
        </p:blipFill>
        <p:spPr>
          <a:xfrm>
            <a:off x="4859280" y="404640"/>
            <a:ext cx="3756240" cy="28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611280" y="1125360"/>
            <a:ext cx="8208720" cy="291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cc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ill Sans MT Ext Condensed Bold"/>
              </a:rPr>
              <a:t>Охранять природу - значит охранять Родину</a:t>
            </a:r>
            <a:endParaRPr b="0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cc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ill Sans MT Ext Condensed Bold"/>
              <a:ea typeface="Gill Sans MT Ext Condensed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Суточные ритм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49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Ритмы, которые приспосабливают организмы к смене дня и ноч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ричины: движение Земли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округ своей ос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2984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Суточные ритмы растений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408720" cy="51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Годовые ритм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2997360"/>
            <a:ext cx="8540640" cy="38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Ритмы, которые приспосабливают организм к сезонной смене условий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Причина: движение Земли вокруг Солнца, благодаря чему происходит смена времен год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Смена времен год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3673440" cy="2754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763640" y="2421000"/>
            <a:ext cx="3384720" cy="2951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419640" y="3141720"/>
            <a:ext cx="3743280" cy="2808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5076720" y="3789360"/>
            <a:ext cx="37432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7000"/>
                            </p:stCondLst>
                            <p:childTnLst>
                              <p:par>
                                <p:cTn id="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Цветение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4032000" cy="2695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908000" y="2421000"/>
            <a:ext cx="4386600" cy="32893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003640" y="3573360"/>
            <a:ext cx="387684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Созревание плодов и семян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4681440" cy="3806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995640" y="2852640"/>
            <a:ext cx="48974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Фотопериодизм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Фотопериод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– соотношение светлого и темного времени суток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Фотопериодизм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– способность организмов реагировать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а изменение дня и ноч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443640" y="4527720"/>
            <a:ext cx="2541600" cy="21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18:49:15Z</dcterms:created>
  <dc:creator>Loner-XP</dc:creator>
  <dc:description/>
  <dc:language>en-US</dc:language>
  <cp:lastModifiedBy>Loner-XP</cp:lastModifiedBy>
  <dcterms:modified xsi:type="dcterms:W3CDTF">2013-02-14T15:29:30Z</dcterms:modified>
  <cp:revision>2</cp:revision>
  <dc:subject/>
  <dc:title>Слайд 1</dc:title>
</cp:coreProperties>
</file>