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EC5-FE21-4872-9EA5-F71C7A03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D47-B3BC-4A52-BBF4-2B4E7EE3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77A-D996-4DE3-9BDD-33AD0470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114-3315-46F5-B9CB-53A95B7E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B367-6D24-411A-A297-F2DF83BA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CD0C-00C1-4F0A-B82C-85CC055C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C54A-8424-4CFD-A764-2C126C10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017D-EBB8-4E65-8978-6540343A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5E75-77B5-4F44-87EB-3F6CE3D1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9700-98B3-44AD-B8CB-7736EDA5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879-67F6-434E-BD82-1093B093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337-7E03-425E-BB54-5A20195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405B-266D-4BAE-AD20-738E2F2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B98A-C5BF-4582-875C-71ACC1D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A220-2006-4744-9321-3A1FA44B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17F8-FFEC-44E2-8313-8333E8AE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705B-E1B9-43AB-9098-D1C8748B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CE7-9161-4F79-A201-E372703C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CF1-ABB2-4091-87D1-719DC279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1B6-D2BA-439D-BEC2-EBB2946E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48A-18B9-4016-9747-0E4B21E3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093-B1CA-4DBD-B921-9E5D1A6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186-8310-4353-913D-095619DC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AC8-2446-4DAE-9F30-0421AB9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BA96-CE38-4EE1-BE3D-B254A25CC4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105E-947D-4219-9180-F82AF4607F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323280"/>
            <a:ext cx="1457640" cy="1295640"/>
            <a:chOff x="0" y="323280"/>
            <a:chExt cx="1457640" cy="1295640"/>
          </a:xfrm>
        </p:grpSpPr>
        <p:sp>
          <p:nvSpPr>
            <p:cNvPr id="84" name=""/>
            <p:cNvSpPr/>
            <p:nvPr/>
          </p:nvSpPr>
          <p:spPr>
            <a:xfrm>
              <a:off x="0" y="121428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39640" y="32328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7640" y="121428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457280" y="32328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9640" y="323640"/>
              <a:ext cx="917640" cy="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692360" y="323280"/>
            <a:ext cx="1457640" cy="1295640"/>
            <a:chOff x="1692360" y="323280"/>
            <a:chExt cx="1457640" cy="1295640"/>
          </a:xfrm>
        </p:grpSpPr>
        <p:sp>
          <p:nvSpPr>
            <p:cNvPr id="90" name=""/>
            <p:cNvSpPr/>
            <p:nvPr/>
          </p:nvSpPr>
          <p:spPr>
            <a:xfrm>
              <a:off x="1692360" y="121428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232000" y="32328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10000" y="121428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149640" y="32328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2000" y="323640"/>
              <a:ext cx="917640" cy="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5940360" y="5481000"/>
            <a:ext cx="1457640" cy="1295640"/>
            <a:chOff x="5940360" y="5481000"/>
            <a:chExt cx="1457640" cy="1295640"/>
          </a:xfrm>
        </p:grpSpPr>
        <p:sp>
          <p:nvSpPr>
            <p:cNvPr id="97" name=""/>
            <p:cNvSpPr/>
            <p:nvPr/>
          </p:nvSpPr>
          <p:spPr>
            <a:xfrm>
              <a:off x="5940360" y="637200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480000" y="548100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0" y="637200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397640" y="548100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80000" y="5481360"/>
              <a:ext cx="917640" cy="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578720" y="5481000"/>
            <a:ext cx="1457640" cy="1295640"/>
            <a:chOff x="7578720" y="5481000"/>
            <a:chExt cx="1457640" cy="1295640"/>
          </a:xfrm>
        </p:grpSpPr>
        <p:sp>
          <p:nvSpPr>
            <p:cNvPr id="103" name=""/>
            <p:cNvSpPr/>
            <p:nvPr/>
          </p:nvSpPr>
          <p:spPr>
            <a:xfrm>
              <a:off x="7578720" y="637200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118360" y="548100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96360" y="637200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9036000" y="548100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18360" y="5481360"/>
              <a:ext cx="917640" cy="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445360" y="4937400"/>
            <a:ext cx="595080" cy="1426320"/>
            <a:chOff x="5445360" y="4937400"/>
            <a:chExt cx="595080" cy="1426320"/>
          </a:xfrm>
        </p:grpSpPr>
        <p:sp>
          <p:nvSpPr>
            <p:cNvPr id="111" name=""/>
            <p:cNvSpPr/>
            <p:nvPr/>
          </p:nvSpPr>
          <p:spPr>
            <a:xfrm>
              <a:off x="5445360" y="5918400"/>
              <a:ext cx="594360" cy="44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040080" y="4937400"/>
              <a:ext cx="360" cy="1248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85000" y="4937400"/>
            <a:ext cx="595440" cy="1426320"/>
            <a:chOff x="6885000" y="4937400"/>
            <a:chExt cx="595440" cy="1426320"/>
          </a:xfrm>
        </p:grpSpPr>
        <p:sp>
          <p:nvSpPr>
            <p:cNvPr id="114" name=""/>
            <p:cNvSpPr/>
            <p:nvPr/>
          </p:nvSpPr>
          <p:spPr>
            <a:xfrm>
              <a:off x="6885000" y="5918400"/>
              <a:ext cx="594720" cy="44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480080" y="4937400"/>
              <a:ext cx="360" cy="1248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6300720" y="5481000"/>
            <a:ext cx="1457640" cy="1295640"/>
            <a:chOff x="6300720" y="5481000"/>
            <a:chExt cx="1457640" cy="1295640"/>
          </a:xfrm>
        </p:grpSpPr>
        <p:sp>
          <p:nvSpPr>
            <p:cNvPr id="118" name=""/>
            <p:cNvSpPr/>
            <p:nvPr/>
          </p:nvSpPr>
          <p:spPr>
            <a:xfrm>
              <a:off x="6300720" y="637200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840360" y="548100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18360" y="6372000"/>
              <a:ext cx="539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758000" y="5481000"/>
              <a:ext cx="360" cy="113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0360" y="5481360"/>
              <a:ext cx="917640" cy="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8371080" y="5342760"/>
            <a:ext cx="595080" cy="1425600"/>
            <a:chOff x="8371080" y="5342760"/>
            <a:chExt cx="595080" cy="1425600"/>
          </a:xfrm>
        </p:grpSpPr>
        <p:sp>
          <p:nvSpPr>
            <p:cNvPr id="124" name=""/>
            <p:cNvSpPr/>
            <p:nvPr/>
          </p:nvSpPr>
          <p:spPr>
            <a:xfrm>
              <a:off x="8371080" y="6323040"/>
              <a:ext cx="594360" cy="44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965800" y="5342760"/>
              <a:ext cx="360" cy="1247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227640" y="5306040"/>
            <a:ext cx="1642680" cy="1460520"/>
            <a:chOff x="6227640" y="5306040"/>
            <a:chExt cx="1642680" cy="1460520"/>
          </a:xfrm>
        </p:grpSpPr>
        <p:sp>
          <p:nvSpPr>
            <p:cNvPr id="129" name=""/>
            <p:cNvSpPr/>
            <p:nvPr/>
          </p:nvSpPr>
          <p:spPr>
            <a:xfrm>
              <a:off x="6227640" y="6310440"/>
              <a:ext cx="608040" cy="456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835680" y="5306040"/>
              <a:ext cx="720" cy="12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61560" y="6310440"/>
              <a:ext cx="608040" cy="456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869960" y="5306040"/>
              <a:ext cx="360" cy="12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35680" y="5306400"/>
              <a:ext cx="103392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352720" y="5306040"/>
            <a:ext cx="609120" cy="1460520"/>
            <a:chOff x="8352720" y="5306040"/>
            <a:chExt cx="609120" cy="1460520"/>
          </a:xfrm>
        </p:grpSpPr>
        <p:sp>
          <p:nvSpPr>
            <p:cNvPr id="135" name=""/>
            <p:cNvSpPr/>
            <p:nvPr/>
          </p:nvSpPr>
          <p:spPr>
            <a:xfrm>
              <a:off x="8352720" y="6310440"/>
              <a:ext cx="608760" cy="456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961480" y="5306040"/>
              <a:ext cx="360" cy="12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77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4" presetSubtype="10">
                                  <p:stCondLst>
                                    <p:cond delay="66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66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66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8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84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8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510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Автор </a:t>
            </a:r>
            <a:br>
              <a:rPr sz="28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Лепилина Юлия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0:43:23Z</dcterms:created>
  <dc:creator>Юлия</dc:creator>
  <dc:description/>
  <dc:language>en-US</dc:language>
  <cp:lastModifiedBy>Лепилина </cp:lastModifiedBy>
  <dcterms:modified xsi:type="dcterms:W3CDTF">2013-02-11T18:04:21Z</dcterms:modified>
  <cp:revision>6</cp:revision>
  <dc:subject/>
  <dc:title>Слайд 1</dc:title>
</cp:coreProperties>
</file>