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7B9-D6C7-4635-A557-691913B9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2EE-9ACC-453C-B95B-F1AA282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4E5-1D97-4C3B-8E36-706E8D8B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19E-0BE3-4F24-8BE3-15FC198A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A04-EA0B-4A8E-8B4A-CBE2614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BCA-41E4-4D36-B256-C710429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09E-8063-4766-9EAD-D1546E7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A9A-21B1-4638-A06E-00FF8ACA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C57-0E8A-469F-957A-269C584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CB1-153D-4CCD-9749-C69BB806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BD8-0988-413F-A644-D093F10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A34-B09A-47CB-84A0-E6BF0B2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3163-7B78-46B0-BE26-281B30D619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7160" y="1268280"/>
            <a:ext cx="7715520" cy="345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45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Мастер -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«Как слово наше отзовётся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86080" y="52862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ла: 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адардина Е.П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ильщики</a:t>
            </a:r>
            <a:r>
              <a:rPr b="0" lang="ru-RU" sz="3200" spc="-1" strike="noStrike">
                <a:solidFill>
                  <a:srgbClr val="009a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Comic Sans MS"/>
              </a:rPr>
              <a:t>С-С-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рока – сплетница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Comic Sans MS"/>
              </a:rPr>
              <a:t>Трр! Трр –трр! Трр – трр – трр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короговорки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а мели мы налима лениво лов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е меняли налима вы мне на ли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 любви не меня ли вы, Мила, мол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И в туманный лиман вы манили ме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 шалаше шуршит шелками жёлтый дервиш из Алж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И, жонглируя ножами, штуку кушает инж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a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313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«Нам не дано предугадать, как слово наше отзовётся?»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жалуйста, заполните данную ассоциативную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2421000"/>
          <a:ext cx="8064360" cy="414972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омнилис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держа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несли обид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пражнение «Делаем» реч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берите любую строчку из высказывания В. А. Сухомлинского. Запишите начало на своём листочке, передайте листочек соседу справа. Получите от соседа слева новый листочек, прочитайте написанное на нём и продолжите текст, излагая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Comic Sans MS"/>
              </a:rPr>
              <a:t>свои мысли или мысли автора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. После замыкания круга автор начала каждого текста даёт ему заголов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ратите внимание на композицию вашего будущего выступл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нимательно прочитайте получившийся текст, устраните видимые речевые недочё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опишите к тексту небольшое, но яркое и эмоциональное вступ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идумайте 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здравляю Вас! Вы составили речь, посвящённую значению слова в жизни человека. Теперь выразительно и громко прочитайте текст, обращаясь к аудит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ефлекс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Какую строчку, слово, мысль ты уносишь с сегодняшней мастерск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Над каким вопросом есть смысл подумать ещё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идумайте синквейн, посвящённый нашему занят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инквейн – это стихотворение  из пяти строк, имеющее строгую компози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1 строка: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заголовок, тема (одно существительно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2 строка: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два прилагательных или  причастия, дают описание признаков и свойств предм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3 строка: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три глагола или деепричас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4 строка: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фраза, несущая определённый смысл, выражает отношение к предме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5 строка: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резюме, вывод (одно существительно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96000" y="30600"/>
            <a:ext cx="114631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н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Умная, добрая.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Учит, воспитывает, любит.                        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Без неё школа не важна.                             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Учительница.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030"/>
                </a:solidFill>
                <a:latin typeface="Comic Sans MS"/>
                <a:ea typeface="Times New Roman"/>
              </a:rPr>
              <a:t>                 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О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ушистый и красивый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Бегает, прыгает, спит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Он лучше всех питомцев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ёс Барбос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мер сиквейна по теме «Государств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Государ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Независимое, правов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Собирает налоги, судит, выплачивает пенс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Государство – это мы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Защи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-126000" y="26640"/>
            <a:ext cx="92786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иаманты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тихотворная форма из 7строк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ервая и последняя- понятия с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отивоположным значением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-тема (имя существительное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- определение (2 прилагательных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- действие (3 причастия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- ассоциация (4существительных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- действие (3причастия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- определение (2прилагательных)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7- тема (имя существительное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ель мастер - класс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аботая в группах, построить связное высказывание на общую тему «Как слово наше отзовётся». На основе  придуманного текста  публично выступить, соблюдая правильную композицию реч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10160" y="23400"/>
            <a:ext cx="886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Весна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ветлая, прекрасная,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Ждущая, цветущая, растущая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Ландыши, подснежники, тепло, капель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Опадающая, темнеющая, умирающа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Сухая, жёлтая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Осень</a:t>
            </a:r>
            <a:r>
              <a:rPr b="0" lang="ru-RU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642960" y="428760"/>
            <a:ext cx="621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Comic Sans MS"/>
              </a:rPr>
              <a:t>Релаксопедия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– обучение в состоянии расслабления, освобождение от сковывающих условностей, боязни  дать неверный ответ, заслужить низкую оценку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285920" y="28584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mic Sans MS"/>
              </a:rPr>
              <a:t>Занимательные задания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-571680" y="10000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29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словесные игры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285920" y="17146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рассказы об языке,</a:t>
            </a:r>
            <a:r>
              <a:rPr b="1" lang="ru-RU" sz="2400" spc="-1" strike="noStrike">
                <a:solidFill>
                  <a:srgbClr val="29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285920" y="214308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диалоги занимательного характера,</a:t>
            </a:r>
            <a:r>
              <a:rPr b="1" lang="ru-RU" sz="2400" spc="-1" strike="noStrike">
                <a:solidFill>
                  <a:srgbClr val="29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285920" y="3130560"/>
            <a:ext cx="47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эмоциональные зарядки,</a:t>
            </a:r>
            <a:r>
              <a:rPr b="1" lang="ru-RU" sz="2400" spc="-1" strike="noStrike">
                <a:solidFill>
                  <a:srgbClr val="29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Прямоугольник 6"/>
          <p:cNvSpPr/>
          <p:nvPr/>
        </p:nvSpPr>
        <p:spPr>
          <a:xfrm flipV="1">
            <a:off x="3929040" y="3429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1357200" y="3643200"/>
            <a:ext cx="3867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разминки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театр в тетрадке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2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Comic Sans MS"/>
              </a:rPr>
              <a:t>деловые игры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54960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бращаться с языком кое-как- значит и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мыслить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кое-как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еточно, приблизительно, неверно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                     Л.Н.Толст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00080" y="1285920"/>
            <a:ext cx="7643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асибо за работу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ворческих вам успехов, коллеги!.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дачи мастер – класс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влечь значимую информацию из текс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образовать полученную информацию в связное высказывание по те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сознать нравственные ценности, в том числе связанные с общением, значением слова в жизни чело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формировать позитивное отношение участников мастер - класса к людям и мир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Нам дан во владе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самый богатый, меткий, могучий и поистине волшебный русский язык..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. Г. Паустовски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Давайте поздороваемся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Монголы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«Благополучно ли встречаете весну?»; «Как кочуете?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Китайцы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«Вы сыты?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Польша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«Целую руку, пани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Древние и современные греки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«Радуйся!»; «Будь здоровым!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Арабы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«Мир с тобою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0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ЧЕВЫЕ УПРА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009a00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ягушка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януть губы прямо к уш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чень нравится лягуш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лыбаются, смеют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А глаза у них, как блюдц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ак весёлые ляг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янем губки прямо к уш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отянули – перест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И несколько не уст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лон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Подражаю я слону  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Губы хоботом тяну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А теперь их отпуска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И на место возвращаю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Часик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Рот приоткрыт, губы растянуты в улыбки. Кончик языка поочередно касается то левого, то правого уголка рта. Подбородок не двигает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 зубного врача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Два часа не есть! Ужасно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Я не завтракал напрасн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Есть хочу, как никогд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Два часа ждать! Ерунд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Есть характер, воля ес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omic Sans MS"/>
              </a:rPr>
              <a:t>Раз нельзя – не стану есть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380880"/>
            <a:ext cx="8472600" cy="49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Дыхательная гимнастика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та – пто – пту – птэ – пты – п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Хта – хто – хту – хтэ – хты – х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та – кто – кту – ктэ – кты – к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та – нто –нту – нтэ – нты – н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Мта – мто – мту – мтэ – мты –мт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Рта – рто – рту –ртэ – рты –рти;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58:02Z</dcterms:created>
  <dc:creator>жилин олег юрьевич</dc:creator>
  <dc:description/>
  <dc:language>en-US</dc:language>
  <cp:lastModifiedBy>BEST</cp:lastModifiedBy>
  <dcterms:modified xsi:type="dcterms:W3CDTF">2013-02-06T18:05:01Z</dcterms:modified>
  <cp:revision>35</cp:revision>
  <dc:subject/>
  <dc:title>Слайд 1</dc:title>
</cp:coreProperties>
</file>