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42A-9381-4204-B74E-76C78DEA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642-E352-4205-81DE-71637416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A912-ABC0-4B71-86E5-FB183DDF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1668-8550-4C17-8908-923C3EFC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49DB-1148-4B96-90D7-5963C3AB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936A-29AB-47D7-AD61-434E4BFD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9701-1997-402E-8FFA-3D4B4CFD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6C36-B196-4CC3-8472-43A4E614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096-B3EA-4FC3-93B7-14D65F47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D43-F4CE-4C7D-9E3F-E2E98123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2954-2DD1-49EF-AD50-D727683A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ED3-82AC-47B9-AB46-D040F645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B06C-9750-4B90-B3F5-EFFD9ECE71F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УНИЦИПАЛЬНОЕ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ВТОНОМНОЕ ДОШКОЛЬНОЕ  ОБРАЗОВАТЕЛЬНОЕ УЧРЕЖДЕНИЕ  ГОРОДА КАЛИНИНГРАД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ЦЕНТР РАЗВИТИЯ РЕБЁНК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ЕТСКИЙ САД № 111</a:t>
            </a:r>
            <a:br>
              <a:rPr sz="2000"/>
            </a:br>
            <a:br>
              <a:rPr sz="2400"/>
            </a:br>
            <a:br>
              <a:rPr sz="36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Проект «Дети и космос»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4142880"/>
            <a:ext cx="682920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Участники проекта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спитатель:  Долгополова Татьяна  Николаевн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спитанники подготовительной к школе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руппы № 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Актуальность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997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дошкольном возрасте формируется личность человека, его мировоззрение, которое определяет отношение человека к внешнему миру и к самому себе. Здесь немаловажное значение имеет астрономическая грамотность. Это способствует расширению кругозора , дает возможность в будущем ощутить  связь со Вселенной и ответственность за сохранение уникальной природы нашей планет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 древних времён людей манило всё недоступное и загадочное. Без сомнения самым недостижимым из всего того, что их окружало, был космос. Дети, подобно древним людям, находятся в слиянии с природой, а потому всё что их окружает, кажется им таким родным и интересным С раннего возраста их интересуют загадки Вселенной, Солнце, Луна, звёзды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Цель проекта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ормирование у дошкольников первичных представлений о Вселенной, планетах, звёздах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26560" y="1628640"/>
            <a:ext cx="7921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Задачи проекта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разовательные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ать представление о Солнечной системе и порядке расположения планет вокруг солнца, познакомить с названиями планет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ать представления о звёздах и созвездиях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вивающие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вивать стремление к поисково-познавательной,  исследовательской деятельности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вивать умение получать необходимые сведения из разнообразных источников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вивать мыслительную активность, умение наблюдать, анализировать, делать выводы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оспитательные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спитывать интерес к познанию Вселенной, развивать любознательность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звать радость от открытий, полученных из экспериментов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спитывать умение работать в коллективе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Этапы реализации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135720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 этап – организационный :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бор информации и подготовка  литературы по теме проекта, создание развивающей  среды в группе, планирование, привлечение родителей к предстоящей творческой работ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 этап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знавательный, исследовательский: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оведение тематических занятий, бесед, экспериментов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3 этап – практический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зготовление поделок, рисование, лепк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4 этап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тоговый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бобщение опыта, проведение викторины «Что мы знаем о Космосе?»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рок реализации проекта: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арт – апрел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Формы и методы реализации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85560"/>
            <a:ext cx="4038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Формы работы: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беседы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нятия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блюдения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тение познавательной    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литературы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гры- путешествия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285560"/>
            <a:ext cx="4038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Методы работы: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ловесные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ассказ воспитателя, беседа, чтение художественной литературы, стихотворения,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гадки, придумывание сказок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глядные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ассматривание иллюстраций, открыток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отографий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актические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эксперименты, дидактические игры,  художественно -  продуктивная деятельность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116000" y="4869000"/>
            <a:ext cx="20113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ематика занятий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0040" y="1071720"/>
            <a:ext cx="4038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еседы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«Земля и Луна»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«Солнце и планеты Солнечной системы»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«Звёзды, созвездия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ольшая  Медведица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лярная звезда»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меты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смос и человек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Чтение: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«Мир знаний»(Космос), «Атлас Земли», «Потомучка» и др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учивание считалки «Жил на свете звездочёт"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идумывание космических сказок (домашнее задание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143000"/>
            <a:ext cx="4038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ксперименты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к Земля вращается вокруг солнца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чему Луна такая разная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емья планет Солнечной системы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кое яркое солнце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риентируемся по звёздам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Художественно-продуктивная деятельность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исование : « Планета Земля»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ппликация: «Большая и Малая Медведица»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епка: «Планеты Солнечной системы», «Космонавт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ригами: «Ракета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жидаемые результаты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125360"/>
            <a:ext cx="822960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формированность у дошкольников первичных представлений о Вселенной, Солнечной системе, планетах, звёздах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азвитие способности у детей старшего дошкольного возраста к поисковой деятельност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азвитие у детей инициативы, сообразительности, пытливости, самостоятельност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азвитие интереса  к  проведению экспериментов  и желания принимать  участие в них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619280" y="4051440"/>
            <a:ext cx="1657440" cy="243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4500720" y="4218120"/>
            <a:ext cx="2800080" cy="2101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449280" y="1065240"/>
            <a:ext cx="2394000" cy="18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3564000" y="1944720"/>
            <a:ext cx="1923840" cy="256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6043680" y="1022400"/>
            <a:ext cx="2458800" cy="18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Picture 7" descr=""/>
          <p:cNvPicPr/>
          <p:nvPr/>
        </p:nvPicPr>
        <p:blipFill>
          <a:blip r:embed="rId4"/>
          <a:stretch/>
        </p:blipFill>
        <p:spPr>
          <a:xfrm>
            <a:off x="6307200" y="4076640"/>
            <a:ext cx="2373120" cy="177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Picture 8" descr=""/>
          <p:cNvPicPr/>
          <p:nvPr/>
        </p:nvPicPr>
        <p:blipFill>
          <a:blip r:embed="rId5"/>
          <a:stretch/>
        </p:blipFill>
        <p:spPr>
          <a:xfrm>
            <a:off x="444600" y="3789360"/>
            <a:ext cx="2376360" cy="17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09:52:29Z</dcterms:created>
  <dc:creator>Татьяна</dc:creator>
  <dc:description/>
  <dc:language>en-US</dc:language>
  <cp:lastModifiedBy>NOT</cp:lastModifiedBy>
  <dcterms:modified xsi:type="dcterms:W3CDTF">2013-02-12T16:55:47Z</dcterms:modified>
  <cp:revision>102</cp:revision>
  <dc:subject/>
  <dc:title>Проект «Дети и космос»</dc:title>
</cp:coreProperties>
</file>