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13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5A4A-D874-4A48-BE54-7C96E127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6506-C7D4-42B4-A18A-0185FB34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63DA-866B-43C8-8DE9-944F4DD1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D0F2-DF5A-44B6-9005-C6405A31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B65E-2712-4388-9620-1D8FDF21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73BD-CE0D-42CB-B443-1CFFCAC3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5FA7-6555-4945-8BD0-F7505C6E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253E-EEB1-46F4-9E1B-760D7DE1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8B46-55B3-4FEB-AD50-2D60858B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8961-FD40-411B-B171-A8459849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8144-6903-403E-BC40-B1230784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2093-665A-4560-B2E6-EC062CEA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42C2-091F-4FA8-BE1A-672C7784B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8000" y="2133720"/>
            <a:ext cx="505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Какие бываю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растения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трав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4560" y="1600200"/>
            <a:ext cx="8112240" cy="4724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8305920" cy="4953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04920" y="1523880"/>
            <a:ext cx="8458200" cy="5077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2209680" y="1447920"/>
            <a:ext cx="5029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500"/>
                            </p:stCondLst>
                            <p:childTnLst>
                              <p:par>
                                <p:cTn id="31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500"/>
                            </p:stCondLst>
                            <p:childTnLst>
                              <p:par>
                                <p:cTn id="31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6500"/>
                            </p:stCondLst>
                            <p:childTnLst>
                              <p:par>
                                <p:cTn id="31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8500"/>
                            </p:stCondLst>
                            <p:childTnLst>
                              <p:par>
                                <p:cTn id="3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3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602000" y="228600"/>
            <a:ext cx="545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Проверь себ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09680" y="304920"/>
          <a:ext cx="5322960" cy="6727680"/>
        </p:xfrm>
        <a:graphic>
          <a:graphicData uri="http://schemas.openxmlformats.org/drawingml/2006/table">
            <a:tbl>
              <a:tblPr/>
              <a:tblGrid>
                <a:gridCol w="281160"/>
                <a:gridCol w="291960"/>
                <a:gridCol w="246240"/>
                <a:gridCol w="439560"/>
                <a:gridCol w="343080"/>
                <a:gridCol w="376200"/>
                <a:gridCol w="360360"/>
                <a:gridCol w="395280"/>
                <a:gridCol w="411120"/>
                <a:gridCol w="446040"/>
                <a:gridCol w="479520"/>
                <a:gridCol w="428400"/>
                <a:gridCol w="8240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4" dur="3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3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" y="320760"/>
            <a:ext cx="1375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о горизонта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Эти растения имеют мягкие сочные стеб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Эти растения имеют листья в виде пластин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х называют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068560"/>
            <a:ext cx="7169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о вертика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и растения имеют несколько довольно тонки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одревесневших стеблей – ствол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У этих растений листья в виде иголок (хвоинок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х называют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У этих растений от корня отходит один толстый стебель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в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09480" y="65160"/>
          <a:ext cx="8077320" cy="6754680"/>
        </p:xfrm>
        <a:graphic>
          <a:graphicData uri="http://schemas.openxmlformats.org/drawingml/2006/table">
            <a:tbl>
              <a:tblPr/>
              <a:tblGrid>
                <a:gridCol w="371520"/>
                <a:gridCol w="492120"/>
                <a:gridCol w="371520"/>
                <a:gridCol w="711360"/>
                <a:gridCol w="517320"/>
                <a:gridCol w="569880"/>
                <a:gridCol w="542880"/>
                <a:gridCol w="595440"/>
                <a:gridCol w="620640"/>
                <a:gridCol w="671760"/>
                <a:gridCol w="723600"/>
                <a:gridCol w="648000"/>
                <a:gridCol w="12412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р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в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е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и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р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к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е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447920" y="1676520"/>
            <a:ext cx="6343560" cy="21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ЛОДЦ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00400" y="3886200"/>
            <a:ext cx="3124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95280" y="1066680"/>
            <a:ext cx="482616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До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Прочитай в учебнике тек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«Красота растений» ( стр. 48 – 4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* 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2. Подготовь сообщение о любимом кустарн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3000"/>
                            </p:stCondLst>
                            <p:childTnLst>
                              <p:par>
                                <p:cTn id="4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920"/>
                            </p:stCondLst>
                            <p:childTnLst>
                              <p:par>
                                <p:cTn id="4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80"/>
                            </p:stCondLst>
                            <p:childTnLst>
                              <p:par>
                                <p:cTn id="4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34720" y="766800"/>
            <a:ext cx="78901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На уроке узнае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Группы раст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Растения, относящиеся к т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или иной групп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819520" y="609480"/>
            <a:ext cx="5146560" cy="60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Мы сегод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совершим путешествие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? ?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Дом со всех сторон откры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н резною крышей кры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Заходи в зелёный д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Чудеса увидишь в н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4800" spc="-1" strike="noStrike">
                <a:solidFill>
                  <a:srgbClr val="008000"/>
                </a:solidFill>
                <a:latin typeface="Arial"/>
              </a:rPr>
              <a:t>Л        Е          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1532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75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75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50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1260"/>
                            </p:stCondLst>
                            <p:childTnLst>
                              <p:par>
                                <p:cTn id="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3260"/>
                            </p:stCondLst>
                            <p:childTnLst>
                              <p:par>
                                <p:cTn id="10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Какие растения встречаются в лес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Дерев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Кустар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Тра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950760"/>
            <a:ext cx="79678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К какой группе относятс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следующие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800"/>
                            </p:stCondLst>
                            <p:childTnLst>
                              <p:par>
                                <p:cTn id="1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900"/>
                            </p:stCondLst>
                            <p:childTnLst>
                              <p:par>
                                <p:cTn id="161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62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467480" cy="5562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14400" y="609480"/>
            <a:ext cx="7467480" cy="5639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914400" y="609480"/>
            <a:ext cx="7467480" cy="5639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838080" y="457200"/>
            <a:ext cx="7467840" cy="5867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762120" y="457200"/>
            <a:ext cx="7619760" cy="5867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743040" y="457200"/>
            <a:ext cx="76579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8000"/>
                            </p:stCondLst>
                            <p:childTnLst>
                              <p:par>
                                <p:cTn id="18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4400" y="1981080"/>
            <a:ext cx="720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На какие две группы мож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разделить деревь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дерев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Лиственные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33"/>
                </a:solidFill>
                <a:latin typeface="Arial"/>
              </a:rPr>
              <a:t>это деревья, у которых листья в виде пластинки: берёза, осина, ряби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00"/>
                </a:solidFill>
                <a:latin typeface="Arial"/>
              </a:rPr>
              <a:t>Хвойные – это деревья, у которых листья в виде иголочек: ель, сосна, лиственница, кед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514600" y="1219320"/>
            <a:ext cx="1447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76920" y="1219320"/>
            <a:ext cx="1218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4038480" cy="3962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724280" y="2286000"/>
            <a:ext cx="40388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500"/>
                            </p:stCondLst>
                            <p:childTnLst>
                              <p:par>
                                <p:cTn id="2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450"/>
                            </p:stCondLst>
                            <p:childTnLst>
                              <p:par>
                                <p:cTn id="23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2450"/>
                            </p:stCondLst>
                            <p:childTnLst>
                              <p:par>
                                <p:cTn id="2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2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650"/>
                            </p:stCondLst>
                            <p:childTnLst>
                              <p:par>
                                <p:cTn id="25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7650"/>
                            </p:stCondLst>
                            <p:childTnLst>
                              <p:par>
                                <p:cTn id="26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6633"/>
                </a:solidFill>
                <a:latin typeface="Arial"/>
              </a:rPr>
              <a:t>кустарни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Arial"/>
              </a:rPr>
              <a:t>Чем отличаются кустарник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Arial"/>
              </a:rPr>
              <a:t>от деревьев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228600" y="5218200"/>
            <a:ext cx="9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У них нет одного толстого ствола, а есть несколько тонк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</cp:lastModifiedBy>
  <dcterms:modified xsi:type="dcterms:W3CDTF">2007-10-10T19:53:53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