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B10-94F4-438A-B976-5F0E43FF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9BC-C26B-474F-8908-44A6C731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38E-6BE3-4CB3-AB77-64F75C37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BAC7-9E8E-413B-9F97-C2CFA49D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C9BE-6B69-4124-BCCE-F49765A8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3124-1ADA-4A3C-B0A2-47C193FE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34D-226B-468F-864D-CB7ECD51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589-72CC-4438-86DC-CB0F7395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44C-B590-4295-BC91-51E1A061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DFD-37B2-4D12-86BA-230CDBF4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CA9B-0A1C-4B5D-9F21-71046175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5A29-A394-4215-993B-42C72E8F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1424-7C6A-40A8-B3F7-061E05033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2133720"/>
            <a:ext cx="505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Какие бываю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растени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трав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4560" y="1600200"/>
            <a:ext cx="8112240" cy="4724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305920" cy="4953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8458200" cy="5077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209680" y="1447920"/>
            <a:ext cx="5029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500"/>
                            </p:stCondLst>
                            <p:childTnLst>
                              <p:par>
                                <p:cTn id="30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500"/>
                            </p:stCondLst>
                            <p:childTnLst>
                              <p:par>
                                <p:cTn id="3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500"/>
                            </p:stCondLst>
                            <p:childTnLst>
                              <p:par>
                                <p:cTn id="3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02000" y="228600"/>
            <a:ext cx="545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Проверь себ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09680" y="304920"/>
          <a:ext cx="5322960" cy="6727680"/>
        </p:xfrm>
        <a:graphic>
          <a:graphicData uri="http://schemas.openxmlformats.org/drawingml/2006/table">
            <a:tbl>
              <a:tblPr/>
              <a:tblGrid>
                <a:gridCol w="281160"/>
                <a:gridCol w="291960"/>
                <a:gridCol w="246240"/>
                <a:gridCol w="439560"/>
                <a:gridCol w="343080"/>
                <a:gridCol w="376200"/>
                <a:gridCol w="360360"/>
                <a:gridCol w="395280"/>
                <a:gridCol w="411120"/>
                <a:gridCol w="446040"/>
                <a:gridCol w="479520"/>
                <a:gridCol w="428400"/>
                <a:gridCol w="8240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3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3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320760"/>
            <a:ext cx="1375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о горизонта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Эти растения имеют мягкие сочные стеб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Эти растения имеют листья в виде пластин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х называют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068560"/>
            <a:ext cx="7169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о вертика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и растения имеют несколько довольно тонки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одревесневших стеблей – ствол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У этих растений листья в виде иголок (хвоинок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х называют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У этих растений от корня отходит один толстый стебель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в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09480" y="65160"/>
          <a:ext cx="8077320" cy="6754680"/>
        </p:xfrm>
        <a:graphic>
          <a:graphicData uri="http://schemas.openxmlformats.org/drawingml/2006/table">
            <a:tbl>
              <a:tblPr/>
              <a:tblGrid>
                <a:gridCol w="371520"/>
                <a:gridCol w="492120"/>
                <a:gridCol w="371520"/>
                <a:gridCol w="711360"/>
                <a:gridCol w="517320"/>
                <a:gridCol w="569880"/>
                <a:gridCol w="542880"/>
                <a:gridCol w="595440"/>
                <a:gridCol w="620640"/>
                <a:gridCol w="671760"/>
                <a:gridCol w="723600"/>
                <a:gridCol w="648000"/>
                <a:gridCol w="12412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в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е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и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к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е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447920" y="1676520"/>
            <a:ext cx="6343560" cy="21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00400" y="3886200"/>
            <a:ext cx="3124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95280" y="1066680"/>
            <a:ext cx="482616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До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Прочитай в учебнике тек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«Красота растений» ( стр. 48 – 4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* 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2. Подготовь сообщение о любимом кустарн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920"/>
                            </p:stCondLst>
                            <p:childTnLst>
                              <p:par>
                                <p:cTn id="4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80"/>
                            </p:stCondLst>
                            <p:childTnLst>
                              <p:par>
                                <p:cTn id="4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34720" y="766800"/>
            <a:ext cx="78901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На уроке узнае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Группы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Растения, относящиеся к т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или иной групп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819520" y="609480"/>
            <a:ext cx="5146560" cy="60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Мы сегод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совершим путешествие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? ?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ом со всех сторон откры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н резною крышей кры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Заходи в зелёный д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Чудеса увидишь в 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4800" spc="-1" strike="noStrike">
                <a:solidFill>
                  <a:srgbClr val="008000"/>
                </a:solidFill>
                <a:latin typeface="Arial"/>
              </a:rPr>
              <a:t>Л        Е          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75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75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50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126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3260"/>
                            </p:stCondLst>
                            <p:childTnLst>
                              <p:par>
                                <p:cTn id="9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акие растения встречаются в лес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Дере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Кустар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Тр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950760"/>
            <a:ext cx="7967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К какой группе относят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следующи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80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900"/>
                            </p:stCondLst>
                            <p:childTnLst>
                              <p:par>
                                <p:cTn id="155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56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5562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7467480" cy="5639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14400" y="609480"/>
            <a:ext cx="7467480" cy="5639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838080" y="457200"/>
            <a:ext cx="7467840" cy="5867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762120" y="457200"/>
            <a:ext cx="7619760" cy="586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743040" y="457200"/>
            <a:ext cx="7657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1981080"/>
            <a:ext cx="720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На какие две группы мож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разделить деревь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500"/>
                            </p:stCondLst>
                            <p:childTnLst>
                              <p:par>
                                <p:cTn id="1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дере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Лиственные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это деревья, у которых листья в виде пластинки: берёза, осина, ряб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Arial"/>
              </a:rPr>
              <a:t>Хвойные – это деревья, у которых листья в виде иголочек: ель, сосна, лиственница, ке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514600" y="1219320"/>
            <a:ext cx="1447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121932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4038480" cy="3962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40388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450"/>
                            </p:stCondLst>
                            <p:childTnLst>
                              <p:par>
                                <p:cTn id="23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450"/>
                            </p:stCondLst>
                            <p:childTnLst>
                              <p:par>
                                <p:cTn id="2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650"/>
                            </p:stCondLst>
                            <p:childTnLst>
                              <p:par>
                                <p:cTn id="25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7650"/>
                            </p:stCondLst>
                            <p:childTnLst>
                              <p:par>
                                <p:cTn id="2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6633"/>
                </a:solidFill>
                <a:latin typeface="Arial"/>
              </a:rPr>
              <a:t>кустарни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Чем отличаются кустарни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от деревьев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228600" y="5218200"/>
            <a:ext cx="9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У них нет одного толстого ствола, а есть несколько тон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</cp:lastModifiedBy>
  <dcterms:modified xsi:type="dcterms:W3CDTF">2007-10-10T19:53:5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