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0E4-33AA-4B8D-AB14-83139BBE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273-7638-4706-A63F-F6E02BFF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B68-F9F7-4085-94D3-910DF8D6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4CD-9FC3-45C9-AE7B-E3001402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91B-1548-41BC-83DF-E098A68B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1E9-F996-48EA-9FA0-7AE699F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2F7-319B-4CC2-9262-921DE7E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0B8-0F00-463E-A540-5673CC47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8DD-E809-4AEC-AF80-2FC9D68A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BD5-6791-4D32-86FB-020BDE7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1F2-A4B6-41E1-AF00-FE0E92C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5B0-E344-4CD5-8727-435A9B6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D551-EAF4-4C70-9A06-F66998B4F1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85920" y="1643040"/>
          <a:ext cx="7000920" cy="200016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1167120"/>
                <a:gridCol w="1166760"/>
              </a:tblGrid>
              <a:tr h="6444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Из каких источников вы узнали о событиях гражданской вой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с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ческие док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ь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4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6786720" y="2286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148160" y="3000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85920" y="3643200"/>
          <a:ext cx="7000920" cy="128592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 Какие произведения о Гражданской войне вам известны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ром» - 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елая гвардия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нские рассказы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5" name="Прямоугольник 5"/>
          <p:cNvSpPr/>
          <p:nvPr/>
        </p:nvSpPr>
        <p:spPr>
          <a:xfrm>
            <a:off x="5079240" y="4286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 назвать – 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85920" y="4929120"/>
          <a:ext cx="7000920" cy="127944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640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Как, на ваш взгляд, могли изображаться события Гражданской войны в литературе 20-х год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рное, изображались трагично – 1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7"/>
          <p:cNvSpPr/>
          <p:nvPr/>
        </p:nvSpPr>
        <p:spPr>
          <a:xfrm>
            <a:off x="4786200" y="55720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рудняюсь ответить – 1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143000" y="285840"/>
            <a:ext cx="7215120" cy="8254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обучающихся 11-а класса по вопросам о Гражданск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85920" y="1428840"/>
            <a:ext cx="7072200" cy="47574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357200" y="2357280"/>
            <a:ext cx="6858000" cy="25333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й предстает эпоха со страниц литературных произведений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комиться с творчеством писателей, творивших в  эпоху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во отношение наших современников к произведениям, написанным в 20-е годы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poezosfera.ru/wp-content/uploads/2008/12/pavelkogan.jpg"/>
          <p:cNvPicPr/>
          <p:nvPr/>
        </p:nvPicPr>
        <p:blipFill>
          <a:blip r:embed="rId1"/>
          <a:stretch/>
        </p:blipFill>
        <p:spPr>
          <a:xfrm>
            <a:off x="208080" y="3565440"/>
            <a:ext cx="1869840" cy="2487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143240" y="21420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071960" y="1428840"/>
            <a:ext cx="4714920" cy="436284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бывалой силой звучала гражданская лирика, разрабатывались наиболее действенные, обращенные непосредственно к массам жанры: марш, песня, стихотворное воззвание, посл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огие поэты воспринимают революцию как трагическую неизбежность (Волошин,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оявляются в поэзии новые имена. Например, стихи Багрицкого отличались образной яркостью, свежей интонацией, ритмикой и быстро вывели его в первый ряд поэтов революционного романт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hilatelia.ru/pict/cat5/dir1/3081ru.jpg"/>
          <p:cNvPicPr/>
          <p:nvPr/>
        </p:nvPicPr>
        <p:blipFill>
          <a:blip r:embed="rId2"/>
          <a:stretch/>
        </p:blipFill>
        <p:spPr>
          <a:xfrm>
            <a:off x="208080" y="-6480"/>
            <a:ext cx="1869840" cy="249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snob.ru/i/indoc/i/indoc/3c/rubric_issue_100924.jpg"/>
          <p:cNvPicPr/>
          <p:nvPr/>
        </p:nvPicPr>
        <p:blipFill>
          <a:blip r:embed="rId3"/>
          <a:stretch/>
        </p:blipFill>
        <p:spPr>
          <a:xfrm>
            <a:off x="1920960" y="2206800"/>
            <a:ext cx="2230200" cy="1944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14200" y="250020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И.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2 -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214720" y="4214880"/>
            <a:ext cx="1643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оло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77 -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85840" y="600084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. Багр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5 - 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возврат 11"/>
          <p:cNvSpPr/>
          <p:nvPr/>
        </p:nvSpPr>
        <p:spPr>
          <a:xfrm>
            <a:off x="821520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parasolmonoplane.ru/img/1171335.jpg"/>
          <p:cNvPicPr/>
          <p:nvPr/>
        </p:nvPicPr>
        <p:blipFill>
          <a:blip r:embed="rId1"/>
          <a:stretch/>
        </p:blipFill>
        <p:spPr>
          <a:xfrm>
            <a:off x="428760" y="214200"/>
            <a:ext cx="2666880" cy="40957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113" name="Picture 2" descr="http://ceolte.com/img/421.files/image103.jpg"/>
          <p:cNvPicPr/>
          <p:nvPr/>
        </p:nvPicPr>
        <p:blipFill>
          <a:blip r:embed="rId2"/>
          <a:stretch/>
        </p:blipFill>
        <p:spPr>
          <a:xfrm>
            <a:off x="1214280" y="1571760"/>
            <a:ext cx="164340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929040" y="0"/>
            <a:ext cx="45720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 А Фадеева «Разгр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924 – 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57720" y="840240"/>
            <a:ext cx="5572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к анализу эпиз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 романе решается вопрос о ценности человеческой жизни в эпоху перело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ввел в литературу понятие «революционный гуманизм». Как вы понимаете его значение?  Может ли слово «гуманизм» иметь опред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прав – Левинсон, командир отряда, и врач Сташинский или Мечик, узнавший о готовящемся убийстве партизана Фро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аёт Левинсону силы принять страшное решение убить безнадёжно больного Фр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19 столетия также ставил своего героя перед выбором и как решал проблему гуманизма на страницах своего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3357720" y="285840"/>
            <a:ext cx="5429160" cy="46677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деев писал об основной мысли своего романа: «В гражданской войне происходит отбор человеческого материала, все враждебное сметается революцией, а все, поднявшееся из подлинных корней революции, развивается в этой борьбе. Происходит огромнейшая переделка люд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боец Фролов стал обузой для отряда, Левинсон принимает решение: во имя спасения многих пожертвовать одной жизнью. Но даётся командиру это трудно: «Левинсон  хотел  было   назвать  одним  словом  то  единственное,   что оставалось им, но, видно, слово  это было настолько  трудным, что он не смог его  выговор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928800" y="4071960"/>
            <a:ext cx="21430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57120" y="870480"/>
            <a:ext cx="857268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 Бога вахмистру Жил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от вашей веры ни прибыли, ни убытку. Один верит,  другой не верит, а поступки у вас у всех одинаковые: сейчас друг друга за глотку, а что касается казарм, Жилин, то тут так надо понимать,  </a:t>
            </a:r>
            <a:r>
              <a:rPr b="1" i="1" lang="ru-RU" sz="2400" spc="-1" strike="noStrike">
                <a:solidFill>
                  <a:srgbClr val="9b2d1f"/>
                </a:solidFill>
                <a:latin typeface="Times New Roman"/>
                <a:ea typeface="Calibri"/>
              </a:rPr>
              <a:t>все  вы  у  меня, Жилин, одинаковые - в поле брани убиенны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, Жилин, понимать надо, и не всякий это пойм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«Сон Алексея Турбина» - отрывок из главы 5 романа Булгакова «Белая гварди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000080" y="142920"/>
            <a:ext cx="73580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Хождение по мукам – путь людей, вовлеченных в междоусобицу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920880" y="3913200"/>
            <a:ext cx="7716600" cy="319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85840" y="5643720"/>
            <a:ext cx="5214960" cy="10087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ая мысль объединяет отрывок из романа Булгакова и стихотворения Цветаев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072280" cy="520560"/>
          </a:xfrm>
          <a:prstGeom prst="rect">
            <a:avLst/>
          </a:prstGeom>
          <a:solidFill>
            <a:srgbClr val="e9e5d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ражданская война.  Взгляд через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429080" y="428616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жданской войне нет правых и виноватых, нет ангелов и нет бесов, как нет победителей. В ней есть только побежденные – мы все, весь народ, вся Росс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Васильев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697200" cy="4929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6"/>
          <p:cNvSpPr/>
          <p:nvPr/>
        </p:nvSpPr>
        <p:spPr>
          <a:xfrm>
            <a:off x="4510080" y="192888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 Рождествен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хотворение «Белым генералам»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4357800" y="2714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лотно лежат они, вдоволь познав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ки свои и дорог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е-таки - русские. Вроде бы - на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лько не наши, скорее, ничь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4578840" y="1071720"/>
            <a:ext cx="38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имир Наб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отворение «Расстрел» 192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144612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ыполнить сложный план статьи И. Сух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(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ыбор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то общего и какие различия в изображении революции и Гражданской войны вы увидели в творчестве М. Шолохова и М. Булгакова? (прочесть рассказы М. Шолохова «Родинка», «Жеребё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 изобразил события Гражданск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Лавренев в повести «Сорок первый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43120" y="357120"/>
            <a:ext cx="3643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255160" cy="1305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643720" y="2143080"/>
            <a:ext cx="2571480" cy="30801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рть во имя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5715000"/>
            <a:ext cx="60721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арактеризуйте эпоху, в которую могла быть написана песня? (1-2 предло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g-fotki.yandex.ru/get/3814/slawa-polynki.3/0_20fe0_c0fc2bba_XL"/>
          <p:cNvPicPr/>
          <p:nvPr/>
        </p:nvPicPr>
        <p:blipFill>
          <a:blip r:embed="rId2"/>
          <a:stretch/>
        </p:blipFill>
        <p:spPr>
          <a:xfrm>
            <a:off x="642960" y="1857240"/>
            <a:ext cx="4278240" cy="35719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56" name="TextBox 6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80960" y="176040"/>
            <a:ext cx="810900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428840" y="5786280"/>
            <a:ext cx="664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ую эпоху могло быть написано такое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987480" y="1749600"/>
            <a:ext cx="745488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freundlich_cvetaeva_06_rastoyaniya.mp3" descr=""/>
          <p:cNvPicPr/>
          <p:nvPr/>
        </p:nvPicPr>
        <p:blipFill>
          <a:blip r:embed="rId3"/>
          <a:stretch/>
        </p:blipFill>
        <p:spPr>
          <a:xfrm>
            <a:off x="8072280" y="114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7680" y="1928880"/>
            <a:ext cx="40003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тавание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97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http://cs11189.userapi.com/u108595518/-5/x_d91821a1.jpg"/>
          <p:cNvPicPr/>
          <p:nvPr/>
        </p:nvPicPr>
        <p:blipFill>
          <a:blip r:embed="rId1"/>
          <a:stretch/>
        </p:blipFill>
        <p:spPr>
          <a:xfrm>
            <a:off x="2071800" y="1500120"/>
            <a:ext cx="1714320" cy="27511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094600" cy="129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900igr.net/datas/literatura/Tvorchestvo-A.A.Fadeeva/0001-001-Fadeev-Bulyga-Aleksandr-Aleksandrovich-1901-1956.jpg"/>
          <p:cNvPicPr/>
          <p:nvPr/>
        </p:nvPicPr>
        <p:blipFill>
          <a:blip r:embed="rId3"/>
          <a:srcRect l="0" t="0" r="51390" b="7407"/>
          <a:stretch/>
        </p:blipFill>
        <p:spPr>
          <a:xfrm>
            <a:off x="571680" y="4071960"/>
            <a:ext cx="1785600" cy="255096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6" name="Picture 2" descr="http://dic.academic.ru/pictures/bse/jpg/0232222564.jpg"/>
          <p:cNvPicPr/>
          <p:nvPr/>
        </p:nvPicPr>
        <p:blipFill>
          <a:blip r:embed="rId4"/>
          <a:stretch/>
        </p:blipFill>
        <p:spPr>
          <a:xfrm>
            <a:off x="235728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7" name="Picture 2" descr="848567737_tonnel"/>
          <p:cNvPicPr/>
          <p:nvPr/>
        </p:nvPicPr>
        <p:blipFill>
          <a:blip r:embed="rId5"/>
          <a:stretch/>
        </p:blipFill>
        <p:spPr>
          <a:xfrm>
            <a:off x="428616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8" name="Picture 2" descr="http://philatelia.ru/pict/cat5/dir1/3081ru.jpg"/>
          <p:cNvPicPr/>
          <p:nvPr/>
        </p:nvPicPr>
        <p:blipFill>
          <a:blip r:embed="rId6"/>
          <a:stretch/>
        </p:blipFill>
        <p:spPr>
          <a:xfrm>
            <a:off x="6215040" y="4071960"/>
            <a:ext cx="2000160" cy="2571840"/>
          </a:xfrm>
          <a:prstGeom prst="rect">
            <a:avLst/>
          </a:prstGeom>
          <a:ln w="936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parasolmonoplane.ru/img/1171335.jpg"/>
          <p:cNvPicPr/>
          <p:nvPr/>
        </p:nvPicPr>
        <p:blipFill>
          <a:blip r:embed="rId7"/>
          <a:stretch/>
        </p:blipFill>
        <p:spPr>
          <a:xfrm>
            <a:off x="357120" y="1500120"/>
            <a:ext cx="1738440" cy="25988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70" name="Picture 10" descr="http://static.ozone.ru/multimedia/books_covers/1002474095.jpg"/>
          <p:cNvPicPr/>
          <p:nvPr/>
        </p:nvPicPr>
        <p:blipFill>
          <a:blip r:embed="rId8"/>
          <a:stretch/>
        </p:blipFill>
        <p:spPr>
          <a:xfrm>
            <a:off x="3786120" y="1500120"/>
            <a:ext cx="1643040" cy="255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www.snob.ru/i/indoc/26/blog_entry_32174.jpg"/>
          <p:cNvPicPr/>
          <p:nvPr/>
        </p:nvPicPr>
        <p:blipFill>
          <a:blip r:embed="rId9"/>
          <a:srcRect l="0" t="0" r="40448" b="0"/>
          <a:stretch/>
        </p:blipFill>
        <p:spPr>
          <a:xfrm>
            <a:off x="5429160" y="150012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ttp://www.livelib.ru/boocover/1000201952/l/9233/Marina_Tsvetaeva__Marina_Tsvetaeva._Sochineniya_v_dvuh_tomah._Tom_1.jpg"/>
          <p:cNvPicPr/>
          <p:nvPr/>
        </p:nvPicPr>
        <p:blipFill>
          <a:blip r:embed="rId10"/>
          <a:stretch/>
        </p:blipFill>
        <p:spPr>
          <a:xfrm>
            <a:off x="6858000" y="1500120"/>
            <a:ext cx="1552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07880" y="-19080"/>
            <a:ext cx="8328240" cy="96372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3" descr=""/>
          <p:cNvPicPr/>
          <p:nvPr/>
        </p:nvPicPr>
        <p:blipFill>
          <a:blip r:embed="rId2"/>
          <a:stretch/>
        </p:blipFill>
        <p:spPr>
          <a:xfrm>
            <a:off x="353880" y="1390680"/>
            <a:ext cx="8582040" cy="518616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4"/>
          <p:cNvSpPr/>
          <p:nvPr/>
        </p:nvSpPr>
        <p:spPr>
          <a:xfrm>
            <a:off x="642960" y="12859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иугольник 5"/>
          <p:cNvSpPr/>
          <p:nvPr/>
        </p:nvSpPr>
        <p:spPr>
          <a:xfrm>
            <a:off x="642960" y="23572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ятиугольник 6"/>
          <p:cNvSpPr/>
          <p:nvPr/>
        </p:nvSpPr>
        <p:spPr>
          <a:xfrm>
            <a:off x="642960" y="342900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7"/>
          <p:cNvSpPr/>
          <p:nvPr/>
        </p:nvSpPr>
        <p:spPr>
          <a:xfrm>
            <a:off x="642960" y="45007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ятиугольник 8"/>
          <p:cNvSpPr/>
          <p:nvPr/>
        </p:nvSpPr>
        <p:spPr>
          <a:xfrm>
            <a:off x="642960" y="55720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ашивка 9"/>
          <p:cNvSpPr/>
          <p:nvPr/>
        </p:nvSpPr>
        <p:spPr>
          <a:xfrm>
            <a:off x="3714840" y="12859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ашивка 10"/>
          <p:cNvSpPr/>
          <p:nvPr/>
        </p:nvSpPr>
        <p:spPr>
          <a:xfrm>
            <a:off x="3714840" y="23572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ашивка 11"/>
          <p:cNvSpPr/>
          <p:nvPr/>
        </p:nvSpPr>
        <p:spPr>
          <a:xfrm>
            <a:off x="3714840" y="342900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ашивка 12"/>
          <p:cNvSpPr/>
          <p:nvPr/>
        </p:nvSpPr>
        <p:spPr>
          <a:xfrm>
            <a:off x="3714840" y="45007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ашивка 13"/>
          <p:cNvSpPr/>
          <p:nvPr/>
        </p:nvSpPr>
        <p:spPr>
          <a:xfrm>
            <a:off x="3714840" y="55720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285920" y="142920"/>
            <a:ext cx="678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1285920"/>
            <a:ext cx="80722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литературу 20-х годов оказали влияние Октябрьская революция и Гражданская вой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ют творить писатели, чьи произведения появились ещё в дореволюционную эпоху: Ахматова, Цветаева, Горький, Верес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яются новые имена в литературе: Шолохов, Фадеев, Булгаков, Платон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тарые журналы и газеты, в которых печатались Салтыков-Щедрин и Чехов, Блок и Горький, перестали суще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е советские журналы, большинство из которых просуществует весь ХХ век, были  идеологичны уже начиная с заглавий: «Красная новь», «Звезда», «Новый мир», «Октябрь», «Знам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овь появилась цензура, теперь уже совет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революции русская литература переживает великий раскол: его последствия придется изживать весь XX 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возврат 5"/>
          <p:cNvSpPr/>
          <p:nvPr/>
        </p:nvSpPr>
        <p:spPr>
          <a:xfrm>
            <a:off x="8001000" y="621504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7493"/>
                </a:moveTo>
                <a:lnTo>
                  <a:pt x="15937" y="7493"/>
                </a:lnTo>
                <a:lnTo>
                  <a:pt x="15937" y="12828"/>
                </a:lnTo>
                <a:cubicBezTo>
                  <a:pt x="15937" y="13751"/>
                  <a:pt x="16738" y="14482"/>
                  <a:pt x="17773" y="14482"/>
                </a:cubicBezTo>
                <a:lnTo>
                  <a:pt x="19436" y="14482"/>
                </a:lnTo>
                <a:cubicBezTo>
                  <a:pt x="20471" y="14482"/>
                  <a:pt x="21272" y="13751"/>
                  <a:pt x="21272" y="12828"/>
                </a:cubicBezTo>
                <a:lnTo>
                  <a:pt x="21272" y="7493"/>
                </a:lnTo>
                <a:lnTo>
                  <a:pt x="19436" y="7493"/>
                </a:lnTo>
                <a:lnTo>
                  <a:pt x="22943" y="3985"/>
                </a:lnTo>
                <a:lnTo>
                  <a:pt x="26616" y="7493"/>
                </a:lnTo>
                <a:lnTo>
                  <a:pt x="24780" y="7493"/>
                </a:lnTo>
                <a:lnTo>
                  <a:pt x="24780" y="12828"/>
                </a:lnTo>
                <a:cubicBezTo>
                  <a:pt x="24780" y="15596"/>
                  <a:pt x="22203" y="18155"/>
                  <a:pt x="19436" y="18155"/>
                </a:cubicBezTo>
                <a:lnTo>
                  <a:pt x="17773" y="18155"/>
                </a:lnTo>
                <a:cubicBezTo>
                  <a:pt x="15005" y="18155"/>
                  <a:pt x="12429" y="15596"/>
                  <a:pt x="12429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500280" y="285840"/>
            <a:ext cx="5143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928800" y="400068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71920" y="1522080"/>
            <a:ext cx="5072040" cy="49726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7 году вышел роман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деева Это произведение ставило острые вопросы гуманистического смысла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пытался создать образ нового героя, отстаивавшего позиции революционного гуманизма. Он по-иному освещает духовные ценности, такие, как героическое, борьба, жалость, любовь, верность, долг. Герои Фадеева бывают жестокими, беспощадными, нече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них нравственно то, что на пользу рабочим и крестьянам, что служит победе революции и ее защите. Все средства допустимы и преступления оправданы высшей иде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возврат 7"/>
          <p:cNvSpPr/>
          <p:nvPr/>
        </p:nvSpPr>
        <p:spPr>
          <a:xfrm>
            <a:off x="428760" y="600084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7493"/>
                </a:moveTo>
                <a:lnTo>
                  <a:pt x="13772" y="7493"/>
                </a:lnTo>
                <a:lnTo>
                  <a:pt x="13772" y="12828"/>
                </a:lnTo>
                <a:cubicBezTo>
                  <a:pt x="13772" y="13751"/>
                  <a:pt x="14573" y="14482"/>
                  <a:pt x="15609" y="14482"/>
                </a:cubicBezTo>
                <a:lnTo>
                  <a:pt x="17271" y="14482"/>
                </a:lnTo>
                <a:cubicBezTo>
                  <a:pt x="18307" y="14482"/>
                  <a:pt x="19108" y="13751"/>
                  <a:pt x="19108" y="12828"/>
                </a:cubicBezTo>
                <a:lnTo>
                  <a:pt x="19108" y="7493"/>
                </a:lnTo>
                <a:lnTo>
                  <a:pt x="17271" y="7493"/>
                </a:lnTo>
                <a:lnTo>
                  <a:pt x="20779" y="3985"/>
                </a:lnTo>
                <a:lnTo>
                  <a:pt x="24452" y="7493"/>
                </a:lnTo>
                <a:lnTo>
                  <a:pt x="22615" y="7493"/>
                </a:lnTo>
                <a:lnTo>
                  <a:pt x="22615" y="12828"/>
                </a:lnTo>
                <a:cubicBezTo>
                  <a:pt x="22615" y="15596"/>
                  <a:pt x="20039" y="18155"/>
                  <a:pt x="17271" y="18155"/>
                </a:cubicBezTo>
                <a:lnTo>
                  <a:pt x="15609" y="18155"/>
                </a:lnTo>
                <a:cubicBezTo>
                  <a:pt x="12841" y="18155"/>
                  <a:pt x="10265" y="15596"/>
                  <a:pt x="10265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dic.academic.ru/pictures/bse/jpg/0232222564.jpg"/>
          <p:cNvPicPr/>
          <p:nvPr/>
        </p:nvPicPr>
        <p:blipFill>
          <a:blip r:embed="rId1"/>
          <a:stretch/>
        </p:blipFill>
        <p:spPr>
          <a:xfrm>
            <a:off x="785880" y="571680"/>
            <a:ext cx="2378160" cy="32144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4" name="TextBox 2"/>
          <p:cNvSpPr/>
          <p:nvPr/>
        </p:nvSpPr>
        <p:spPr>
          <a:xfrm>
            <a:off x="928800" y="4000680"/>
            <a:ext cx="2214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Булг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891 - 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643200" y="57168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3714840" y="1857240"/>
            <a:ext cx="4572000" cy="375300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 продолжал традиции классической русской литературы. Его героям уровень культуры, воспринятой от нескольких поколений интеллигенции, не позволяет опуститься, стать зве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а ужасает Гражданская война. Особенно его пугает стремление тёмных личностей, предлагающих себя в качестве кумиров и вождей толпы, использовать “мужичонков гнев” для достижения соб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7"/>
          <p:cNvSpPr/>
          <p:nvPr/>
        </p:nvSpPr>
        <p:spPr>
          <a:xfrm>
            <a:off x="1143000" y="60008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786120" y="35712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848567737_tonnel"/>
          <p:cNvPicPr/>
          <p:nvPr/>
        </p:nvPicPr>
        <p:blipFill>
          <a:blip r:embed="rId1"/>
          <a:stretch/>
        </p:blipFill>
        <p:spPr>
          <a:xfrm>
            <a:off x="571680" y="357120"/>
            <a:ext cx="267804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714240" y="4143240"/>
            <a:ext cx="24289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5 – 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29040" y="1801080"/>
            <a:ext cx="4286160" cy="34480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 Гражданской войны явились фактическим материалом, который лег в основу первых рассказов Шолохова.</a:t>
            </a:r>
            <a:r>
              <a:rPr b="0" lang="ru-RU" sz="2000" spc="-1" strike="noStrike">
                <a:solidFill>
                  <a:srgbClr val="4e161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нских рассказ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втор стремился изобразить гражданскую войну, ее последствия как для судьбы Дона, так и для судьбы России в целом. В них Шолохов показывает ужас братоубийственной войны, которая разрушает уклад жизни каз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возврат 6"/>
          <p:cNvSpPr/>
          <p:nvPr/>
        </p:nvSpPr>
        <p:spPr>
          <a:xfrm>
            <a:off x="107172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5:38Z</dcterms:created>
  <dc:creator>Admin</dc:creator>
  <dc:description/>
  <dc:language>en-US</dc:language>
  <cp:lastModifiedBy>йцукен</cp:lastModifiedBy>
  <dcterms:modified xsi:type="dcterms:W3CDTF">2012-12-20T16:40:00Z</dcterms:modified>
  <cp:revision>181</cp:revision>
  <dc:subject/>
  <dc:title>Тема Гражданской войны в литературе 20-х – 30-х годов.</dc:title>
</cp:coreProperties>
</file>