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13.jpeg" ContentType="image/jpe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D483-9E9A-4071-AC18-65CC9196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888C-EE38-4B7A-AAC2-19424CB6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7A69-12DB-4FCE-A584-2B92D6DC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AA2A-69A5-4FF7-B568-2AA9DD69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C72A-10E0-4738-B576-1DA268F5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8380-A329-4801-AC1F-18BDA45D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9717-1816-4A12-B8DC-131FC5CE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EB12-D24C-41F6-A7FE-0BD97DBA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3987-64EC-43A7-A278-0C1F12F0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8343-EB82-4AA5-8EAB-90F427FF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5002-3B45-4114-A009-0466AD1A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61B5-9157-407C-8F60-7426C757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EECC-E18F-45F0-BAA7-F5E14E1E13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85920" y="1643040"/>
          <a:ext cx="7000920" cy="2000160"/>
        </p:xfrm>
        <a:graphic>
          <a:graphicData uri="http://schemas.openxmlformats.org/drawingml/2006/table">
            <a:tbl>
              <a:tblPr/>
              <a:tblGrid>
                <a:gridCol w="2333520"/>
                <a:gridCol w="2333520"/>
                <a:gridCol w="1167120"/>
                <a:gridCol w="1166760"/>
              </a:tblGrid>
              <a:tr h="644400">
                <a:tc gridSpan="4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Из каких источников вы узнали о событиях гражданской вой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1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исто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рические доку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ль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644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  <p:sp>
        <p:nvSpPr>
          <p:cNvPr id="42" name="TextBox 2"/>
          <p:cNvSpPr/>
          <p:nvPr/>
        </p:nvSpPr>
        <p:spPr>
          <a:xfrm>
            <a:off x="6786720" y="2286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ни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7148160" y="300024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285920" y="3643200"/>
          <a:ext cx="7000920" cy="1285920"/>
        </p:xfrm>
        <a:graphic>
          <a:graphicData uri="http://schemas.openxmlformats.org/drawingml/2006/table">
            <a:tbl>
              <a:tblPr/>
              <a:tblGrid>
                <a:gridCol w="3500280"/>
                <a:gridCol w="3500640"/>
              </a:tblGrid>
              <a:tr h="3715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 Какие произведения о Гражданской войне вам известны 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Разгром» - 8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Белая гвардия» - 4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Донские рассказы» - 4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45" name="Прямоугольник 5"/>
          <p:cNvSpPr/>
          <p:nvPr/>
        </p:nvSpPr>
        <p:spPr>
          <a:xfrm>
            <a:off x="5079240" y="428616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могу назвать – 8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285920" y="4929120"/>
          <a:ext cx="7000920" cy="1279440"/>
        </p:xfrm>
        <a:graphic>
          <a:graphicData uri="http://schemas.openxmlformats.org/drawingml/2006/table">
            <a:tbl>
              <a:tblPr/>
              <a:tblGrid>
                <a:gridCol w="3500280"/>
                <a:gridCol w="3500640"/>
              </a:tblGrid>
              <a:tr h="6404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 Как, на ваш взгляд, могли изображаться события Гражданской войны в литературе 20-х годов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верное, изображались трагично – 13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47" name="Прямоугольник 7"/>
          <p:cNvSpPr/>
          <p:nvPr/>
        </p:nvSpPr>
        <p:spPr>
          <a:xfrm>
            <a:off x="4786200" y="5572080"/>
            <a:ext cx="34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трудняюсь ответить – 11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1143000" y="285840"/>
            <a:ext cx="7215120" cy="82548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ы анкетирования обучающихся 11-а класса по вопросам о Гражданской вой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285920" y="1428840"/>
            <a:ext cx="7072200" cy="4757400"/>
          </a:xfrm>
          <a:prstGeom prst="rect">
            <a:avLst/>
          </a:prstGeom>
          <a:solidFill>
            <a:srgbClr val="f4c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1357200" y="2357280"/>
            <a:ext cx="6858000" cy="25333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Образовательные цели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нять, какой предстает эпоха со страниц литературных произведений 20-х г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знакомиться с творчеством писателей, творивших в  эпоху 20-х г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нять, каково отношение наших современников к произведениям, написанным в 20-е годы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X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http://poezosfera.ru/wp-content/uploads/2008/12/pavelkogan.jpg"/>
          <p:cNvPicPr/>
          <p:nvPr/>
        </p:nvPicPr>
        <p:blipFill>
          <a:blip r:embed="rId1"/>
          <a:stretch/>
        </p:blipFill>
        <p:spPr>
          <a:xfrm>
            <a:off x="208080" y="3565440"/>
            <a:ext cx="1869840" cy="24876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"/>
          <p:cNvSpPr/>
          <p:nvPr/>
        </p:nvSpPr>
        <p:spPr>
          <a:xfrm>
            <a:off x="4143240" y="214200"/>
            <a:ext cx="45720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ов характер поэзии 20-х годов: основные жанры, темы, поэтические име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4071960" y="1428840"/>
            <a:ext cx="4714920" cy="4362840"/>
          </a:xfrm>
          <a:prstGeom prst="rect">
            <a:avLst/>
          </a:prstGeom>
          <a:noFill/>
          <a:ln w="93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С небывалой силой звучала гражданская лирика, разрабатывались наиболее действенные, обращенные непосредственно к массам жанры: марш, песня, стихотворное воззвание, посл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Многие поэты воспринимают революцию как трагическую неизбежность (Волошин, Цветае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Появляются в поэзии новые имена. Например, стихи Багрицкого отличались образной яркостью, свежей интонацией, ритмикой и быстро вывели его в первый ряд поэтов революционного романт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philatelia.ru/pict/cat5/dir1/3081ru.jpg"/>
          <p:cNvPicPr/>
          <p:nvPr/>
        </p:nvPicPr>
        <p:blipFill>
          <a:blip r:embed="rId2"/>
          <a:stretch/>
        </p:blipFill>
        <p:spPr>
          <a:xfrm>
            <a:off x="208080" y="-6480"/>
            <a:ext cx="1869840" cy="2494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www.snob.ru/i/indoc/i/indoc/3c/rubric_issue_100924.jpg"/>
          <p:cNvPicPr/>
          <p:nvPr/>
        </p:nvPicPr>
        <p:blipFill>
          <a:blip r:embed="rId3"/>
          <a:stretch/>
        </p:blipFill>
        <p:spPr>
          <a:xfrm>
            <a:off x="1920960" y="2206800"/>
            <a:ext cx="2230200" cy="19443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214200" y="2500200"/>
            <a:ext cx="17859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. И. Цвета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892 - 19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214720" y="4214880"/>
            <a:ext cx="16430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. Волош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877 - 19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285840" y="6000840"/>
            <a:ext cx="17859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. Багриц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895 - 19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Управляющая кнопка: возврат 11"/>
          <p:cNvSpPr/>
          <p:nvPr/>
        </p:nvSpPr>
        <p:spPr>
          <a:xfrm>
            <a:off x="8215200" y="62866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7493"/>
                </a:moveTo>
                <a:lnTo>
                  <a:pt x="11619" y="7493"/>
                </a:lnTo>
                <a:lnTo>
                  <a:pt x="11619" y="12828"/>
                </a:lnTo>
                <a:cubicBezTo>
                  <a:pt x="11619" y="13751"/>
                  <a:pt x="12420" y="14482"/>
                  <a:pt x="13455" y="14482"/>
                </a:cubicBezTo>
                <a:lnTo>
                  <a:pt x="15118" y="14482"/>
                </a:lnTo>
                <a:cubicBezTo>
                  <a:pt x="16154" y="14482"/>
                  <a:pt x="16954" y="13751"/>
                  <a:pt x="16954" y="12828"/>
                </a:cubicBezTo>
                <a:lnTo>
                  <a:pt x="16954" y="7493"/>
                </a:lnTo>
                <a:lnTo>
                  <a:pt x="15118" y="7493"/>
                </a:lnTo>
                <a:lnTo>
                  <a:pt x="18625" y="3985"/>
                </a:lnTo>
                <a:lnTo>
                  <a:pt x="22298" y="7493"/>
                </a:lnTo>
                <a:lnTo>
                  <a:pt x="20462" y="7493"/>
                </a:lnTo>
                <a:lnTo>
                  <a:pt x="20462" y="12828"/>
                </a:lnTo>
                <a:cubicBezTo>
                  <a:pt x="20462" y="15596"/>
                  <a:pt x="17886" y="18155"/>
                  <a:pt x="15118" y="18155"/>
                </a:cubicBezTo>
                <a:lnTo>
                  <a:pt x="13455" y="18155"/>
                </a:lnTo>
                <a:cubicBezTo>
                  <a:pt x="10688" y="18155"/>
                  <a:pt x="8111" y="15596"/>
                  <a:pt x="8111" y="12828"/>
                </a:cubicBez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http://parasolmonoplane.ru/img/1171335.jpg"/>
          <p:cNvPicPr/>
          <p:nvPr/>
        </p:nvPicPr>
        <p:blipFill>
          <a:blip r:embed="rId1"/>
          <a:stretch/>
        </p:blipFill>
        <p:spPr>
          <a:xfrm>
            <a:off x="428760" y="214200"/>
            <a:ext cx="2666880" cy="4095720"/>
          </a:xfrm>
          <a:prstGeom prst="rect">
            <a:avLst/>
          </a:prstGeom>
          <a:ln w="9360">
            <a:solidFill>
              <a:srgbClr val="d34817"/>
            </a:solidFill>
            <a:miter/>
          </a:ln>
        </p:spPr>
      </p:pic>
      <p:pic>
        <p:nvPicPr>
          <p:cNvPr id="113" name="Picture 2" descr="http://ceolte.com/img/421.files/image103.jpg"/>
          <p:cNvPicPr/>
          <p:nvPr/>
        </p:nvPicPr>
        <p:blipFill>
          <a:blip r:embed="rId2"/>
          <a:stretch/>
        </p:blipFill>
        <p:spPr>
          <a:xfrm>
            <a:off x="1214280" y="1571760"/>
            <a:ext cx="1643400" cy="15843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3"/>
          <p:cNvSpPr/>
          <p:nvPr/>
        </p:nvSpPr>
        <p:spPr>
          <a:xfrm>
            <a:off x="3929040" y="0"/>
            <a:ext cx="457200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ман А Фадеева «Разгро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1924 – 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357720" y="840240"/>
            <a:ext cx="5572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ы к анализу эпиз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в романе решается вопрос о ценности человеческой жизни в эпоху перелом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адеев ввел в литературу понятие «революционный гуманизм». Как вы понимаете его значение?  Может ли слово «гуманизм» иметь определ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то прав – Левинсон, командир отряда, и врач Сташинский или Мечик, узнавший о готовящемся убийстве партизана Фролов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даёт Левинсону силы принять страшное решение убить безнадёжно больного Фро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то из русских писателей 19 столетия также ставил своего героя перед выбором и как решал проблему гуманизма на страницах своего произвед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2"/>
          <p:cNvSpPr/>
          <p:nvPr/>
        </p:nvSpPr>
        <p:spPr>
          <a:xfrm>
            <a:off x="3357720" y="285840"/>
            <a:ext cx="5429160" cy="466776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деев писал об основной мысли своего романа: «В гражданской войне происходит отбор человеческого материала, все враждебное сметается революцией, а все, поднявшееся из подлинных корней революции, развивается в этой борьбе. Происходит огромнейшая переделка людей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да боец Фролов стал обузой для отряда, Левинсон принимает решение: во имя спасения многих пожертвовать одной жизнью. Но даётся командиру это трудно: «Левинсон  хотел  было   назвать  одним  словом  то  единственное,   что оставалось им, но, видно, слово  это было настолько  трудным, что он не смог его  выговори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http://900igr.net/datas/literatura/Tvorchestvo-A.A.Fadeeva/0001-001-Fadeev-Bulyga-Aleksandr-Aleksandrovich-1901-1956.jpg"/>
          <p:cNvPicPr/>
          <p:nvPr/>
        </p:nvPicPr>
        <p:blipFill>
          <a:blip r:embed="rId1"/>
          <a:srcRect l="0" t="0" r="51390" b="7407"/>
          <a:stretch/>
        </p:blipFill>
        <p:spPr>
          <a:xfrm>
            <a:off x="642960" y="285840"/>
            <a:ext cx="2500200" cy="357192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sp>
        <p:nvSpPr>
          <p:cNvPr id="119" name="TextBox 7"/>
          <p:cNvSpPr/>
          <p:nvPr/>
        </p:nvSpPr>
        <p:spPr>
          <a:xfrm>
            <a:off x="928800" y="4071960"/>
            <a:ext cx="214308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А. А. Фад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(1901 - 1956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357120" y="870480"/>
            <a:ext cx="8572680" cy="2959200"/>
          </a:xfrm>
          <a:prstGeom prst="rect">
            <a:avLst/>
          </a:prstGeom>
          <a:solidFill>
            <a:srgbClr val="ffffff"/>
          </a:solidFill>
          <a:ln w="93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 Бога вахмистру Жилин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не от вашей веры ни прибыли, ни убытку. Один верит,  другой не верит, а поступки у вас у всех одинаковые: сейчас друг друга за глотку, а что касается казарм, Жилин, то тут так надо понимать,  </a:t>
            </a:r>
            <a:r>
              <a:rPr b="1" i="1" lang="ru-RU" sz="2400" spc="-1" strike="noStrike">
                <a:solidFill>
                  <a:srgbClr val="9b2d1f"/>
                </a:solidFill>
                <a:latin typeface="Times New Roman"/>
                <a:ea typeface="Calibri"/>
              </a:rPr>
              <a:t>все  вы  у  меня, Жилин, одинаковые - в поле брани убиенные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, Жилин, понимать надо, и не всякий это поймет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«Сон Алексея Турбина» - отрывок из главы 5 романа Булгакова «Белая гвардия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"/>
          <p:cNvSpPr/>
          <p:nvPr/>
        </p:nvSpPr>
        <p:spPr>
          <a:xfrm>
            <a:off x="1000080" y="142920"/>
            <a:ext cx="735804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Хождение по мукам – путь людей, вовлеченных в междоусобицу Гражданской вой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Rectangle 4" descr=""/>
          <p:cNvPicPr/>
          <p:nvPr/>
        </p:nvPicPr>
        <p:blipFill>
          <a:blip r:embed="rId1"/>
          <a:stretch/>
        </p:blipFill>
        <p:spPr>
          <a:xfrm>
            <a:off x="920880" y="3913200"/>
            <a:ext cx="7716600" cy="31939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285840" y="5643720"/>
            <a:ext cx="5214960" cy="10087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ая мысль объединяет отрывок из романа Булгакова и стихотворения Цветаево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571680" y="214200"/>
            <a:ext cx="8072280" cy="520560"/>
          </a:xfrm>
          <a:prstGeom prst="rect">
            <a:avLst/>
          </a:prstGeom>
          <a:solidFill>
            <a:srgbClr val="e9e5d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Гражданская война.  Взгляд через год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4429080" y="4286160"/>
            <a:ext cx="4286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жданской войне нет правых и виноватых, нет ангелов и нет бесов, как нет победителей. В ней есть только побежденные – мы все, весь народ, вся Росс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ис Васильев 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3697200" cy="49291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8" name="Прямоугольник 6"/>
          <p:cNvSpPr/>
          <p:nvPr/>
        </p:nvSpPr>
        <p:spPr>
          <a:xfrm>
            <a:off x="4510080" y="1928880"/>
            <a:ext cx="41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берт  Рождественск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ихотворение «Белым генералам» 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7"/>
          <p:cNvSpPr/>
          <p:nvPr/>
        </p:nvSpPr>
        <p:spPr>
          <a:xfrm>
            <a:off x="4357800" y="27147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лотно лежат они, вдоволь познавш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уки свои и дороги сво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се-таки - русские. Вроде бы - на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олько не наши, скорее, ничь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8"/>
          <p:cNvSpPr/>
          <p:nvPr/>
        </p:nvSpPr>
        <p:spPr>
          <a:xfrm>
            <a:off x="4578840" y="1071720"/>
            <a:ext cx="381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ладимир Набо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ихотворение «Расстрел» 1927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1143000" y="1446120"/>
            <a:ext cx="7358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Выполнить сложный план статьи И. Сух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ы (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выбор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Что общего и какие различия в изображении революции и Гражданской войны вы увидели в творчестве М. Шолохова и М. Булгакова? (прочесть рассказы М. Шолохова «Родинка», «Жеребёнок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Как изобразил события Гражданской вой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. Лавренев в повести «Сорок первый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2643120" y="357120"/>
            <a:ext cx="3643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365040" y="268200"/>
            <a:ext cx="8255160" cy="1305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5643720" y="2143080"/>
            <a:ext cx="2571480" cy="308016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е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ви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ерть во имя своб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Ю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р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1643040" y="5715000"/>
            <a:ext cx="607212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характеризуйте эпоху, в которую могла быть написана песня? (1-2 предлож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http://img-fotki.yandex.ru/get/3814/slawa-polynki.3/0_20fe0_c0fc2bba_XL"/>
          <p:cNvPicPr/>
          <p:nvPr/>
        </p:nvPicPr>
        <p:blipFill>
          <a:blip r:embed="rId2"/>
          <a:stretch/>
        </p:blipFill>
        <p:spPr>
          <a:xfrm>
            <a:off x="642960" y="1857240"/>
            <a:ext cx="4278240" cy="3571920"/>
          </a:xfrm>
          <a:prstGeom prst="rect">
            <a:avLst/>
          </a:prstGeom>
          <a:ln w="9360">
            <a:solidFill>
              <a:srgbClr val="d34817"/>
            </a:solidFill>
            <a:miter/>
          </a:ln>
        </p:spPr>
      </p:pic>
      <p:sp>
        <p:nvSpPr>
          <p:cNvPr id="56" name="TextBox 6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480960" y="176040"/>
            <a:ext cx="8109000" cy="132876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1428840" y="5786280"/>
            <a:ext cx="6643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акую эпоху могло быть написано такое стихотвор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Прямоугольник 6" descr=""/>
          <p:cNvPicPr/>
          <p:nvPr/>
        </p:nvPicPr>
        <p:blipFill>
          <a:blip r:embed="rId2"/>
          <a:stretch/>
        </p:blipFill>
        <p:spPr>
          <a:xfrm>
            <a:off x="987480" y="1749600"/>
            <a:ext cx="7454880" cy="3760560"/>
          </a:xfrm>
          <a:prstGeom prst="rect">
            <a:avLst/>
          </a:prstGeom>
          <a:ln w="0">
            <a:noFill/>
          </a:ln>
        </p:spPr>
      </p:pic>
      <p:pic>
        <p:nvPicPr>
          <p:cNvPr id="60" name="freundlich_cvetaeva_06_rastoyaniya.mp3" descr=""/>
          <p:cNvPicPr/>
          <p:nvPr/>
        </p:nvPicPr>
        <p:blipFill>
          <a:blip r:embed="rId3"/>
          <a:stretch/>
        </p:blipFill>
        <p:spPr>
          <a:xfrm>
            <a:off x="8072280" y="1143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8"/>
          <p:cNvSpPr/>
          <p:nvPr/>
        </p:nvSpPr>
        <p:spPr>
          <a:xfrm>
            <a:off x="2857680" y="1928880"/>
            <a:ext cx="4000320" cy="301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г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тр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ставание на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к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л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7786800" y="628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89794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http://cs11189.userapi.com/u108595518/-5/x_d91821a1.jpg"/>
          <p:cNvPicPr/>
          <p:nvPr/>
        </p:nvPicPr>
        <p:blipFill>
          <a:blip r:embed="rId1"/>
          <a:stretch/>
        </p:blipFill>
        <p:spPr>
          <a:xfrm>
            <a:off x="2071800" y="1500120"/>
            <a:ext cx="1714320" cy="2751120"/>
          </a:xfrm>
          <a:prstGeom prst="rect">
            <a:avLst/>
          </a:prstGeom>
          <a:ln w="9360">
            <a:solidFill>
              <a:srgbClr val="d34817"/>
            </a:solidFill>
            <a:miter/>
          </a:ln>
        </p:spPr>
      </p:pic>
      <p:pic>
        <p:nvPicPr>
          <p:cNvPr id="64" name="Заголовок 1" descr=""/>
          <p:cNvPicPr/>
          <p:nvPr/>
        </p:nvPicPr>
        <p:blipFill>
          <a:blip r:embed="rId2"/>
          <a:stretch/>
        </p:blipFill>
        <p:spPr>
          <a:xfrm>
            <a:off x="347760" y="201600"/>
            <a:ext cx="8094600" cy="1298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900igr.net/datas/literatura/Tvorchestvo-A.A.Fadeeva/0001-001-Fadeev-Bulyga-Aleksandr-Aleksandrovich-1901-1956.jpg"/>
          <p:cNvPicPr/>
          <p:nvPr/>
        </p:nvPicPr>
        <p:blipFill>
          <a:blip r:embed="rId3"/>
          <a:srcRect l="0" t="0" r="51390" b="7407"/>
          <a:stretch/>
        </p:blipFill>
        <p:spPr>
          <a:xfrm>
            <a:off x="571680" y="4071960"/>
            <a:ext cx="1785600" cy="255096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pic>
        <p:nvPicPr>
          <p:cNvPr id="66" name="Picture 2" descr="http://dic.academic.ru/pictures/bse/jpg/0232222564.jpg"/>
          <p:cNvPicPr/>
          <p:nvPr/>
        </p:nvPicPr>
        <p:blipFill>
          <a:blip r:embed="rId4"/>
          <a:stretch/>
        </p:blipFill>
        <p:spPr>
          <a:xfrm>
            <a:off x="2357280" y="4071960"/>
            <a:ext cx="1928880" cy="257184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pic>
        <p:nvPicPr>
          <p:cNvPr id="67" name="Picture 2" descr="848567737_tonnel"/>
          <p:cNvPicPr/>
          <p:nvPr/>
        </p:nvPicPr>
        <p:blipFill>
          <a:blip r:embed="rId5"/>
          <a:stretch/>
        </p:blipFill>
        <p:spPr>
          <a:xfrm>
            <a:off x="4286160" y="4071960"/>
            <a:ext cx="1928880" cy="257184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pic>
        <p:nvPicPr>
          <p:cNvPr id="68" name="Picture 2" descr="http://philatelia.ru/pict/cat5/dir1/3081ru.jpg"/>
          <p:cNvPicPr/>
          <p:nvPr/>
        </p:nvPicPr>
        <p:blipFill>
          <a:blip r:embed="rId6"/>
          <a:stretch/>
        </p:blipFill>
        <p:spPr>
          <a:xfrm>
            <a:off x="6215040" y="4071960"/>
            <a:ext cx="2000160" cy="2571840"/>
          </a:xfrm>
          <a:prstGeom prst="rect">
            <a:avLst/>
          </a:prstGeom>
          <a:ln w="9360">
            <a:solidFill>
              <a:srgbClr val="d34817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Picture 4" descr="http://parasolmonoplane.ru/img/1171335.jpg"/>
          <p:cNvPicPr/>
          <p:nvPr/>
        </p:nvPicPr>
        <p:blipFill>
          <a:blip r:embed="rId7"/>
          <a:stretch/>
        </p:blipFill>
        <p:spPr>
          <a:xfrm>
            <a:off x="357120" y="1500120"/>
            <a:ext cx="1738440" cy="2598840"/>
          </a:xfrm>
          <a:prstGeom prst="rect">
            <a:avLst/>
          </a:prstGeom>
          <a:ln w="9360">
            <a:solidFill>
              <a:srgbClr val="d34817"/>
            </a:solidFill>
            <a:miter/>
          </a:ln>
        </p:spPr>
      </p:pic>
      <p:pic>
        <p:nvPicPr>
          <p:cNvPr id="70" name="Picture 10" descr="http://static.ozone.ru/multimedia/books_covers/1002474095.jpg"/>
          <p:cNvPicPr/>
          <p:nvPr/>
        </p:nvPicPr>
        <p:blipFill>
          <a:blip r:embed="rId8"/>
          <a:stretch/>
        </p:blipFill>
        <p:spPr>
          <a:xfrm>
            <a:off x="3786120" y="1500120"/>
            <a:ext cx="1643040" cy="2551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http://www.snob.ru/i/indoc/26/blog_entry_32174.jpg"/>
          <p:cNvPicPr/>
          <p:nvPr/>
        </p:nvPicPr>
        <p:blipFill>
          <a:blip r:embed="rId9"/>
          <a:srcRect l="0" t="0" r="40448" b="0"/>
          <a:stretch/>
        </p:blipFill>
        <p:spPr>
          <a:xfrm>
            <a:off x="5429160" y="1500120"/>
            <a:ext cx="1785960" cy="2571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http://www.livelib.ru/boocover/1000201952/l/9233/Marina_Tsvetaeva__Marina_Tsvetaeva._Sochineniya_v_dvuh_tomah._Tom_1.jpg"/>
          <p:cNvPicPr/>
          <p:nvPr/>
        </p:nvPicPr>
        <p:blipFill>
          <a:blip r:embed="rId10"/>
          <a:stretch/>
        </p:blipFill>
        <p:spPr>
          <a:xfrm>
            <a:off x="6858000" y="1500120"/>
            <a:ext cx="1552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1"/>
          <a:stretch/>
        </p:blipFill>
        <p:spPr>
          <a:xfrm>
            <a:off x="407880" y="-19080"/>
            <a:ext cx="8328240" cy="963720"/>
          </a:xfrm>
          <a:prstGeom prst="rect">
            <a:avLst/>
          </a:prstGeom>
          <a:ln w="0">
            <a:noFill/>
          </a:ln>
        </p:spPr>
      </p:pic>
      <p:pic>
        <p:nvPicPr>
          <p:cNvPr id="74" name="Схема 3" descr=""/>
          <p:cNvPicPr/>
          <p:nvPr/>
        </p:nvPicPr>
        <p:blipFill>
          <a:blip r:embed="rId2"/>
          <a:stretch/>
        </p:blipFill>
        <p:spPr>
          <a:xfrm>
            <a:off x="353880" y="1390680"/>
            <a:ext cx="8582040" cy="5186160"/>
          </a:xfrm>
          <a:prstGeom prst="rect">
            <a:avLst/>
          </a:prstGeom>
          <a:ln w="0">
            <a:noFill/>
          </a:ln>
        </p:spPr>
      </p:pic>
      <p:sp>
        <p:nvSpPr>
          <p:cNvPr id="75" name="Пятиугольник 4"/>
          <p:cNvSpPr/>
          <p:nvPr/>
        </p:nvSpPr>
        <p:spPr>
          <a:xfrm>
            <a:off x="642960" y="1285920"/>
            <a:ext cx="3429000" cy="107136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ние группе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ятиугольник 5"/>
          <p:cNvSpPr/>
          <p:nvPr/>
        </p:nvSpPr>
        <p:spPr>
          <a:xfrm>
            <a:off x="642960" y="2357280"/>
            <a:ext cx="3429000" cy="10717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ние группе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ятиугольник 6"/>
          <p:cNvSpPr/>
          <p:nvPr/>
        </p:nvSpPr>
        <p:spPr>
          <a:xfrm>
            <a:off x="642960" y="3429000"/>
            <a:ext cx="3429000" cy="10717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ние группе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ятиугольник 7"/>
          <p:cNvSpPr/>
          <p:nvPr/>
        </p:nvSpPr>
        <p:spPr>
          <a:xfrm>
            <a:off x="642960" y="4500720"/>
            <a:ext cx="3429000" cy="107136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ние группе №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ятиугольник 8"/>
          <p:cNvSpPr/>
          <p:nvPr/>
        </p:nvSpPr>
        <p:spPr>
          <a:xfrm>
            <a:off x="642960" y="5572080"/>
            <a:ext cx="3429000" cy="10717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ние группе №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ашивка 9"/>
          <p:cNvSpPr/>
          <p:nvPr/>
        </p:nvSpPr>
        <p:spPr>
          <a:xfrm>
            <a:off x="3714840" y="1285920"/>
            <a:ext cx="5000400" cy="1071360"/>
          </a:xfrm>
          <a:custGeom>
            <a:avLst/>
            <a:gdLst>
              <a:gd name="textAreaLeft" fmla="*/ 0 w 5000400"/>
              <a:gd name="textAreaRight" fmla="*/ 5000760 w 500040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0" y="21600"/>
                </a:lnTo>
                <a:lnTo>
                  <a:pt x="2314" y="10800"/>
                </a:lnTo>
                <a:close/>
              </a:path>
            </a:pathLst>
          </a:custGeom>
          <a:solidFill>
            <a:srgbClr val="fad9cd"/>
          </a:solidFill>
          <a:ln w="255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уя содержание статьи, дайте характеристику литературы 20-х годов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XX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ашивка 10"/>
          <p:cNvSpPr/>
          <p:nvPr/>
        </p:nvSpPr>
        <p:spPr>
          <a:xfrm>
            <a:off x="3714840" y="2357280"/>
            <a:ext cx="5000400" cy="1071720"/>
          </a:xfrm>
          <a:custGeom>
            <a:avLst/>
            <a:gdLst>
              <a:gd name="textAreaLeft" fmla="*/ 0 w 5000400"/>
              <a:gd name="textAreaRight" fmla="*/ 5000760 w 50004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0" y="21600"/>
                </a:lnTo>
                <a:lnTo>
                  <a:pt x="2314" y="10800"/>
                </a:lnTo>
                <a:close/>
              </a:path>
            </a:pathLst>
          </a:custGeom>
          <a:solidFill>
            <a:srgbClr val="fad9cd"/>
          </a:solidFill>
          <a:ln w="255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уя содержание статьи, дайте ответ на вопрос: «Как представлял себе революционный гуманизм А. Фадеев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ашивка 11"/>
          <p:cNvSpPr/>
          <p:nvPr/>
        </p:nvSpPr>
        <p:spPr>
          <a:xfrm>
            <a:off x="3714840" y="3429000"/>
            <a:ext cx="5000400" cy="1071720"/>
          </a:xfrm>
          <a:custGeom>
            <a:avLst/>
            <a:gdLst>
              <a:gd name="textAreaLeft" fmla="*/ 0 w 5000400"/>
              <a:gd name="textAreaRight" fmla="*/ 5000760 w 50004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0" y="21600"/>
                </a:lnTo>
                <a:lnTo>
                  <a:pt x="2314" y="10800"/>
                </a:lnTo>
                <a:close/>
              </a:path>
            </a:pathLst>
          </a:custGeom>
          <a:solidFill>
            <a:srgbClr val="fad9cd"/>
          </a:solidFill>
          <a:ln w="255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ие взгляды М. Булгакова на революцию и Гражданскую войну отразились в романе «Белая гвардия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ашивка 12"/>
          <p:cNvSpPr/>
          <p:nvPr/>
        </p:nvSpPr>
        <p:spPr>
          <a:xfrm>
            <a:off x="3714840" y="4500720"/>
            <a:ext cx="5000400" cy="1071360"/>
          </a:xfrm>
          <a:custGeom>
            <a:avLst/>
            <a:gdLst>
              <a:gd name="textAreaLeft" fmla="*/ 0 w 5000400"/>
              <a:gd name="textAreaRight" fmla="*/ 5000760 w 500040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0" y="21600"/>
                </a:lnTo>
                <a:lnTo>
                  <a:pt x="2314" y="10800"/>
                </a:lnTo>
                <a:close/>
              </a:path>
            </a:pathLst>
          </a:custGeom>
          <a:solidFill>
            <a:srgbClr val="fad9cd"/>
          </a:solidFill>
          <a:ln w="255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изображает М. Шолохов трагедию Гражданской войны в «Донских рассказах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ашивка 13"/>
          <p:cNvSpPr/>
          <p:nvPr/>
        </p:nvSpPr>
        <p:spPr>
          <a:xfrm>
            <a:off x="3714840" y="5572080"/>
            <a:ext cx="5000400" cy="1071720"/>
          </a:xfrm>
          <a:custGeom>
            <a:avLst/>
            <a:gdLst>
              <a:gd name="textAreaLeft" fmla="*/ 0 w 5000400"/>
              <a:gd name="textAreaRight" fmla="*/ 5000760 w 500040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0" y="21600"/>
                </a:lnTo>
                <a:lnTo>
                  <a:pt x="2314" y="10800"/>
                </a:lnTo>
                <a:close/>
              </a:path>
            </a:pathLst>
          </a:custGeom>
          <a:solidFill>
            <a:srgbClr val="fad9cd"/>
          </a:solidFill>
          <a:ln w="255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ов характер поэзии 20-х годов: основные жанры, темы, поэтические име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285920" y="142920"/>
            <a:ext cx="67863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я содержание статьи, дайте характеристику литературы 20-х годов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XX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571680" y="1285920"/>
            <a:ext cx="807228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литературу 20-х годов оказали влияние Октябрьская революция и Гражданская вой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олжают творить писатели, чьи произведения появились ещё в дореволюционную эпоху: Ахматова, Цветаева, Горький, Вереса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ляются новые имена в литературе: Шолохов, Фадеев, Булгаков, Платонов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 старые журналы и газеты, в которых печатались Салтыков-Щедрин и Чехов, Блок и Горький, перестали существ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вые советские журналы, большинство из которых просуществует весь ХХ век, были  идеологичны уже начиная с заглавий: «Красная новь», «Звезда», «Новый мир», «Октябрь», «Знам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овь появилась цензура, теперь уже совет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революции русская литература переживает великий раскол: его последствия придется изживать весь XX 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Управляющая кнопка: возврат 5"/>
          <p:cNvSpPr/>
          <p:nvPr/>
        </p:nvSpPr>
        <p:spPr>
          <a:xfrm>
            <a:off x="8001000" y="6215040"/>
            <a:ext cx="642960" cy="357120"/>
          </a:xfrm>
          <a:custGeom>
            <a:avLst/>
            <a:gdLst>
              <a:gd name="textAreaLeft" fmla="*/ 23040 w 642960"/>
              <a:gd name="textAreaRight" fmla="*/ 619920 w 6429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8871" h="21600">
                <a:moveTo>
                  <a:pt x="0" y="0"/>
                </a:moveTo>
                <a:lnTo>
                  <a:pt x="38871" y="0"/>
                </a:lnTo>
                <a:lnTo>
                  <a:pt x="38871" y="21600"/>
                </a:lnTo>
                <a:lnTo>
                  <a:pt x="0" y="21600"/>
                </a:lnTo>
                <a:close/>
              </a:path>
              <a:path fill="lightenLess" w="38871" h="21600">
                <a:moveTo>
                  <a:pt x="0" y="0"/>
                </a:moveTo>
                <a:lnTo>
                  <a:pt x="38871" y="0"/>
                </a:lnTo>
                <a:lnTo>
                  <a:pt x="37471" y="1400"/>
                </a:lnTo>
                <a:lnTo>
                  <a:pt x="1400" y="1400"/>
                </a:lnTo>
                <a:close/>
              </a:path>
              <a:path fill="darken" w="38871" h="21600">
                <a:moveTo>
                  <a:pt x="38871" y="0"/>
                </a:moveTo>
                <a:lnTo>
                  <a:pt x="38871" y="21600"/>
                </a:lnTo>
                <a:lnTo>
                  <a:pt x="37471" y="20200"/>
                </a:lnTo>
                <a:lnTo>
                  <a:pt x="37471" y="1400"/>
                </a:lnTo>
                <a:close/>
              </a:path>
              <a:path fill="darkenLess" w="38871" h="21600">
                <a:moveTo>
                  <a:pt x="38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1" y="20200"/>
                </a:lnTo>
                <a:close/>
              </a:path>
              <a:path fill="lighten" w="38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1" h="21600">
                <a:moveTo>
                  <a:pt x="12429" y="7493"/>
                </a:moveTo>
                <a:lnTo>
                  <a:pt x="15937" y="7493"/>
                </a:lnTo>
                <a:lnTo>
                  <a:pt x="15937" y="12828"/>
                </a:lnTo>
                <a:cubicBezTo>
                  <a:pt x="15937" y="13751"/>
                  <a:pt x="16738" y="14482"/>
                  <a:pt x="17773" y="14482"/>
                </a:cubicBezTo>
                <a:lnTo>
                  <a:pt x="19436" y="14482"/>
                </a:lnTo>
                <a:cubicBezTo>
                  <a:pt x="20471" y="14482"/>
                  <a:pt x="21272" y="13751"/>
                  <a:pt x="21272" y="12828"/>
                </a:cubicBezTo>
                <a:lnTo>
                  <a:pt x="21272" y="7493"/>
                </a:lnTo>
                <a:lnTo>
                  <a:pt x="19436" y="7493"/>
                </a:lnTo>
                <a:lnTo>
                  <a:pt x="22943" y="3985"/>
                </a:lnTo>
                <a:lnTo>
                  <a:pt x="26616" y="7493"/>
                </a:lnTo>
                <a:lnTo>
                  <a:pt x="24780" y="7493"/>
                </a:lnTo>
                <a:lnTo>
                  <a:pt x="24780" y="12828"/>
                </a:lnTo>
                <a:cubicBezTo>
                  <a:pt x="24780" y="15596"/>
                  <a:pt x="22203" y="18155"/>
                  <a:pt x="19436" y="18155"/>
                </a:cubicBezTo>
                <a:lnTo>
                  <a:pt x="17773" y="18155"/>
                </a:lnTo>
                <a:cubicBezTo>
                  <a:pt x="15005" y="18155"/>
                  <a:pt x="12429" y="15596"/>
                  <a:pt x="12429" y="12828"/>
                </a:cubicBez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3500280" y="285840"/>
            <a:ext cx="514368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уя содержание статьи, дайте ответ на вопрос: «Как представлял себе революционный гуманизм А. Фадеев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://900igr.net/datas/literatura/Tvorchestvo-A.A.Fadeeva/0001-001-Fadeev-Bulyga-Aleksandr-Aleksandrovich-1901-1956.jpg"/>
          <p:cNvPicPr/>
          <p:nvPr/>
        </p:nvPicPr>
        <p:blipFill>
          <a:blip r:embed="rId1"/>
          <a:srcRect l="0" t="0" r="51390" b="7407"/>
          <a:stretch/>
        </p:blipFill>
        <p:spPr>
          <a:xfrm>
            <a:off x="642960" y="285840"/>
            <a:ext cx="2500200" cy="357192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sp>
        <p:nvSpPr>
          <p:cNvPr id="90" name="TextBox 3"/>
          <p:cNvSpPr/>
          <p:nvPr/>
        </p:nvSpPr>
        <p:spPr>
          <a:xfrm>
            <a:off x="928800" y="4000680"/>
            <a:ext cx="192888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А. А. Фад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(1901 - 1956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571920" y="1522080"/>
            <a:ext cx="5072040" cy="4972680"/>
          </a:xfrm>
          <a:prstGeom prst="rect">
            <a:avLst/>
          </a:prstGeom>
          <a:noFill/>
          <a:ln w="93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27 году вышел роман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гро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Фадеева Это произведение ставило острые вопросы гуманистического смысла револю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адеев пытался создать образ нового героя, отстаивавшего позиции революционного гуманизма. Он по-иному освещает духовные ценности, такие, как героическое, борьба, жалость, любовь, верность, долг. Герои Фадеева бывают жестокими, беспощадными, нечестны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них нравственно то, что на пользу рабочим и крестьянам, что служит победе революции и ее защите. Все средства допустимы и преступления оправданы высшей иде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Управляющая кнопка: возврат 7"/>
          <p:cNvSpPr/>
          <p:nvPr/>
        </p:nvSpPr>
        <p:spPr>
          <a:xfrm>
            <a:off x="428760" y="6000840"/>
            <a:ext cx="571320" cy="357120"/>
          </a:xfrm>
          <a:custGeom>
            <a:avLst/>
            <a:gdLst>
              <a:gd name="textAreaLeft" fmla="*/ 23040 w 571320"/>
              <a:gd name="textAreaRight" fmla="*/ 548280 w 5713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43" h="21600">
                <a:moveTo>
                  <a:pt x="0" y="0"/>
                </a:moveTo>
                <a:lnTo>
                  <a:pt x="34543" y="0"/>
                </a:lnTo>
                <a:lnTo>
                  <a:pt x="34543" y="21600"/>
                </a:lnTo>
                <a:lnTo>
                  <a:pt x="0" y="21600"/>
                </a:lnTo>
                <a:close/>
              </a:path>
              <a:path fill="lightenLess" w="34543" h="21600">
                <a:moveTo>
                  <a:pt x="0" y="0"/>
                </a:moveTo>
                <a:lnTo>
                  <a:pt x="34543" y="0"/>
                </a:lnTo>
                <a:lnTo>
                  <a:pt x="33143" y="1400"/>
                </a:lnTo>
                <a:lnTo>
                  <a:pt x="1400" y="1400"/>
                </a:lnTo>
                <a:close/>
              </a:path>
              <a:path fill="darken" w="34543" h="21600">
                <a:moveTo>
                  <a:pt x="34543" y="0"/>
                </a:moveTo>
                <a:lnTo>
                  <a:pt x="34543" y="21600"/>
                </a:lnTo>
                <a:lnTo>
                  <a:pt x="33143" y="20200"/>
                </a:lnTo>
                <a:lnTo>
                  <a:pt x="33143" y="1400"/>
                </a:lnTo>
                <a:close/>
              </a:path>
              <a:path fill="darkenLess" w="34543" h="21600">
                <a:moveTo>
                  <a:pt x="34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3" y="20200"/>
                </a:lnTo>
                <a:close/>
              </a:path>
              <a:path fill="lighten" w="34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3" h="21600">
                <a:moveTo>
                  <a:pt x="10265" y="7493"/>
                </a:moveTo>
                <a:lnTo>
                  <a:pt x="13772" y="7493"/>
                </a:lnTo>
                <a:lnTo>
                  <a:pt x="13772" y="12828"/>
                </a:lnTo>
                <a:cubicBezTo>
                  <a:pt x="13772" y="13751"/>
                  <a:pt x="14573" y="14482"/>
                  <a:pt x="15609" y="14482"/>
                </a:cubicBezTo>
                <a:lnTo>
                  <a:pt x="17271" y="14482"/>
                </a:lnTo>
                <a:cubicBezTo>
                  <a:pt x="18307" y="14482"/>
                  <a:pt x="19108" y="13751"/>
                  <a:pt x="19108" y="12828"/>
                </a:cubicBezTo>
                <a:lnTo>
                  <a:pt x="19108" y="7493"/>
                </a:lnTo>
                <a:lnTo>
                  <a:pt x="17271" y="7493"/>
                </a:lnTo>
                <a:lnTo>
                  <a:pt x="20779" y="3985"/>
                </a:lnTo>
                <a:lnTo>
                  <a:pt x="24452" y="7493"/>
                </a:lnTo>
                <a:lnTo>
                  <a:pt x="22615" y="7493"/>
                </a:lnTo>
                <a:lnTo>
                  <a:pt x="22615" y="12828"/>
                </a:lnTo>
                <a:cubicBezTo>
                  <a:pt x="22615" y="15596"/>
                  <a:pt x="20039" y="18155"/>
                  <a:pt x="17271" y="18155"/>
                </a:cubicBezTo>
                <a:lnTo>
                  <a:pt x="15609" y="18155"/>
                </a:lnTo>
                <a:cubicBezTo>
                  <a:pt x="12841" y="18155"/>
                  <a:pt x="10265" y="15596"/>
                  <a:pt x="10265" y="12828"/>
                </a:cubicBez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dic.academic.ru/pictures/bse/jpg/0232222564.jpg"/>
          <p:cNvPicPr/>
          <p:nvPr/>
        </p:nvPicPr>
        <p:blipFill>
          <a:blip r:embed="rId1"/>
          <a:stretch/>
        </p:blipFill>
        <p:spPr>
          <a:xfrm>
            <a:off x="785880" y="571680"/>
            <a:ext cx="2378160" cy="321444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sp>
        <p:nvSpPr>
          <p:cNvPr id="94" name="TextBox 2"/>
          <p:cNvSpPr/>
          <p:nvPr/>
        </p:nvSpPr>
        <p:spPr>
          <a:xfrm>
            <a:off x="928800" y="4000680"/>
            <a:ext cx="221436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М. А. Булг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(1891 - 19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3643200" y="571680"/>
            <a:ext cx="45720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е взгляды М. Булгакова на революцию и Гражданскую войну отразились в романе «Белая гвардия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3714840" y="1857240"/>
            <a:ext cx="4572000" cy="3753000"/>
          </a:xfrm>
          <a:prstGeom prst="rect">
            <a:avLst/>
          </a:prstGeom>
          <a:noFill/>
          <a:ln w="93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лгаков продолжал традиции классической русской литературы. Его героям уровень культуры, воспринятой от нескольких поколений интеллигенции, не позволяет опуститься, стать звер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лгакова ужасает Гражданская война. Особенно его пугает стремление тёмных личностей, предлагающих себя в качестве кумиров и вождей толпы, использовать “мужичонков гнев” для достижения собственной вл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правляющая кнопка: возврат 7"/>
          <p:cNvSpPr/>
          <p:nvPr/>
        </p:nvSpPr>
        <p:spPr>
          <a:xfrm>
            <a:off x="1143000" y="600084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3786120" y="357120"/>
            <a:ext cx="45720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изображает М. Шолохов трагедию Гражданской войны в «Донских рассказах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848567737_tonnel"/>
          <p:cNvPicPr/>
          <p:nvPr/>
        </p:nvPicPr>
        <p:blipFill>
          <a:blip r:embed="rId1"/>
          <a:stretch/>
        </p:blipFill>
        <p:spPr>
          <a:xfrm>
            <a:off x="571680" y="357120"/>
            <a:ext cx="2678040" cy="3571920"/>
          </a:xfrm>
          <a:prstGeom prst="rect">
            <a:avLst/>
          </a:prstGeom>
          <a:ln w="9360">
            <a:solidFill>
              <a:srgbClr val="9e3611"/>
            </a:solidFill>
            <a:miter/>
          </a:ln>
        </p:spPr>
      </p:pic>
      <p:sp>
        <p:nvSpPr>
          <p:cNvPr id="100" name="TextBox 3"/>
          <p:cNvSpPr/>
          <p:nvPr/>
        </p:nvSpPr>
        <p:spPr>
          <a:xfrm>
            <a:off x="714240" y="4143240"/>
            <a:ext cx="242892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М. А. Шоло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611"/>
                </a:solidFill>
                <a:latin typeface="Times New Roman"/>
              </a:rPr>
              <a:t>(1905 – 198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3929040" y="1801080"/>
            <a:ext cx="4286160" cy="3448080"/>
          </a:xfrm>
          <a:prstGeom prst="rect">
            <a:avLst/>
          </a:prstGeom>
          <a:noFill/>
          <a:ln w="9360">
            <a:solidFill>
              <a:srgbClr val="9e3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бытия Гражданской войны явились фактическим материалом, который лег в основу первых рассказов Шолохова.</a:t>
            </a:r>
            <a:r>
              <a:rPr b="0" lang="ru-RU" sz="2000" spc="-1" strike="noStrike">
                <a:solidFill>
                  <a:srgbClr val="4e161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нских рассказа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автор стремился изобразить гражданскую войну, ее последствия как для судьбы Дона, так и для судьбы России в целом. В них Шолохов показывает ужас братоубийственной войны, которая разрушает уклад жизни каза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Управляющая кнопка: возврат 6"/>
          <p:cNvSpPr/>
          <p:nvPr/>
        </p:nvSpPr>
        <p:spPr>
          <a:xfrm>
            <a:off x="1071720" y="614376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7493"/>
                </a:moveTo>
                <a:lnTo>
                  <a:pt x="11619" y="7493"/>
                </a:lnTo>
                <a:lnTo>
                  <a:pt x="11619" y="12828"/>
                </a:lnTo>
                <a:cubicBezTo>
                  <a:pt x="11619" y="13751"/>
                  <a:pt x="12420" y="14482"/>
                  <a:pt x="13455" y="14482"/>
                </a:cubicBezTo>
                <a:lnTo>
                  <a:pt x="15118" y="14482"/>
                </a:lnTo>
                <a:cubicBezTo>
                  <a:pt x="16154" y="14482"/>
                  <a:pt x="16954" y="13751"/>
                  <a:pt x="16954" y="12828"/>
                </a:cubicBezTo>
                <a:lnTo>
                  <a:pt x="16954" y="7493"/>
                </a:lnTo>
                <a:lnTo>
                  <a:pt x="15118" y="7493"/>
                </a:lnTo>
                <a:lnTo>
                  <a:pt x="18625" y="3985"/>
                </a:lnTo>
                <a:lnTo>
                  <a:pt x="22298" y="7493"/>
                </a:lnTo>
                <a:lnTo>
                  <a:pt x="20462" y="7493"/>
                </a:lnTo>
                <a:lnTo>
                  <a:pt x="20462" y="12828"/>
                </a:lnTo>
                <a:cubicBezTo>
                  <a:pt x="20462" y="15596"/>
                  <a:pt x="17886" y="18155"/>
                  <a:pt x="15118" y="18155"/>
                </a:cubicBezTo>
                <a:lnTo>
                  <a:pt x="13455" y="18155"/>
                </a:lnTo>
                <a:cubicBezTo>
                  <a:pt x="10688" y="18155"/>
                  <a:pt x="8111" y="15596"/>
                  <a:pt x="8111" y="12828"/>
                </a:cubicBez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6:55:38Z</dcterms:created>
  <dc:creator>Admin</dc:creator>
  <dc:description/>
  <dc:language>en-US</dc:language>
  <cp:lastModifiedBy>йцукен</cp:lastModifiedBy>
  <dcterms:modified xsi:type="dcterms:W3CDTF">2012-12-20T16:40:00Z</dcterms:modified>
  <cp:revision>181</cp:revision>
  <dc:subject/>
  <dc:title>Тема Гражданской войны в литературе 20-х – 30-х годов.</dc:title>
</cp:coreProperties>
</file>