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2A0-1618-433C-99A0-28B953FE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826-A42D-49F1-B315-B45A3312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404-5343-4A1D-811B-0815D308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DA1-A794-4121-BE27-48D17CE0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031-D441-4376-9CB2-6972E409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626-C376-4801-868F-3719EB20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205-6B38-4D60-93B1-7CCB8631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6D6-9E8B-4361-8BC4-D4643069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3C8-A880-4139-B07F-B21D6977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CAE-6F03-4819-98D2-70EBBA8C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F91-DC98-4DE7-985B-FB1EA40D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9C5-15E6-4AB1-A424-0109FE4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3344-901A-410E-9679-5AE7A1756AF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ДПО НИРО, 2012 г.</a:t>
            </a:r>
            <a:br>
              <a:rPr sz="1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й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15040" y="5214960"/>
            <a:ext cx="25574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ов С.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2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его Новго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sifk6.jpg"/>
          <p:cNvPicPr/>
          <p:nvPr/>
        </p:nvPicPr>
        <p:blipFill>
          <a:blip r:embed="rId1"/>
          <a:stretch/>
        </p:blipFill>
        <p:spPr>
          <a:xfrm>
            <a:off x="2071800" y="1320840"/>
            <a:ext cx="50958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рисков и опасностей, подстерегающих пользователей в сети Интернет в мае 2012 года мною было проведено анкетирование обучающихся 5 – 6 классов нашей школ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857240"/>
            <a:ext cx="85438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ы анке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Вы занимаетесь при работе в сети Интернет и посещаете ли вы запрещённые родителями сайты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вают ли родители Ваше времяпровождение в сети Интернет и отслеживают ли содержимое просматриваемых Вами страниц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ими угрозами в сети Интернет Вы сталкивалис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поступали на предложения познакомиться от не знакомых Вам людей в сети Интернет при общении в социальных сетях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01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:</a:t>
            </a:r>
            <a:br>
              <a:rPr sz="40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Вы занимаетесь при работе в сети Интернет?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есто – играю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гры – 52 % опроше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– общение с друзьями в социальных сетях – 39 % опроше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есто – поиск информации и выполнение домашних заданий – 9 % опрошен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!! Более 50 % опрошенных ответили, что посещают запрещённые родителями сайты 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вают ли родители Ваше времяпровождение в сети Интернет?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143000"/>
            <a:ext cx="8472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есто – не ограничивают – 86 % опроше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–  ограничивают – 14 % опроше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ют  ли родите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мое просматриваемых Вам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есто – не отслеживают – 91 %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– да, строго отслеживают – 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ими угрозами в сети Интернет Вы сталкивались?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есто – мошенничество – 32 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– психологическое давление – 23 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есто – вымогательства – 21 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место – оскорбления – 20 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есто – призыв причинить вред себе и окружающим – 4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поступали на предложения познакомиться от не знакомых Вам людей в сети Интернет при общении в социальных сетях и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есто – обмен номерами телефонов – 48 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– обмен фотографиями – 21 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есто обме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8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место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речи с людьми, с которыми познакомились в сети – 13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так же отменить, что доступ обучающихся и работников школы к нежелательным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–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ам со школьных компьютеров исключён, ввиду того, что на всех компьютерах в нашей школе установлены контент – фильтр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11497" t="6855" r="13386" b="2747"/>
          <a:stretch/>
        </p:blipFill>
        <p:spPr>
          <a:xfrm>
            <a:off x="2286000" y="3857760"/>
            <a:ext cx="4500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и не думал никогда, что воспитание ребенка будет сопряжено с опасностями, таящимися в интернете. Жизненных ситуаций, где ребенок способен нашкодить, множество, но тут, откуда не возьмись, добавилась еще одна проблема – детишки полезли в интернет. А там их ждет множество опасностей, о которых они сами, скорее всего, даже и не подозревают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255-14[3].jpg"/>
          <p:cNvPicPr/>
          <p:nvPr/>
        </p:nvPicPr>
        <p:blipFill>
          <a:blip r:embed="rId1"/>
          <a:stretch/>
        </p:blipFill>
        <p:spPr>
          <a:xfrm>
            <a:off x="4191120" y="3463920"/>
            <a:ext cx="76176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kids-comp.jpg"/>
          <p:cNvPicPr/>
          <p:nvPr/>
        </p:nvPicPr>
        <p:blipFill>
          <a:blip r:embed="rId2"/>
          <a:stretch/>
        </p:blipFill>
        <p:spPr>
          <a:xfrm>
            <a:off x="1071720" y="3571920"/>
            <a:ext cx="31813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57120" y="214200"/>
            <a:ext cx="82868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чаще родители, психологи, педагоги говорят и спорят о негативном влиянии интернета на наших детей в том числе на их развитие, психологическое, эмоциональное и физ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в интернете дети подвержены огромной опасности связанной с мошенниками, насильниками, сектантами, и получению информации, которая может из идеального ребёнка сделать кем-то ужасным. Например пристрастить к употреблению алкоголя, наркотиков, вступлению в секту или стать жертвой наси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 же от этого и на улице никто не застрахован, но детям легче навязать какое-то мнение, влиться в доверие через ту же аську, месенджер или чат. Родителям нужно быть бдительными каждую минуту нахождения наших детей в сети. Особой опасности дети подвергаются если онлайн дружба выливается в реале, и онлайновые друзья хотят встретиться в реаль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сделать 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й интернет для де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опасить детей от пагубного влияния интернета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градить их от ошибок, которые могут иметь начало из всемирной паути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bezopasnii_internet.jpg"/>
          <p:cNvPicPr/>
          <p:nvPr/>
        </p:nvPicPr>
        <p:blipFill>
          <a:blip r:embed="rId1"/>
          <a:stretch/>
        </p:blipFill>
        <p:spPr>
          <a:xfrm>
            <a:off x="1370160" y="1600200"/>
            <a:ext cx="6403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00040" y="336600"/>
            <a:ext cx="8143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учить ребёнка ни в коем случае и ни при каких ситуациях не давать онлайновым друзьям адреса, телефоны, личн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становка на компьютер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еспечивающих ограждение от порно-контента, роликов, рекламы насилия. Конечно же программы дают оплошности и лучше когда вы можете контролировать своего ребёнка, когда он находиться у компьютера. Часто не всегда родители могут контролировать своё чадо. Многие работают и дети предоставлены сами себе. Кто-то занят домашними д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ть личную почту, знать все пароли ребёнка. Хотя это немного не красиво читать чужие письма и читать историю аськи, но не в этом случ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ставить компьютер в том месте дома или квартиры, где вы невольно сможете видеть где проводит время ребёнок в сети. Лучше не ставить компьютер в детских комна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57120" y="-1049400"/>
            <a:ext cx="842976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граничивать время провождения за компьютером. Например выделить ребёнку часик-другой днём. И конечно показывать пример. Представьте ситуацию, когда папа или мама часами проводят время в интернете и их оттуда за уши вытягивать нужно, то естественно ребёнок это видит и переманивает себе манеру поведения. Подайте ему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другом для ребёнка и постарайтесь чтоб ребёнок показал вам в какие игры он играет и играйте вместе с ним. Тем самым вы будет знать как он проводит время за компьютером и ему будет весело и прикольно,что его мама или папа играют в его любимую игру. Часто дети играют во всякого рода стрелялки, которые по мнению психологов пагубно влияют на психику ребёнка и делают его нервным, агресс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старайтесь также найти интересные обучающие игры для вашего чада, чтоб и интересно было и поль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28760" y="642960"/>
            <a:ext cx="8286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те также, что нельзя открывать подозрительную почту, послания, откликаться на непонятные сообщения в ча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ети слишком много времени проводят за компьютером в сети договоритесь с провайдером, чтоб отключали интернет в определённое время и никто не имел к нему дост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da18fa53b96bb38e57b6aead75ee3b00[4].jpg"/>
          <p:cNvPicPr/>
          <p:nvPr/>
        </p:nvPicPr>
        <p:blipFill>
          <a:blip r:embed="rId1"/>
          <a:stretch/>
        </p:blipFill>
        <p:spPr>
          <a:xfrm>
            <a:off x="2928960" y="300024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642960" y="42876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один способ родительского контроля заключается в фильтрации сайтов по их содержимому. Вы задаете набор ключевых слов, и если что-либо из их списка обнаруживается на web-странице, то она не открывается. Родителям, возможно, придется отбросить прочь страх и стыд, самостоятельно вписывая мат, пошлости, уголовщину и прочие вещи, запрещенные дл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Slide7.PNG"/>
          <p:cNvPicPr/>
          <p:nvPr/>
        </p:nvPicPr>
        <p:blipFill>
          <a:blip r:embed="rId1"/>
          <a:stretch/>
        </p:blipFill>
        <p:spPr>
          <a:xfrm>
            <a:off x="1785960" y="3286080"/>
            <a:ext cx="56437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571680" y="33660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безопасности ребенка за компьютером заключается не только в ограничении доступа к web-сайтам. Есть еще одна, если так можно выразиться, группа риска – это программы обмена мгновенными сообщениями. Ребенок наивен, он можно нечаянно рассказать незнакомцу ваши личные данные. Злоумышленники хитры, они прикидываются ровесниками, невзначай задают каверзные вопросы. Напрашивается и вторая опасность – собеседники ребенка могут научить его, в лучшем случае, мелким пакостям, а о примерах серьезных бед лучше даже не вспоминать. Некоторые программы родительского контроля способны производить анализ информации, отправляемой с компьютера. Если в ней встречаются некие ключевые слова, например, адрес, номер школы или телефона, то происходит блокировка отправки со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7:22:21Z</dcterms:created>
  <dc:creator>Сергей</dc:creator>
  <dc:description/>
  <dc:language>en-US</dc:language>
  <cp:lastModifiedBy>Сергей</cp:lastModifiedBy>
  <dcterms:modified xsi:type="dcterms:W3CDTF">2012-08-05T16:31:42Z</dcterms:modified>
  <cp:revision>13</cp:revision>
  <dc:subject/>
  <dc:title>Безопасный Интернет</dc:title>
</cp:coreProperties>
</file>