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43E-A470-4154-8558-3DF65C0A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A9C-D162-4F80-BE63-E38A4251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D2C-7A56-48A7-AAC5-435375D0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7F5-E209-4ADC-B9B3-73667D5E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7810-A833-45C8-9D9F-355A76C3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B600-515D-487A-A99B-D737B544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7148-3D2A-4C5B-A011-7C8E3260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00E2-DFD8-4FA9-923D-25A1C497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3D06-F273-4618-85C3-C686C0CD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010C-227C-483E-9A1C-ABE4CD7E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E1CE-8942-418B-98FE-D45CB07A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4A4-3788-48FE-A9DE-DAAD7467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3FE5-F3A9-4BBB-A4B3-43402512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EA46-F64E-4789-BE39-64D3CDE9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A106-74AC-485D-91E5-32DFAC85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19EF-72B3-480D-A7F7-877962B3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D51C-7D57-41CE-8A06-56D7E054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E090E-D5C7-4E9F-824F-D47E0D26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6081-D9B0-40B9-BB74-88F5A61D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1FA9-64E7-42C1-AC8C-AEB8336C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BBD6-2455-4D01-897A-2905B954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9314-8609-4158-A216-6950FE8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5DB-B3B2-496B-A407-D8518F4F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CD72-CE9F-43FA-A6BA-B23449F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D247-A762-42A2-BB89-A38E666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443E-6E0B-4C6A-BDDD-A4E0A95D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388D-7326-4549-A463-D70CE9D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0CBC-65A8-47D9-8921-1FB8BC04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A667-8E27-4D6D-8AB3-3462D248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3C98-DEFB-4AA7-B3B7-9EEE422B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1907-2132-45B2-B249-9ADA01AA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6531E-5569-4934-B20C-64C39F7B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2449-EF2A-4C74-A683-461630AA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F5A-0AE5-4669-A39A-A725B2D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43AE-8BFB-4C9B-827D-BC690D85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F4CB-BA19-4806-887D-7FE165E4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234C-633D-43AA-954D-30AD3367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E1E2-22F0-4226-9E1B-0F785E34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9FAD-CCCE-4044-AAC1-A43408FC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810A-DA60-440F-AE8A-A629665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122A-F24B-4F38-8E7E-3D52BA6D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F7D3-27BE-4266-9530-0F9EF244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EF6DC-FB90-409F-9A57-B5C1B578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4640-A827-47E6-AAB7-7529B359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D10-BF42-47ED-9693-38014BCE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66B54-7893-44FD-98A6-A6D4C9C6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A456-AAE3-4B98-8655-68BAA4DC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4445-69B5-4A98-A212-E77F132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D4DF1-91D8-4E47-B725-3AE7563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6EA1-C88B-4012-9ED7-8EA24F32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2AC4C-F686-407E-873F-E633DBC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55B5-15F9-43CF-9A25-254F541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661F-33F1-41A1-A597-00B97FC5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13AF8-6F35-4CEB-B3A7-442EF6BB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D21F-5B7E-4928-A206-C825F63A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A4D-0BFE-4A99-93FB-F5D0E17B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EBAA-6615-4262-A10C-5D2940EE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1687-3DD0-4C0B-88AB-07DF3353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16EB-B46C-47B5-A176-CC5874CD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0CB2B-CEAF-4A71-94AC-5A5C12E4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FF566-322A-4574-9B7F-E00AE303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54C06-1D1A-4CD9-AA1E-F8230E7C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E1EF4-62EC-44FF-B923-F82A6506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2D19-3059-409D-8414-411D9F2A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8E22B-BE20-4FF9-A110-CBEDA63D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5372-6475-476E-AF6E-64B26FD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987-C6D7-4D5A-AE8A-2B95A9FA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D9F5-C26C-4BC5-9B92-463EFB00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86C97-922F-49A1-A36D-C8BA0AF8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E8754-E56D-488B-AC83-7A7C094A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A8B-E3DE-4D92-9CFD-88B46423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ED3-D7DB-4557-9BF3-5E8E66AC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2a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C51B-A80E-4AAB-AF33-A6A57EEE2B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2e12"/>
              </a:gs>
              <a:gs pos="50000">
                <a:srgbClr val="8a725f"/>
              </a:gs>
              <a:gs pos="100000">
                <a:srgbClr val="4a2e12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2aaa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40b07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F320-2500-49E8-8421-0C77E014CE4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2a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577C-5942-4D86-AE03-FBA786B9C6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AD78-3DA0-430E-B864-953EB56DC7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258D-00C1-4095-8407-569E538710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2a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40b0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008B-5C5E-4241-9FF5-0F55DF799263}" type="slidenum">
              <a:rPr b="0" lang="ru-RU" sz="1000" spc="-1" strike="noStrike">
                <a:solidFill>
                  <a:srgbClr val="340b0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3b28"/>
                </a:solidFill>
                <a:latin typeface="Times New Roman"/>
                <a:ea typeface="Times New Roman"/>
              </a:rPr>
              <a:t>Склонение порядковых имён числительных</a:t>
            </a:r>
            <a:endParaRPr b="0" lang="en-US" sz="40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Я взял в руки первую попавшуюся книгу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а мой взгляд, любовь с первого взгляда встречается редко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За этот серьёзный проступок мне всыпали по первое число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Я делаю первые шаги в освоении иностранного языка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За работу на уроке ставлю себе оценку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Получилось___________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е получилось____________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ужно повторить__________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3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Составить автобиографию (все числительные записать словами)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Инд. задание на повторение (испытавшим затруднения на уроке). 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Тем, кто остался доволен собой на уроке, составить 5 тестовых заданий, по которым можно проверить уровень усвоения темы «Склонение порядковых числительных)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3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Построе…ая в ХХ</a:t>
            </a:r>
            <a:r>
              <a:rPr b="0" lang="en-US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VIII 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веке до нашей эры пирамида Хеопса может свободно вм…стить внутри себя Исаакиевский собор Санкт-Петербурга. 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Documents and Settings\Администратор\Рабочий стол\152930.jpg"/>
          <p:cNvPicPr/>
          <p:nvPr/>
        </p:nvPicPr>
        <p:blipFill>
          <a:blip r:embed="rId2"/>
          <a:stretch/>
        </p:blipFill>
        <p:spPr>
          <a:xfrm>
            <a:off x="4960800" y="3352680"/>
            <a:ext cx="4183200" cy="3505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Администратор\Рабочий стол\Рисунок2.jpg"/>
          <p:cNvPicPr/>
          <p:nvPr/>
        </p:nvPicPr>
        <p:blipFill>
          <a:blip r:embed="rId3"/>
          <a:stretch/>
        </p:blipFill>
        <p:spPr>
          <a:xfrm>
            <a:off x="1955880" y="40384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8"/>
          <p:cNvSpPr/>
          <p:nvPr/>
        </p:nvSpPr>
        <p:spPr>
          <a:xfrm>
            <a:off x="2895480" y="2057400"/>
            <a:ext cx="2743200" cy="304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40b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троенная в двадцать восьмом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ке до нашей эры</a:t>
            </a:r>
            <a:r>
              <a:rPr b="0" lang="ru-RU" sz="2800" spc="-1" strike="noStrike">
                <a:solidFill>
                  <a:srgbClr val="35271b"/>
                </a:solidFill>
                <a:latin typeface="Times New Roman"/>
                <a:ea typeface="Times New Roman"/>
              </a:rPr>
              <a:t>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рамида Хеопса 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может свободно вм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стить внутри себя Исаакиевский собор Санкт-Петербурга 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Администратор\Рабочий стол\152930.jpg"/>
          <p:cNvPicPr/>
          <p:nvPr/>
        </p:nvPicPr>
        <p:blipFill>
          <a:blip r:embed="rId2"/>
          <a:stretch/>
        </p:blipFill>
        <p:spPr>
          <a:xfrm>
            <a:off x="5346720" y="3670200"/>
            <a:ext cx="3816360" cy="3206880"/>
          </a:xfrm>
          <a:prstGeom prst="rect">
            <a:avLst/>
          </a:prstGeom>
          <a:ln w="0">
            <a:noFill/>
          </a:ln>
        </p:spPr>
      </p:pic>
      <p:sp>
        <p:nvSpPr>
          <p:cNvPr id="286" name="Полилиния 5"/>
          <p:cNvSpPr/>
          <p:nvPr/>
        </p:nvSpPr>
        <p:spPr>
          <a:xfrm>
            <a:off x="1676520" y="1905120"/>
            <a:ext cx="6180120" cy="46080"/>
          </a:xfrm>
          <a:prstGeom prst="pie">
            <a:avLst/>
          </a:prstGeom>
          <a:noFill/>
          <a:ln w="9360">
            <a:solidFill>
              <a:srgbClr val="694f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87" name="Полилиния 6"/>
          <p:cNvSpPr/>
          <p:nvPr/>
        </p:nvSpPr>
        <p:spPr>
          <a:xfrm>
            <a:off x="685800" y="2362320"/>
            <a:ext cx="1905120" cy="46080"/>
          </a:xfrm>
          <a:prstGeom prst="pie">
            <a:avLst/>
          </a:prstGeom>
          <a:noFill/>
          <a:ln w="9360">
            <a:solidFill>
              <a:srgbClr val="694f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3581280" y="1295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0b07"/>
                </a:solidFill>
                <a:latin typeface="Arial"/>
              </a:rPr>
              <a:t>прич. об.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pic>
        <p:nvPicPr>
          <p:cNvPr id="289" name="Picture 10" descr="C:\Documents and Settings\Администратор\Рабочий стол\Рисунок2.jpg"/>
          <p:cNvPicPr/>
          <p:nvPr/>
        </p:nvPicPr>
        <p:blipFill>
          <a:blip r:embed="rId3"/>
          <a:stretch/>
        </p:blipFill>
        <p:spPr>
          <a:xfrm>
            <a:off x="1905120" y="4249800"/>
            <a:ext cx="34779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60160" indent="-46296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Назовите сегодняшнюю дату.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Назовите дату рождения Зосимовой Нади.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В каком году вы станете выпускниками школы?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Восемнадцатое апреля две тысячи двенадцатого года.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Седьмое мая двухтысячного года.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Мы станем выпускниками школы в две тысячи семнадцатом году. 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аучиться ______________________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Узнать___________________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Выполнить________________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Склонять порядковые числительные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Правила изменения простых, сложных и составных порядковых числительных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Упражнения на применение правил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4" name="Заголовок 3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5708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Им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Род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ат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Вин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 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(неодуш.) ИЛИ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. 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м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.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 о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о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Склонение порядковых числительных (как имена прилагательные)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Запомни и пиши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литно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!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Пяти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отый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, трёх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тысячный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, двух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миллионный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, семи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миллиардный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8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2440" cy="1341360"/>
          </a:xfrm>
          <a:prstGeom prst="rect">
            <a:avLst/>
          </a:prstGeom>
          <a:ln w="0">
            <a:noFill/>
          </a:ln>
        </p:spPr>
      </p:pic>
      <p:cxnSp>
        <p:nvCxnSpPr>
          <p:cNvPr id="299" name="Прямая со стрелкой 4"/>
          <p:cNvCxnSpPr/>
          <p:nvPr/>
        </p:nvCxnSpPr>
        <p:spPr>
          <a:xfrm flipH="1">
            <a:off x="1751760" y="2438280"/>
            <a:ext cx="762840" cy="534240"/>
          </a:xfrm>
          <a:prstGeom prst="straightConnector1">
            <a:avLst/>
          </a:prstGeom>
          <a:ln w="9360">
            <a:solidFill>
              <a:srgbClr val="694f36"/>
            </a:solidFill>
            <a:miter/>
            <a:tailEnd len="med" type="arrow" w="med"/>
          </a:ln>
        </p:spPr>
      </p:cxnSp>
      <p:cxnSp>
        <p:nvCxnSpPr>
          <p:cNvPr id="300" name="Прямая со стрелкой 6"/>
          <p:cNvCxnSpPr/>
          <p:nvPr/>
        </p:nvCxnSpPr>
        <p:spPr>
          <a:xfrm>
            <a:off x="4572000" y="2437920"/>
            <a:ext cx="76680" cy="686520"/>
          </a:xfrm>
          <a:prstGeom prst="straightConnector1">
            <a:avLst/>
          </a:prstGeom>
          <a:ln w="9360">
            <a:solidFill>
              <a:srgbClr val="694f36"/>
            </a:solidFill>
            <a:miter/>
            <a:tailEnd len="med" type="arrow" w="med"/>
          </a:ln>
        </p:spPr>
      </p:cxnSp>
      <p:cxnSp>
        <p:nvCxnSpPr>
          <p:cNvPr id="301" name="Прямая со стрелкой 8"/>
          <p:cNvCxnSpPr/>
          <p:nvPr/>
        </p:nvCxnSpPr>
        <p:spPr>
          <a:xfrm>
            <a:off x="6324480" y="2361960"/>
            <a:ext cx="915120" cy="610200"/>
          </a:xfrm>
          <a:prstGeom prst="straightConnector1">
            <a:avLst/>
          </a:prstGeom>
          <a:ln w="9360">
            <a:solidFill>
              <a:srgbClr val="694f36"/>
            </a:solidFill>
            <a:miter/>
            <a:tailEnd len="med" type="arrow" w="med"/>
          </a:ln>
        </p:spPr>
      </p:cxnSp>
      <p:sp>
        <p:nvSpPr>
          <p:cNvPr id="302" name="TextBox 10"/>
          <p:cNvSpPr/>
          <p:nvPr/>
        </p:nvSpPr>
        <p:spPr>
          <a:xfrm>
            <a:off x="228600" y="3200400"/>
            <a:ext cx="2362320" cy="1191240"/>
          </a:xfrm>
          <a:prstGeom prst="rect">
            <a:avLst/>
          </a:prstGeom>
          <a:gradFill rotWithShape="0">
            <a:gsLst>
              <a:gs pos="0">
                <a:srgbClr val="311c08"/>
              </a:gs>
              <a:gs pos="100000">
                <a:srgbClr val="806046"/>
              </a:gs>
            </a:gsLst>
            <a:lin ang="16200000"/>
          </a:gradFill>
          <a:ln w="9360">
            <a:solidFill>
              <a:srgbClr val="694f36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ростые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О втор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ом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,  четвёрт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ым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303" name="TextBox 11"/>
          <p:cNvSpPr/>
          <p:nvPr/>
        </p:nvSpPr>
        <p:spPr>
          <a:xfrm>
            <a:off x="3200400" y="3124080"/>
            <a:ext cx="2743200" cy="1465560"/>
          </a:xfrm>
          <a:prstGeom prst="rect">
            <a:avLst/>
          </a:prstGeom>
          <a:gradFill rotWithShape="0">
            <a:gsLst>
              <a:gs pos="0">
                <a:srgbClr val="311c08"/>
              </a:gs>
              <a:gs pos="100000">
                <a:srgbClr val="806046"/>
              </a:gs>
            </a:gsLst>
            <a:lin ang="16200000"/>
          </a:gradFill>
          <a:ln w="9360">
            <a:solidFill>
              <a:srgbClr val="694f36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ложные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(1 часть всегда в род. п.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Семи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отого, 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пяти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десятому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304" name="TextBox 21"/>
          <p:cNvSpPr/>
          <p:nvPr/>
        </p:nvSpPr>
        <p:spPr>
          <a:xfrm>
            <a:off x="6172200" y="3048120"/>
            <a:ext cx="2743200" cy="1465560"/>
          </a:xfrm>
          <a:prstGeom prst="rect">
            <a:avLst/>
          </a:prstGeom>
          <a:gradFill rotWithShape="0">
            <a:gsLst>
              <a:gs pos="0">
                <a:srgbClr val="311c08"/>
              </a:gs>
              <a:gs pos="100000">
                <a:srgbClr val="806046"/>
              </a:gs>
            </a:gsLst>
            <a:lin ang="16200000"/>
          </a:gradFill>
          <a:ln w="9360">
            <a:solidFill>
              <a:srgbClr val="694f36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оставные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Изменяй только последнее слово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Одна тысяча двести восемьдесят 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седьмым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С третьего декабря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К двадцать третьему февраля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Шестой урок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Шестидесятый дом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Четвёртые сутки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Трёхсотый выпуск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есятитысячного </a:t>
            </a: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экземпляра;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тысяча пятьсот восемьдесят пятый го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пятимиллионный снаря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вухтысячный го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ве тысячи пятый го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вухмиллионный пассажир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Первый блин комом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На первых порах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Играть первую скрипку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С первого взгляда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Всыпать по первое число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Не первой свежести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Делать первые шаги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Из первых уст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С первым попавшимся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 неудачном первом опыте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Вначале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Играть ведущую роль, являться руководителем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По первому впечатлению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Серьёзно наказать, проучить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Грязный, испорченный, несвежий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сваивать что-то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т того, кто знает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 случайном выборе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SS</cp:lastModifiedBy>
  <dcterms:modified xsi:type="dcterms:W3CDTF">2013-02-19T16:45:48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