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F31-446C-4E96-9094-C559ABDB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7AC-61E6-4FEA-80A1-D4BAD7B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953-8AC2-4997-BB21-B047D059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736-C823-40BD-B9A0-F8D857D8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50AD-90C8-4181-BE07-8CF42E59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2B51-F0F0-4599-8B8A-99F4BF5A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3D73-7E27-4454-9F3C-B14629F8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866C-BB2F-459D-9DA8-084419C6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BCCA-AC31-4151-973E-FC3773A1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FCF9-5244-4CA0-9C55-3CD2B3D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5615-68C0-4499-B4A0-4A86C461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838-882B-4A81-A841-ED21822B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7D81-CBF4-4F20-90F5-C71A062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F6D6-9680-41B0-86C8-B4B1E288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429E-254A-4DE9-A706-491922F4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80F6-0095-41B0-AD83-332829A2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78D7-0C91-415D-A805-D79E945D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CEF4-CED3-4FAD-9304-AAA488E5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42AF-CC00-49C5-8A67-EC01048E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4BB2-93DE-4457-94A5-99E3D89D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03BA-6919-4757-9E1C-D66ADBB4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AF35-5BB5-469C-BBBF-D60BC2B0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9B5-83E0-4171-9566-141393C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2A93-892B-479E-8DC3-1145F0D0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D4EC-52DD-4C82-A5BB-74B90FE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A37C-F6B7-479D-A3A6-14B9A938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94BC-52E6-4F50-B496-17899C4F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8867-70EC-46E9-95A8-F0EF499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4072-E136-421E-828F-15793F85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2553-AAAF-4A84-A948-A0C96251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CE6D-9E26-48CB-8A68-75A9DC8F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6D84E-FA2A-470F-BC4F-8181B87D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CE192-7F96-4C9C-84C8-103A599A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0BC-DA7E-4DD8-B98A-FB6F1D8D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950B-34B5-484C-BE51-771A3358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097A-35FC-45D8-AF91-DE464A20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8B472-9B30-4388-8199-7205A312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04619-0C2C-4037-935B-5F57C25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F0C3-7BD3-46CF-ADEA-C827E32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D79E-C05E-4E24-B054-35957AD8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55ECE-516A-461F-A98C-45BFC6C9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2A6A-DCCD-48FC-A669-5A48D263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EB86F-5560-42AA-93C0-530C3C8D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AEF11-70C1-4DB1-9289-F7FC1B1B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F26-5FA6-46B5-BB51-DB2EC65E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2157-2D95-43BF-B697-93159F8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2C0EC-A6AE-40A9-979C-BBC21277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571C2-1F36-4161-B444-C93BA1F6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D8AB-A525-4A93-BECF-9F74A220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03AC-D2AC-4BBC-BF4C-104D269F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C5EC1-FB4A-4C7E-BB14-AC2A083A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E53E-3D0E-4A25-9E27-26B522E8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32C3-884A-42EB-8761-AC2C1A8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4B46-75DC-4F02-BDF5-01BC7021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409FA-9162-484D-9D0A-8ACFDC9B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3D8-73E0-434C-9B34-3EA72A14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13773-E1C1-4736-BEEA-72F6074E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364E2-3F4B-497A-A1F3-85576137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3F5F-6DDD-49BC-BF48-85092B87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18AE7-7966-47E4-A0AD-D041C6F9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79AAF-CE99-44DF-91C4-ACCFF600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38A51-B0B8-4A2E-9308-B2708DDB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7040-732D-44FC-89DC-23305604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9234D-60C6-4FD1-A3DC-0CC12CED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1362-08D8-4D35-B482-AC6AA53D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69545-D470-4042-A777-F521AC4F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299-87B8-4A70-AF92-6A2EFD9F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1622-D0E3-4F4D-A190-ECCB20B5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EE69-1954-4DE6-85C3-C17A31E5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4CFEF-A035-4C31-9FEB-869D0A46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7EC-9415-4866-86CC-056490B9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806-6207-46E1-8FB5-3B0BA1BC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2a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5F79-46A9-4909-8AEC-6A63EBBB23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2e12"/>
              </a:gs>
              <a:gs pos="50000">
                <a:srgbClr val="8a725f"/>
              </a:gs>
              <a:gs pos="100000">
                <a:srgbClr val="4a2e12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2aaa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40b07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2AFD-43EF-4649-A990-5BD2653F3C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2a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AC60-A992-40E4-B8B7-61C3A0D741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5759-B14C-4DCD-8C9E-4ECD066F91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3B08-B5A6-4F50-AC3B-5AED39CA9E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2a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0b07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73d24"/>
              </a:gs>
              <a:gs pos="100000">
                <a:srgbClr val="a2948a"/>
              </a:gs>
            </a:gsLst>
            <a:lin ang="16200000"/>
          </a:gradFill>
          <a:ln cap="rnd" w="3240">
            <a:solidFill>
              <a:srgbClr val="4b382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8291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82912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94f3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8604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40b0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40b07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40b0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D50A-3802-43DF-8046-05C0F9D30276}" type="slidenum">
              <a:rPr b="0" lang="ru-RU" sz="1000" spc="-1" strike="noStrike">
                <a:solidFill>
                  <a:srgbClr val="340b0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3b28"/>
                </a:solidFill>
                <a:latin typeface="Times New Roman"/>
                <a:ea typeface="Times New Roman"/>
              </a:rPr>
              <a:t>Склонение порядковых имён числительных</a:t>
            </a:r>
            <a:endParaRPr b="0" lang="en-US" sz="40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Я взял в руки первую попавшуюся книгу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а мой взгляд, любовь с первого взгляда встречается редко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За этот серьёзный проступок мне всыпали по первое число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Я делаю первые шаги в освоении иностранного языка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За работу на уроке ставлю себе оценку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Получилось___________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е получилось____________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ужно повторить_____________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3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Составить автобиографию (все числительные записать словами)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Инд. задание на повторение (испытавшим затруднения на уроке). 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Тем, кто остался доволен собой на уроке, составить 5 тестовых заданий, по которым можно проверить уровень усвоения темы «Склонение порядковых числительных)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3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Построе…ая в ХХ</a:t>
            </a:r>
            <a:r>
              <a:rPr b="0" lang="en-US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VIII 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веке до нашей эры пирамида Хеопса может свободно вм…стить внутри себя Исаакиевский собор Санкт-Петербурга. 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Documents and Settings\Администратор\Рабочий стол\152930.jpg"/>
          <p:cNvPicPr/>
          <p:nvPr/>
        </p:nvPicPr>
        <p:blipFill>
          <a:blip r:embed="rId2"/>
          <a:stretch/>
        </p:blipFill>
        <p:spPr>
          <a:xfrm>
            <a:off x="4960800" y="3352680"/>
            <a:ext cx="4183200" cy="3505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Администратор\Рабочий стол\Рисунок2.jpg"/>
          <p:cNvPicPr/>
          <p:nvPr/>
        </p:nvPicPr>
        <p:blipFill>
          <a:blip r:embed="rId3"/>
          <a:stretch/>
        </p:blipFill>
        <p:spPr>
          <a:xfrm>
            <a:off x="1955880" y="40384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8"/>
          <p:cNvSpPr/>
          <p:nvPr/>
        </p:nvSpPr>
        <p:spPr>
          <a:xfrm>
            <a:off x="2895480" y="2057400"/>
            <a:ext cx="2743200" cy="304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40b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троенная в двадцать восьмом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ке до нашей эры</a:t>
            </a:r>
            <a:r>
              <a:rPr b="0" lang="ru-RU" sz="2800" spc="-1" strike="noStrike">
                <a:solidFill>
                  <a:srgbClr val="35271b"/>
                </a:solidFill>
                <a:latin typeface="Times New Roman"/>
                <a:ea typeface="Times New Roman"/>
              </a:rPr>
              <a:t>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рамида Хеопса 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может свободно вм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стить внутри себя Исаакиевский собор Санкт-Петербурга 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Администратор\Рабочий стол\152930.jpg"/>
          <p:cNvPicPr/>
          <p:nvPr/>
        </p:nvPicPr>
        <p:blipFill>
          <a:blip r:embed="rId2"/>
          <a:stretch/>
        </p:blipFill>
        <p:spPr>
          <a:xfrm>
            <a:off x="5346720" y="3670200"/>
            <a:ext cx="3816360" cy="3206880"/>
          </a:xfrm>
          <a:prstGeom prst="rect">
            <a:avLst/>
          </a:prstGeom>
          <a:ln w="0">
            <a:noFill/>
          </a:ln>
        </p:spPr>
      </p:pic>
      <p:sp>
        <p:nvSpPr>
          <p:cNvPr id="286" name="Полилиния 5"/>
          <p:cNvSpPr/>
          <p:nvPr/>
        </p:nvSpPr>
        <p:spPr>
          <a:xfrm>
            <a:off x="1676520" y="1905120"/>
            <a:ext cx="6180120" cy="46080"/>
          </a:xfrm>
          <a:prstGeom prst="pie">
            <a:avLst/>
          </a:prstGeom>
          <a:noFill/>
          <a:ln w="9360">
            <a:solidFill>
              <a:srgbClr val="694f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87" name="Полилиния 6"/>
          <p:cNvSpPr/>
          <p:nvPr/>
        </p:nvSpPr>
        <p:spPr>
          <a:xfrm>
            <a:off x="685800" y="2362320"/>
            <a:ext cx="1905120" cy="46080"/>
          </a:xfrm>
          <a:prstGeom prst="pie">
            <a:avLst/>
          </a:prstGeom>
          <a:noFill/>
          <a:ln w="9360">
            <a:solidFill>
              <a:srgbClr val="694f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3581280" y="1295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0b07"/>
                </a:solidFill>
                <a:latin typeface="Arial"/>
              </a:rPr>
              <a:t>прич. об.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pic>
        <p:nvPicPr>
          <p:cNvPr id="289" name="Picture 10" descr="C:\Documents and Settings\Администратор\Рабочий стол\Рисунок2.jpg"/>
          <p:cNvPicPr/>
          <p:nvPr/>
        </p:nvPicPr>
        <p:blipFill>
          <a:blip r:embed="rId3"/>
          <a:stretch/>
        </p:blipFill>
        <p:spPr>
          <a:xfrm>
            <a:off x="1905120" y="4249800"/>
            <a:ext cx="34779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60160" indent="-46296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Назовите сегодняшнюю дату.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Назовите дату рождения Зосимовой Нади.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560160" indent="-46296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В каком году вы станете выпускниками школы?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Восемнадцатое апреля две тысячи двенадцатого года.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Седьмое мая двухтысячного года.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541440" indent="-44748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Мы станем выпускниками школы в две тысячи семнадцатом году. 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Научиться ______________________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Узнать___________________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Выполнить________________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Склонять порядковые числительные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Правила изменения простых, сложных и составных порядковых числительных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694f36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Упражнения на применение правил.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4" name="Заголовок 3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5708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Им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Род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ат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у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Вин.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й 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(неодуш.) ИЛИ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. 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м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.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 о вто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о ше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дес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</a:t>
            </a:r>
            <a:r>
              <a:rPr b="0" lang="ru-RU" sz="2400" spc="-1" strike="noStrike">
                <a:solidFill>
                  <a:srgbClr val="340b07"/>
                </a:solidFill>
                <a:latin typeface="Times New Roman"/>
                <a:ea typeface="Times New Roman"/>
              </a:rPr>
              <a:t>, семьсот восемьдесят девя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Склонение порядковых числительных (как имена прилагательные)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Запомни и пиши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литно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!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Пяти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отый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, трёх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тысячный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, двух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миллионный</a:t>
            </a:r>
            <a:r>
              <a:rPr b="0" lang="ru-RU" sz="2700" spc="-1" strike="noStrike">
                <a:solidFill>
                  <a:srgbClr val="340b07"/>
                </a:solidFill>
                <a:latin typeface="Lucida Sans Unicode"/>
              </a:rPr>
              <a:t>, семи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миллиардный</a:t>
            </a:r>
            <a:endParaRPr b="0" lang="en-US" sz="2700" spc="-1" strike="noStrike">
              <a:solidFill>
                <a:srgbClr val="340b07"/>
              </a:solidFill>
              <a:latin typeface="Lucida Sans Unicode"/>
            </a:endParaRPr>
          </a:p>
        </p:txBody>
      </p:sp>
      <p:pic>
        <p:nvPicPr>
          <p:cNvPr id="298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2440" cy="1341360"/>
          </a:xfrm>
          <a:prstGeom prst="rect">
            <a:avLst/>
          </a:prstGeom>
          <a:ln w="0">
            <a:noFill/>
          </a:ln>
        </p:spPr>
      </p:pic>
      <p:cxnSp>
        <p:nvCxnSpPr>
          <p:cNvPr id="299" name="Прямая со стрелкой 4"/>
          <p:cNvCxnSpPr/>
          <p:nvPr/>
        </p:nvCxnSpPr>
        <p:spPr>
          <a:xfrm flipH="1">
            <a:off x="1751760" y="2438280"/>
            <a:ext cx="762840" cy="534240"/>
          </a:xfrm>
          <a:prstGeom prst="straightConnector1">
            <a:avLst/>
          </a:prstGeom>
          <a:ln w="9360">
            <a:solidFill>
              <a:srgbClr val="694f36"/>
            </a:solidFill>
            <a:miter/>
            <a:tailEnd len="med" type="arrow" w="med"/>
          </a:ln>
        </p:spPr>
      </p:cxnSp>
      <p:cxnSp>
        <p:nvCxnSpPr>
          <p:cNvPr id="300" name="Прямая со стрелкой 6"/>
          <p:cNvCxnSpPr/>
          <p:nvPr/>
        </p:nvCxnSpPr>
        <p:spPr>
          <a:xfrm>
            <a:off x="4572000" y="2437920"/>
            <a:ext cx="76680" cy="686520"/>
          </a:xfrm>
          <a:prstGeom prst="straightConnector1">
            <a:avLst/>
          </a:prstGeom>
          <a:ln w="9360">
            <a:solidFill>
              <a:srgbClr val="694f36"/>
            </a:solidFill>
            <a:miter/>
            <a:tailEnd len="med" type="arrow" w="med"/>
          </a:ln>
        </p:spPr>
      </p:cxnSp>
      <p:cxnSp>
        <p:nvCxnSpPr>
          <p:cNvPr id="301" name="Прямая со стрелкой 8"/>
          <p:cNvCxnSpPr/>
          <p:nvPr/>
        </p:nvCxnSpPr>
        <p:spPr>
          <a:xfrm>
            <a:off x="6324480" y="2361960"/>
            <a:ext cx="915120" cy="610200"/>
          </a:xfrm>
          <a:prstGeom prst="straightConnector1">
            <a:avLst/>
          </a:prstGeom>
          <a:ln w="9360">
            <a:solidFill>
              <a:srgbClr val="694f36"/>
            </a:solidFill>
            <a:miter/>
            <a:tailEnd len="med" type="arrow" w="med"/>
          </a:ln>
        </p:spPr>
      </p:cxnSp>
      <p:sp>
        <p:nvSpPr>
          <p:cNvPr id="302" name="TextBox 10"/>
          <p:cNvSpPr/>
          <p:nvPr/>
        </p:nvSpPr>
        <p:spPr>
          <a:xfrm>
            <a:off x="228600" y="3200400"/>
            <a:ext cx="2362320" cy="1191240"/>
          </a:xfrm>
          <a:prstGeom prst="rect">
            <a:avLst/>
          </a:prstGeom>
          <a:gradFill rotWithShape="0">
            <a:gsLst>
              <a:gs pos="0">
                <a:srgbClr val="311c08"/>
              </a:gs>
              <a:gs pos="100000">
                <a:srgbClr val="806046"/>
              </a:gs>
            </a:gsLst>
            <a:lin ang="16200000"/>
          </a:gradFill>
          <a:ln w="9360">
            <a:solidFill>
              <a:srgbClr val="694f36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ростые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О втор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ом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,  четвёрт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ым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303" name="TextBox 11"/>
          <p:cNvSpPr/>
          <p:nvPr/>
        </p:nvSpPr>
        <p:spPr>
          <a:xfrm>
            <a:off x="3200400" y="3124080"/>
            <a:ext cx="2743200" cy="1465560"/>
          </a:xfrm>
          <a:prstGeom prst="rect">
            <a:avLst/>
          </a:prstGeom>
          <a:gradFill rotWithShape="0">
            <a:gsLst>
              <a:gs pos="0">
                <a:srgbClr val="311c08"/>
              </a:gs>
              <a:gs pos="100000">
                <a:srgbClr val="806046"/>
              </a:gs>
            </a:gsLst>
            <a:lin ang="16200000"/>
          </a:gradFill>
          <a:ln w="9360">
            <a:solidFill>
              <a:srgbClr val="694f36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ложные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(1 часть всегда в род. п.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Семи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отого, 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пяти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десятому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  <p:sp>
        <p:nvSpPr>
          <p:cNvPr id="304" name="TextBox 21"/>
          <p:cNvSpPr/>
          <p:nvPr/>
        </p:nvSpPr>
        <p:spPr>
          <a:xfrm>
            <a:off x="6172200" y="3048120"/>
            <a:ext cx="2743200" cy="1465560"/>
          </a:xfrm>
          <a:prstGeom prst="rect">
            <a:avLst/>
          </a:prstGeom>
          <a:gradFill rotWithShape="0">
            <a:gsLst>
              <a:gs pos="0">
                <a:srgbClr val="311c08"/>
              </a:gs>
              <a:gs pos="100000">
                <a:srgbClr val="806046"/>
              </a:gs>
            </a:gsLst>
            <a:lin ang="16200000"/>
          </a:gradFill>
          <a:ln w="9360">
            <a:solidFill>
              <a:srgbClr val="694f36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оставные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Изменяй только последнее слово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Одна тысяча двести восемьдесят </a:t>
            </a: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седьмым</a:t>
            </a:r>
            <a:endParaRPr b="0" lang="en-US" sz="1800" spc="-1" strike="noStrike">
              <a:solidFill>
                <a:srgbClr val="340b0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С третьего декабря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К двадцать третьему февраля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Шестой урок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Шестидесятый дом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Четвёртые сутки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Трёхсотый выпуск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есятитысячного </a:t>
            </a:r>
            <a:r>
              <a:rPr b="0" lang="ru-RU" sz="2800" spc="-1" strike="noStrike">
                <a:solidFill>
                  <a:srgbClr val="340b07"/>
                </a:solidFill>
                <a:latin typeface="Lucida Sans Unicode"/>
              </a:rPr>
              <a:t>экземпляра;</a:t>
            </a: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тысяча пятьсот восемьдесят пятый го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пятимиллионный снаря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вухтысячный го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ве тысячи пятый год;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07"/>
                </a:solidFill>
                <a:latin typeface="Lucida Sans Unicode"/>
              </a:rPr>
              <a:t>двухмиллионный пассажир</a:t>
            </a: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Первый блин комом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На первых порах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Играть первую скрипку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С первого взгляда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Всыпать по первое число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Не первой свежести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Делать первые шаги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Из первых уст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С первым попавшимся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 неудачном первом опыте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Вначале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Играть ведущую роль, являться руководителем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По первому впечатлению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Серьёзно наказать, проучить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Грязный, испорченный, несвежий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сваивать что-то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т того, кто знает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694f3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07"/>
                </a:solidFill>
                <a:latin typeface="Lucida Sans Unicode"/>
              </a:rPr>
              <a:t>О случайном выборе</a:t>
            </a:r>
            <a:endParaRPr b="0" lang="en-US" sz="2000" spc="-1" strike="noStrike">
              <a:solidFill>
                <a:srgbClr val="340b07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SS</cp:lastModifiedBy>
  <dcterms:modified xsi:type="dcterms:W3CDTF">2013-02-19T16:45:48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