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9D9-6F84-463E-98D0-7CFA970E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F0F-FEB6-4230-8542-C1CA889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CDA-33F1-43A3-9058-D9529698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32E-EF9C-49B9-8AA2-A3166738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B80A-1A92-4335-966A-B570E811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1AEB-F4E7-4A2D-949E-DBFE69C6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0920-C442-40A5-822E-688E9C1B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61B6-A80F-46C4-90AF-DCF8BAD6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5E05-9577-481C-9FDA-02045E71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2B9-8D42-4F02-9F4C-D7505A1D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401E-7EC4-40A4-AA1D-6118A36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162-8A48-4FD0-96C5-A98CAB7F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9A53-0C69-484C-B0C1-8DF49BD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3201-5D7D-4F9A-8B22-DF9B615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776A-4562-4955-B5CB-5882EC5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4DC-8D54-49B0-A872-995DF248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6C49-4088-4578-9FE9-681A3716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9057-FAA0-4B01-A804-EA7C490B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12F5-E7D1-4660-8D92-46EE089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4E3F-F775-49DC-A57E-200B9324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B6C6-D5CE-4BC7-A397-9F567D32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E646-AAA8-4415-8BEB-9475E723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406-86CB-499D-9419-3756233A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F29E-17BD-468B-957A-D9378943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5E7A-CC49-41E5-B5ED-7A233688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A292-93EF-4AEC-8CD5-6F22173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A0F1-ADE5-4D20-8774-B886A747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7A26-D319-4C5E-9549-A4BBF70D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395B-355D-42BE-A9D2-8997190F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CD13-12A7-42C2-A8A2-104DB344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DDEA-0A28-4BBD-9B01-1E1E4711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05343-4AEC-4160-B6C2-2B4ED851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ED1A-AC1E-4D41-99C2-057B152B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9DB-54D8-4979-ABAB-7405732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02D2-7182-4254-A5FD-938FD7C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29E79-8BE6-4B5B-964C-CAE44C46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1F27-5075-4C36-8E83-96F74F73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A1D1-D99F-440D-98BF-7F6F465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7813-D144-4860-B5D4-369C1E5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4586-A83D-42AB-864B-2AE4986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3B07-9924-431F-9359-B751202B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A9A8-E6BA-45EF-B0EC-2C614E49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DA79-64C1-483D-8B8C-A7D019FD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6BDBA-8A0B-4FC8-8AB8-C7807C03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02D-0DD1-4C2B-A33D-69CA1D29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8D6B-5F5A-4815-A551-B0F8B367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D5C0-E430-41FF-A275-B7A4D92D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D988-3801-4095-9E38-92FB43A1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05553-382F-4183-B407-AF771E63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4F80-BBAD-4073-8E96-7BD78677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ED10-263E-439C-904E-446A882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EAF19-FA8B-4A3C-A8E0-A4105EE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DDAB7-1F26-4513-A481-EA94251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F460C-1639-48D9-9CB3-8E551D2A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CBD15-8DFE-47F1-8D44-FB9F0949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4D0-0243-4590-9A59-1F919FCF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BC64-6A8B-485E-97A5-3554DA32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FE1A-3B1C-46D0-999E-CEADB337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62741-6D1E-49E3-8D48-C40B6F86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B728-F012-4974-90A8-885FDB0B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247C0-DF84-4EC8-95E7-675C6CD8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04025-1B8A-4DF8-9041-F4ED89A8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0A5DB-A172-45BE-8FA0-3CA9EF75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BE4D-E35D-44AC-A26C-D3A3CAC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40E2-CBA3-4EF2-AA02-51B082CA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5FAE8-CD86-4DE7-BC6B-A00A17C2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ABC-8CB3-47A7-BA7C-BA214D55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B36B1-EE2E-45A9-B2B6-92B3E28E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7EEF9-A71D-46F3-9022-CBECAFAE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0070C-2723-467F-B2C5-E89930EC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5F3-0F52-49C1-AA57-28A9888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F43-7344-4634-AFA2-A869C97E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45A1-894E-477D-BEC2-8B47078ED9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2e12"/>
              </a:gs>
              <a:gs pos="50000">
                <a:srgbClr val="8a725f"/>
              </a:gs>
              <a:gs pos="100000">
                <a:srgbClr val="4a2e12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2aaa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40b07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C336-87B1-4C8E-BB60-406A188525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DBC1-C538-4855-A0C3-EE9A546759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78F6-A834-4F70-83BC-4ED20025D2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F569-EA4E-4CE2-AF21-09CB2181EA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40b0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940E-69FC-4309-8F1E-747C88956552}" type="slidenum">
              <a:rPr b="0" lang="ru-RU" sz="1000" spc="-1" strike="noStrike">
                <a:solidFill>
                  <a:srgbClr val="340b0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3b28"/>
                </a:solidFill>
                <a:latin typeface="Times New Roman"/>
                <a:ea typeface="Times New Roman"/>
              </a:rPr>
              <a:t>Склонение порядковых имён числительных</a:t>
            </a:r>
            <a:endParaRPr b="0" lang="en-US" sz="40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Я взял в руки первую попавшуюся книгу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а мой взгляд, любовь с первого взгляда встречается редко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 этот серьёзный проступок мне всыпали по первое число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Я делаю первые шаги в освоении иностранного языка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 работу на уроке ставлю себе оценку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олучилось_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е получилось__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ужно повторить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3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оставить автобиографию (все числительные записать словами)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Инд. задание на повторение (испытавшим затруднения на уроке). 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Тем, кто остался доволен собой на уроке, составить 5 тестовых заданий, по которым можно проверить уровень усвоения темы «Склонение порядковых числительных)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3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Построе…ая в ХХ</a:t>
            </a:r>
            <a:r>
              <a:rPr b="0" lang="en-US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VIII 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еке до нашей эры пирамида Хеопса может свободно вм…стить внутри себя Исаакиевский собор Санкт-Петербурга. 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Documents and Settings\Администратор\Рабочий стол\152930.jpg"/>
          <p:cNvPicPr/>
          <p:nvPr/>
        </p:nvPicPr>
        <p:blipFill>
          <a:blip r:embed="rId2"/>
          <a:stretch/>
        </p:blipFill>
        <p:spPr>
          <a:xfrm>
            <a:off x="4960800" y="3352680"/>
            <a:ext cx="4183200" cy="3505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Администратор\Рабочий стол\Рисунок2.jpg"/>
          <p:cNvPicPr/>
          <p:nvPr/>
        </p:nvPicPr>
        <p:blipFill>
          <a:blip r:embed="rId3"/>
          <a:stretch/>
        </p:blipFill>
        <p:spPr>
          <a:xfrm>
            <a:off x="1955880" y="40384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8"/>
          <p:cNvSpPr/>
          <p:nvPr/>
        </p:nvSpPr>
        <p:spPr>
          <a:xfrm>
            <a:off x="2895480" y="2057400"/>
            <a:ext cx="2743200" cy="304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40b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троенная в двадцать восьмом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ке до нашей эры</a:t>
            </a:r>
            <a:r>
              <a:rPr b="0" lang="ru-RU" sz="2800" spc="-1" strike="noStrike">
                <a:solidFill>
                  <a:srgbClr val="35271b"/>
                </a:solidFill>
                <a:latin typeface="Times New Roman"/>
                <a:ea typeface="Times New Roman"/>
              </a:rPr>
              <a:t>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рамида Хеопса 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может свободно вм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стить внутри себя Исаакиевский собор Санкт-Петербурга 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Администратор\Рабочий стол\152930.jpg"/>
          <p:cNvPicPr/>
          <p:nvPr/>
        </p:nvPicPr>
        <p:blipFill>
          <a:blip r:embed="rId2"/>
          <a:stretch/>
        </p:blipFill>
        <p:spPr>
          <a:xfrm>
            <a:off x="5346720" y="3670200"/>
            <a:ext cx="3816360" cy="3206880"/>
          </a:xfrm>
          <a:prstGeom prst="rect">
            <a:avLst/>
          </a:prstGeom>
          <a:ln w="0">
            <a:noFill/>
          </a:ln>
        </p:spPr>
      </p:pic>
      <p:sp>
        <p:nvSpPr>
          <p:cNvPr id="286" name="Полилиния 5"/>
          <p:cNvSpPr/>
          <p:nvPr/>
        </p:nvSpPr>
        <p:spPr>
          <a:xfrm>
            <a:off x="1676520" y="1905120"/>
            <a:ext cx="6180120" cy="46080"/>
          </a:xfrm>
          <a:prstGeom prst="pie">
            <a:avLst/>
          </a:prstGeom>
          <a:noFill/>
          <a:ln w="9360">
            <a:solidFill>
              <a:srgbClr val="694f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7" name="Полилиния 6"/>
          <p:cNvSpPr/>
          <p:nvPr/>
        </p:nvSpPr>
        <p:spPr>
          <a:xfrm>
            <a:off x="685800" y="2362320"/>
            <a:ext cx="1905120" cy="46080"/>
          </a:xfrm>
          <a:prstGeom prst="pie">
            <a:avLst/>
          </a:prstGeom>
          <a:noFill/>
          <a:ln w="9360">
            <a:solidFill>
              <a:srgbClr val="694f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3581280" y="1295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0b07"/>
                </a:solidFill>
                <a:latin typeface="Arial"/>
              </a:rPr>
              <a:t>прич. об.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pic>
        <p:nvPicPr>
          <p:cNvPr id="289" name="Picture 10" descr="C:\Documents and Settings\Администратор\Рабочий стол\Рисунок2.jpg"/>
          <p:cNvPicPr/>
          <p:nvPr/>
        </p:nvPicPr>
        <p:blipFill>
          <a:blip r:embed="rId3"/>
          <a:stretch/>
        </p:blipFill>
        <p:spPr>
          <a:xfrm>
            <a:off x="1905120" y="4249800"/>
            <a:ext cx="34779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Назовите сегодняшнюю дату.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Назовите дату рождения Зосимовой Нади.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В каком году вы станете выпускниками школы?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Восемнадцатое апреля две тысячи двенадцатого года.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Седьмое мая двухтысячного года.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Мы станем выпускниками школы в две тысячи семнадцатом году. 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аучиться ______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Узнать___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Выполнить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клонять порядковые числительные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равила изменения простых, сложных и составных порядковых числительных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Упражнения на применение правил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4" name="Заголовок 3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5708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Им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Род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ат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ин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 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(неодуш.) ИЛИ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. 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.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 о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о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клонение порядковых числительных (как имена прилагательные)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помни и пиши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литно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!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яти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от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трёх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тысячн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двух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миллионн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семи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миллиардный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8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2440" cy="1341360"/>
          </a:xfrm>
          <a:prstGeom prst="rect">
            <a:avLst/>
          </a:prstGeom>
          <a:ln w="0">
            <a:noFill/>
          </a:ln>
        </p:spPr>
      </p:pic>
      <p:cxnSp>
        <p:nvCxnSpPr>
          <p:cNvPr id="299" name="Прямая со стрелкой 4"/>
          <p:cNvCxnSpPr/>
          <p:nvPr/>
        </p:nvCxnSpPr>
        <p:spPr>
          <a:xfrm flipH="1">
            <a:off x="1751760" y="2438280"/>
            <a:ext cx="762840" cy="53424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cxnSp>
        <p:nvCxnSpPr>
          <p:cNvPr id="300" name="Прямая со стрелкой 6"/>
          <p:cNvCxnSpPr/>
          <p:nvPr/>
        </p:nvCxnSpPr>
        <p:spPr>
          <a:xfrm>
            <a:off x="4572000" y="2437920"/>
            <a:ext cx="76680" cy="68652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cxnSp>
        <p:nvCxnSpPr>
          <p:cNvPr id="301" name="Прямая со стрелкой 8"/>
          <p:cNvCxnSpPr/>
          <p:nvPr/>
        </p:nvCxnSpPr>
        <p:spPr>
          <a:xfrm>
            <a:off x="6324480" y="2361960"/>
            <a:ext cx="915120" cy="61020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sp>
        <p:nvSpPr>
          <p:cNvPr id="302" name="TextBox 10"/>
          <p:cNvSpPr/>
          <p:nvPr/>
        </p:nvSpPr>
        <p:spPr>
          <a:xfrm>
            <a:off x="228600" y="3200400"/>
            <a:ext cx="2362320" cy="119124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рост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О втор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ом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,  четвёрт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ым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3200400" y="3124080"/>
            <a:ext cx="2743200" cy="146556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ложн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(1 часть всегда в род. п.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Сем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отого, 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пят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десятому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304" name="TextBox 21"/>
          <p:cNvSpPr/>
          <p:nvPr/>
        </p:nvSpPr>
        <p:spPr>
          <a:xfrm>
            <a:off x="6172200" y="3048120"/>
            <a:ext cx="2743200" cy="146556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оставн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зменяй только последнее слово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Одна тысяча двести восемьдесят 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седьмым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С третьего декабря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К двадцать третьему февраля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Шестой урок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Шестидесятый дом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Четвёртые сутки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Трёхсотый выпуск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есятитысячного </a:t>
            </a: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экземпляра;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тысяча пятьсот восемьдесят пят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пятимиллионный снаря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ухтысячн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е тысячи пят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ухмиллионный пассажир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Первый блин комом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На первых порах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грать первую скрипку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 первого взгляда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Всыпать по первое число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Не первой свежести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Делать первые шаги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з первых уст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 первым попавшимся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 неудачном первом опыт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Вначал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грать ведущую роль, являться руководителем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По первому впечатлению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ерьёзно наказать, проучить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Грязный, испорченный, несвежий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сваивать что-то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т того, кто знает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 случайном выбор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3-02-19T16:45:48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