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7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9.png" ContentType="image/png"/>
  <Override PartName="/ppt/media/image28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1.gif" ContentType="image/gi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ACF6-1774-489D-A302-A68F7B7267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AFAB-3EC0-4F92-96B2-F4BA630DF4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2F3E-6951-4481-9A8A-6E1EB6D46F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1D0A-9AB5-42C6-A24A-C7414DFF5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3556-B77A-4C15-AFBC-B22481EFDF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C20D-7E26-4E6E-B0E1-6C429EE794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AEFB-C36E-4518-AD3C-47A52E113A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A895-46C0-4638-9287-E44F119605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2C7D-CCB1-420C-98F8-7C06C5A1BD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8AB-8810-440E-A7DB-A1B34C08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AF4-C479-40B7-B8CC-7578C99B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778-B38B-4A31-9064-2DDDFF19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33AD-82E0-49D7-994E-B44725E3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363F-C74E-4CDA-AA3D-BAC60EE1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4D44-14B4-4426-B8AF-90E13CBA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C63B-9468-44A0-A69D-4C95D47A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7672-E915-4DBF-BFC7-AC11D3F4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3CD2-1F7F-4D0F-BC68-A3DCDD2C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972A-800A-4054-85F3-495E713C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7B7D-3445-4228-A222-5295DCF9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65C-F0DE-486B-BA73-3D76BEBE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6087-B150-4DED-A4E3-3EA5A209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A957-E04E-41D0-9094-0C546EE3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61FF-02EF-42F1-BC6A-7C939D7D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D03C-3A2E-477E-A350-7131112C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BF6F-5CB8-4AB4-9BAF-76ED9107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328D-12CC-433A-A8B5-65634959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76A-F8C9-4BA6-9936-8B35717A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AD5-7E10-4AE2-AAF0-54F66C34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373-9032-4A94-80AA-B782AED3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6C4-4654-40D2-9162-6DF80209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6F5-6288-4E14-9D73-B3BF6B42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235-72BB-4175-A555-480EC889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22DE-0AC8-44F5-A86D-95F86B67368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prstGeom prst="pie">
            <a:avLst/>
          </a:pr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1D41-5C37-448E-B863-BD72A757CE4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1214280" y="1357200"/>
            <a:ext cx="7704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287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691920"/>
            <a:ext cx="40384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468360" y="404640"/>
            <a:ext cx="799128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марта - Всемирный день во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539640" y="1628640"/>
            <a:ext cx="7989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апреля - Международный день пти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WordArt 7"/>
          <p:cNvSpPr txBox="1"/>
          <p:nvPr/>
        </p:nvSpPr>
        <p:spPr>
          <a:xfrm>
            <a:off x="539640" y="3068640"/>
            <a:ext cx="7993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апреля - День Земли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8"/>
          <p:cNvSpPr txBox="1"/>
          <p:nvPr/>
        </p:nvSpPr>
        <p:spPr>
          <a:xfrm>
            <a:off x="684360" y="4221000"/>
            <a:ext cx="23749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июня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9"/>
          <p:cNvSpPr txBox="1"/>
          <p:nvPr/>
        </p:nvSpPr>
        <p:spPr>
          <a:xfrm>
            <a:off x="611280" y="5373720"/>
            <a:ext cx="83534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мирный день окружающей сре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5" name="Picture 10" descr="038_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сини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029_14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098_184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093680" y="1203120"/>
            <a:ext cx="80503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:\Школьная\Рамки\мультяш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WordArt 4" descr="Частый вертикальный"/>
          <p:cNvPicPr/>
          <p:nvPr/>
        </p:nvPicPr>
        <p:blipFill>
          <a:blip r:embed="rId2"/>
          <a:stretch/>
        </p:blipFill>
        <p:spPr>
          <a:xfrm>
            <a:off x="1432080" y="1352520"/>
            <a:ext cx="56577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99680" y="1214280"/>
            <a:ext cx="8643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4786200" y="1785960"/>
            <a:ext cx="78588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5072040" y="3357720"/>
            <a:ext cx="91440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4500720" y="4500720"/>
            <a:ext cx="1000080" cy="71424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фильм 3"/>
          <p:cNvSpPr/>
          <p:nvPr/>
        </p:nvSpPr>
        <p:spPr>
          <a:xfrm>
            <a:off x="214200" y="592920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7301"/>
                </a:moveTo>
                <a:lnTo>
                  <a:pt x="5784" y="7301"/>
                </a:lnTo>
                <a:lnTo>
                  <a:pt x="6167" y="7667"/>
                </a:lnTo>
                <a:lnTo>
                  <a:pt x="15376" y="7667"/>
                </a:lnTo>
                <a:lnTo>
                  <a:pt x="15933" y="8224"/>
                </a:lnTo>
                <a:lnTo>
                  <a:pt x="15933" y="8772"/>
                </a:lnTo>
                <a:lnTo>
                  <a:pt x="17778" y="8772"/>
                </a:lnTo>
                <a:lnTo>
                  <a:pt x="18143" y="8224"/>
                </a:lnTo>
                <a:lnTo>
                  <a:pt x="18883" y="8224"/>
                </a:lnTo>
                <a:lnTo>
                  <a:pt x="18883" y="13376"/>
                </a:lnTo>
                <a:lnTo>
                  <a:pt x="18143" y="13376"/>
                </a:lnTo>
                <a:lnTo>
                  <a:pt x="17778" y="12828"/>
                </a:lnTo>
                <a:lnTo>
                  <a:pt x="15933" y="12828"/>
                </a:lnTo>
                <a:lnTo>
                  <a:pt x="15933" y="14107"/>
                </a:lnTo>
                <a:lnTo>
                  <a:pt x="6350" y="14107"/>
                </a:lnTo>
                <a:lnTo>
                  <a:pt x="6350" y="9877"/>
                </a:lnTo>
                <a:lnTo>
                  <a:pt x="6167" y="9877"/>
                </a:lnTo>
                <a:lnTo>
                  <a:pt x="5784" y="10243"/>
                </a:lnTo>
                <a:lnTo>
                  <a:pt x="4870" y="1024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Экология – наука о месте обитания , об окружающей сред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58920" y="234936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Ахтубинское водохранилищ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отраже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Дно бывшего озер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гибе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Небо и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755387_2005051710263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5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28400" y="1500120"/>
            <a:ext cx="72831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Utilisation_Ramc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Небо и земля"/>
          <p:cNvPicPr/>
          <p:nvPr/>
        </p:nvPicPr>
        <p:blipFill>
          <a:blip r:embed="rId2"/>
          <a:stretch/>
        </p:blipFill>
        <p:spPr>
          <a:xfrm>
            <a:off x="500040" y="3786120"/>
            <a:ext cx="3333600" cy="2500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3909960" y="3786120"/>
            <a:ext cx="523404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ймите, это люди 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о Земли не будет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ждого из нас 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C:\Documents and Settings\Admin\Рабочий стол\1250606523_bestgif.narod.ru_131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250920" y="549360"/>
            <a:ext cx="6892920" cy="13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Book"/>
              </a:rPr>
              <a:t>Лес    да     растения -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Book"/>
              <a:ea typeface="Franklin Gothic Book"/>
            </a:endParaRPr>
          </a:p>
        </p:txBody>
      </p:sp>
      <p:pic>
        <p:nvPicPr>
          <p:cNvPr id="131" name="WordArt 5" descr=""/>
          <p:cNvPicPr/>
          <p:nvPr/>
        </p:nvPicPr>
        <p:blipFill>
          <a:blip r:embed="rId2"/>
          <a:stretch/>
        </p:blipFill>
        <p:spPr>
          <a:xfrm>
            <a:off x="2346480" y="1962000"/>
            <a:ext cx="6711840" cy="1195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AN044"/>
          <p:cNvPicPr/>
          <p:nvPr/>
        </p:nvPicPr>
        <p:blipFill>
          <a:blip r:embed="rId3"/>
          <a:stretch/>
        </p:blipFill>
        <p:spPr>
          <a:xfrm flipH="1">
            <a:off x="-973440" y="1773360"/>
            <a:ext cx="2663640" cy="2163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C:\Documents and Settings\Admin\Мои документы\картинки\Животный мир\Медведи\Звери (29).gif"/>
          <p:cNvPicPr/>
          <p:nvPr/>
        </p:nvPicPr>
        <p:blipFill>
          <a:blip r:embed="rId4"/>
          <a:stretch/>
        </p:blipFill>
        <p:spPr>
          <a:xfrm>
            <a:off x="5435640" y="4869000"/>
            <a:ext cx="1731960" cy="1989000"/>
          </a:xfrm>
          <a:prstGeom prst="rect">
            <a:avLst/>
          </a:prstGeom>
          <a:ln w="0">
            <a:noFill/>
          </a:ln>
        </p:spPr>
      </p:pic>
      <p:pic>
        <p:nvPicPr>
          <p:cNvPr id="134" name="10-Дождь.mp3" descr=""/>
          <p:cNvPicPr/>
          <p:nvPr/>
        </p:nvPicPr>
        <p:blipFill>
          <a:blip r:embed="rId5"/>
          <a:stretch/>
        </p:blipFill>
        <p:spPr>
          <a:xfrm>
            <a:off x="539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глобус 4"/>
          <p:cNvPicPr/>
          <p:nvPr/>
        </p:nvPicPr>
        <p:blipFill>
          <a:blip r:embed="rId1"/>
          <a:stretch/>
        </p:blipFill>
        <p:spPr>
          <a:xfrm>
            <a:off x="6659640" y="4697280"/>
            <a:ext cx="2305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48:40Z</dcterms:created>
  <dc:creator>User</dc:creator>
  <dc:description/>
  <dc:language>en-US</dc:language>
  <cp:lastModifiedBy>Admin</cp:lastModifiedBy>
  <dcterms:modified xsi:type="dcterms:W3CDTF">2012-03-22T05:05:43Z</dcterms:modified>
  <cp:revision>45</cp:revision>
  <dc:subject/>
  <dc:title>Экологический калейдоскоп</dc:title>
</cp:coreProperties>
</file>