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7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9.png" ContentType="image/png"/>
  <Override PartName="/ppt/media/image28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5188-2E99-463B-B574-2E7D7239A4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AB47-8E56-4B0C-A15F-2A3D21304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C546-91F9-415A-9FE0-3780630AED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6D6A-7D07-4E37-9E31-DD7A78915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37DA-A250-4DA6-BAEA-DF189D6F0C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AEDD-3CED-4A5C-B522-BFF5CD0E0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451C-9723-4964-94B4-1FF500661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3F05-FDF7-42E6-A43B-679F1EA650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2F85-6738-431D-ACF4-F1BC54E071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768-8A16-4F32-94C6-D6B01CFA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4FF-B2C1-4E97-880B-C8524B13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804-6D1B-4274-8F7F-F732E20D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7D0-3246-4D13-8B30-7152A884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E315-9F59-4A8C-9A00-8DFDFF82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F923-F5BD-4153-B314-7F6FCA4F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0DD0-2BEB-4FD4-961F-FA947826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250B-C200-49AE-94DA-D4F1FBBC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D59F-0058-4624-BEC8-9B865BB6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F348-4426-42E7-A149-CC702CF2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9372-5E3E-40AC-B276-50A22FC3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815-14A8-44E3-A8D8-D0DCE706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52FE-16E3-45D1-AB18-9CCAA1C0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727F-329C-4870-97D2-480A54D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8DFD-2095-4C63-86B5-8E717C1D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BE6B-349B-44C8-AAF1-0ADB7EC6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79FE-1795-4C01-8AC9-C26E337E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8B6-3C08-4796-A5EB-FBDD22B9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291-210C-4EE5-9E3F-63DE3EF1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881-CAC7-4532-B91B-646A47A8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350-276A-4858-B164-F604F141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716-B478-487A-9401-2947A8A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520-BDA1-4B74-B5C6-FA5BD69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402-0183-4539-A09F-A1B71BCC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706A-F1D7-4D5C-89AC-8B80884CE18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4C00-FA54-46A6-B960-4156F8953DE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1214280" y="1357200"/>
            <a:ext cx="7704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468360" y="404640"/>
            <a:ext cx="79912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марта - Всемирный день во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539640" y="1628640"/>
            <a:ext cx="7989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апреля - Международный день пти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539640" y="3068640"/>
            <a:ext cx="7993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апреля - День Земли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684360" y="4221000"/>
            <a:ext cx="2374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июн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9"/>
          <p:cNvSpPr txBox="1"/>
          <p:nvPr/>
        </p:nvSpPr>
        <p:spPr>
          <a:xfrm>
            <a:off x="611280" y="5373720"/>
            <a:ext cx="8353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ирный день окружающей сре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Picture 10" descr="038_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сини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029_1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098_1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93680" y="1203120"/>
            <a:ext cx="8050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:\Школьная\Рамки\мультяш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WordArt 4" descr="Частый вертикальный"/>
          <p:cNvPicPr/>
          <p:nvPr/>
        </p:nvPicPr>
        <p:blipFill>
          <a:blip r:embed="rId2"/>
          <a:stretch/>
        </p:blipFill>
        <p:spPr>
          <a:xfrm>
            <a:off x="1432080" y="1352520"/>
            <a:ext cx="56577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99680" y="12142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4786200" y="1785960"/>
            <a:ext cx="78588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5072040" y="3357720"/>
            <a:ext cx="91440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4500720" y="4500720"/>
            <a:ext cx="1000080" cy="71424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фильм 3"/>
          <p:cNvSpPr/>
          <p:nvPr/>
        </p:nvSpPr>
        <p:spPr>
          <a:xfrm>
            <a:off x="214200" y="592920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7301"/>
                </a:moveTo>
                <a:lnTo>
                  <a:pt x="5784" y="7301"/>
                </a:lnTo>
                <a:lnTo>
                  <a:pt x="6167" y="7667"/>
                </a:lnTo>
                <a:lnTo>
                  <a:pt x="15376" y="7667"/>
                </a:lnTo>
                <a:lnTo>
                  <a:pt x="15933" y="8224"/>
                </a:lnTo>
                <a:lnTo>
                  <a:pt x="15933" y="8772"/>
                </a:lnTo>
                <a:lnTo>
                  <a:pt x="17778" y="8772"/>
                </a:lnTo>
                <a:lnTo>
                  <a:pt x="18143" y="8224"/>
                </a:lnTo>
                <a:lnTo>
                  <a:pt x="18883" y="8224"/>
                </a:lnTo>
                <a:lnTo>
                  <a:pt x="18883" y="13376"/>
                </a:lnTo>
                <a:lnTo>
                  <a:pt x="18143" y="13376"/>
                </a:lnTo>
                <a:lnTo>
                  <a:pt x="17778" y="12828"/>
                </a:lnTo>
                <a:lnTo>
                  <a:pt x="15933" y="12828"/>
                </a:lnTo>
                <a:lnTo>
                  <a:pt x="15933" y="14107"/>
                </a:lnTo>
                <a:lnTo>
                  <a:pt x="6350" y="14107"/>
                </a:lnTo>
                <a:lnTo>
                  <a:pt x="6350" y="9877"/>
                </a:lnTo>
                <a:lnTo>
                  <a:pt x="6167" y="9877"/>
                </a:lnTo>
                <a:lnTo>
                  <a:pt x="5784" y="10243"/>
                </a:lnTo>
                <a:lnTo>
                  <a:pt x="4870" y="1024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Экология – наука о месте обитания , об окружающей сред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58920" y="234936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Ахтубинское водохранилищ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от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Дно бывшего озер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гибе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ебо и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755387_2005051710263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28400" y="1500120"/>
            <a:ext cx="7283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Utilisation_Ramc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Небо и земля"/>
          <p:cNvPicPr/>
          <p:nvPr/>
        </p:nvPicPr>
        <p:blipFill>
          <a:blip r:embed="rId2"/>
          <a:stretch/>
        </p:blipFill>
        <p:spPr>
          <a:xfrm>
            <a:off x="500040" y="378612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3909960" y="3786120"/>
            <a:ext cx="5234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ймите, это люди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 Земли не будет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ждого из нас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C:\Documents and Settings\Admin\Рабочий стол\1250606523_bestgif.narod.ru_13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250920" y="549360"/>
            <a:ext cx="689292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Book"/>
              </a:rPr>
              <a:t>Лес    да     растени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31" name="WordArt 5" descr=""/>
          <p:cNvPicPr/>
          <p:nvPr/>
        </p:nvPicPr>
        <p:blipFill>
          <a:blip r:embed="rId2"/>
          <a:stretch/>
        </p:blipFill>
        <p:spPr>
          <a:xfrm>
            <a:off x="2346480" y="1962000"/>
            <a:ext cx="6711840" cy="1195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044"/>
          <p:cNvPicPr/>
          <p:nvPr/>
        </p:nvPicPr>
        <p:blipFill>
          <a:blip r:embed="rId3"/>
          <a:stretch/>
        </p:blipFill>
        <p:spPr>
          <a:xfrm flipH="1">
            <a:off x="-973440" y="177336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C:\Documents and Settings\Admin\Мои документы\картинки\Животный мир\Медведи\Звери (29).gif"/>
          <p:cNvPicPr/>
          <p:nvPr/>
        </p:nvPicPr>
        <p:blipFill>
          <a:blip r:embed="rId4"/>
          <a:stretch/>
        </p:blipFill>
        <p:spPr>
          <a:xfrm>
            <a:off x="5435640" y="4869000"/>
            <a:ext cx="1731960" cy="1989000"/>
          </a:xfrm>
          <a:prstGeom prst="rect">
            <a:avLst/>
          </a:prstGeom>
          <a:ln w="0">
            <a:noFill/>
          </a:ln>
        </p:spPr>
      </p:pic>
      <p:pic>
        <p:nvPicPr>
          <p:cNvPr id="134" name="10-Дождь.mp3" descr=""/>
          <p:cNvPicPr/>
          <p:nvPr/>
        </p:nvPicPr>
        <p:blipFill>
          <a:blip r:embed="rId5"/>
          <a:stretch/>
        </p:blipFill>
        <p:spPr>
          <a:xfrm>
            <a:off x="539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глобус 4"/>
          <p:cNvPicPr/>
          <p:nvPr/>
        </p:nvPicPr>
        <p:blipFill>
          <a:blip r:embed="rId1"/>
          <a:stretch/>
        </p:blipFill>
        <p:spPr>
          <a:xfrm>
            <a:off x="6659640" y="4697280"/>
            <a:ext cx="2305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User</dc:creator>
  <dc:description/>
  <dc:language>en-US</dc:language>
  <cp:lastModifiedBy>Admin</cp:lastModifiedBy>
  <dcterms:modified xsi:type="dcterms:W3CDTF">2012-03-22T05:05:43Z</dcterms:modified>
  <cp:revision>45</cp:revision>
  <dc:subject/>
  <dc:title>Экологический калейдоскоп</dc:title>
</cp:coreProperties>
</file>