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0.png" ContentType="image/png"/>
  <Override PartName="/ppt/media/image36.png" ContentType="image/png"/>
  <Override PartName="/ppt/media/image4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7.png" ContentType="image/png"/>
  <Override PartName="/ppt/media/image35.jpeg" ContentType="image/jpeg"/>
  <Override PartName="/ppt/media/image7.jpeg" ContentType="image/jpeg"/>
  <Override PartName="/ppt/media/image28.png" ContentType="image/png"/>
  <Override PartName="/ppt/media/image46.png" ContentType="image/png"/>
  <Override PartName="/ppt/media/image44.jpeg" ContentType="image/jpeg"/>
  <Override PartName="/ppt/media/image4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52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50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FAE2-54C2-4DF3-BD38-CBE216E7C3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37FA-66EB-40B7-A699-B32F4C423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44A1-3BDE-41A6-A7DF-C967A42A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2DB2-0685-4AD7-AB15-19603311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056AF-2379-4F93-8E41-05A87BC9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1EEA0-4AA1-4158-AF41-082318D2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3C051-C55C-4F17-BFD0-DA94A259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CA371-BC5D-4CDD-9009-B5F6F928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66DA1-0AB5-4D17-B4B2-5CF1FE5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4BDE1-E77F-46E8-A9A7-43A22434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CA875-729F-4082-9C6A-740B7B35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92EB6-4282-4579-812F-5967ED6C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7568F-D04D-4EDC-A279-748C909A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CF773-9A09-4E75-88DD-4082AF1D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9A01-2B5F-4609-B3FB-79EBB427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35D01-31E5-45B4-9B04-5F7E163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12633-5033-4A45-B063-DFDB1170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4695C-3196-4EA8-BCAF-161466F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550E3-3564-4956-A021-90870B5A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41531-5955-4ABB-AB92-CC52A53F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EF2F3-FE49-42C3-970C-0DC3415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43F34-1A63-4078-86B6-AEC4865B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F39A5-1FC0-42AC-BE8E-A27DAF4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F66FF-6C1A-4364-B537-71A887C5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4EBFC-ABF2-4E3B-A64B-9A8ADBF3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A319-401E-4E4B-A20D-8E2A01D3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7C86C-20B6-4BED-B62C-568A3FE5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514AD-FBC8-4EA7-BC53-9BC929BA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D363B-A898-43B8-8030-BF58F21A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834A-5F16-4DA6-8FEE-16B3331E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FBFC1-15A6-47A4-85F0-7C36EC53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8A99C-0A74-48C0-8101-12393B13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D4507-C582-4674-A3BD-7ABE4B99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57AA4-41C9-4262-8C63-0CA110C8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B33EC-FCF9-4685-9254-1E2E8FA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A1E08-08C8-4634-ABE5-B74E90E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EA59-C68B-4578-BE59-4F47D269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8E424-1AD2-4EB1-98C7-2808090B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79F39-C826-4AAF-9F3F-514CEAEE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6B7C4-A346-4B1C-8BE6-3F97E4B1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BADFC4-6945-4B70-AE56-F82DD9AA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7107BA-E927-4444-8834-29C1CE4F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CEBEAD-0544-4C82-B54A-DC2D8F90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58B917-8EC4-4BD7-86CD-AC1D2BFA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4FE9DF-B785-44E6-B4D4-E43922D7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665277-235F-4392-8983-F1FAE09C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83776B-4BC5-4C59-AA54-974282E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8773-4E1F-4700-AACA-1FBC6E26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8B919A-90D3-4437-BD6F-C0B8C30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BAAE29-7440-4EE1-9283-1D3E7CF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8A21DE-C0AF-4B03-9C60-AC6F878F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3F3864-AAFD-4697-935B-D67F8EAD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ACF6C8-6644-4746-A5A9-8EDAC31D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7D91-12F5-46A6-9C91-45643558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DB11-7143-4F3E-8CDD-7B5891DF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D819-C6AB-48E6-BA41-387D6E53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CF22-590E-4053-988B-35F26C16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87F3-4FED-47D9-B926-98AC70AC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E7A3-BF29-4AA2-B203-EBD2B348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E50D-CB81-4295-B40E-AB02C87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FD3E-3034-4484-A5AF-177A87F3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9BD7-E0CA-47B6-92E5-44EF2E3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0AD8-F547-4B60-9D11-A4009E63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7E9B-F544-48DF-91F4-9F8A3C3B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A0FE-64A8-4294-9FAB-D91E8A4F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D6E5-3113-45E8-8814-D60F2437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0465-E426-47F8-9A37-2D33900A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1501-F23C-4215-880C-FC1D8B11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BDD2-B51F-44DD-B316-00F529B2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2A7E-8FE9-4634-94C0-E4910B3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D3BD0-F9DA-46E1-B702-A68A015A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E909-BF8C-4515-B4DE-F18C4EDD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CD52-CCCF-403D-A9CB-DE67A173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64B0-ED6B-4B83-8E68-8B70BA7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0D46-3895-43EB-9AD2-57B3BEB1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042D1-BE08-43FC-9B79-1C04010D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D265-0D8C-4730-92DA-19AB489D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DB1B3-D85E-418C-AC6E-EB77A5E4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C87EF-D83E-4E69-B3F0-1616C3B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066D-2666-45F9-B87D-AB9C2870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BB06-3D83-4333-92A3-554E7B65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F889-2E05-4385-B1AE-F5E0802C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1C11-9F31-4AE8-8237-5FECD1EA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CB8F-58B9-4938-9430-1447C8E4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27FE-41D5-4FB7-9738-DF4B2EA9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376B-53DD-4CAB-A281-C32A8E3D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92F9-4CEA-4FB3-85F3-0893EE1E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7618-1444-4A1C-8390-028F8CA6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0BDDB-4760-4188-BD9B-FEE445E4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0C70-490F-47A9-9CD9-E814A531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A5A0-E957-4467-BD0C-123FADA8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6D69-0C8B-41F4-9A50-C3D643E0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59BF7-C070-4F55-8E4D-85A8EA6D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0D83A-5FE2-438C-AB35-B39ED83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30D81-DD0C-4133-82D8-65054C3E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E373-1EF1-4EF6-8903-2165ED05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45CE0-36B4-40C4-AA58-0070A0BB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31C2-89C4-4421-BB6B-7738994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B7221-951B-47D8-B4DF-D009657E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B10C-D678-47B2-AF5C-2513F9C6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F28A5-AF27-4D99-8E1E-A87C6947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EF41B-CB74-4CEB-9EEE-C193BDF8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E99D-AF9E-43B2-AFDC-84786868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E24FB-C133-4BAB-B353-B0B61F84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94B6-423B-4B5C-BDFD-4B4E20D8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D4F5-7D30-4F1E-8EFC-0024DB4E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F8BC3-C906-444E-9D45-B383C57E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C6633-526E-432B-9C6A-3E9D6707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6F82D-71C6-4A45-B0E2-0E8C2FDA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FBC37-8771-47BD-AC25-84CD45C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00724-EC82-4439-A0E3-C5B0B2B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6CE45-ADC7-4D76-9565-627EEB48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ED387-9DD3-4A0D-AD82-82E8F60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6900-DD37-4382-9A00-C59ABC0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570B-B57C-4CE0-8F2C-702AA96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5F3BC-81D7-4808-8A44-3E4881B9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75F1D-4DD2-4BB7-8E64-25EFA003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9A84F-AB08-4120-9D13-08F6B1D7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3CE28-09ED-4095-AA98-9CDCFCBC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820FB-72C8-4E87-8B5D-DBBA6892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D3C14-1054-4701-98DA-6DCDAF9A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CC3A6-8374-4DA0-971B-66DDB59F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09652-8445-489E-972C-94CBFB2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B29EA-7959-4F9A-9FCC-CBDB833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0ACD-5158-4D5C-87BB-BD2B231C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9AFF-A449-4625-AA1F-44CE1D4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8472-6DD2-4BFB-8040-186D1BAD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E31E2-B070-4A80-A425-A6906B5C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923BE-A917-450F-B51E-E221520B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5487-E386-431D-94A1-271032A1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8F9DD-5115-4AB4-8F8A-1BDE7CDE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7C597-7202-4536-B741-778462EA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EAF1A-CB1B-4E4A-BF1C-F15EB6B1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46045-5D20-4E51-BC30-F7117800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1994-FDEF-47BC-93D2-5FCED80B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174A-3CE5-4D36-B2B6-816527E8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5CB0D-A9C6-4CF3-B0DE-A8386EC5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35A1B-C5A2-4EC7-A513-49C674B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5E30-A53B-49CC-A6C3-A036A24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1D00-9D53-4FAC-AB62-0C76E0FE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3A27A-7BDF-42F4-8BF4-E76C92D7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B605-75E1-4BB1-BB5D-E777A07B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3429-A20B-4B59-BB82-9AB3E045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A8EB8-5C67-4138-88FB-7AA3B524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C8A13-992C-43A1-9C01-AD5BBA27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8A769-6224-4BA4-B691-8D53BF5B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83EF-18CC-4837-8841-2EE631D147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BEFF-1C4D-40C2-A333-1C999EFC70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FC2F-0BD6-45EB-B39B-ACFD90B304E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69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70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70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grpSp>
          <p:nvGrpSpPr>
            <p:cNvPr id="70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0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70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grpSp>
        <p:nvGrpSpPr>
          <p:cNvPr id="71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71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AD6D-3015-4A9B-8572-113326B054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5454-2299-4401-A6C8-6B64391D89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9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9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9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9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0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1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2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3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4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15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grpSp>
            <p:nvGrpSpPr>
              <p:cNvPr id="15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15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1977-76D1-4B57-9C83-A2966A2EAD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0F94-7B89-4B44-B66E-54A826D69F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32CD-050F-4C35-88EC-DA566BE748F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31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9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grpSp>
          <p:nvGrpSpPr>
            <p:cNvPr id="32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2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32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grpSp>
        <p:nvGrpSpPr>
          <p:cNvPr id="32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2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3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3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3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3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3BDE-CFF4-4AE9-B7D7-29490706DE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7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7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7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8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38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38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38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D95B-4192-4945-9063-D3A6E60274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2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2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2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2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3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3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sp>
          <p:nvSpPr>
            <p:cNvPr id="43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249-7C92-41D3-B9F5-C6503D8469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7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5e5ff"/>
                </a:solidFill>
                <a:latin typeface="Arial"/>
              </a:endParaRPr>
            </a:p>
          </p:txBody>
        </p:sp>
        <p:grpSp>
          <p:nvGrpSpPr>
            <p:cNvPr id="47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7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7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8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49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0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1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2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2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3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3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3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sp>
            <p:nvSpPr>
              <p:cNvPr id="53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5e5ff"/>
                  </a:solidFill>
                  <a:latin typeface="Arial"/>
                </a:endParaRPr>
              </a:p>
            </p:txBody>
          </p:sp>
          <p:grpSp>
            <p:nvGrpSpPr>
              <p:cNvPr id="53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3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53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  <p:sp>
              <p:nvSpPr>
                <p:cNvPr id="53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e5e5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FE1E-608B-4EF9-8B7D-4C5344983C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400c6"/>
                </a:solidFill>
                <a:latin typeface="Arial"/>
              </a:rPr>
              <a:t>НАСЛЕДСТВЕННЫЕ БОЛЕЗНИ ЧЕЛОВЕКА</a:t>
            </a:r>
            <a:endParaRPr b="1" lang="en-US" sz="5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РОК-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оздана Киминым Секргеем учеником 9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00c6"/>
                </a:solidFill>
                <a:latin typeface="Arial"/>
              </a:rPr>
              <a:t>НАСЛЕДСТВЕННЫЕ БОЛЕЗНИ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875" name="Organization Chart 7"/>
          <p:cNvGrpSpPr/>
          <p:nvPr/>
        </p:nvGrpSpPr>
        <p:grpSpPr>
          <a:xfrm>
            <a:off x="250920" y="2301120"/>
            <a:ext cx="8711640" cy="3719880"/>
            <a:chOff x="250920" y="2301120"/>
            <a:chExt cx="8711640" cy="3719880"/>
          </a:xfrm>
        </p:grpSpPr>
        <p:cxnSp>
          <p:nvCxnSpPr>
            <p:cNvPr id="876" name="_s1028"/>
            <p:cNvCxnSpPr>
              <a:stCxn id="877" idx="1"/>
              <a:endCxn id="878" idx="2"/>
            </p:cNvCxnSpPr>
            <p:nvPr/>
          </p:nvCxnSpPr>
          <p:spPr>
            <a:xfrm rot="10800000">
              <a:off x="6377760" y="3971520"/>
              <a:ext cx="254520" cy="136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9" name="_s1029"/>
            <p:cNvCxnSpPr>
              <a:stCxn id="880" idx="1"/>
              <a:endCxn id="881" idx="2"/>
            </p:cNvCxnSpPr>
            <p:nvPr/>
          </p:nvCxnSpPr>
          <p:spPr>
            <a:xfrm rot="10800000">
              <a:off x="1016640" y="3971520"/>
              <a:ext cx="254520" cy="187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2" name="_s1030"/>
            <p:cNvCxnSpPr>
              <a:stCxn id="883" idx="1"/>
              <a:endCxn id="881" idx="2"/>
            </p:cNvCxnSpPr>
            <p:nvPr/>
          </p:nvCxnSpPr>
          <p:spPr>
            <a:xfrm rot="10800000">
              <a:off x="1016640" y="3971520"/>
              <a:ext cx="254520" cy="136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4" name="_s1031"/>
            <p:cNvCxnSpPr>
              <a:stCxn id="885" idx="1"/>
              <a:endCxn id="881" idx="2"/>
            </p:cNvCxnSpPr>
            <p:nvPr/>
          </p:nvCxnSpPr>
          <p:spPr>
            <a:xfrm rot="10800000">
              <a:off x="1016640" y="3971520"/>
              <a:ext cx="254520" cy="854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6" name="_s1032"/>
            <p:cNvCxnSpPr>
              <a:stCxn id="887" idx="1"/>
              <a:endCxn id="881" idx="2"/>
            </p:cNvCxnSpPr>
            <p:nvPr/>
          </p:nvCxnSpPr>
          <p:spPr>
            <a:xfrm rot="10800000">
              <a:off x="1016640" y="3971520"/>
              <a:ext cx="254520" cy="34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8" name="_s1033"/>
            <p:cNvCxnSpPr>
              <a:stCxn id="889" idx="0"/>
              <a:endCxn id="890" idx="2"/>
            </p:cNvCxnSpPr>
            <p:nvPr/>
          </p:nvCxnSpPr>
          <p:spPr>
            <a:xfrm flipV="1" rot="16200000">
              <a:off x="3611880" y="2339280"/>
              <a:ext cx="170640" cy="178920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1" name="_s1034"/>
            <p:cNvCxnSpPr>
              <a:stCxn id="892" idx="0"/>
              <a:endCxn id="890" idx="2"/>
            </p:cNvCxnSpPr>
            <p:nvPr/>
          </p:nvCxnSpPr>
          <p:spPr>
            <a:xfrm flipV="1" rot="16200000">
              <a:off x="2718360" y="3232800"/>
              <a:ext cx="170640" cy="216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3" name="_s1035"/>
            <p:cNvCxnSpPr>
              <a:stCxn id="881" idx="0"/>
              <a:endCxn id="890" idx="2"/>
            </p:cNvCxnSpPr>
            <p:nvPr/>
          </p:nvCxnSpPr>
          <p:spPr>
            <a:xfrm flipH="1" flipV="1" rot="5400000">
              <a:off x="1824840" y="2341080"/>
              <a:ext cx="170640" cy="178632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4" name="_s1036"/>
            <p:cNvCxnSpPr>
              <a:stCxn id="895" idx="1"/>
              <a:endCxn id="878" idx="2"/>
            </p:cNvCxnSpPr>
            <p:nvPr/>
          </p:nvCxnSpPr>
          <p:spPr>
            <a:xfrm rot="10800000">
              <a:off x="6377760" y="3971520"/>
              <a:ext cx="254520" cy="854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1037"/>
            <p:cNvCxnSpPr>
              <a:stCxn id="897" idx="1"/>
              <a:endCxn id="878" idx="2"/>
            </p:cNvCxnSpPr>
            <p:nvPr/>
          </p:nvCxnSpPr>
          <p:spPr>
            <a:xfrm rot="10800000">
              <a:off x="6377760" y="3971520"/>
              <a:ext cx="254520" cy="34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1038"/>
            <p:cNvCxnSpPr>
              <a:stCxn id="878" idx="0"/>
              <a:endCxn id="899" idx="2"/>
            </p:cNvCxnSpPr>
            <p:nvPr/>
          </p:nvCxnSpPr>
          <p:spPr>
            <a:xfrm flipH="1" flipV="1" rot="5400000">
              <a:off x="7002000" y="2524680"/>
              <a:ext cx="170640" cy="141876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1039"/>
            <p:cNvCxnSpPr>
              <a:stCxn id="899" idx="0"/>
              <a:endCxn id="901" idx="2"/>
            </p:cNvCxnSpPr>
            <p:nvPr/>
          </p:nvCxnSpPr>
          <p:spPr>
            <a:xfrm flipV="1" rot="16200000">
              <a:off x="6116760" y="1130040"/>
              <a:ext cx="170640" cy="318996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1040"/>
            <p:cNvCxnSpPr>
              <a:stCxn id="890" idx="0"/>
              <a:endCxn id="901" idx="2"/>
            </p:cNvCxnSpPr>
            <p:nvPr/>
          </p:nvCxnSpPr>
          <p:spPr>
            <a:xfrm flipH="1" flipV="1" rot="5400000">
              <a:off x="3619800" y="1822680"/>
              <a:ext cx="170640" cy="1805040"/>
            </a:xfrm>
            <a:prstGeom prst="bentConnector3">
              <a:avLst>
                <a:gd name="adj1" fmla="val 4947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1" name="_s1041"/>
            <p:cNvSpPr/>
            <p:nvPr/>
          </p:nvSpPr>
          <p:spPr>
            <a:xfrm>
              <a:off x="2598840" y="2301120"/>
              <a:ext cx="4015800" cy="338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НАСЛЕДСТВЕННЫЕ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БОЛЕЗНИ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0" name="_s1042"/>
            <p:cNvSpPr/>
            <p:nvPr/>
          </p:nvSpPr>
          <p:spPr>
            <a:xfrm>
              <a:off x="1638720" y="2810160"/>
              <a:ext cx="2329920" cy="338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ГЕН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9" name="_s1043"/>
            <p:cNvSpPr/>
            <p:nvPr/>
          </p:nvSpPr>
          <p:spPr>
            <a:xfrm>
              <a:off x="6632640" y="2810160"/>
              <a:ext cx="2329920" cy="338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ХРОМОСОМ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77" name="_s1044"/>
            <p:cNvSpPr/>
            <p:nvPr/>
          </p:nvSpPr>
          <p:spPr>
            <a:xfrm>
              <a:off x="6632640" y="5166000"/>
              <a:ext cx="190368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ХРОМОСОМНЫ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ЕРЕСТРОЙКИ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78" name="_s1045"/>
            <p:cNvSpPr/>
            <p:nvPr/>
          </p:nvSpPr>
          <p:spPr>
            <a:xfrm>
              <a:off x="5612040" y="3319200"/>
              <a:ext cx="1531440" cy="65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ИЗМЕНЕНИ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ЧИСЛА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ХРОМОСОМ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7" name="_s1046"/>
            <p:cNvSpPr/>
            <p:nvPr/>
          </p:nvSpPr>
          <p:spPr>
            <a:xfrm>
              <a:off x="6632640" y="4141080"/>
              <a:ext cx="190368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МОНОСОМИЯ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5" name="_s1047"/>
            <p:cNvSpPr/>
            <p:nvPr/>
          </p:nvSpPr>
          <p:spPr>
            <a:xfrm>
              <a:off x="6632640" y="4653720"/>
              <a:ext cx="190368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ТРИСОМИЯ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1" name="_s1048"/>
            <p:cNvSpPr/>
            <p:nvPr/>
          </p:nvSpPr>
          <p:spPr>
            <a:xfrm>
              <a:off x="250920" y="3319200"/>
              <a:ext cx="1531440" cy="65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ОНОГЕН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92" name="_s1049"/>
            <p:cNvSpPr/>
            <p:nvPr/>
          </p:nvSpPr>
          <p:spPr>
            <a:xfrm>
              <a:off x="2037960" y="3319200"/>
              <a:ext cx="1531440" cy="65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ОЛИГЕН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9" name="_s1050"/>
            <p:cNvSpPr/>
            <p:nvPr/>
          </p:nvSpPr>
          <p:spPr>
            <a:xfrm>
              <a:off x="3825360" y="3319200"/>
              <a:ext cx="1531080" cy="65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УЛЬТИ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ФАКТОРИАЛЬ -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НЫЕ</a:t>
              </a:r>
              <a:endParaRPr b="1" lang="en-US" sz="12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7" name="_s1051"/>
            <p:cNvSpPr/>
            <p:nvPr/>
          </p:nvSpPr>
          <p:spPr>
            <a:xfrm>
              <a:off x="1271160" y="4141080"/>
              <a:ext cx="190404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А -ДОМИНИРУЮЩИ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5" name="_s1052"/>
            <p:cNvSpPr/>
            <p:nvPr/>
          </p:nvSpPr>
          <p:spPr>
            <a:xfrm>
              <a:off x="1271160" y="4653720"/>
              <a:ext cx="190404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А - РЕЦЕССИВНЫ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3" name="_s1053"/>
            <p:cNvSpPr/>
            <p:nvPr/>
          </p:nvSpPr>
          <p:spPr>
            <a:xfrm>
              <a:off x="1271160" y="5166000"/>
              <a:ext cx="190404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Х - СЦЕПЛЕННЫ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  <p:sp>
          <p:nvSpPr>
            <p:cNvPr id="880" name="_s1054"/>
            <p:cNvSpPr/>
            <p:nvPr/>
          </p:nvSpPr>
          <p:spPr>
            <a:xfrm>
              <a:off x="1271160" y="5678640"/>
              <a:ext cx="1904040" cy="342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У - СЦЕПЛЕННЫЕ</a:t>
              </a:r>
              <a:endParaRPr b="1" lang="en-US" sz="1000" spc="-1" strike="noStrike">
                <a:solidFill>
                  <a:srgbClr val="e5e5ff"/>
                </a:solidFill>
                <a:latin typeface="Arial"/>
              </a:endParaRPr>
            </a:p>
          </p:txBody>
        </p:sp>
      </p:grpSp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Arial"/>
                <a:ea typeface="Arial"/>
              </a:rPr>
              <a:t>Аутосомно-доминирующий тип наследова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. Болезнь встречается в каждом поколении родослов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. Соотношение больных мальчиков и девочек равно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. Болезнь у гомозиготная протекает тяжелее, чем у гетерозиго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. Вероятность рождения больного ребенка, если болен один из родителей, равна 5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5. Возможны случаи, когда болезнь носит стертый характер (неполная пенетрантность ген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5" name="Picture 4" descr="доминир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763640" y="1496880"/>
            <a:ext cx="5977080" cy="2292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КРОСОМ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ндром первой жаберной ду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осторонняя аномалия ушной раковины и гипоплазия нижней челюсти; аномалии глаз; лицо асимметрично, нарушение прику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8" name="Picture 7" descr="ахондроген"/>
          <p:cNvPicPr/>
          <p:nvPr/>
        </p:nvPicPr>
        <p:blipFill>
          <a:blip r:embed="rId1"/>
          <a:stretch/>
        </p:blipFill>
        <p:spPr>
          <a:xfrm>
            <a:off x="4572000" y="1214280"/>
            <a:ext cx="359892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БИНОВА  СИНДРОМ</a:t>
            </a: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85928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первые описан в 1969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обычное строение лица, умеренная карликовость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ипоплаз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оловых органов, макроцефал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эпикан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роткий н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рахидактилия, вывих бедра, аномалии реб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–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1" name="Picture 12" descr="робин 2"/>
          <p:cNvPicPr/>
          <p:nvPr/>
        </p:nvPicPr>
        <p:blipFill>
          <a:blip r:embed="rId1"/>
          <a:stretch/>
        </p:blipFill>
        <p:spPr>
          <a:xfrm>
            <a:off x="142920" y="1285920"/>
            <a:ext cx="462600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ИЛЛЬЯМСА СИНДРО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85480" y="1599840"/>
            <a:ext cx="3786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первые описан в 1961 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ычное лицо, низкий рост, короткий нос, полные щеки, маленькая нижняя челюсть, умственная отста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 – 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4" name="Picture 7" descr="ад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05280" y="1428840"/>
            <a:ext cx="499752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Содержимое 5" descr="андерсен.jpg"/>
          <p:cNvPicPr/>
          <p:nvPr/>
        </p:nvPicPr>
        <p:blipFill>
          <a:blip r:embed="rId1"/>
          <a:stretch/>
        </p:blipFill>
        <p:spPr>
          <a:xfrm>
            <a:off x="214200" y="285840"/>
            <a:ext cx="2239920" cy="3143160"/>
          </a:xfrm>
          <a:prstGeom prst="rect">
            <a:avLst/>
          </a:prstGeom>
          <a:ln w="0">
            <a:noFill/>
          </a:ln>
        </p:spPr>
      </p:pic>
      <p:pic>
        <p:nvPicPr>
          <p:cNvPr id="916" name="Содержимое 6" descr="паганини н.jpg"/>
          <p:cNvPicPr/>
          <p:nvPr/>
        </p:nvPicPr>
        <p:blipFill>
          <a:blip r:embed="rId2"/>
          <a:stretch/>
        </p:blipFill>
        <p:spPr>
          <a:xfrm>
            <a:off x="214200" y="4000680"/>
            <a:ext cx="2243160" cy="268920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2428920" y="285840"/>
            <a:ext cx="65721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ндром вызван наследственным пороком развития соединительной ткани.  Больные часто умирают от аневризма аорты. Единственная компенсация – повышенное содержание адреналина в крови, поэтому больные всю жизнь находятся в возбужденном состоянии и становятся невероятными трудоголик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ндромом Марфана страдали всемирно известные личности: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Авраам Линколь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– президент США (рост 193 см)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Ганс Христиан Андерсе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– великий писатель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8" name="Рисунок 7" descr="чуковский.jpg"/>
          <p:cNvPicPr/>
          <p:nvPr/>
        </p:nvPicPr>
        <p:blipFill>
          <a:blip r:embed="rId3"/>
          <a:stretch/>
        </p:blipFill>
        <p:spPr>
          <a:xfrm>
            <a:off x="6500880" y="3071880"/>
            <a:ext cx="2378160" cy="3620880"/>
          </a:xfrm>
          <a:prstGeom prst="rect">
            <a:avLst/>
          </a:prstGeom>
          <a:ln w="0">
            <a:noFill/>
          </a:ln>
        </p:spPr>
      </p:pic>
      <p:sp>
        <p:nvSpPr>
          <p:cNvPr id="919" name="TextBox 8"/>
          <p:cNvSpPr/>
          <p:nvPr/>
        </p:nvSpPr>
        <p:spPr>
          <a:xfrm>
            <a:off x="2786040" y="2928960"/>
            <a:ext cx="36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иколк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ганин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великий скрипач (болезнь придавала ему большие технические возможности).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ХХ веке жили не менее талантливые «носачи». Э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арль де Голль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президент Франции и</a:t>
            </a: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рней Чуковски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оветский детский писатель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ЛИДАКТИЛ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148000" y="1557000"/>
            <a:ext cx="374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ет два вариан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ип 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при котором дополнительный палец функционален,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ип 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когда дополнительный палец недоразвит и представляет собой кожный выро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 1:3000 до 1: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Picture 7" descr="полидак"/>
          <p:cNvPicPr/>
          <p:nvPr/>
        </p:nvPicPr>
        <p:blipFill>
          <a:blip r:embed="rId1"/>
          <a:stretch/>
        </p:blipFill>
        <p:spPr>
          <a:xfrm>
            <a:off x="214200" y="1071720"/>
            <a:ext cx="4880160" cy="23572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0" descr="полидак 2"/>
          <p:cNvPicPr/>
          <p:nvPr/>
        </p:nvPicPr>
        <p:blipFill>
          <a:blip r:embed="rId2"/>
          <a:stretch/>
        </p:blipFill>
        <p:spPr>
          <a:xfrm>
            <a:off x="285840" y="3786120"/>
            <a:ext cx="328608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ИНДАКТИЛ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37861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ндактил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это сращение различных пальцев кистей и стоп. На кистях чаще всего встречается между 3 – 4 пальцами, а на стопах                 - между 2 – 3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1:2500 -3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6" name="Picture 8" descr="синдак"/>
          <p:cNvPicPr/>
          <p:nvPr/>
        </p:nvPicPr>
        <p:blipFill>
          <a:blip r:embed="rId1"/>
          <a:stretch/>
        </p:blipFill>
        <p:spPr>
          <a:xfrm>
            <a:off x="4286160" y="928800"/>
            <a:ext cx="4587840" cy="3039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1" descr="синдак 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286160" y="4071960"/>
            <a:ext cx="395136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ИОТОНИЧЕСКАЯ ДИСТРОФ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42920" y="3928680"/>
            <a:ext cx="88581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иотоническая дистрофия, или болезнь Штейнерта – многосистемное заболевание у обоих по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иотония, мышечная слабость, катаракта, аритмия сердца, облысение со лба, умственная отсталость, мышечные судороги рук и лица, нарушение речи и глотания. У мужчин ранний гопогонадизм, а у женцин ранняя аменорея и кисты яичников. Заболевание сильно варьирует началом заболевания (от года до 50-60 лет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      Популяционная часто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1 : 7500-1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0" name="Picture 2" descr="C:\Documents and Settings\дима\Мои документы\Мои рисунки\ген и белок\мыш дист.jpg"/>
          <p:cNvPicPr/>
          <p:nvPr/>
        </p:nvPicPr>
        <p:blipFill>
          <a:blip r:embed="rId1"/>
          <a:stretch/>
        </p:blipFill>
        <p:spPr>
          <a:xfrm>
            <a:off x="428760" y="1071720"/>
            <a:ext cx="5857920" cy="2658960"/>
          </a:xfrm>
          <a:prstGeom prst="rect">
            <a:avLst/>
          </a:prstGeom>
          <a:ln w="0">
            <a:noFill/>
          </a:ln>
        </p:spPr>
      </p:pic>
      <p:sp>
        <p:nvSpPr>
          <p:cNvPr id="931" name="TextBox 4"/>
          <p:cNvSpPr/>
          <p:nvPr/>
        </p:nvSpPr>
        <p:spPr>
          <a:xfrm>
            <a:off x="6357960" y="1071720"/>
            <a:ext cx="2571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Ребенок и взрослая пациентка с миотони-ческой дистрофией (птоз, анемичное лицо, рот треугольной формы, слабость лицевых мышц, атрофия жевательных мышц)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5640" y="14256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НДРОМ КРУЗОНА                             (черепно-лицевой дизостоз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33" name="Содержимое 5" descr="шичх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85840" y="241200"/>
            <a:ext cx="2357280" cy="641988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000240" y="1571760"/>
            <a:ext cx="5857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ндром Крузона – дефект гена каспазы, 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 Впервые описан в 191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ступающие глаза, гипертелоризм, косоглазие, экзофтальм, короткая верхняя губа, гипоплазия верхней челюсти, деформация черепа (раннее заращение швов черепа), иногда расщелина языка и неба, атрезия слухового прохода, глухота и умственная отсталос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неизвестна (по некоторым данным 1 : 35 000 - 50 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Box 6"/>
          <p:cNvSpPr/>
          <p:nvPr/>
        </p:nvSpPr>
        <p:spPr>
          <a:xfrm>
            <a:off x="2786040" y="628668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Синдром Крузона. Мать и сын.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Генетика человека ……………………………………………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Методы изучения генетики человека ……………………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Наследственные болезни человека ……………………..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Аутосомно-доминирующий тип наследования……11–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Аутосомно-рецессивный тип наследования ………29-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Хромосомные болезни…………………………………..40-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Прогерия…………………………………………………………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Словарь………………………………………………………58-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Литература……………………………………………………….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8459640" y="17002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0" name="AutoShape 5"/>
          <p:cNvSpPr/>
          <p:nvPr/>
        </p:nvSpPr>
        <p:spPr>
          <a:xfrm>
            <a:off x="8459640" y="2060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1" name="AutoShape 6"/>
          <p:cNvSpPr/>
          <p:nvPr/>
        </p:nvSpPr>
        <p:spPr>
          <a:xfrm>
            <a:off x="8459640" y="2421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2" name="AutoShape 7"/>
          <p:cNvSpPr/>
          <p:nvPr/>
        </p:nvSpPr>
        <p:spPr>
          <a:xfrm>
            <a:off x="845964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8459640" y="314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4" name="AutoShape 9"/>
          <p:cNvSpPr/>
          <p:nvPr/>
        </p:nvSpPr>
        <p:spPr>
          <a:xfrm>
            <a:off x="8459640" y="35002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5" name="AutoShape 10"/>
          <p:cNvSpPr/>
          <p:nvPr/>
        </p:nvSpPr>
        <p:spPr>
          <a:xfrm>
            <a:off x="8459640" y="3860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8459640" y="4221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7" name="AutoShape 12"/>
          <p:cNvSpPr/>
          <p:nvPr/>
        </p:nvSpPr>
        <p:spPr>
          <a:xfrm>
            <a:off x="8459640" y="45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ГИПЕРТРИХОЗ («ЛЮДИ – ВОЛКИ»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009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чрезмерный рост волос на всех частях тела, кроме ладоней и подошв. Со средних веков зарегистрировано только 50 случаев конгенитального гипертирхоза. Других отклонений в развиии нет. Локальный гипертрихоз может отмечаться при нарушении обмена веще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. 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8" name="Picture 7" descr="волк"/>
          <p:cNvPicPr/>
          <p:nvPr/>
        </p:nvPicPr>
        <p:blipFill>
          <a:blip r:embed="rId1"/>
          <a:stretch/>
        </p:blipFill>
        <p:spPr>
          <a:xfrm>
            <a:off x="3429000" y="3214800"/>
            <a:ext cx="2225520" cy="32144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гипертрихоз 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4200" y="3214800"/>
            <a:ext cx="3073680" cy="3214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1" descr="гипертрихоз"/>
          <p:cNvPicPr/>
          <p:nvPr/>
        </p:nvPicPr>
        <p:blipFill>
          <a:blip r:embed="rId3"/>
          <a:stretch/>
        </p:blipFill>
        <p:spPr>
          <a:xfrm>
            <a:off x="5857920" y="3214800"/>
            <a:ext cx="306540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рфирия, или вампир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"..Ученые выяснили, что вампиризм – это тяжелое, очень редкое заболевание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порфирия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торая и нагоняла суеверный страх на добропорядочных граждан средневековой Европ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первые об этой болезни заявил доктор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Ли Иллис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196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 научной точки зрения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: порфир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является наследственным заболеванием, возникающим часто в случае инцеста (кровосмешения между близкими родственниками, а в Восточной Европе такое весьма часто практикуетс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обще-то, случаев порфирии известно немного. В наши дни таких больных всего около 70 человек во всем мире. Их организмы не в состоянии самостоятельно вырабатывать красные тельца кров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юди, страдающие порфирией не выносят дневного света, т.к. в тканях их организмов нарушен пигментный обмен, и под воздействием солнца происходит распад гемоглобина, который превращается чуть ли не в кислоту и разъедает кожу (кожа больного сильно темнеет и в конечном итоге гниёт и лопается). Превратить "вампира" в нормального человека можно с помощью химиотерапии и частых переливаний кров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АД.  Популяционная частот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звестна (по некоторым данным 1 : 200 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00c6"/>
                </a:solidFill>
                <a:latin typeface="Arial"/>
              </a:rPr>
              <a:t>Аутосомно-рецессивный тип наследов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Больной ребенок рождается у клинически здоровых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Болеют сибсы, т.е. братья и сес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Оба пола поражаются одинако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аще встречается при кровно-родственных бра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Если больны оба супруга, то все дети  будут бо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7" descr="рецесс"/>
          <p:cNvPicPr/>
          <p:nvPr/>
        </p:nvPicPr>
        <p:blipFill>
          <a:blip r:embed="rId1"/>
          <a:stretch/>
        </p:blipFill>
        <p:spPr>
          <a:xfrm>
            <a:off x="1763640" y="3789360"/>
            <a:ext cx="504036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ХОНДРОГЕНЕ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янка плода, резкое укорочение конечностей, шеи и туловища, большие размеры черепа. Рентгенологически выявляется укорочение ребер и отсутствие кальцификации тазовых костей и поясничных позво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ип наследования: 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пуляционная частот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ахондроген 001"/>
          <p:cNvPicPr/>
          <p:nvPr/>
        </p:nvPicPr>
        <p:blipFill>
          <a:blip r:embed="rId1"/>
          <a:stretch/>
        </p:blipFill>
        <p:spPr>
          <a:xfrm>
            <a:off x="468360" y="1617840"/>
            <a:ext cx="4103640" cy="4187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ЩЕЛИНА  ГУБ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38577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щелина губы/неба, микроцефалия, широкая переносица, часто эпикант и телоризм, деформации первых пальцев кистей, искривление носовой перегородки и аномалии зуб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Тип наследования: 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пуляционная частот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1 : 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7" descr="рас"/>
          <p:cNvPicPr/>
          <p:nvPr/>
        </p:nvPicPr>
        <p:blipFill>
          <a:blip r:embed="rId1"/>
          <a:stretch/>
        </p:blipFill>
        <p:spPr>
          <a:xfrm>
            <a:off x="4572000" y="928800"/>
            <a:ext cx="4140360" cy="584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ЕРЕП В ФОРМЕ ТРИЛИСТНИ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линические призна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ная форма черепа (возникает вследствие внутриутробного зарастания швов) и лица, высокий лоб, птоз, клювовидный нос, антимонголоидный разрез глаз. Часто встречается в сочетании с другими аномал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Тип наследования: 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4" name="Picture 7" descr="трилист"/>
          <p:cNvPicPr/>
          <p:nvPr/>
        </p:nvPicPr>
        <p:blipFill>
          <a:blip r:embed="rId1"/>
          <a:stretch/>
        </p:blipFill>
        <p:spPr>
          <a:xfrm>
            <a:off x="428760" y="928800"/>
            <a:ext cx="4071960" cy="560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УНАН СИНДР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вые описан в 1928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телоризм, эпикант, низко посаженные уши, нарушение прикуса, антимонголоидный разрез глаз, крипторхизм, аномалии грудной клетки, низкий рост, пороки  сердца, умственная отстал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Тип наследования: АР ; Популяционная частот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вест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7" descr="ненан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71760" y="3071880"/>
            <a:ext cx="6172200" cy="35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СЕРОДЕРМА ПИГМЕНТНАЯ         (дерматоз Капоши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59" name="Содержимое 4" descr="file_6179-.jpg"/>
          <p:cNvPicPr/>
          <p:nvPr/>
        </p:nvPicPr>
        <p:blipFill>
          <a:blip r:embed="rId1"/>
          <a:stretch/>
        </p:blipFill>
        <p:spPr>
          <a:xfrm>
            <a:off x="285840" y="1357200"/>
            <a:ext cx="3227400" cy="4572000"/>
          </a:xfrm>
          <a:prstGeom prst="rect">
            <a:avLst/>
          </a:prstGeom>
          <a:ln w="0">
            <a:noFill/>
          </a:ln>
        </p:spPr>
      </p:pic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43200" y="1285560"/>
            <a:ext cx="5214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гментная ксеродерма – заболевание, протекающее с поражением кожи, фоточувствительностью, злокачественными новообразова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нические признаки: фотофобия, повышенная чувствительность к УФЛ, развитие рака  и атрофии кожи, гиперпигментация типа веснушек, кератоз, ангиомы, рубцы роговицы и опухоли конъюнктивы и век, дефекты зубов. У новорожденных только фотофобия. Кожные изменения появляются к 3-4 годам. Продолжительность жизни – 2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ип наследования: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неизвест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Box 5"/>
          <p:cNvSpPr/>
          <p:nvPr/>
        </p:nvSpPr>
        <p:spPr>
          <a:xfrm>
            <a:off x="285840" y="6000840"/>
            <a:ext cx="335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Лицо больного с пигментной ксеродермой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ЕНИЛКЕТОНУР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42560" y="1000080"/>
            <a:ext cx="500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илкетонурия – болезнь аминокислотного обмена. Описана  в 1934 г. А. Фелингом. Патология связана с недостаточностью печеночного фермент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енилаланингидроксилазы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нарушает превращение фенилаланина в тирозин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ается формирование миелиновых оболочек вокруг аксонов ЦН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линические признаки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ная возбудимость и тонус мышц, тремор, эпилептиформные припадки, «мышиный» запах, умственная отсталость, снижение образования меланина. </a:t>
            </a:r>
            <a:r>
              <a:rPr b="1" lang="ru-RU" sz="1800" spc="-1" strike="noStrike">
                <a:solidFill>
                  <a:srgbClr val="f27402"/>
                </a:solidFill>
                <a:latin typeface="Arial"/>
              </a:rPr>
              <a:t>Ранняя профилактика и леченние –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скусственная ди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ип наследования: АР                    Популяционная часто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 1 : 1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4" name="Picture 2" descr="C:\Documents and Settings\дима\Мои документы\Мои рисунки\ген и белок\фенилкет.jpg"/>
          <p:cNvPicPr/>
          <p:nvPr/>
        </p:nvPicPr>
        <p:blipFill>
          <a:blip r:embed="rId1"/>
          <a:stretch/>
        </p:blipFill>
        <p:spPr>
          <a:xfrm>
            <a:off x="5423040" y="1071720"/>
            <a:ext cx="3441600" cy="4786200"/>
          </a:xfrm>
          <a:prstGeom prst="rect">
            <a:avLst/>
          </a:prstGeom>
          <a:ln w="0">
            <a:noFill/>
          </a:ln>
        </p:spPr>
      </p:pic>
      <p:sp>
        <p:nvSpPr>
          <p:cNvPr id="965" name="TextBox 4"/>
          <p:cNvSpPr/>
          <p:nvPr/>
        </p:nvSpPr>
        <p:spPr>
          <a:xfrm>
            <a:off x="5643720" y="585792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Слабая пигментация кожи и радужки глаза, умеренная степень  олигофрении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402"/>
                </a:solidFill>
                <a:latin typeface="Arial"/>
              </a:rPr>
              <a:t>ХРОМОСОМНЫЕ БОЛЕЗ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284720" y="1773000"/>
            <a:ext cx="42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ромосомные заболевания связаны с аномалиями числа или структуры хромос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них характерно: малый рост и вес при рождении; черепно-лицевые дисморфии; умственная отсталость; многосистемные пораже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3-5% наследуют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68" name="Picture 4" descr="кариотип"/>
          <p:cNvPicPr/>
          <p:nvPr/>
        </p:nvPicPr>
        <p:blipFill>
          <a:blip r:embed="rId1"/>
          <a:stretch/>
        </p:blipFill>
        <p:spPr>
          <a:xfrm>
            <a:off x="428760" y="1143000"/>
            <a:ext cx="368928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00c6"/>
                </a:solidFill>
                <a:latin typeface="Arial"/>
              </a:rPr>
              <a:t>Генетика  человека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29 г. советский генетик, невропатолог С.Н.Давиденко организовал первую в мире медико-генетическую консультацию. Он первым в мире поставил вопрос о необходимости составления каталога генов человека, сформулировал понятие о генетической гетерогенности наследственных болезней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 4" descr="давид"/>
          <p:cNvPicPr/>
          <p:nvPr/>
        </p:nvPicPr>
        <p:blipFill>
          <a:blip r:embed="rId1"/>
          <a:stretch/>
        </p:blipFill>
        <p:spPr>
          <a:xfrm>
            <a:off x="733320" y="1557360"/>
            <a:ext cx="349092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7402"/>
                </a:solidFill>
                <a:latin typeface="Arial"/>
              </a:rPr>
              <a:t>РОДОСЛОВНАЯ С Х-СЦЕПЛЕННЫМ  </a:t>
            </a:r>
            <a:br>
              <a:rPr sz="3200"/>
            </a:br>
            <a:r>
              <a:rPr b="1" lang="ru-RU" sz="3200" spc="-1" strike="noStrike">
                <a:solidFill>
                  <a:srgbClr val="f27402"/>
                </a:solidFill>
                <a:latin typeface="Arial"/>
              </a:rPr>
              <a:t>            ТИПОМ НАСЛЕДОВАНИЯ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. Болеют только мальчики по линии матер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. Родители пробанда здоров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. Больной мужчина не передает заболевание, но все его дочери являются носительниц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браке женщины-носительницы с больным мужчиной 50% дочерей и 50% сыновей боль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71" name="Picture 10" descr="х -хром"/>
          <p:cNvPicPr/>
          <p:nvPr/>
        </p:nvPicPr>
        <p:blipFill>
          <a:blip r:embed="rId1"/>
          <a:stretch/>
        </p:blipFill>
        <p:spPr>
          <a:xfrm>
            <a:off x="2556000" y="1484280"/>
            <a:ext cx="475128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928960" y="-360"/>
            <a:ext cx="575784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ГИДРОЦЕФАЛ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285720" y="1357200"/>
            <a:ext cx="542916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величение объема головы, расширение желудочков мозга; истончение и расхождение костей черепа, диспропорция мозговой и лицевой частей черепа, косоглазие, умственная отсталость и задержка развития, расстройства движений и координации, нистагм, атрофия белого вещества мозг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Х-рецесси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           1 : 2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74" name="Picture 7" descr="гидроцеф"/>
          <p:cNvPicPr/>
          <p:nvPr/>
        </p:nvPicPr>
        <p:blipFill>
          <a:blip r:embed="rId1"/>
          <a:stretch/>
        </p:blipFill>
        <p:spPr>
          <a:xfrm>
            <a:off x="428760" y="130320"/>
            <a:ext cx="2500200" cy="65134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ГЕМОФИЛИЯ 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13840" y="1142640"/>
            <a:ext cx="410364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- и внутри кожные кровотечения, кровоизлияния в крупные суставы, подкожные и межмышечные гематомы, гематурия, сильное кровотечение при травмах. Причина: дефи- цит антигемофильного глобули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Х- рецессивны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1 : 2500 (мальчиков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77" name="Picture 7" descr="гемоф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286160" y="1628640"/>
            <a:ext cx="4602240" cy="32943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7402"/>
                </a:solidFill>
                <a:latin typeface="Arial"/>
              </a:rPr>
              <a:t>СИНДРОМ  ДАУНА (ТРИСОМИЯ 21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788000" y="1071360"/>
            <a:ext cx="4356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исан  в 1866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мственная отсталость, плоское лицо, монголоид -ный разрез глаз, открытый рот, брахицефалия, корот- кие конечности, попереч -ная ладонная складка, пороки сердца и катаракта. Частота рождения таких детей зависит от возраста матер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трисомия 2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1 : 500 - 1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80" name="Picture 8" descr="даун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4200" y="1000080"/>
            <a:ext cx="4570560" cy="2357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1" descr="даун 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4200" y="3500280"/>
            <a:ext cx="45608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НДРОМ МАРТИНА-БЕЛЛ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3" name="Содержимое 5" descr="мартин белл.jpg"/>
          <p:cNvPicPr/>
          <p:nvPr/>
        </p:nvPicPr>
        <p:blipFill>
          <a:blip r:embed="rId1"/>
          <a:stretch/>
        </p:blipFill>
        <p:spPr>
          <a:xfrm>
            <a:off x="214200" y="928800"/>
            <a:ext cx="3071880" cy="3062160"/>
          </a:xfrm>
          <a:prstGeom prst="rect">
            <a:avLst/>
          </a:prstGeom>
          <a:ln w="0">
            <a:noFill/>
          </a:ln>
        </p:spPr>
      </p:pic>
      <p:pic>
        <p:nvPicPr>
          <p:cNvPr id="984" name="Содержимое 6" descr="хр мартин белл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14200" y="4572000"/>
            <a:ext cx="3000600" cy="205092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429000" y="856800"/>
            <a:ext cx="55008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Синдром Мартина-Белла – самая распространенная (после болезни Дауна) форма умственной отсталости. Мальчики болеют в 2-3 раза чаще девоче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удлиненное лицо, высокий выступающий лоб, выступающий подбородок, оттопыренные крупные уши, крупные кисти и стопы,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акроорхидизм,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пролапс  митрального клапана, плоскостопие,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глубокая или умеренная  олигофрения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Цитогенетическая картина: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ломкость дистального конца длинного плечика Х-хромосомы (Х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q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 – напоминает спутник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: Х-сцепленны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– 1 : 1250 (мальчики);  1 : 2500-3000 (девочки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6" name="TextBox 7"/>
          <p:cNvSpPr/>
          <p:nvPr/>
        </p:nvSpPr>
        <p:spPr>
          <a:xfrm>
            <a:off x="214200" y="4000680"/>
            <a:ext cx="31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Лицо больного с синдромом Мартина-Белл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87" name="TextBox 8"/>
          <p:cNvSpPr/>
          <p:nvPr/>
        </p:nvSpPr>
        <p:spPr>
          <a:xfrm>
            <a:off x="3286080" y="6143760"/>
            <a:ext cx="557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Ломкая Х-хромосома (слева – женская, справа – мужская) при синдроме Мартина-Белл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индром трисомии 9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9" name="Содержимое 5" descr="file_6181-.jpg"/>
          <p:cNvPicPr/>
          <p:nvPr/>
        </p:nvPicPr>
        <p:blipFill>
          <a:blip r:embed="rId1"/>
          <a:stretch/>
        </p:blipFill>
        <p:spPr>
          <a:xfrm>
            <a:off x="357120" y="1214280"/>
            <a:ext cx="3930840" cy="5000760"/>
          </a:xfrm>
          <a:prstGeom prst="rect">
            <a:avLst/>
          </a:prstGeom>
          <a:ln w="0">
            <a:noFill/>
          </a:ln>
        </p:spPr>
      </p:pic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357440" y="1285560"/>
            <a:ext cx="4429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умственная отсталость, задержка роста, микробрахице-фалия, антимонголоидный разрез глаз, глубоко посаженные глаза (энофтальм), гипертелоризм, косоглазие, гипоплазия ногтей, синдактилия, врожденные пороки внутренних орган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ип наследования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– частичная трисомия 9 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пуляционная частота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– неизвест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1" name="TextBox 6"/>
          <p:cNvSpPr/>
          <p:nvPr/>
        </p:nvSpPr>
        <p:spPr>
          <a:xfrm>
            <a:off x="1143000" y="628668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Женщина 21 год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7402"/>
                </a:solidFill>
                <a:latin typeface="Arial"/>
              </a:rPr>
              <a:t>СИНДРОМ ШЕРЕШЕВСКОГО-ТЕРНЕРА (ХО –СИНДРОМ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изкий рост, первичная аменорея, бесплодие, стертые вторичные половые признаки, крыловидные кожные складки на шее, врожденные пороки сердца, гипоплазия ногтей, снижение остроты зрения и слуха, поперечная ладонная склад -ка, незначительное снижение умственного развит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оносомия Х-хромосом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2 : 10 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94" name="Picture 7" descr="тернер"/>
          <p:cNvPicPr/>
          <p:nvPr/>
        </p:nvPicPr>
        <p:blipFill>
          <a:blip r:embed="rId1"/>
          <a:stretch/>
        </p:blipFill>
        <p:spPr>
          <a:xfrm>
            <a:off x="428760" y="1428840"/>
            <a:ext cx="346860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ИНДРОМ  ПАТАУ (ТРИСОМИЯ 13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2560" y="1285560"/>
            <a:ext cx="4143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исан в 1961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кроцефалия, расщепле- ние губы и неба, полидактилия, узкая глазная щель, эпикант, пороки внутренних органов, гипоплазия наружных половых органов; 95% умирают до 1 го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тирисомия 1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 : 75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97" name="Picture 7" descr="патау"/>
          <p:cNvPicPr/>
          <p:nvPr/>
        </p:nvPicPr>
        <p:blipFill>
          <a:blip r:embed="rId1"/>
          <a:stretch/>
        </p:blipFill>
        <p:spPr>
          <a:xfrm>
            <a:off x="4286160" y="1571760"/>
            <a:ext cx="467856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НДРОМ КОШАЧЬЕГО КРИКА (МОНОСОМИЯ 5р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428720" y="1557000"/>
            <a:ext cx="4110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исан в 1963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обычный плач, напоминающий кошачье мяуканье, микроцефалия, антимонголоидный разрез глаз, умственная отсталость, лунопообразное лицо, эпикант, гипертелоризм, аномалии внутренних органов. Умирают чаще до 10 летнего возраст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моносомия 5 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: 45 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00" name="Picture 7" descr="кош"/>
          <p:cNvPicPr/>
          <p:nvPr/>
        </p:nvPicPr>
        <p:blipFill>
          <a:blip r:embed="rId1"/>
          <a:stretch/>
        </p:blipFill>
        <p:spPr>
          <a:xfrm>
            <a:off x="285840" y="1428840"/>
            <a:ext cx="392724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ИНДРОМ ЭЛЕРСА-ДАНЛ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214200" y="1142640"/>
            <a:ext cx="392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исан в 1657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линические признаки: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перрастяжимость соединительной ткани (нарушение синтеза коллагена); кожа тонкая как бумага; перегибание пальцевых суставов на 90, а локтевого и коленного суставов на 10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; пороки внутренних органов. Существует 8 тип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ип наследования: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Х-рецессив., АД, А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– 1 : 100 0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03" name="Picture 7" descr="элерса-д"/>
          <p:cNvPicPr/>
          <p:nvPr/>
        </p:nvPicPr>
        <p:blipFill>
          <a:blip r:embed="rId1"/>
          <a:stretch/>
        </p:blipFill>
        <p:spPr>
          <a:xfrm>
            <a:off x="6572160" y="1071720"/>
            <a:ext cx="2427480" cy="36432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8" descr="элерса 2"/>
          <p:cNvPicPr/>
          <p:nvPr/>
        </p:nvPicPr>
        <p:blipFill>
          <a:blip r:embed="rId2"/>
          <a:stretch/>
        </p:blipFill>
        <p:spPr>
          <a:xfrm>
            <a:off x="4214880" y="1071720"/>
            <a:ext cx="229716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ЕТОДЫ ИЗУЧЕНИЯ ГЕНЕТИКИ ЧЕЛОВЕКА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059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линико-генеалогический мет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оставление родословных, предложил в1865 г. Ф.Гальт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Близнецовый мет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предложил в 1875 г. Ф.Гальт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ерматоглифический мет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предложил в 1892 г. Ф.Гальт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Популяционно статистический мет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едложили в 1908 г. Г.Харди и В.Вайнбер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Цитогенетический мет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едложили в 1956 г. Д.Тийо и А.Леви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Биохимический мет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400c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Молекулярно-генетический мет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3" name="Picture 4" descr="гальтон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5280" y="1628640"/>
            <a:ext cx="211284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ГЕРИЯ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006" name="Picture 8" descr="прогерия"/>
          <p:cNvPicPr/>
          <p:nvPr/>
        </p:nvPicPr>
        <p:blipFill>
          <a:blip r:embed="rId1"/>
          <a:stretch/>
        </p:blipFill>
        <p:spPr>
          <a:xfrm>
            <a:off x="285840" y="428760"/>
            <a:ext cx="2557440" cy="30002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9" descr="прогерия 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500280" y="928800"/>
            <a:ext cx="2071800" cy="330984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680" y="4076640"/>
            <a:ext cx="85406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исана в 1886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линические признаки: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дкое генетическое заболевание, уско-ряющее процесс старения в 8-10 раз. Дети умирают в 13-15 лет после нескольких инфарктов и инсультов дряхлыми стариками. Болезнь вызывает мутантный ге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MN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вечающий за синтез белк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min A,B,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еобходимых для соединительной ткани. Наступает тотальная алопеция, на коже черепа выражена венозная сеть.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ип наследования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пуляционная частота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вест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9" name="Picture 10" descr="прог 3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656400" y="500040"/>
            <a:ext cx="2487600" cy="3290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 rot="1711800">
            <a:off x="1618920" y="14126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Подготовил ученик 9</a:t>
            </a:r>
            <a:r>
              <a:rPr b="1" i="1" lang="ru-RU" sz="2800" spc="-1" strike="noStrike">
                <a:solidFill>
                  <a:srgbClr val="e5e5ff"/>
                </a:solidFill>
                <a:latin typeface="Arial"/>
              </a:rPr>
              <a:t> класса 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 rot="20683200">
            <a:off x="1692360" y="364464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мин  Серг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инико-генеалогический метод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14200" y="1214280"/>
            <a:ext cx="4500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доровый мужчина (больной -      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доровая женщина (больная -      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0" y="1285920"/>
            <a:ext cx="4286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Метод состоит из 3-х этап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Сбор сведений о сем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Составление родослов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Генеалогический и генетический анали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бор данных начинается с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банд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человека, родословную которого нужно составить. Братья и сестра его называютс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б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оставления родословной применяют условные обозначения и делают графические изобр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Прямоугольник 5"/>
          <p:cNvSpPr/>
          <p:nvPr/>
        </p:nvSpPr>
        <p:spPr>
          <a:xfrm>
            <a:off x="285840" y="1285920"/>
            <a:ext cx="2858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8" name="Прямоугольник 6"/>
          <p:cNvSpPr/>
          <p:nvPr/>
        </p:nvSpPr>
        <p:spPr>
          <a:xfrm>
            <a:off x="4071960" y="1285920"/>
            <a:ext cx="285840" cy="28584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9" name="Овал 7"/>
          <p:cNvSpPr/>
          <p:nvPr/>
        </p:nvSpPr>
        <p:spPr>
          <a:xfrm>
            <a:off x="214200" y="1643040"/>
            <a:ext cx="3574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0" name="Овал 8"/>
          <p:cNvSpPr/>
          <p:nvPr/>
        </p:nvSpPr>
        <p:spPr>
          <a:xfrm>
            <a:off x="4143240" y="1643040"/>
            <a:ext cx="357480" cy="3571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1" name="Овал 9"/>
          <p:cNvSpPr/>
          <p:nvPr/>
        </p:nvSpPr>
        <p:spPr>
          <a:xfrm>
            <a:off x="714240" y="2071800"/>
            <a:ext cx="3574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2" name="Прямая соединительная линия 11"/>
          <p:cNvSpPr/>
          <p:nvPr/>
        </p:nvSpPr>
        <p:spPr>
          <a:xfrm>
            <a:off x="1071720" y="224964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3" name="Прямая соединительная линия 15"/>
          <p:cNvSpPr/>
          <p:nvPr/>
        </p:nvSpPr>
        <p:spPr>
          <a:xfrm>
            <a:off x="1071720" y="2286000"/>
            <a:ext cx="428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4" name="Прямая соединительная линия 17"/>
          <p:cNvSpPr/>
          <p:nvPr/>
        </p:nvSpPr>
        <p:spPr>
          <a:xfrm flipH="1">
            <a:off x="1283760" y="2286000"/>
            <a:ext cx="180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5" name="Прямоугольник 19"/>
          <p:cNvSpPr/>
          <p:nvPr/>
        </p:nvSpPr>
        <p:spPr>
          <a:xfrm>
            <a:off x="1500120" y="2143080"/>
            <a:ext cx="285840" cy="28584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6" name="TextBox 21"/>
          <p:cNvSpPr/>
          <p:nvPr/>
        </p:nvSpPr>
        <p:spPr>
          <a:xfrm>
            <a:off x="1928880" y="2143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- брак;   пробанд -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7" name="Прямоугольник 22"/>
          <p:cNvSpPr/>
          <p:nvPr/>
        </p:nvSpPr>
        <p:spPr>
          <a:xfrm>
            <a:off x="4000680" y="2143080"/>
            <a:ext cx="2854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cxnSp>
        <p:nvCxnSpPr>
          <p:cNvPr id="798" name="Прямая со стрелкой 24"/>
          <p:cNvCxnSpPr/>
          <p:nvPr/>
        </p:nvCxnSpPr>
        <p:spPr>
          <a:xfrm flipH="1" flipV="1">
            <a:off x="4214160" y="2499480"/>
            <a:ext cx="214920" cy="14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9" name="Прямая соединительная линия 27"/>
          <p:cNvSpPr/>
          <p:nvPr/>
        </p:nvSpPr>
        <p:spPr>
          <a:xfrm>
            <a:off x="285840" y="278604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0" name="Прямая соединительная линия 29"/>
          <p:cNvSpPr/>
          <p:nvPr/>
        </p:nvSpPr>
        <p:spPr>
          <a:xfrm flipH="1">
            <a:off x="283680" y="2786040"/>
            <a:ext cx="18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1" name="Прямая соединительная линия 31"/>
          <p:cNvSpPr/>
          <p:nvPr/>
        </p:nvSpPr>
        <p:spPr>
          <a:xfrm flipH="1">
            <a:off x="712800" y="278604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2" name="Прямая соединительная линия 33"/>
          <p:cNvSpPr/>
          <p:nvPr/>
        </p:nvSpPr>
        <p:spPr>
          <a:xfrm flipH="1">
            <a:off x="1283760" y="2786040"/>
            <a:ext cx="18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3" name="Прямая соединительная линия 35"/>
          <p:cNvSpPr/>
          <p:nvPr/>
        </p:nvSpPr>
        <p:spPr>
          <a:xfrm flipH="1">
            <a:off x="1998720" y="278604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4" name="Прямоугольник 36"/>
          <p:cNvSpPr/>
          <p:nvPr/>
        </p:nvSpPr>
        <p:spPr>
          <a:xfrm>
            <a:off x="214200" y="3000240"/>
            <a:ext cx="21456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5" name="Прямоугольник 37"/>
          <p:cNvSpPr/>
          <p:nvPr/>
        </p:nvSpPr>
        <p:spPr>
          <a:xfrm>
            <a:off x="1143000" y="3000240"/>
            <a:ext cx="21420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6" name="Овал 38"/>
          <p:cNvSpPr/>
          <p:nvPr/>
        </p:nvSpPr>
        <p:spPr>
          <a:xfrm>
            <a:off x="642960" y="3000240"/>
            <a:ext cx="285840" cy="28584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7" name="Овал 39"/>
          <p:cNvSpPr/>
          <p:nvPr/>
        </p:nvSpPr>
        <p:spPr>
          <a:xfrm>
            <a:off x="1857240" y="3000240"/>
            <a:ext cx="28584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8" name="TextBox 40"/>
          <p:cNvSpPr/>
          <p:nvPr/>
        </p:nvSpPr>
        <p:spPr>
          <a:xfrm>
            <a:off x="2286000" y="2857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- дети (сибсы)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09" name="Прямоугольник 41"/>
          <p:cNvSpPr/>
          <p:nvPr/>
        </p:nvSpPr>
        <p:spPr>
          <a:xfrm>
            <a:off x="142920" y="3643200"/>
            <a:ext cx="4357800" cy="29289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0" name="Овал 42"/>
          <p:cNvSpPr/>
          <p:nvPr/>
        </p:nvSpPr>
        <p:spPr>
          <a:xfrm>
            <a:off x="1428840" y="3786120"/>
            <a:ext cx="35712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1" name="Прямоугольник 43"/>
          <p:cNvSpPr/>
          <p:nvPr/>
        </p:nvSpPr>
        <p:spPr>
          <a:xfrm>
            <a:off x="2286000" y="3786120"/>
            <a:ext cx="357120" cy="35712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2" name="Прямая соединительная линия 45"/>
          <p:cNvSpPr/>
          <p:nvPr/>
        </p:nvSpPr>
        <p:spPr>
          <a:xfrm>
            <a:off x="1857240" y="4000680"/>
            <a:ext cx="3574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3" name="Прямая соединительная линия 47"/>
          <p:cNvSpPr/>
          <p:nvPr/>
        </p:nvSpPr>
        <p:spPr>
          <a:xfrm flipH="1">
            <a:off x="1998720" y="4002120"/>
            <a:ext cx="14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4" name="Прямая соединительная линия 49"/>
          <p:cNvSpPr/>
          <p:nvPr/>
        </p:nvSpPr>
        <p:spPr>
          <a:xfrm>
            <a:off x="1143000" y="4286160"/>
            <a:ext cx="1571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5" name="Прямая соединительная линия 51"/>
          <p:cNvSpPr/>
          <p:nvPr/>
        </p:nvSpPr>
        <p:spPr>
          <a:xfrm flipH="1">
            <a:off x="1141560" y="428796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6" name="Прямая соединительная линия 53"/>
          <p:cNvSpPr/>
          <p:nvPr/>
        </p:nvSpPr>
        <p:spPr>
          <a:xfrm flipH="1">
            <a:off x="1998720" y="428796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7" name="Прямая соединительная линия 55"/>
          <p:cNvSpPr/>
          <p:nvPr/>
        </p:nvSpPr>
        <p:spPr>
          <a:xfrm flipH="1">
            <a:off x="2712600" y="4287960"/>
            <a:ext cx="18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8" name="Прямоугольник 56"/>
          <p:cNvSpPr/>
          <p:nvPr/>
        </p:nvSpPr>
        <p:spPr>
          <a:xfrm>
            <a:off x="1000080" y="4500720"/>
            <a:ext cx="28584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9" name="Овал 57"/>
          <p:cNvSpPr/>
          <p:nvPr/>
        </p:nvSpPr>
        <p:spPr>
          <a:xfrm>
            <a:off x="1857240" y="4500720"/>
            <a:ext cx="3574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0" name="Овал 58"/>
          <p:cNvSpPr/>
          <p:nvPr/>
        </p:nvSpPr>
        <p:spPr>
          <a:xfrm>
            <a:off x="2571840" y="4500720"/>
            <a:ext cx="357120" cy="3571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1" name="Прямоугольник 59"/>
          <p:cNvSpPr/>
          <p:nvPr/>
        </p:nvSpPr>
        <p:spPr>
          <a:xfrm>
            <a:off x="3214800" y="4500720"/>
            <a:ext cx="28548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2" name="Овал 60"/>
          <p:cNvSpPr/>
          <p:nvPr/>
        </p:nvSpPr>
        <p:spPr>
          <a:xfrm>
            <a:off x="357120" y="4429080"/>
            <a:ext cx="35712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3" name="Прямая соединительная линия 62"/>
          <p:cNvSpPr/>
          <p:nvPr/>
        </p:nvSpPr>
        <p:spPr>
          <a:xfrm>
            <a:off x="3000240" y="4714920"/>
            <a:ext cx="14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4" name="Прямая соединительная линия 64"/>
          <p:cNvSpPr/>
          <p:nvPr/>
        </p:nvSpPr>
        <p:spPr>
          <a:xfrm flipH="1">
            <a:off x="3069720" y="4716360"/>
            <a:ext cx="180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5" name="Прямая соединительная линия 66"/>
          <p:cNvSpPr/>
          <p:nvPr/>
        </p:nvSpPr>
        <p:spPr>
          <a:xfrm>
            <a:off x="2928960" y="4572000"/>
            <a:ext cx="214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6" name="Прямая соединительная линия 68"/>
          <p:cNvSpPr/>
          <p:nvPr/>
        </p:nvSpPr>
        <p:spPr>
          <a:xfrm>
            <a:off x="714240" y="4643280"/>
            <a:ext cx="285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7" name="Прямая соединительная линия 70"/>
          <p:cNvSpPr/>
          <p:nvPr/>
        </p:nvSpPr>
        <p:spPr>
          <a:xfrm flipH="1">
            <a:off x="855720" y="4645080"/>
            <a:ext cx="144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8" name="Прямая соединительная линия 72"/>
          <p:cNvSpPr/>
          <p:nvPr/>
        </p:nvSpPr>
        <p:spPr>
          <a:xfrm>
            <a:off x="571680" y="5143680"/>
            <a:ext cx="642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9" name="Прямоугольник 73"/>
          <p:cNvSpPr/>
          <p:nvPr/>
        </p:nvSpPr>
        <p:spPr>
          <a:xfrm>
            <a:off x="428760" y="5357880"/>
            <a:ext cx="2854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0" name="Прямоугольник 74"/>
          <p:cNvSpPr/>
          <p:nvPr/>
        </p:nvSpPr>
        <p:spPr>
          <a:xfrm>
            <a:off x="1071720" y="5357880"/>
            <a:ext cx="2854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1" name="Овал 75"/>
          <p:cNvSpPr/>
          <p:nvPr/>
        </p:nvSpPr>
        <p:spPr>
          <a:xfrm>
            <a:off x="2428920" y="5429160"/>
            <a:ext cx="357120" cy="3571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2" name="Овал 76"/>
          <p:cNvSpPr/>
          <p:nvPr/>
        </p:nvSpPr>
        <p:spPr>
          <a:xfrm>
            <a:off x="4000680" y="5429160"/>
            <a:ext cx="35712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3" name="Прямоугольник 77"/>
          <p:cNvSpPr/>
          <p:nvPr/>
        </p:nvSpPr>
        <p:spPr>
          <a:xfrm>
            <a:off x="3000240" y="5500800"/>
            <a:ext cx="285840" cy="28548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4" name="Прямоугольник 78"/>
          <p:cNvSpPr/>
          <p:nvPr/>
        </p:nvSpPr>
        <p:spPr>
          <a:xfrm>
            <a:off x="3500280" y="5500800"/>
            <a:ext cx="28584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5" name="Прямая соединительная линия 80"/>
          <p:cNvSpPr/>
          <p:nvPr/>
        </p:nvSpPr>
        <p:spPr>
          <a:xfrm>
            <a:off x="2571840" y="5143680"/>
            <a:ext cx="1571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6" name="Прямая соединительная линия 82"/>
          <p:cNvSpPr/>
          <p:nvPr/>
        </p:nvSpPr>
        <p:spPr>
          <a:xfrm flipH="1">
            <a:off x="569520" y="5145120"/>
            <a:ext cx="18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7" name="Прямая соединительная линия 84"/>
          <p:cNvSpPr/>
          <p:nvPr/>
        </p:nvSpPr>
        <p:spPr>
          <a:xfrm flipH="1">
            <a:off x="1212840" y="514512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8" name="Прямая соединительная линия 86"/>
          <p:cNvSpPr/>
          <p:nvPr/>
        </p:nvSpPr>
        <p:spPr>
          <a:xfrm flipH="1">
            <a:off x="2569680" y="5145120"/>
            <a:ext cx="180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9" name="Прямая соединительная линия 88"/>
          <p:cNvSpPr/>
          <p:nvPr/>
        </p:nvSpPr>
        <p:spPr>
          <a:xfrm flipH="1">
            <a:off x="3141720" y="5145120"/>
            <a:ext cx="144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0" name="Прямая соединительная линия 90"/>
          <p:cNvSpPr/>
          <p:nvPr/>
        </p:nvSpPr>
        <p:spPr>
          <a:xfrm flipH="1">
            <a:off x="3641760" y="5145120"/>
            <a:ext cx="14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1" name="Прямая соединительная линия 92"/>
          <p:cNvSpPr/>
          <p:nvPr/>
        </p:nvSpPr>
        <p:spPr>
          <a:xfrm flipH="1">
            <a:off x="4141800" y="5145120"/>
            <a:ext cx="14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cxnSp>
        <p:nvCxnSpPr>
          <p:cNvPr id="842" name="Прямая со стрелкой 94"/>
          <p:cNvCxnSpPr/>
          <p:nvPr/>
        </p:nvCxnSpPr>
        <p:spPr>
          <a:xfrm flipV="1">
            <a:off x="3927960" y="5785920"/>
            <a:ext cx="143640" cy="21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43" name="TextBox 98"/>
          <p:cNvSpPr/>
          <p:nvPr/>
        </p:nvSpPr>
        <p:spPr>
          <a:xfrm>
            <a:off x="2643120" y="3786120"/>
            <a:ext cx="5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а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4" name="TextBox 99"/>
          <p:cNvSpPr/>
          <p:nvPr/>
        </p:nvSpPr>
        <p:spPr>
          <a:xfrm>
            <a:off x="928800" y="37861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А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5" name="TextBox 100"/>
          <p:cNvSpPr/>
          <p:nvPr/>
        </p:nvSpPr>
        <p:spPr>
          <a:xfrm>
            <a:off x="3643200" y="44290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А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6" name="TextBox 101"/>
          <p:cNvSpPr/>
          <p:nvPr/>
        </p:nvSpPr>
        <p:spPr>
          <a:xfrm>
            <a:off x="4000680" y="58579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а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лизнецовый метод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285800" y="857160"/>
            <a:ext cx="46436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йни встречаются 1/84 новорожденных, 1/3 из них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нозигот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днояйцовые – близнецы), остальные -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зиготны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двуяйцовые – двойняш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ходные признаки у близнецов называются –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конкордант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 используется для оценки степени влияния наследственности и среды на развитие признаков. Поскольку у монозиготных близнецов генотип одинаков, то различия появляются в результате влияния среды обитания (Н – менее 0,5). Этот метод позволил установить наследственно-предрасположенные болезни: туберкулез, шизофрению, умственную отсталость, сахарный диабет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Содержимое 7" descr="file_6190-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14200" y="4000680"/>
            <a:ext cx="3857760" cy="2222280"/>
          </a:xfrm>
          <a:prstGeom prst="rect">
            <a:avLst/>
          </a:prstGeom>
          <a:ln w="0">
            <a:noFill/>
          </a:ln>
        </p:spPr>
      </p:pic>
      <p:sp>
        <p:nvSpPr>
          <p:cNvPr id="850" name="TextBox 8"/>
          <p:cNvSpPr/>
          <p:nvPr/>
        </p:nvSpPr>
        <p:spPr>
          <a:xfrm>
            <a:off x="285840" y="12142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Коэффициент наследственности: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МБ  -  ДБ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1" name="Прямая соединительная линия 10"/>
          <p:cNvSpPr/>
          <p:nvPr/>
        </p:nvSpPr>
        <p:spPr>
          <a:xfrm>
            <a:off x="1071720" y="2143080"/>
            <a:ext cx="14284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2" name="TextBox 11"/>
          <p:cNvSpPr/>
          <p:nvPr/>
        </p:nvSpPr>
        <p:spPr>
          <a:xfrm>
            <a:off x="357120" y="1928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Н  =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3" name="TextBox 12"/>
          <p:cNvSpPr/>
          <p:nvPr/>
        </p:nvSpPr>
        <p:spPr>
          <a:xfrm>
            <a:off x="1071720" y="2214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100  -  ДБ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571840" y="2000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где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428760" y="2643120"/>
            <a:ext cx="38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МБ</a:t>
            </a:r>
            <a:r>
              <a:rPr b="1" lang="ru-RU" sz="1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– % сходства у монозиготных близнецов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Б</a:t>
            </a:r>
            <a:r>
              <a:rPr b="1" lang="ru-RU" sz="1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– % сходства у дизиготных близнецов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6" name="TextBox 15"/>
          <p:cNvSpPr/>
          <p:nvPr/>
        </p:nvSpPr>
        <p:spPr>
          <a:xfrm>
            <a:off x="214200" y="628668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лизнецы с глазо-кожным альбинизмом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Содержимое 5" descr="ум 2.jpg"/>
          <p:cNvPicPr/>
          <p:nvPr/>
        </p:nvPicPr>
        <p:blipFill>
          <a:blip r:embed="rId1"/>
          <a:stretch/>
        </p:blipFill>
        <p:spPr>
          <a:xfrm>
            <a:off x="285840" y="1143000"/>
            <a:ext cx="3000240" cy="2987640"/>
          </a:xfrm>
          <a:prstGeom prst="rect">
            <a:avLst/>
          </a:prstGeom>
          <a:ln w="0">
            <a:noFill/>
          </a:ln>
        </p:spPr>
      </p:pic>
      <p:pic>
        <p:nvPicPr>
          <p:cNvPr id="858" name="Содержимое 6" descr="ум.jpg"/>
          <p:cNvPicPr/>
          <p:nvPr/>
        </p:nvPicPr>
        <p:blipFill>
          <a:blip r:embed="rId2"/>
          <a:stretch/>
        </p:blipFill>
        <p:spPr>
          <a:xfrm>
            <a:off x="285840" y="4286160"/>
            <a:ext cx="2973240" cy="2286000"/>
          </a:xfrm>
          <a:prstGeom prst="rect">
            <a:avLst/>
          </a:prstGeom>
          <a:ln w="0">
            <a:noFill/>
          </a:ln>
        </p:spPr>
      </p:pic>
      <p:pic>
        <p:nvPicPr>
          <p:cNvPr id="859" name="Рисунок 7" descr="ум 3.jpg"/>
          <p:cNvPicPr/>
          <p:nvPr/>
        </p:nvPicPr>
        <p:blipFill>
          <a:blip r:embed="rId3"/>
          <a:stretch/>
        </p:blipFill>
        <p:spPr>
          <a:xfrm>
            <a:off x="4143240" y="1143000"/>
            <a:ext cx="4761000" cy="5362560"/>
          </a:xfrm>
          <a:prstGeom prst="rect">
            <a:avLst/>
          </a:prstGeom>
          <a:ln w="0">
            <a:noFill/>
          </a:ln>
        </p:spPr>
      </p:pic>
      <p:sp>
        <p:nvSpPr>
          <p:cNvPr id="860" name="TextBox 8"/>
          <p:cNvSpPr/>
          <p:nvPr/>
        </p:nvSpPr>
        <p:spPr>
          <a:xfrm>
            <a:off x="214200" y="14292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Коэффициент интеллекта, или</a:t>
            </a:r>
            <a:r>
              <a:rPr b="0" lang="en-US" sz="1800" spc="-1" strike="noStrike">
                <a:solidFill>
                  <a:srgbClr val="e5e5ff"/>
                </a:solidFill>
                <a:latin typeface="Arial"/>
              </a:rPr>
              <a:t> IQ</a:t>
            </a: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, позволяет количественно измерить генетически обусловленные  умственные способности людей ( у дизиготных близнецов  слабоумие : Н = 0,25, а у монозиготных – 0,95)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ерматоглифический метод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862" name="Содержимое 5" descr="дерма.jpg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214200" y="785880"/>
            <a:ext cx="4100760" cy="1500120"/>
          </a:xfrm>
          <a:prstGeom prst="rect">
            <a:avLst/>
          </a:prstGeom>
          <a:ln w="0">
            <a:noFill/>
          </a:ln>
        </p:spPr>
      </p:pic>
      <p:pic>
        <p:nvPicPr>
          <p:cNvPr id="863" name="Содержимое 6" descr="file_6194-.jpg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2214720" y="2857680"/>
            <a:ext cx="2274840" cy="25002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647960" y="785880"/>
            <a:ext cx="4281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енетике используются разделы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актилоскоп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рис. на подушечках пальцев),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альмоскоп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рис. на ладонях) и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лантоскоп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рис. на подошв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4 типа узоров:                  А – дуги (6%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етли (60%),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W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завитки (30%)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исунок  (4%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провести линии от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 образуется ладонный  угол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(трирадиус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торый в норме не должен превышать 5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                   У Даунов угол равен 8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 выше, а 2 ладонные поперечные линии сливаются в одн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По линиям рук можно установить более 100 наследственных болезней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Рисунок 7" descr="file_6195-.jpg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214200" y="2857680"/>
            <a:ext cx="1857600" cy="3614400"/>
          </a:xfrm>
          <a:prstGeom prst="rect">
            <a:avLst/>
          </a:prstGeom>
          <a:ln w="0">
            <a:noFill/>
          </a:ln>
        </p:spPr>
      </p:pic>
      <p:sp>
        <p:nvSpPr>
          <p:cNvPr id="866" name="TextBox 8"/>
          <p:cNvSpPr/>
          <p:nvPr/>
        </p:nvSpPr>
        <p:spPr>
          <a:xfrm>
            <a:off x="1857240" y="228600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e5e5ff"/>
                </a:solidFill>
                <a:latin typeface="Arial"/>
              </a:rPr>
              <a:t>W            L             A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7" name="TextBox 9"/>
          <p:cNvSpPr/>
          <p:nvPr/>
        </p:nvSpPr>
        <p:spPr>
          <a:xfrm>
            <a:off x="2071800" y="5929200"/>
            <a:ext cx="257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Arial"/>
              </a:rPr>
              <a:t>Болезнь Дауна: лицо больного и ладонь (б)</a:t>
            </a:r>
            <a:endParaRPr b="1" lang="en-US" sz="16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итогенетический метод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869" name="Содержимое 5" descr="кариотип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5840" y="785880"/>
            <a:ext cx="3155760" cy="4643280"/>
          </a:xfrm>
          <a:prstGeom prst="rect">
            <a:avLst/>
          </a:prstGeom>
          <a:ln w="0">
            <a:noFill/>
          </a:ln>
        </p:spPr>
      </p:pic>
      <p:pic>
        <p:nvPicPr>
          <p:cNvPr id="870" name="Содержимое 6" descr="хромосомы 2.jpg"/>
          <p:cNvPicPr/>
          <p:nvPr/>
        </p:nvPicPr>
        <p:blipFill>
          <a:blip r:embed="rId2"/>
          <a:stretch/>
        </p:blipFill>
        <p:spPr>
          <a:xfrm>
            <a:off x="6407280" y="4121280"/>
            <a:ext cx="2577960" cy="266364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500280" y="785880"/>
            <a:ext cx="5429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6 г. швед. ученые Д. Тийо и А Левин разработали метод культивирования человеческих лейкоцитов и останавливать их деление в стадии метафазы с помощью колхицина. Это позволило  точно изучить кариотип человека. У человека 23 пары хромосом и 24 группы сцепления (22 в аутосомах и две в половых – ХХ и ХУ).          Аутосомные хромосомы делятся на 7 групп (номера идут от крупных к мелким): А, В, С – крупные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 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редние 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, G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мелк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3643200" y="4000680"/>
            <a:ext cx="271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Arial"/>
              </a:rPr>
              <a:t>Половые хромосомы самые крупные. Многие гены в Х-хромосоме не имеют гомологичного участка в У-хромосоме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73" name="TextBox 9"/>
          <p:cNvSpPr/>
          <p:nvPr/>
        </p:nvSpPr>
        <p:spPr>
          <a:xfrm>
            <a:off x="214200" y="5786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Цитогенетический метод позволяет установить хромосомные болезни человека (моносомии, трисомии, 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елеции и др.)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02:48:54Z</dcterms:created>
  <dc:creator>Д.Л. Белоусов</dc:creator>
  <dc:description/>
  <dc:language>en-US</dc:language>
  <cp:lastModifiedBy>11</cp:lastModifiedBy>
  <dcterms:modified xsi:type="dcterms:W3CDTF">2013-02-11T18:33:54Z</dcterms:modified>
  <cp:revision>137</cp:revision>
  <dc:subject/>
  <dc:title>НАСЛЕДСТВЕННЫЕ БОЛЕЗНИ ЧЕЛОВЕКА</dc:title>
</cp:coreProperties>
</file>