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9.png" ContentType="image/png"/>
  <Override PartName="/ppt/media/image23.jpeg" ContentType="image/jpeg"/>
  <Override PartName="/ppt/media/image12.png" ContentType="image/png"/>
  <Override PartName="/ppt/media/image49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14.png" ContentType="image/png"/>
  <Override PartName="/ppt/media/image10.jpeg" ContentType="image/jpeg"/>
  <Override PartName="/ppt/media/image1.png" ContentType="image/png"/>
  <Override PartName="/ppt/media/image31.png" ContentType="image/png"/>
  <Override PartName="/ppt/media/image3.jpeg" ContentType="image/jpeg"/>
  <Override PartName="/ppt/media/image30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20.png" ContentType="image/png"/>
  <Override PartName="/ppt/media/image36.png" ContentType="image/png"/>
  <Override PartName="/ppt/media/image41.jpeg" ContentType="image/jpeg"/>
  <Override PartName="/ppt/media/image43.jpeg" ContentType="image/jpeg"/>
  <Override PartName="/ppt/media/image34.jpeg" ContentType="image/jpeg"/>
  <Override PartName="/ppt/media/image37.png" ContentType="image/png"/>
  <Override PartName="/ppt/media/image48.jpeg" ContentType="image/jpeg"/>
  <Override PartName="/ppt/media/image47.png" ContentType="image/png"/>
  <Override PartName="/ppt/media/image35.jpeg" ContentType="image/jpeg"/>
  <Override PartName="/ppt/media/image7.jpeg" ContentType="image/jpeg"/>
  <Override PartName="/ppt/media/image28.png" ContentType="image/png"/>
  <Override PartName="/ppt/media/image46.png" ContentType="image/png"/>
  <Override PartName="/ppt/media/image44.jpeg" ContentType="image/jpeg"/>
  <Override PartName="/ppt/media/image45.png" ContentType="image/png"/>
  <Override PartName="/ppt/media/image33.jpeg" ContentType="image/jpeg"/>
  <Override PartName="/ppt/media/image6.jpeg" ContentType="image/jpeg"/>
  <Override PartName="/ppt/media/image27.jpeg" ContentType="image/jpeg"/>
  <Override PartName="/ppt/media/image51.jpeg" ContentType="image/jpeg"/>
  <Override PartName="/ppt/media/image40.jpeg" ContentType="image/jpeg"/>
  <Override PartName="/ppt/media/image13.jpeg" ContentType="image/jpeg"/>
  <Override PartName="/ppt/media/image52.jpeg" ContentType="image/jpeg"/>
  <Override PartName="/ppt/media/image39.jpeg" ContentType="image/jpeg"/>
  <Override PartName="/ppt/media/image8.jpeg" ContentType="image/jpeg"/>
  <Override PartName="/ppt/media/image38.png" ContentType="image/png"/>
  <Override PartName="/ppt/media/image11.jpeg" ContentType="image/jpeg"/>
  <Override PartName="/ppt/media/image9.jpeg" ContentType="image/jpeg"/>
  <Override PartName="/ppt/media/image50.png" ContentType="image/png"/>
  <Override PartName="/ppt/media/image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7CF4F-6FA2-4EE2-A7A1-6BFC396AAE7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540E6-B119-48DB-87A5-BADF33FE46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29578-2F96-494C-8E04-D52E4B5C2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EEEB0-9F2E-4FCC-A42C-13D7C5858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ECA468-52A6-4AD9-9D09-8C63E0791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DA6B38-D48B-46CF-8248-BD0B5A70D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1FDA83-9532-4F86-9DE9-985C80AC4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C0D456-876B-4F41-9E9C-97F64D4D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1C0629-9699-43BD-B3DD-210C9882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7ABF04-A7D1-4A79-BF38-9E3E8108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55D491-25A4-4AB3-8750-8BA35B114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D7837F-874E-4053-B473-A234E2E33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CCC791-D837-4BCC-B7F4-52DAEB03E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3E8FE0-300D-49A1-96B5-261FC4290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9D4CA-C917-4067-B8DC-4820FFAD6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A0BC6F-EDB4-45A9-AFCB-E44B98056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7FB3E3-0C24-4274-B3DA-78E5DCFFE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C18DAD-8111-4CAC-8E69-3A16FEB3C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63B239-A7FA-4707-84FE-3F2B3E536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B0B7DC-84E3-43F7-8DC0-FD7A77428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6C6A01-0B26-44E3-A29E-0965647A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00B39B-7287-4CC4-A259-5980329F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E0EE05-3F08-412E-AF43-D3DA38A0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AE7BA4-95C2-434F-838E-9611431E4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1E1E60-3E11-49BB-8A8B-5BB937317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C3543-B776-41E2-8E3D-636FF704B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B4F95E-E3F4-4600-B18F-8CB0AC18A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35EA34-5188-4D35-81B9-9AEEC4E0B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0CA355-F566-4D29-AFC6-3FF4BAEED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BA3CCF-5C67-4C79-BF86-F87B45C27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A4E0D4-DF0F-490A-9034-BDFF227BE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0532DE-03A2-46F4-9A09-BFEA1DE15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28C7FD-9DD3-489A-9828-267D15768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9B0CE3-4FBF-474F-A1B5-DCD47726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C18BCD-2A2F-4533-9CF4-6E3F405B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38F0DF-DA22-4638-A7F3-F01FF34C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2F1F1-0C86-4005-8DEA-6972115E8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2BEDD9-BC10-4261-A6BA-5B0E976F5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0CAB02-51BF-46FB-AFFE-54E710A04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8E886B-8098-422F-89DD-32BBB569A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AF80A30-02C2-440B-92EB-DAF437E6F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626164A-E527-4B16-A9BB-72A49349F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3CFE8F1-F870-4812-BB28-6E0B01C37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9648161-7B8F-4A42-BE00-6685AD6D8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CC5B6B0-7B52-4CA5-9490-9DDC50E5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64BC9B3-2189-4DDF-BDF6-79107D6E9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564F924-520F-4FC1-971D-D9996623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835C1-5B78-4D6F-94EB-8DAE03132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9676E37-DD3D-4D2F-9B2F-6CFEC82D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D7D5DC0-FED8-44AD-A9DB-49646018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7A00AB0-DB72-4AB7-9576-0C6C9BC89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472E18E-7200-4F61-8D3C-221015138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6F07354-9476-407C-9C56-939164DAF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F4CA7-B3BF-4A62-9A52-AB79BFD06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96D3D-7239-431C-8886-EAC8492D7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45E77-103D-4FA8-ACC8-715EF0E86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2DA39-26DD-4E22-9156-DB3BE7BB1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79599-C81E-4101-9DF2-C0380285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28D3A-2863-4819-823D-B075DB829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DE0FD-0555-4A7F-A1F5-6C5909E9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C72A0-9EA3-4250-9AE8-10718752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50BBB-1AEA-4A51-9920-3C4B83687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BAE80-CB4D-480B-83F4-8327629DE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E2AF8-8824-46B4-A27F-FB9B05147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98C6B-AD07-4D92-98BD-5758EDFE3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22E8D-681D-46DC-A93A-0BAC0259A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FC012-FE7E-4E1A-9709-FF07C1FB6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BF301-6691-4CDB-9DEC-1050FFAA0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7CF58-88B3-4156-94DC-332AD1F87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EA3C2-E71E-4E78-8ACA-E86498C95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F6DE3-88CD-4061-B408-30CB704CF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FEEFC-8EFA-419F-BAB3-333B14E1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6BEF5-DB21-4E38-AD57-CD8247B8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F298C-D5F5-4357-9A17-055EA5AE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27B06-3F80-426D-835B-8C1679AD3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69430-3C39-436C-8C01-6379116A2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D1DD5-B141-44EA-856B-11D8A3DE7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99CE0-0B79-4F5F-B2BF-3C619AEA4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2396C-7ECA-4A75-A3A9-8CB032CC3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22D6A-573B-489D-B0D9-A6E5DB274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5AC3D-14AA-4BB9-BBAB-D1FF95A3D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B6612-7996-4406-8988-3D453B7F4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B0B5C-D848-4852-B1C3-2E9F0A28F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1F1CD-76E2-45A5-9863-8385660BA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5721B-0635-4BA9-A79D-B8D757A57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6EBFB-9193-4F1B-8326-5EF70DE0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C27BD-0029-424E-BD21-FFFD15A4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09A8C-B4DD-46AC-8D09-81199A15F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F1579-6F55-4299-9E11-554C4F72E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FBA07-F7EE-4742-8F62-64E0EDEBC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3F1AD-9DA1-481A-9105-6B4CD3B73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2A2DF-C39A-4B8E-8C8B-5C3BACE82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E127B-70C1-4E9E-975A-E121D3F6F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27BE1-1A41-411E-908B-4FA5CC617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C22BC-4504-4AFF-9C40-B13C6BA03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DA9BC-B778-474E-8ADD-B58AB4BC2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C54DA-5288-4A1B-A741-67B967FDB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AC637-C0C6-4C2A-AAB1-C2CEBC9D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8D202-25E7-43E5-BA4A-BE623797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6357E-C868-46DA-90FA-4024778A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AC82E-66AE-40D3-8F8D-CEEBC8ECF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CFCE6-8B5B-4E7B-9642-DD8987251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D3924-55F2-4B5A-BC85-43C664485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515F7-643A-47F1-8302-7A5D67ED2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E5A73-0CA6-46D4-9210-2914F151D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F7A5D7-F88B-49FA-9688-504DC553D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F120F-D04B-4E6C-B4E7-6B0455564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813F5-C77E-4EB0-B471-F2EDD49D1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ACA45-069B-4233-8C5C-BEF31C03A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74C15-2FCF-4298-BD11-32856C2B6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E134BC-63C6-4221-A1B5-93626B6B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B3CE4-8370-4D1C-86CE-02FA937B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F13F57-942A-4728-856F-1F131C10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634F7-70C2-4117-AB40-726E2D00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63B66-E405-46CF-B28D-E2D888A5E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CE3489-2838-4970-9DB1-82843EBC5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4DD1E-D505-4988-83D2-C72D22F4D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91CF3B-6937-4AD5-A718-94B045AF9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ABB6EB-1FF4-4E0D-BB68-7121D3B6A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2F4260-99B4-4B2D-83C5-6D32F4FC2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BC8309-4A95-481D-A490-D1DC96712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2A234F-025D-4288-941A-C297709AF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51B7BF-110C-40C9-9848-064C8BC9D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B07C26-35CE-4D9B-B061-FECBC2D0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6D1A0-98C1-4A03-A6E5-4ADD8C66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3D4C60-3AE4-4118-A0E4-AE3E41EC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CAB893-900F-4F11-B10A-04416A8C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0F95F9-F769-4F4E-A52F-25BF08FB4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6E33CC-8905-4176-AD76-408A75188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47D7CE-CFBB-45DB-B610-A639A151B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95DEDB-1E4A-4B69-B0F9-A9F10DC5C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569B11-7986-4EA2-BA06-B69AE8B17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02880D-025B-4AFC-995C-2B213EEA0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348365-9D03-427F-83AA-67013EF43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61899A-13B7-4852-B6B2-CBADD06EE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ED963-CC82-4495-B6DC-D00FF848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70CD7E-678E-4B1C-A577-AD73FCB52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19687D-AD35-485B-8FEB-1A399BC6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675FCA-CF53-4E9E-9DF7-04AF434B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B8D250-1333-41D6-A213-AF471DD7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712BE9-9884-40C4-8590-545DAE611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509B28-9D09-42F9-90F9-9BBE13004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AD4018-9989-4AC5-9B0E-A1B1203E3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C45870-D11C-4928-8501-159F4BAC1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A8CBFD-2131-49D3-AFA3-894BEB281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1BD86A-967D-4D8B-BF81-EF5C6B938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5D1CC-BD6C-458E-B8D9-EF117D24822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58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58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58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58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58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58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58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58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58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59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59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59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59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59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59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59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59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59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</p:grp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EDEC3-2A8C-4DC8-8236-ECBB5E82746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64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64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64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64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64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64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64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64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64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65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65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65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65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65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65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</p:grp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9AAEF-1426-4226-9562-F8ED8AF55788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7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98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699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</p:grpSp>
      <p:sp>
        <p:nvSpPr>
          <p:cNvPr id="700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grpSp>
        <p:nvGrpSpPr>
          <p:cNvPr id="701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702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grpSp>
          <p:nvGrpSpPr>
            <p:cNvPr id="703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704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705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706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707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708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</p:grpSp>
        <p:sp>
          <p:nvSpPr>
            <p:cNvPr id="709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</p:grpSp>
      <p:grpSp>
        <p:nvGrpSpPr>
          <p:cNvPr id="710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11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712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713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714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715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716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A8649-0E44-48D1-B4F4-2D0087C06B4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ftr" idx="3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0B014-E0F3-475B-95BF-53F83C014AA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grpSp>
        <p:nvGrpSpPr>
          <p:cNvPr id="9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93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grpSp>
          <p:nvGrpSpPr>
            <p:cNvPr id="9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9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9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9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9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9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10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10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10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10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10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10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</p:grpSp>
        <p:grpSp>
          <p:nvGrpSpPr>
            <p:cNvPr id="10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0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10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10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11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11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11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11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11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11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11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11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11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11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12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12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12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12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12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</p:grpSp>
        <p:grpSp>
          <p:nvGrpSpPr>
            <p:cNvPr id="12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2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12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12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12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13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13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13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13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13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13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13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13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13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13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14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14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14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4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14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14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14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14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14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15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grpSp>
            <p:nvGrpSpPr>
              <p:cNvPr id="15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5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e5e5ff"/>
                    </a:solidFill>
                    <a:latin typeface="Arial"/>
                  </a:endParaRPr>
                </a:p>
              </p:txBody>
            </p:sp>
            <p:sp>
              <p:nvSpPr>
                <p:cNvPr id="15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e5e5ff"/>
                    </a:solidFill>
                    <a:latin typeface="Arial"/>
                  </a:endParaRPr>
                </a:p>
              </p:txBody>
            </p:sp>
            <p:sp>
              <p:nvSpPr>
                <p:cNvPr id="15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e5e5ff"/>
                    </a:solidFill>
                    <a:latin typeface="Arial"/>
                  </a:endParaRPr>
                </a:p>
              </p:txBody>
            </p:sp>
            <p:sp>
              <p:nvSpPr>
                <p:cNvPr id="15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e5e5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4F688-D747-4B4B-93C5-AB48D193912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98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199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200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201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202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203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204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205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206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207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208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209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210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211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212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213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214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215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68782-D39D-4DA0-AAB6-89784B26C31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2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2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2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2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2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2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2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2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2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2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2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2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2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2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88AB7-452C-4FC7-9EFF-79E350827B6A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15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316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</p:grpSp>
      <p:sp>
        <p:nvSpPr>
          <p:cNvPr id="317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grpSp>
        <p:nvGrpSpPr>
          <p:cNvPr id="318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319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grpSp>
          <p:nvGrpSpPr>
            <p:cNvPr id="320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321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322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323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324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325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</p:grpSp>
        <p:sp>
          <p:nvSpPr>
            <p:cNvPr id="326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</p:grpSp>
      <p:grpSp>
        <p:nvGrpSpPr>
          <p:cNvPr id="32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2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32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33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33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33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33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</p:grp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72B1F-9006-4C6F-AFCD-E20D069581F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76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77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378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379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380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381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</p:grpSp>
        <p:sp>
          <p:nvSpPr>
            <p:cNvPr id="382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383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</p:grp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19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20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44323-E278-456B-8242-5531F3FEB22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26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27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428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429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430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431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</p:grpSp>
        <p:sp>
          <p:nvSpPr>
            <p:cNvPr id="432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433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</p:grp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dt" idx="22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ftr" idx="2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4672B-6DB1-4176-A5E6-5C84815A90F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76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grpSp>
          <p:nvGrpSpPr>
            <p:cNvPr id="477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78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479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480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481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482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483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484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485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486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487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488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</p:grpSp>
        <p:grpSp>
          <p:nvGrpSpPr>
            <p:cNvPr id="489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490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491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492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493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494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495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496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497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498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499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500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501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502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503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504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505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506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507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</p:grpSp>
        <p:grpSp>
          <p:nvGrpSpPr>
            <p:cNvPr id="508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509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510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511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512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513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514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515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516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517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518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519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520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521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522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523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524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525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</p:grpSp>
        <p:grpSp>
          <p:nvGrpSpPr>
            <p:cNvPr id="526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27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528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529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530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531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532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533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grpSp>
            <p:nvGrpSpPr>
              <p:cNvPr id="534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535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e5e5ff"/>
                    </a:solidFill>
                    <a:latin typeface="Arial"/>
                  </a:endParaRPr>
                </a:p>
              </p:txBody>
            </p:sp>
            <p:sp>
              <p:nvSpPr>
                <p:cNvPr id="536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e5e5ff"/>
                    </a:solidFill>
                    <a:latin typeface="Arial"/>
                  </a:endParaRPr>
                </a:p>
              </p:txBody>
            </p:sp>
            <p:sp>
              <p:nvSpPr>
                <p:cNvPr id="537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e5e5ff"/>
                    </a:solidFill>
                    <a:latin typeface="Arial"/>
                  </a:endParaRPr>
                </a:p>
              </p:txBody>
            </p:sp>
            <p:sp>
              <p:nvSpPr>
                <p:cNvPr id="538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e5e5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2DEAD-D791-465F-A3AE-27F163BFFA9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4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8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400c6"/>
                </a:solidFill>
                <a:latin typeface="Arial"/>
              </a:rPr>
              <a:t>НАСЛЕДСТВЕННЫЕ БОЛЕЗНИ ЧЕЛОВЕКА</a:t>
            </a:r>
            <a:endParaRPr b="1" lang="en-US" sz="5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УРОК-ПРЕЗЕНТАЦ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Создана Киминым Секргеем учеником 9 клас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400c6"/>
                </a:solidFill>
                <a:latin typeface="Arial"/>
              </a:rPr>
              <a:t>НАСЛЕДСТВЕННЫЕ БОЛЕЗНИ ЧЕЛОВЕК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875" name="Organization Chart 7"/>
          <p:cNvGrpSpPr/>
          <p:nvPr/>
        </p:nvGrpSpPr>
        <p:grpSpPr>
          <a:xfrm>
            <a:off x="250920" y="2301120"/>
            <a:ext cx="8711640" cy="3719880"/>
            <a:chOff x="250920" y="2301120"/>
            <a:chExt cx="8711640" cy="3719880"/>
          </a:xfrm>
        </p:grpSpPr>
        <p:cxnSp>
          <p:nvCxnSpPr>
            <p:cNvPr id="876" name="_s1028"/>
            <p:cNvCxnSpPr>
              <a:stCxn id="877" idx="1"/>
              <a:endCxn id="878" idx="2"/>
            </p:cNvCxnSpPr>
            <p:nvPr/>
          </p:nvCxnSpPr>
          <p:spPr>
            <a:xfrm rot="10800000">
              <a:off x="6377760" y="3971520"/>
              <a:ext cx="254520" cy="13658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79" name="_s1029"/>
            <p:cNvCxnSpPr>
              <a:stCxn id="880" idx="1"/>
              <a:endCxn id="881" idx="2"/>
            </p:cNvCxnSpPr>
            <p:nvPr/>
          </p:nvCxnSpPr>
          <p:spPr>
            <a:xfrm rot="10800000">
              <a:off x="1016640" y="3971520"/>
              <a:ext cx="254520" cy="1878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82" name="_s1030"/>
            <p:cNvCxnSpPr>
              <a:stCxn id="883" idx="1"/>
              <a:endCxn id="881" idx="2"/>
            </p:cNvCxnSpPr>
            <p:nvPr/>
          </p:nvCxnSpPr>
          <p:spPr>
            <a:xfrm rot="10800000">
              <a:off x="1016640" y="3971520"/>
              <a:ext cx="254520" cy="13658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84" name="_s1031"/>
            <p:cNvCxnSpPr>
              <a:stCxn id="885" idx="1"/>
              <a:endCxn id="881" idx="2"/>
            </p:cNvCxnSpPr>
            <p:nvPr/>
          </p:nvCxnSpPr>
          <p:spPr>
            <a:xfrm rot="10800000">
              <a:off x="1016640" y="3971520"/>
              <a:ext cx="254520" cy="8542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86" name="_s1032"/>
            <p:cNvCxnSpPr>
              <a:stCxn id="887" idx="1"/>
              <a:endCxn id="881" idx="2"/>
            </p:cNvCxnSpPr>
            <p:nvPr/>
          </p:nvCxnSpPr>
          <p:spPr>
            <a:xfrm rot="10800000">
              <a:off x="1016640" y="3971520"/>
              <a:ext cx="254520" cy="342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88" name="_s1033"/>
            <p:cNvCxnSpPr>
              <a:stCxn id="889" idx="0"/>
              <a:endCxn id="890" idx="2"/>
            </p:cNvCxnSpPr>
            <p:nvPr/>
          </p:nvCxnSpPr>
          <p:spPr>
            <a:xfrm flipV="1" rot="16200000">
              <a:off x="3611880" y="2339280"/>
              <a:ext cx="170640" cy="1789200"/>
            </a:xfrm>
            <a:prstGeom prst="bentConnector3">
              <a:avLst>
                <a:gd name="adj1" fmla="val 4947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91" name="_s1034"/>
            <p:cNvCxnSpPr>
              <a:stCxn id="892" idx="0"/>
              <a:endCxn id="890" idx="2"/>
            </p:cNvCxnSpPr>
            <p:nvPr/>
          </p:nvCxnSpPr>
          <p:spPr>
            <a:xfrm flipV="1" rot="16200000">
              <a:off x="2718360" y="3232800"/>
              <a:ext cx="170640" cy="2160"/>
            </a:xfrm>
            <a:prstGeom prst="bentConnector3">
              <a:avLst>
                <a:gd name="adj1" fmla="val 4947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93" name="_s1035"/>
            <p:cNvCxnSpPr>
              <a:stCxn id="881" idx="0"/>
              <a:endCxn id="890" idx="2"/>
            </p:cNvCxnSpPr>
            <p:nvPr/>
          </p:nvCxnSpPr>
          <p:spPr>
            <a:xfrm flipH="1" flipV="1" rot="5400000">
              <a:off x="1824840" y="2341080"/>
              <a:ext cx="170640" cy="1786320"/>
            </a:xfrm>
            <a:prstGeom prst="bentConnector3">
              <a:avLst>
                <a:gd name="adj1" fmla="val 4947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94" name="_s1036"/>
            <p:cNvCxnSpPr>
              <a:stCxn id="895" idx="1"/>
              <a:endCxn id="878" idx="2"/>
            </p:cNvCxnSpPr>
            <p:nvPr/>
          </p:nvCxnSpPr>
          <p:spPr>
            <a:xfrm rot="10800000">
              <a:off x="6377760" y="3971520"/>
              <a:ext cx="254520" cy="8542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96" name="_s1037"/>
            <p:cNvCxnSpPr>
              <a:stCxn id="897" idx="1"/>
              <a:endCxn id="878" idx="2"/>
            </p:cNvCxnSpPr>
            <p:nvPr/>
          </p:nvCxnSpPr>
          <p:spPr>
            <a:xfrm rot="10800000">
              <a:off x="6377760" y="3971520"/>
              <a:ext cx="254520" cy="342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98" name="_s1038"/>
            <p:cNvCxnSpPr>
              <a:stCxn id="878" idx="0"/>
              <a:endCxn id="899" idx="2"/>
            </p:cNvCxnSpPr>
            <p:nvPr/>
          </p:nvCxnSpPr>
          <p:spPr>
            <a:xfrm flipH="1" flipV="1" rot="5400000">
              <a:off x="7002000" y="2524680"/>
              <a:ext cx="170640" cy="1418760"/>
            </a:xfrm>
            <a:prstGeom prst="bentConnector3">
              <a:avLst>
                <a:gd name="adj1" fmla="val 4947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00" name="_s1039"/>
            <p:cNvCxnSpPr>
              <a:stCxn id="899" idx="0"/>
              <a:endCxn id="901" idx="2"/>
            </p:cNvCxnSpPr>
            <p:nvPr/>
          </p:nvCxnSpPr>
          <p:spPr>
            <a:xfrm flipV="1" rot="16200000">
              <a:off x="6116760" y="1130040"/>
              <a:ext cx="170640" cy="3189960"/>
            </a:xfrm>
            <a:prstGeom prst="bentConnector3">
              <a:avLst>
                <a:gd name="adj1" fmla="val 4947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02" name="_s1040"/>
            <p:cNvCxnSpPr>
              <a:stCxn id="890" idx="0"/>
              <a:endCxn id="901" idx="2"/>
            </p:cNvCxnSpPr>
            <p:nvPr/>
          </p:nvCxnSpPr>
          <p:spPr>
            <a:xfrm flipH="1" flipV="1" rot="5400000">
              <a:off x="3619800" y="1822680"/>
              <a:ext cx="170640" cy="1805040"/>
            </a:xfrm>
            <a:prstGeom prst="bentConnector3">
              <a:avLst>
                <a:gd name="adj1" fmla="val 4947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01" name="_s1041"/>
            <p:cNvSpPr/>
            <p:nvPr/>
          </p:nvSpPr>
          <p:spPr>
            <a:xfrm>
              <a:off x="2598840" y="2301120"/>
              <a:ext cx="4015800" cy="33876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920" rIns="25920" tIns="12960" bIns="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НАСЛЕДСТВЕННЫЕ</a:t>
              </a: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БОЛЕЗНИ</a:t>
              </a:r>
              <a:endParaRPr b="1" lang="en-US" sz="12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890" name="_s1042"/>
            <p:cNvSpPr/>
            <p:nvPr/>
          </p:nvSpPr>
          <p:spPr>
            <a:xfrm>
              <a:off x="1638720" y="2810160"/>
              <a:ext cx="2329920" cy="33876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920" rIns="25920" tIns="12960" bIns="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ГЕННЫЕ</a:t>
              </a:r>
              <a:endParaRPr b="1" lang="en-US" sz="12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899" name="_s1043"/>
            <p:cNvSpPr/>
            <p:nvPr/>
          </p:nvSpPr>
          <p:spPr>
            <a:xfrm>
              <a:off x="6632640" y="2810160"/>
              <a:ext cx="2329920" cy="33876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920" rIns="25920" tIns="12960" bIns="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ХРОМОСОМНЫЕ</a:t>
              </a:r>
              <a:endParaRPr b="1" lang="en-US" sz="12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877" name="_s1044"/>
            <p:cNvSpPr/>
            <p:nvPr/>
          </p:nvSpPr>
          <p:spPr>
            <a:xfrm>
              <a:off x="6632640" y="5166000"/>
              <a:ext cx="1903680" cy="34236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920" rIns="25920" tIns="12960" bIns="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ХРОМОСОМНЫЕ</a:t>
              </a:r>
              <a:endParaRPr b="1" lang="en-US" sz="1000" spc="-1" strike="noStrike">
                <a:solidFill>
                  <a:srgbClr val="e5e5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ПЕРЕСТРОЙКИ</a:t>
              </a:r>
              <a:endParaRPr b="1" lang="en-US" sz="10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878" name="_s1045"/>
            <p:cNvSpPr/>
            <p:nvPr/>
          </p:nvSpPr>
          <p:spPr>
            <a:xfrm>
              <a:off x="5612040" y="3319200"/>
              <a:ext cx="1531440" cy="65160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920" rIns="25920" tIns="12960" bIns="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ИЗМЕНЕНИЕ</a:t>
              </a:r>
              <a:endParaRPr b="1" lang="en-US" sz="1200" spc="-1" strike="noStrike">
                <a:solidFill>
                  <a:srgbClr val="e5e5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ЧИСЛА</a:t>
              </a:r>
              <a:endParaRPr b="1" lang="en-US" sz="1200" spc="-1" strike="noStrike">
                <a:solidFill>
                  <a:srgbClr val="e5e5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ХРОМОСОМ</a:t>
              </a:r>
              <a:endParaRPr b="1" lang="en-US" sz="12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897" name="_s1046"/>
            <p:cNvSpPr/>
            <p:nvPr/>
          </p:nvSpPr>
          <p:spPr>
            <a:xfrm>
              <a:off x="6632640" y="4141080"/>
              <a:ext cx="1903680" cy="34236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920" rIns="25920" tIns="12960" bIns="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МОНОСОМИЯ</a:t>
              </a:r>
              <a:endParaRPr b="1" lang="en-US" sz="10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895" name="_s1047"/>
            <p:cNvSpPr/>
            <p:nvPr/>
          </p:nvSpPr>
          <p:spPr>
            <a:xfrm>
              <a:off x="6632640" y="4653720"/>
              <a:ext cx="1903680" cy="34200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920" rIns="25920" tIns="12960" bIns="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ТРИСОМИЯ</a:t>
              </a:r>
              <a:endParaRPr b="1" lang="en-US" sz="10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881" name="_s1048"/>
            <p:cNvSpPr/>
            <p:nvPr/>
          </p:nvSpPr>
          <p:spPr>
            <a:xfrm>
              <a:off x="250920" y="3319200"/>
              <a:ext cx="1531440" cy="65160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920" rIns="25920" tIns="12960" bIns="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МОНОГЕННЫЕ</a:t>
              </a:r>
              <a:endParaRPr b="1" lang="en-US" sz="12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892" name="_s1049"/>
            <p:cNvSpPr/>
            <p:nvPr/>
          </p:nvSpPr>
          <p:spPr>
            <a:xfrm>
              <a:off x="2037960" y="3319200"/>
              <a:ext cx="1531440" cy="65160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920" rIns="25920" tIns="12960" bIns="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ПОЛИГЕННЫЕ</a:t>
              </a:r>
              <a:endParaRPr b="1" lang="en-US" sz="12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889" name="_s1050"/>
            <p:cNvSpPr/>
            <p:nvPr/>
          </p:nvSpPr>
          <p:spPr>
            <a:xfrm>
              <a:off x="3825360" y="3319200"/>
              <a:ext cx="1531080" cy="65160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3840" rIns="33840" tIns="16920" bIns="16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МУЛЬТИ</a:t>
              </a:r>
              <a:endParaRPr b="1" lang="en-US" sz="1200" spc="-1" strike="noStrike">
                <a:solidFill>
                  <a:srgbClr val="e5e5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ФАКТОРИАЛЬ -</a:t>
              </a:r>
              <a:endParaRPr b="1" lang="en-US" sz="1200" spc="-1" strike="noStrike">
                <a:solidFill>
                  <a:srgbClr val="e5e5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НЫЕ</a:t>
              </a:r>
              <a:endParaRPr b="1" lang="en-US" sz="12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887" name="_s1051"/>
            <p:cNvSpPr/>
            <p:nvPr/>
          </p:nvSpPr>
          <p:spPr>
            <a:xfrm>
              <a:off x="1271160" y="4141080"/>
              <a:ext cx="1904040" cy="34236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000" rIns="45000" tIns="22320" bIns="22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А -ДОМИНИРУЮЩИЕ</a:t>
              </a:r>
              <a:endParaRPr b="1" lang="en-US" sz="10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885" name="_s1052"/>
            <p:cNvSpPr/>
            <p:nvPr/>
          </p:nvSpPr>
          <p:spPr>
            <a:xfrm>
              <a:off x="1271160" y="4653720"/>
              <a:ext cx="1904040" cy="34200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000" rIns="45000" tIns="22320" bIns="22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А - РЕЦЕССИВНЫЕ</a:t>
              </a:r>
              <a:endParaRPr b="1" lang="en-US" sz="10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883" name="_s1053"/>
            <p:cNvSpPr/>
            <p:nvPr/>
          </p:nvSpPr>
          <p:spPr>
            <a:xfrm>
              <a:off x="1271160" y="5166000"/>
              <a:ext cx="1904040" cy="34236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000" rIns="45000" tIns="22320" bIns="22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Х - СЦЕПЛЕННЫЕ</a:t>
              </a:r>
              <a:endParaRPr b="1" lang="en-US" sz="10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880" name="_s1054"/>
            <p:cNvSpPr/>
            <p:nvPr/>
          </p:nvSpPr>
          <p:spPr>
            <a:xfrm>
              <a:off x="1271160" y="5678640"/>
              <a:ext cx="1904040" cy="34236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160" rIns="47160" tIns="23760" bIns="23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У - СЦЕПЛЕННЫЕ</a:t>
              </a:r>
              <a:endParaRPr b="1" lang="en-US" sz="1000" spc="-1" strike="noStrike">
                <a:solidFill>
                  <a:srgbClr val="e5e5ff"/>
                </a:solidFill>
                <a:latin typeface="Arial"/>
              </a:endParaRPr>
            </a:p>
          </p:txBody>
        </p:sp>
      </p:grpSp>
    </p:spTree>
  </p:cSld>
  <p:transition spd="med">
    <p:wheel spokes="2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Arial"/>
                <a:ea typeface="Arial"/>
              </a:rPr>
              <a:t>Аутосомно-доминирующий тип наследования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3941640"/>
            <a:ext cx="8229600" cy="27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1. Болезнь встречается в каждом поколении родословно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2. Соотношение больных мальчиков и девочек равно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3. Болезнь у гомозиготная протекает тяжелее, чем у гетерозиго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4. Вероятность рождения больного ребенка, если болен один из родителей, равна 50%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5. Возможны случаи, когда болезнь носит стертый характер (неполная пенетрантность гена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5" name="Picture 4" descr="доминир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763640" y="1496880"/>
            <a:ext cx="5977080" cy="22924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МИКРОСОМ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Синдром первой жаберной дуг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Клинические признаки: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односторонняя аномалия ушной раковины и гипоплазия нижней челюсти; аномалии глаз; лицо асимметрично, нарушение прикус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Тип наследования: А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Популяционная частота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неизвест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8" name="Picture 7" descr="ахондроген"/>
          <p:cNvPicPr/>
          <p:nvPr/>
        </p:nvPicPr>
        <p:blipFill>
          <a:blip r:embed="rId1"/>
          <a:stretch/>
        </p:blipFill>
        <p:spPr>
          <a:xfrm>
            <a:off x="4572000" y="1214280"/>
            <a:ext cx="3598920" cy="53578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РОБИНОВА  СИНДРОМ</a:t>
            </a:r>
            <a:r>
              <a:rPr b="0" lang="ru-RU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859280" y="1341360"/>
            <a:ext cx="4038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Впервые описан в 1969 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Клинические признаки: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необычное строение лица, умеренная карликовость,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гипоплаз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половых органов, макроцефалия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эпикант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короткий нос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брахидактилия, вывих бедра, аномалии ребер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Тип наследования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 – А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Популяционная частота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неизвест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1" name="Picture 12" descr="робин 2"/>
          <p:cNvPicPr/>
          <p:nvPr/>
        </p:nvPicPr>
        <p:blipFill>
          <a:blip r:embed="rId1"/>
          <a:stretch/>
        </p:blipFill>
        <p:spPr>
          <a:xfrm>
            <a:off x="142920" y="1285920"/>
            <a:ext cx="4626000" cy="33573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ИЛЛЬЯМСА СИНДРОМ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285480" y="1599840"/>
            <a:ext cx="3786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первые описан в 1961 г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Клинические признаки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еобычное лицо, низкий рост, короткий нос, полные щеки, маленькая нижняя челюсть, умственная отсталос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Тип наследования – А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Популяционная частот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еизвестн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4" name="Picture 7" descr="ад2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3905280" y="1428840"/>
            <a:ext cx="4997520" cy="28573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5" name="Содержимое 5" descr="андерсен.jpg"/>
          <p:cNvPicPr/>
          <p:nvPr/>
        </p:nvPicPr>
        <p:blipFill>
          <a:blip r:embed="rId1"/>
          <a:stretch/>
        </p:blipFill>
        <p:spPr>
          <a:xfrm>
            <a:off x="214200" y="285840"/>
            <a:ext cx="2239920" cy="3143160"/>
          </a:xfrm>
          <a:prstGeom prst="rect">
            <a:avLst/>
          </a:prstGeom>
          <a:ln w="0">
            <a:noFill/>
          </a:ln>
        </p:spPr>
      </p:pic>
      <p:pic>
        <p:nvPicPr>
          <p:cNvPr id="916" name="Содержимое 6" descr="паганини н.jpg"/>
          <p:cNvPicPr/>
          <p:nvPr/>
        </p:nvPicPr>
        <p:blipFill>
          <a:blip r:embed="rId2"/>
          <a:stretch/>
        </p:blipFill>
        <p:spPr>
          <a:xfrm>
            <a:off x="214200" y="4000680"/>
            <a:ext cx="2243160" cy="2689200"/>
          </a:xfrm>
          <a:prstGeom prst="rect">
            <a:avLst/>
          </a:prstGeom>
          <a:ln w="0">
            <a:noFill/>
          </a:ln>
        </p:spPr>
      </p:pic>
      <p:sp>
        <p:nvSpPr>
          <p:cNvPr id="917" name="PlaceHolder 1"/>
          <p:cNvSpPr>
            <a:spLocks noGrp="1"/>
          </p:cNvSpPr>
          <p:nvPr>
            <p:ph/>
          </p:nvPr>
        </p:nvSpPr>
        <p:spPr>
          <a:xfrm>
            <a:off x="2428920" y="285840"/>
            <a:ext cx="657216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индром вызван наследственным пороком развития соединительной ткани.  Больные часто умирают от аневризма аорты. Единственная компенсация – повышенное содержание адреналина в крови, поэтому больные всю жизнь находятся в возбужденном состоянии и становятся невероятными трудоголикам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индромом Марфана страдали всемирно известные личности: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Авраам Линкольн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– президент США (рост 193 см),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Ганс Христиан Андерсен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– великий писатель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8" name="Рисунок 7" descr="чуковский.jpg"/>
          <p:cNvPicPr/>
          <p:nvPr/>
        </p:nvPicPr>
        <p:blipFill>
          <a:blip r:embed="rId3"/>
          <a:stretch/>
        </p:blipFill>
        <p:spPr>
          <a:xfrm>
            <a:off x="6500880" y="3071880"/>
            <a:ext cx="2378160" cy="3620880"/>
          </a:xfrm>
          <a:prstGeom prst="rect">
            <a:avLst/>
          </a:prstGeom>
          <a:ln w="0">
            <a:noFill/>
          </a:ln>
        </p:spPr>
      </p:pic>
      <p:sp>
        <p:nvSpPr>
          <p:cNvPr id="919" name="TextBox 8"/>
          <p:cNvSpPr/>
          <p:nvPr/>
        </p:nvSpPr>
        <p:spPr>
          <a:xfrm>
            <a:off x="2786040" y="2928960"/>
            <a:ext cx="3643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иколко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аганини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великий скрипач (болезнь придавала ему большие технические возможности).</a:t>
            </a:r>
            <a:endParaRPr b="1" lang="en-US" sz="1800" spc="-1" strike="noStrike">
              <a:solidFill>
                <a:srgbClr val="e5e5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ХХ веке жили не менее талантливые «носачи». Это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Шарль де Голль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президент Франции и</a:t>
            </a:r>
            <a:r>
              <a:rPr b="0" lang="ru-RU" sz="1800" spc="-1" strike="noStrike">
                <a:solidFill>
                  <a:srgbClr val="e5e5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орней Чуковский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советский детский писатель</a:t>
            </a:r>
            <a:endParaRPr b="1" lang="en-US" sz="1800" spc="-1" strike="noStrike">
              <a:solidFill>
                <a:srgbClr val="e5e5ff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ПОЛИДАКТИЛ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148000" y="1557000"/>
            <a:ext cx="3749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cc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Клинические признак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существует два варианта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cc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тип 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, при котором дополнительный палец функционален, и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тип 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, когда дополнительный палец недоразвит и представляет собой кожный вырос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cc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Тип наследования: А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cc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Популяционная частота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от 1:3000 до 1:6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2" name="Picture 7" descr="полидак"/>
          <p:cNvPicPr/>
          <p:nvPr/>
        </p:nvPicPr>
        <p:blipFill>
          <a:blip r:embed="rId1"/>
          <a:stretch/>
        </p:blipFill>
        <p:spPr>
          <a:xfrm>
            <a:off x="214200" y="1071720"/>
            <a:ext cx="4880160" cy="235728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0" descr="полидак 2"/>
          <p:cNvPicPr/>
          <p:nvPr/>
        </p:nvPicPr>
        <p:blipFill>
          <a:blip r:embed="rId2"/>
          <a:stretch/>
        </p:blipFill>
        <p:spPr>
          <a:xfrm>
            <a:off x="285840" y="3786120"/>
            <a:ext cx="3286080" cy="28479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СИНДАКТИЛ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285480" y="1356840"/>
            <a:ext cx="3786120" cy="47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Клинические признаки: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синдактилия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– это сращение различных пальцев кистей и стоп. На кистях чаще всего встречается между 3 – 4 пальцами, а на стопах                 - между 2 – 3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Тип наследования: А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Популяционная частота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– 1:2500 -3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6" name="Picture 8" descr="синдак"/>
          <p:cNvPicPr/>
          <p:nvPr/>
        </p:nvPicPr>
        <p:blipFill>
          <a:blip r:embed="rId1"/>
          <a:stretch/>
        </p:blipFill>
        <p:spPr>
          <a:xfrm>
            <a:off x="4286160" y="928800"/>
            <a:ext cx="4587840" cy="30398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1" descr="синдак 2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4286160" y="4071960"/>
            <a:ext cx="3951360" cy="26431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МИОТОНИЧЕСКАЯ ДИСТРОФИЯ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142920" y="3928680"/>
            <a:ext cx="885816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иотоническая дистрофия, или болезнь Штейнерта – многосистемное заболевание у обоих пол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Клинические признаки: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иотония, мышечная слабость, катаракта, аритмия сердца, облысение со лба, умственная отсталость, мышечные судороги рук и лица, нарушение речи и глотания. У мужчин ранний гопогонадизм, а у женцин ранняя аменорея и кисты яичников. Заболевание сильно варьирует началом заболевания (от года до 50-60 лет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Тип наследования: АД      Популяционная частот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– 1 : 7500-10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0" name="Picture 2" descr="C:\Documents and Settings\дима\Мои документы\Мои рисунки\ген и белок\мыш дист.jpg"/>
          <p:cNvPicPr/>
          <p:nvPr/>
        </p:nvPicPr>
        <p:blipFill>
          <a:blip r:embed="rId1"/>
          <a:stretch/>
        </p:blipFill>
        <p:spPr>
          <a:xfrm>
            <a:off x="428760" y="1071720"/>
            <a:ext cx="5857920" cy="2658960"/>
          </a:xfrm>
          <a:prstGeom prst="rect">
            <a:avLst/>
          </a:prstGeom>
          <a:ln w="0">
            <a:noFill/>
          </a:ln>
        </p:spPr>
      </p:pic>
      <p:sp>
        <p:nvSpPr>
          <p:cNvPr id="931" name="TextBox 4"/>
          <p:cNvSpPr/>
          <p:nvPr/>
        </p:nvSpPr>
        <p:spPr>
          <a:xfrm>
            <a:off x="6357960" y="1071720"/>
            <a:ext cx="25718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5e5ff"/>
                </a:solidFill>
                <a:latin typeface="Arial"/>
              </a:rPr>
              <a:t>Ребенок и взрослая пациентка с миотони-ческой дистрофией (птоз, анемичное лицо, рот треугольной формы, слабость лицевых мышц, атрофия жевательных мышц)</a:t>
            </a:r>
            <a:endParaRPr b="1" lang="en-US" sz="1600" spc="-1" strike="noStrike">
              <a:solidFill>
                <a:srgbClr val="e5e5ff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2285640" y="142560"/>
            <a:ext cx="66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СИНДРОМ КРУЗОНА                             (черепно-лицевой дизостоз)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933" name="Содержимое 5" descr="шичх.jp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285840" y="241200"/>
            <a:ext cx="2357280" cy="6419880"/>
          </a:xfrm>
          <a:prstGeom prst="rect">
            <a:avLst/>
          </a:prstGeom>
          <a:ln w="0">
            <a:noFill/>
          </a:ln>
        </p:spPr>
      </p:pic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3000240" y="1571760"/>
            <a:ext cx="5857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индром Крузона – дефект гена каспазы, 1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. Впервые описан в 1912 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Клинические признаки: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выступающие глаза, гипертелоризм, косоглазие, экзофтальм, короткая верхняя губа, гипоплазия верхней челюсти, деформация черепа (раннее заращение швов черепа), иногда расщелина языка и неба, атрезия слухового прохода, глухота и умственная отсталость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Тип наследования: А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Популяционная частот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– неизвестна (по некоторым данным 1 : 35 000 - 50 0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TextBox 6"/>
          <p:cNvSpPr/>
          <p:nvPr/>
        </p:nvSpPr>
        <p:spPr>
          <a:xfrm>
            <a:off x="2786040" y="628668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5e5ff"/>
                </a:solidFill>
                <a:latin typeface="Arial"/>
              </a:rPr>
              <a:t>Синдром Крузона. Мать и сын.</a:t>
            </a:r>
            <a:endParaRPr b="1" lang="en-US" sz="1600" spc="-1" strike="noStrike">
              <a:solidFill>
                <a:srgbClr val="e5e5ff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СОДЕРЖАНИ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. Генетика человека …………………………………………….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. Методы изучения генетики человека …………………….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. Наследственные болезни человека ……………………..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4. Аутосомно-доминирующий тип наследования……11–2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5. Аутосомно-рецессивный тип наследования ………29-3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6. Хромосомные болезни…………………………………..40-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7. Прогерия…………………………………………………………5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8. Словарь………………………………………………………58-5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9. Литература……………………………………………………….60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AutoShape 4"/>
          <p:cNvSpPr/>
          <p:nvPr/>
        </p:nvSpPr>
        <p:spPr>
          <a:xfrm>
            <a:off x="8459640" y="170028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70" name="AutoShape 5"/>
          <p:cNvSpPr/>
          <p:nvPr/>
        </p:nvSpPr>
        <p:spPr>
          <a:xfrm>
            <a:off x="8459640" y="206064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71" name="AutoShape 6"/>
          <p:cNvSpPr/>
          <p:nvPr/>
        </p:nvSpPr>
        <p:spPr>
          <a:xfrm>
            <a:off x="8459640" y="242100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72" name="AutoShape 7"/>
          <p:cNvSpPr/>
          <p:nvPr/>
        </p:nvSpPr>
        <p:spPr>
          <a:xfrm>
            <a:off x="8459640" y="278136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73" name="AutoShape 8"/>
          <p:cNvSpPr/>
          <p:nvPr/>
        </p:nvSpPr>
        <p:spPr>
          <a:xfrm>
            <a:off x="8459640" y="314172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74" name="AutoShape 9"/>
          <p:cNvSpPr/>
          <p:nvPr/>
        </p:nvSpPr>
        <p:spPr>
          <a:xfrm>
            <a:off x="8459640" y="350028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75" name="AutoShape 10"/>
          <p:cNvSpPr/>
          <p:nvPr/>
        </p:nvSpPr>
        <p:spPr>
          <a:xfrm>
            <a:off x="8459640" y="386064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76" name="AutoShape 11"/>
          <p:cNvSpPr/>
          <p:nvPr/>
        </p:nvSpPr>
        <p:spPr>
          <a:xfrm>
            <a:off x="8459640" y="422100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77" name="AutoShape 12"/>
          <p:cNvSpPr/>
          <p:nvPr/>
        </p:nvSpPr>
        <p:spPr>
          <a:xfrm>
            <a:off x="8459640" y="458136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ГИПЕРТРИХОЗ («ЛЮДИ – ВОЛКИ»)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357120" y="785880"/>
            <a:ext cx="840096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Клинические признаки: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чрезмерный рост волос на всех частях тела, кроме ладоней и подошв. Со средних веков зарегистрировано только 50 случаев конгенитального гипертирхоза. Других отклонений в развиии нет. Локальный гипертрихоз может отмечаться при нарушении обмена вещест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Тип наследования: АД. Популяционная частота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неизвестн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8" name="Picture 7" descr="волк"/>
          <p:cNvPicPr/>
          <p:nvPr/>
        </p:nvPicPr>
        <p:blipFill>
          <a:blip r:embed="rId1"/>
          <a:stretch/>
        </p:blipFill>
        <p:spPr>
          <a:xfrm>
            <a:off x="3429000" y="3214800"/>
            <a:ext cx="2225520" cy="32144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гипертрихоз 2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214200" y="3214800"/>
            <a:ext cx="3073680" cy="321444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1" descr="гипертрихоз"/>
          <p:cNvPicPr/>
          <p:nvPr/>
        </p:nvPicPr>
        <p:blipFill>
          <a:blip r:embed="rId3"/>
          <a:stretch/>
        </p:blipFill>
        <p:spPr>
          <a:xfrm>
            <a:off x="5857920" y="3214800"/>
            <a:ext cx="3065400" cy="32288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Порфирия, или вампиризм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213840" y="785520"/>
            <a:ext cx="864396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"..Ученые выяснили, что вампиризм – это тяжелое, очень редкое заболевание –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порфирия,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которая и нагоняла суеверный страх на добропорядочных граждан средневековой Европ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Впервые об этой болезни заявил доктор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Ли Иллис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в 1963 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 научной точки зрения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: порфирия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является наследственным заболеванием, возникающим часто в случае инцеста (кровосмешения между близкими родственниками, а в Восточной Европе такое весьма часто практикуется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Вообще-то, случаев порфирии известно немного. В наши дни таких больных всего около 70 человек во всем мире. Их организмы не в состоянии самостоятельно вырабатывать красные тельца кров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Люди, страдающие порфирией не выносят дневного света, т.к. в тканях их организмов нарушен пигментный обмен, и под воздействием солнца происходит распад гемоглобина, который превращается чуть ли не в кислоту и разъедает кожу (кожа больного сильно темнеет и в конечном итоге гниёт и лопается). Превратить "вампира" в нормального человека можно с помощью химиотерапии и частых переливаний кров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   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Тип наследования: АД.  Популяционная частота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неизвестна (по некоторым данным 1 : 200 0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400c6"/>
                </a:solidFill>
                <a:latin typeface="Arial"/>
              </a:rPr>
              <a:t>Аутосомно-рецессивный тип наследования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822960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 Больной ребенок рождается у клинически здоровых родител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 Болеют сибсы, т.е. братья и сест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. Оба пола поражаются одинаков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. Чаще встречается при кровно-родственных брака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. Если больны оба супруга, то все дети  будут больны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5" name="Picture 7" descr="рецесс"/>
          <p:cNvPicPr/>
          <p:nvPr/>
        </p:nvPicPr>
        <p:blipFill>
          <a:blip r:embed="rId1"/>
          <a:stretch/>
        </p:blipFill>
        <p:spPr>
          <a:xfrm>
            <a:off x="1763640" y="3789360"/>
            <a:ext cx="5040360" cy="2879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АХОНДРОГЕНЕЗ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линические признаки: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дянка плода, резкое укорочение конечностей, шеи и туловища, большие размеры черепа. Рентгенологически выявляется укорочение ребер и отсутствие кальцификации тазовых костей и поясничных позвон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ип наследования: А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опуляционная частота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извест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8" name="Picture 4" descr="ахондроген 001"/>
          <p:cNvPicPr/>
          <p:nvPr/>
        </p:nvPicPr>
        <p:blipFill>
          <a:blip r:embed="rId1"/>
          <a:stretch/>
        </p:blipFill>
        <p:spPr>
          <a:xfrm>
            <a:off x="468360" y="1617840"/>
            <a:ext cx="4103640" cy="41875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РАСЩЕЛИНА  ГУБ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214200" y="1071720"/>
            <a:ext cx="385776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Клинические признаки: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щелина губы/неба, микроцефалия, широкая переносица, часто эпикант и телоризм, деформации первых пальцев кистей, искривление носовой перегородки и аномалии зуб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Тип наследования: А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Популяционная частота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– 1 : 1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1" name="Picture 7" descr="рас"/>
          <p:cNvPicPr/>
          <p:nvPr/>
        </p:nvPicPr>
        <p:blipFill>
          <a:blip r:embed="rId1"/>
          <a:stretch/>
        </p:blipFill>
        <p:spPr>
          <a:xfrm>
            <a:off x="4572000" y="928800"/>
            <a:ext cx="4140360" cy="58482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ЧЕРЕП В ФОРМЕ ТРИЛИСТНИКА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Клинические признаки: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характерная форма черепа (возникает вследствие внутриутробного зарастания швов) и лица, высокий лоб, птоз, клювовидный нос, антимонголоидный разрез глаз. Часто встречается в сочетании с другими аномалия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Тип наследования: А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Популяционная частота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извест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4" name="Picture 7" descr="трилист"/>
          <p:cNvPicPr/>
          <p:nvPr/>
        </p:nvPicPr>
        <p:blipFill>
          <a:blip r:embed="rId1"/>
          <a:stretch/>
        </p:blipFill>
        <p:spPr>
          <a:xfrm>
            <a:off x="428760" y="928800"/>
            <a:ext cx="4071960" cy="56005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НУНАН СИНДРО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28760" y="9288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первые описан в 1928 г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Клинические признаки: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ипертелоризм, эпикант, низко посаженные уши, нарушение прикуса, антимонголоидный разрез глаз, крипторхизм, аномалии грудной клетки, низкий рост, пороки  сердца, умственная отсталос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Тип наследования: АР ; Популяционная частота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извест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7" name="Picture 7" descr="ненан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571760" y="3071880"/>
            <a:ext cx="6172200" cy="3510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КСЕРОДЕРМА ПИГМЕНТНАЯ         (дерматоз Капоши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959" name="Содержимое 4" descr="file_6179-.jpg"/>
          <p:cNvPicPr/>
          <p:nvPr/>
        </p:nvPicPr>
        <p:blipFill>
          <a:blip r:embed="rId1"/>
          <a:stretch/>
        </p:blipFill>
        <p:spPr>
          <a:xfrm>
            <a:off x="285840" y="1357200"/>
            <a:ext cx="3227400" cy="4572000"/>
          </a:xfrm>
          <a:prstGeom prst="rect">
            <a:avLst/>
          </a:prstGeom>
          <a:ln w="0">
            <a:noFill/>
          </a:ln>
        </p:spPr>
      </p:pic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3643200" y="1285560"/>
            <a:ext cx="52149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гментная ксеродерма – заболевание, протекающее с поражением кожи, фоточувствительностью, злокачественными новообразования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линические признаки: фотофобия, повышенная чувствительность к УФЛ, развитие рака  и атрофии кожи, гиперпигментация типа веснушек, кератоз, ангиомы, рубцы роговицы и опухоли конъюнктивы и век, дефекты зубов. У новорожденных только фотофобия. Кожные изменения появляются к 3-4 годам. Продолжительность жизни – 20 л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ип наследования:А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опуляционная частот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 неизвест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TextBox 5"/>
          <p:cNvSpPr/>
          <p:nvPr/>
        </p:nvSpPr>
        <p:spPr>
          <a:xfrm>
            <a:off x="285840" y="6000840"/>
            <a:ext cx="3357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5e5ff"/>
                </a:solidFill>
                <a:latin typeface="Arial"/>
              </a:rPr>
              <a:t>Лицо больного с пигментной ксеродермой</a:t>
            </a:r>
            <a:endParaRPr b="1" lang="en-US" sz="1600" spc="-1" strike="noStrike">
              <a:solidFill>
                <a:srgbClr val="e5e5ff"/>
              </a:solidFill>
              <a:latin typeface="Arial"/>
            </a:endParaRPr>
          </a:p>
        </p:txBody>
      </p:sp>
    </p:spTree>
  </p:cSld>
  <p:transition spd="med">
    <p:wheel spokes="2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ФЕНИЛКЕТОНУРИЯ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42560" y="1000080"/>
            <a:ext cx="50007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енилкетонурия – болезнь аминокислотного обмена. Описана  в 1934 г. А. Фелингом. Патология связана с недостаточностью печеночного фермента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фенилаланингидроксилазы,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то нарушает превращение фенилаланина в тирозин (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рушается формирование миелиновых оболочек вокруг аксонов ЦНС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линические признаки: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вышенная возбудимость и тонус мышц, тремор, эпилептиформные припадки, «мышиный» запах, умственная отсталость, снижение образования меланина. </a:t>
            </a:r>
            <a:r>
              <a:rPr b="1" lang="ru-RU" sz="1800" spc="-1" strike="noStrike">
                <a:solidFill>
                  <a:srgbClr val="f27402"/>
                </a:solidFill>
                <a:latin typeface="Arial"/>
              </a:rPr>
              <a:t>Ранняя профилактика и леченние –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66ff"/>
                </a:solidFill>
                <a:latin typeface="Arial"/>
              </a:rPr>
              <a:t>искусственная дие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ип наследования: АР                    Популяционная частот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  1 : 10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4" name="Picture 2" descr="C:\Documents and Settings\дима\Мои документы\Мои рисунки\ген и белок\фенилкет.jpg"/>
          <p:cNvPicPr/>
          <p:nvPr/>
        </p:nvPicPr>
        <p:blipFill>
          <a:blip r:embed="rId1"/>
          <a:stretch/>
        </p:blipFill>
        <p:spPr>
          <a:xfrm>
            <a:off x="5423040" y="1071720"/>
            <a:ext cx="3441600" cy="4786200"/>
          </a:xfrm>
          <a:prstGeom prst="rect">
            <a:avLst/>
          </a:prstGeom>
          <a:ln w="0">
            <a:noFill/>
          </a:ln>
        </p:spPr>
      </p:pic>
      <p:sp>
        <p:nvSpPr>
          <p:cNvPr id="965" name="TextBox 4"/>
          <p:cNvSpPr/>
          <p:nvPr/>
        </p:nvSpPr>
        <p:spPr>
          <a:xfrm>
            <a:off x="5643720" y="5857920"/>
            <a:ext cx="32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5e5ff"/>
                </a:solidFill>
                <a:latin typeface="Arial"/>
              </a:rPr>
              <a:t>Слабая пигментация кожи и радужки глаза, умеренная степень  олигофрении</a:t>
            </a:r>
            <a:endParaRPr b="1" lang="en-US" sz="1600" spc="-1" strike="noStrike">
              <a:solidFill>
                <a:srgbClr val="e5e5ff"/>
              </a:solidFill>
              <a:latin typeface="Arial"/>
            </a:endParaRPr>
          </a:p>
        </p:txBody>
      </p:sp>
    </p:spTree>
  </p:cSld>
  <p:transition spd="med">
    <p:wheel spokes="2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7402"/>
                </a:solidFill>
                <a:latin typeface="Arial"/>
              </a:rPr>
              <a:t>ХРОМОСОМНЫЕ БОЛЕЗН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284720" y="1773000"/>
            <a:ext cx="4248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Хромосомные заболевания связаны с аномалиями числа или структуры хромосом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Для них характерно: малый рост и вес при рождении; черепно-лицевые дисморфии; умственная отсталость; многосистемные поражения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Только 3-5% наследуются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968" name="Picture 4" descr="кариотип"/>
          <p:cNvPicPr/>
          <p:nvPr/>
        </p:nvPicPr>
        <p:blipFill>
          <a:blip r:embed="rId1"/>
          <a:stretch/>
        </p:blipFill>
        <p:spPr>
          <a:xfrm>
            <a:off x="428760" y="1143000"/>
            <a:ext cx="3689280" cy="542916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400c6"/>
                </a:solidFill>
                <a:latin typeface="Arial"/>
              </a:rPr>
              <a:t>Генетика  человека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1929 г. советский генетик, невропатолог С.Н.Давиденко организовал первую в мире медико-генетическую консультацию. Он первым в мире поставил вопрос о необходимости составления каталога генов человека, сформулировал понятие о генетической гетерогенности наследственных болезней челове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0" name="Picture 4" descr="давид"/>
          <p:cNvPicPr/>
          <p:nvPr/>
        </p:nvPicPr>
        <p:blipFill>
          <a:blip r:embed="rId1"/>
          <a:stretch/>
        </p:blipFill>
        <p:spPr>
          <a:xfrm>
            <a:off x="733320" y="1557360"/>
            <a:ext cx="3490920" cy="46083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27402"/>
                </a:solidFill>
                <a:latin typeface="Arial"/>
              </a:rPr>
              <a:t>РОДОСЛОВНАЯ С Х-СЦЕПЛЕННЫМ  </a:t>
            </a:r>
            <a:br>
              <a:rPr sz="3200"/>
            </a:br>
            <a:r>
              <a:rPr b="1" lang="ru-RU" sz="3200" spc="-1" strike="noStrike">
                <a:solidFill>
                  <a:srgbClr val="f27402"/>
                </a:solidFill>
                <a:latin typeface="Arial"/>
              </a:rPr>
              <a:t>            ТИПОМ НАСЛЕДОВАНИЯ</a:t>
            </a: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3938400"/>
            <a:ext cx="8229600" cy="219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1. Болеют только мальчики по линии матери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2. Родители пробанда здоровы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3. Больной мужчина не передает заболевание, но все его дочери являются носительницами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 браке женщины-носительницы с больным мужчиной 50% дочерей и 50% сыновей больны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971" name="Picture 10" descr="х -хром"/>
          <p:cNvPicPr/>
          <p:nvPr/>
        </p:nvPicPr>
        <p:blipFill>
          <a:blip r:embed="rId1"/>
          <a:stretch/>
        </p:blipFill>
        <p:spPr>
          <a:xfrm>
            <a:off x="2556000" y="1484280"/>
            <a:ext cx="4751280" cy="237636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928960" y="-360"/>
            <a:ext cx="5757840" cy="1071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ec85e"/>
                </a:solidFill>
                <a:latin typeface="Arial"/>
              </a:rPr>
              <a:t>ГИДРОЦЕФАЛ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3285720" y="1357200"/>
            <a:ext cx="5429160" cy="48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Клинические признаки: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увеличение объема головы, расширение желудочков мозга; истончение и расхождение костей черепа, диспропорция мозговой и лицевой частей черепа, косоглазие, умственная отсталость и задержка развития, расстройства движений и координации, нистагм, атрофия белого вещества мозга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Тип наследования: </a:t>
            </a: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Х-рецессив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Популяционная частота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–            1 : 2000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974" name="Picture 7" descr="гидроцеф"/>
          <p:cNvPicPr/>
          <p:nvPr/>
        </p:nvPicPr>
        <p:blipFill>
          <a:blip r:embed="rId1"/>
          <a:stretch/>
        </p:blipFill>
        <p:spPr>
          <a:xfrm>
            <a:off x="428760" y="130320"/>
            <a:ext cx="2500200" cy="651348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ec85e"/>
                </a:solidFill>
                <a:latin typeface="Arial"/>
              </a:rPr>
              <a:t>ГЕМОФИЛИЯ 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213840" y="1142640"/>
            <a:ext cx="4103640" cy="532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Клинические признаки: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од- и внутри кожные кровотечения, кровоизлияния в крупные суставы, подкожные и межмышечные гематомы, гематурия, сильное кровотечение при травмах. Причина: дефи- цит антигемофильного глобулина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Тип наследования: </a:t>
            </a: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Х- рецессивный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Популяционная частота</a:t>
            </a: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– 1 : 2500 (мальчиков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977" name="Picture 7" descr="гемоф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4286160" y="1628640"/>
            <a:ext cx="4602240" cy="329436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27402"/>
                </a:solidFill>
                <a:latin typeface="Arial"/>
              </a:rPr>
              <a:t>СИНДРОМ  ДАУНА (ТРИСОМИЯ 21)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788000" y="1071360"/>
            <a:ext cx="4356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Описан  в 1866 г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Клинические признаки:</a:t>
            </a: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умственная отсталость, плоское лицо, монголоид -ный разрез глаз, открытый рот, брахицефалия, корот- кие конечности, попереч -ная ладонная складка, пороки сердца и катаракта. Частота рождения таких детей зависит от возраста матери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Тип наследования:</a:t>
            </a: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 трисомия 21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Популяционная частота</a:t>
            </a: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– 1 : 500 - 1000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980" name="Picture 8" descr="даун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214200" y="1000080"/>
            <a:ext cx="4570560" cy="235764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1" descr="даун 2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214200" y="3500280"/>
            <a:ext cx="4560840" cy="235764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СИНДРОМ МАРТИНА-БЕЛЛА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83" name="Содержимое 5" descr="мартин белл.jpg"/>
          <p:cNvPicPr/>
          <p:nvPr/>
        </p:nvPicPr>
        <p:blipFill>
          <a:blip r:embed="rId1"/>
          <a:stretch/>
        </p:blipFill>
        <p:spPr>
          <a:xfrm>
            <a:off x="214200" y="928800"/>
            <a:ext cx="3071880" cy="3062160"/>
          </a:xfrm>
          <a:prstGeom prst="rect">
            <a:avLst/>
          </a:prstGeom>
          <a:ln w="0">
            <a:noFill/>
          </a:ln>
        </p:spPr>
      </p:pic>
      <p:pic>
        <p:nvPicPr>
          <p:cNvPr id="984" name="Содержимое 6" descr="хр мартин белл.jpg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214200" y="4572000"/>
            <a:ext cx="3000600" cy="2050920"/>
          </a:xfrm>
          <a:prstGeom prst="rect">
            <a:avLst/>
          </a:prstGeom>
          <a:ln w="0">
            <a:noFill/>
          </a:ln>
        </p:spPr>
      </p:pic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3429000" y="856800"/>
            <a:ext cx="5500800" cy="52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  <a:ea typeface="Arial"/>
              </a:rPr>
              <a:t>Синдром Мартина-Белла – самая распространенная (после болезни Дауна) форма умственной отсталости. Мальчики болеют в 2-3 раза чаще девочек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Клинические признаки: 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  <a:ea typeface="Arial"/>
              </a:rPr>
              <a:t>удлиненное лицо, высокий выступающий лоб, выступающий подбородок, оттопыренные крупные уши, крупные кисти и стопы,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макроорхидизм,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  <a:ea typeface="Arial"/>
              </a:rPr>
              <a:t> пролапс  митрального клапана, плоскостопие,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глубокая или умеренная  олигофрения.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Цитогенетическая картина: 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  <a:ea typeface="Arial"/>
              </a:rPr>
              <a:t> ломкость дистального конца длинного плечика Х-хромосомы (Х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  <a:ea typeface="Arial"/>
              </a:rPr>
              <a:t>q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  <a:ea typeface="Arial"/>
              </a:rPr>
              <a:t> – напоминает спутник)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Тип наследования: Х-сцепленный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Популяционная частота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  <a:ea typeface="Arial"/>
              </a:rPr>
              <a:t> – 1 : 1250 (мальчики);  1 : 2500-3000 (девочки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6" name="TextBox 7"/>
          <p:cNvSpPr/>
          <p:nvPr/>
        </p:nvSpPr>
        <p:spPr>
          <a:xfrm>
            <a:off x="214200" y="4000680"/>
            <a:ext cx="3143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5e5ff"/>
                </a:solidFill>
                <a:latin typeface="Arial"/>
              </a:rPr>
              <a:t>Лицо больного с синдромом Мартина-Белла</a:t>
            </a:r>
            <a:endParaRPr b="1" lang="en-US" sz="1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87" name="TextBox 8"/>
          <p:cNvSpPr/>
          <p:nvPr/>
        </p:nvSpPr>
        <p:spPr>
          <a:xfrm>
            <a:off x="3286080" y="6143760"/>
            <a:ext cx="557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Ломкая Х-хромосома (слева – женская, справа – мужская) при синдроме Мартина-Белла</a:t>
            </a:r>
            <a:endParaRPr b="1" lang="en-US" sz="1600" spc="-1" strike="noStrike">
              <a:solidFill>
                <a:srgbClr val="e5e5ff"/>
              </a:solidFill>
              <a:latin typeface="Arial"/>
            </a:endParaRPr>
          </a:p>
        </p:txBody>
      </p:sp>
    </p:spTree>
  </p:cSld>
  <p:transition spd="med">
    <p:plus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Синдром трисомии 9р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89" name="Содержимое 5" descr="file_6181-.jpg"/>
          <p:cNvPicPr/>
          <p:nvPr/>
        </p:nvPicPr>
        <p:blipFill>
          <a:blip r:embed="rId1"/>
          <a:stretch/>
        </p:blipFill>
        <p:spPr>
          <a:xfrm>
            <a:off x="357120" y="1214280"/>
            <a:ext cx="3930840" cy="5000760"/>
          </a:xfrm>
          <a:prstGeom prst="rect">
            <a:avLst/>
          </a:prstGeom>
          <a:ln w="0">
            <a:noFill/>
          </a:ln>
        </p:spPr>
      </p:pic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357440" y="1285560"/>
            <a:ext cx="44290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Клинические признаки: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  <a:ea typeface="Arial"/>
              </a:rPr>
              <a:t>умственная отсталость, задержка роста, микробрахице-фалия, антимонголоидный разрез глаз, глубоко посаженные глаза (энофтальм), гипертелоризм, косоглазие, гипоплазия ногтей, синдактилия, врожденные пороки внутренних органов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Тип наследования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  <a:ea typeface="Arial"/>
              </a:rPr>
              <a:t>– частичная трисомия 9 р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Популяционная частота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  <a:ea typeface="Arial"/>
              </a:rPr>
              <a:t>– неизвестна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91" name="TextBox 6"/>
          <p:cNvSpPr/>
          <p:nvPr/>
        </p:nvSpPr>
        <p:spPr>
          <a:xfrm>
            <a:off x="1143000" y="6286680"/>
            <a:ext cx="314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Женщина 21 года</a:t>
            </a:r>
            <a:endParaRPr b="1" lang="en-US" sz="1600" spc="-1" strike="noStrike">
              <a:solidFill>
                <a:srgbClr val="e5e5ff"/>
              </a:solidFill>
              <a:latin typeface="Arial"/>
            </a:endParaRPr>
          </a:p>
        </p:txBody>
      </p:sp>
    </p:spTree>
  </p:cSld>
  <p:transition spd="med">
    <p:plus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7402"/>
                </a:solidFill>
                <a:latin typeface="Arial"/>
              </a:rPr>
              <a:t>СИНДРОМ ШЕРЕШЕВСКОГО-ТЕРНЕРА (ХО –СИНДРОМ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140000" y="1600200"/>
            <a:ext cx="45464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Клинические признаки:</a:t>
            </a: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низкий рост, первичная аменорея, бесплодие, стертые вторичные половые признаки, крыловидные кожные складки на шее, врожденные пороки сердца, гипоплазия ногтей, снижение остроты зрения и слуха, поперечная ладонная склад -ка, незначительное снижение умственного развития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Тип наследования: </a:t>
            </a: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моносомия Х-хромосомы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Популяционная частота</a:t>
            </a: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– 2 : 10 000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994" name="Picture 7" descr="тернер"/>
          <p:cNvPicPr/>
          <p:nvPr/>
        </p:nvPicPr>
        <p:blipFill>
          <a:blip r:embed="rId1"/>
          <a:stretch/>
        </p:blipFill>
        <p:spPr>
          <a:xfrm>
            <a:off x="428760" y="1428840"/>
            <a:ext cx="3468600" cy="514332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СИНДРОМ  ПАТАУ (ТРИСОМИЯ 13)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142560" y="1285560"/>
            <a:ext cx="4143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Описан в 1961 г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Клинические признаки: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микроцефалия, расщепле- ние губы и неба, полидактилия, узкая глазная щель, эпикант, пороки внутренних органов, гипоплазия наружных половых органов; 95% умирают до 1 года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Тип наследования:</a:t>
            </a: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 тирисомия 13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Популяционная частота 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1 : 7500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997" name="Picture 7" descr="патау"/>
          <p:cNvPicPr/>
          <p:nvPr/>
        </p:nvPicPr>
        <p:blipFill>
          <a:blip r:embed="rId1"/>
          <a:stretch/>
        </p:blipFill>
        <p:spPr>
          <a:xfrm>
            <a:off x="4286160" y="1571760"/>
            <a:ext cx="4678560" cy="351468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СИНДРОМ КОШАЧЬЕГО КРИКА (МОНОСОМИЯ 5р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428720" y="1557000"/>
            <a:ext cx="41101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Описан в 1963 г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Клинические признаки:</a:t>
            </a: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необычный плач, напоминающий кошачье мяуканье, микроцефалия, антимонголоидный разрез глаз, умственная отсталость, лунопообразное лицо, эпикант, гипертелоризм, аномалии внутренних органов. Умирают чаще до 10 летнего возраста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Тип наследования:</a:t>
            </a: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 моносомия 5 р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Популяционная частота 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–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1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: 45 000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000" name="Picture 7" descr="кош"/>
          <p:cNvPicPr/>
          <p:nvPr/>
        </p:nvPicPr>
        <p:blipFill>
          <a:blip r:embed="rId1"/>
          <a:stretch/>
        </p:blipFill>
        <p:spPr>
          <a:xfrm>
            <a:off x="285840" y="1428840"/>
            <a:ext cx="3927240" cy="500040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СИНДРОМ ЭЛЕРСА-ДАНЛО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214200" y="1142640"/>
            <a:ext cx="39290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Описан в 1657 г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Клинические признаки: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гиперрастяжимость соединительной ткани (нарушение синтеза коллагена); кожа тонкая как бумага; перегибание пальцевых суставов на 90, а локтевого и коленного суставов на 10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°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; пороки внутренних органов. Существует 8 типов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Тип наследования: </a:t>
            </a: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Х-рецессив., АД, АР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Популяционная частота</a:t>
            </a: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– 1 : 100 000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003" name="Picture 7" descr="элерса-д"/>
          <p:cNvPicPr/>
          <p:nvPr/>
        </p:nvPicPr>
        <p:blipFill>
          <a:blip r:embed="rId1"/>
          <a:stretch/>
        </p:blipFill>
        <p:spPr>
          <a:xfrm>
            <a:off x="6572160" y="1071720"/>
            <a:ext cx="2427480" cy="3643200"/>
          </a:xfrm>
          <a:prstGeom prst="rect">
            <a:avLst/>
          </a:prstGeom>
          <a:ln w="0">
            <a:noFill/>
          </a:ln>
        </p:spPr>
      </p:pic>
      <p:pic>
        <p:nvPicPr>
          <p:cNvPr id="1004" name="Picture 8" descr="элерса 2"/>
          <p:cNvPicPr/>
          <p:nvPr/>
        </p:nvPicPr>
        <p:blipFill>
          <a:blip r:embed="rId2"/>
          <a:stretch/>
        </p:blipFill>
        <p:spPr>
          <a:xfrm>
            <a:off x="4214880" y="1071720"/>
            <a:ext cx="2297160" cy="521496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МЕТОДЫ ИЗУЧЕНИЯ ГЕНЕТИКИ ЧЕЛОВЕКА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627280" y="1599840"/>
            <a:ext cx="6059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400c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. Клинико-генеалогический метод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составление родословных, предложил в1865 г. Ф.Гальтон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400c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. Близнецовый метод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предложил в 1875 г. Ф.Гальтон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400c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. Дерматоглифический метод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предложил в 1892 г. Ф.Гальтон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400c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4. Популяционно статистический метод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предложили в 1908 г. Г.Харди и В.Вайнберг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400c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5. Цитогенетический метод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предложили в 1956 г. Д.Тийо и А.Левин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400c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6. Биохимический мето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400c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7. Молекулярно-генетический мето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3" name="Picture 4" descr="гальтон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395280" y="1628640"/>
            <a:ext cx="2112840" cy="28083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104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ПРОГЕРИЯ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pic>
        <p:nvPicPr>
          <p:cNvPr id="1006" name="Picture 8" descr="прогерия"/>
          <p:cNvPicPr/>
          <p:nvPr/>
        </p:nvPicPr>
        <p:blipFill>
          <a:blip r:embed="rId1"/>
          <a:stretch/>
        </p:blipFill>
        <p:spPr>
          <a:xfrm>
            <a:off x="285840" y="428760"/>
            <a:ext cx="2557440" cy="300024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9" descr="прогерия 2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3500280" y="928800"/>
            <a:ext cx="2071800" cy="3309840"/>
          </a:xfrm>
          <a:prstGeom prst="rect">
            <a:avLst/>
          </a:prstGeom>
          <a:ln w="0">
            <a:noFill/>
          </a:ln>
        </p:spPr>
      </p:pic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301680" y="4076640"/>
            <a:ext cx="8540640" cy="27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писана в 1886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линические признаки: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дкое генетическое заболевание, уско-ряющее процесс старения в 8-10 раз. Дети умирают в 13-15 лет после нескольких инфарктов и инсультов дряхлыми стариками. Болезнь вызывает мутантный ген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MNA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отвечающий за синтез белков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amin A,B,C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необходимых для соединительной ткани. Наступает тотальная алопеция, на коже черепа выражена венозная сеть.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ип наследования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 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опуляционная частота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извест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9" name="Picture 10" descr="прог 3"/>
          <p:cNvPicPr/>
          <p:nvPr/>
        </p:nvPicPr>
        <p:blipFill>
          <a:blip r:embed="rId3">
            <a:lum contrast="20000"/>
          </a:blip>
          <a:stretch/>
        </p:blipFill>
        <p:spPr>
          <a:xfrm>
            <a:off x="6656400" y="500040"/>
            <a:ext cx="2487600" cy="32907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0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 rot="1711800">
            <a:off x="1618920" y="141264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Arial"/>
              </a:rPr>
              <a:t>Подготовил ученик 9</a:t>
            </a:r>
            <a:r>
              <a:rPr b="1" i="1" lang="ru-RU" sz="2800" spc="-1" strike="noStrike">
                <a:solidFill>
                  <a:srgbClr val="e5e5ff"/>
                </a:solidFill>
                <a:latin typeface="Arial"/>
              </a:rPr>
              <a:t> класса </a:t>
            </a:r>
            <a:endParaRPr b="1" lang="en-US" sz="28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 rot="20683200">
            <a:off x="1692360" y="3644640"/>
            <a:ext cx="548640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Кимин  Сергей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линико-генеалогический метод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214200" y="1214280"/>
            <a:ext cx="450072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здоровый мужчина (больной -      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здоровая женщина (больная -      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0" y="1285920"/>
            <a:ext cx="42861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Метод состоит из 3-х этапов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 Сбор сведений о семь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 Составление родословн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. Генеалогический и генетический анализ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бор данных начинается с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обанда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человека, родословную которого нужно составить. Братья и сестра его называются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ибс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составления родословной применяют условные обозначения и делают графические изображ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Прямоугольник 5"/>
          <p:cNvSpPr/>
          <p:nvPr/>
        </p:nvSpPr>
        <p:spPr>
          <a:xfrm>
            <a:off x="285840" y="1285920"/>
            <a:ext cx="28584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88" name="Прямоугольник 6"/>
          <p:cNvSpPr/>
          <p:nvPr/>
        </p:nvSpPr>
        <p:spPr>
          <a:xfrm>
            <a:off x="4071960" y="1285920"/>
            <a:ext cx="285840" cy="285840"/>
          </a:xfrm>
          <a:prstGeom prst="rect">
            <a:avLst/>
          </a:prstGeom>
          <a:solidFill>
            <a:srgbClr val="000514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89" name="Овал 7"/>
          <p:cNvSpPr/>
          <p:nvPr/>
        </p:nvSpPr>
        <p:spPr>
          <a:xfrm>
            <a:off x="214200" y="1643040"/>
            <a:ext cx="357480" cy="357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90" name="Овал 8"/>
          <p:cNvSpPr/>
          <p:nvPr/>
        </p:nvSpPr>
        <p:spPr>
          <a:xfrm>
            <a:off x="4143240" y="1643040"/>
            <a:ext cx="357480" cy="357120"/>
          </a:xfrm>
          <a:prstGeom prst="ellipse">
            <a:avLst/>
          </a:prstGeom>
          <a:solidFill>
            <a:srgbClr val="00051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91" name="Овал 9"/>
          <p:cNvSpPr/>
          <p:nvPr/>
        </p:nvSpPr>
        <p:spPr>
          <a:xfrm>
            <a:off x="714240" y="2071800"/>
            <a:ext cx="357480" cy="357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92" name="Прямая соединительная линия 11"/>
          <p:cNvSpPr/>
          <p:nvPr/>
        </p:nvSpPr>
        <p:spPr>
          <a:xfrm>
            <a:off x="1071720" y="2249640"/>
            <a:ext cx="14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93" name="Прямая соединительная линия 15"/>
          <p:cNvSpPr/>
          <p:nvPr/>
        </p:nvSpPr>
        <p:spPr>
          <a:xfrm>
            <a:off x="1071720" y="2286000"/>
            <a:ext cx="4284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94" name="Прямая соединительная линия 17"/>
          <p:cNvSpPr/>
          <p:nvPr/>
        </p:nvSpPr>
        <p:spPr>
          <a:xfrm flipH="1">
            <a:off x="1283760" y="2286000"/>
            <a:ext cx="1800" cy="357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95" name="Прямоугольник 19"/>
          <p:cNvSpPr/>
          <p:nvPr/>
        </p:nvSpPr>
        <p:spPr>
          <a:xfrm>
            <a:off x="1500120" y="2143080"/>
            <a:ext cx="285840" cy="285840"/>
          </a:xfrm>
          <a:prstGeom prst="rect">
            <a:avLst/>
          </a:prstGeom>
          <a:solidFill>
            <a:srgbClr val="000514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96" name="TextBox 21"/>
          <p:cNvSpPr/>
          <p:nvPr/>
        </p:nvSpPr>
        <p:spPr>
          <a:xfrm>
            <a:off x="1928880" y="2143080"/>
            <a:ext cx="27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e5ff"/>
                </a:solidFill>
                <a:latin typeface="Arial"/>
              </a:rPr>
              <a:t>- брак;   пробанд -</a:t>
            </a:r>
            <a:endParaRPr b="1" lang="en-US" sz="18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97" name="Прямоугольник 22"/>
          <p:cNvSpPr/>
          <p:nvPr/>
        </p:nvSpPr>
        <p:spPr>
          <a:xfrm>
            <a:off x="4000680" y="2143080"/>
            <a:ext cx="28548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cxnSp>
        <p:nvCxnSpPr>
          <p:cNvPr id="798" name="Прямая со стрелкой 24"/>
          <p:cNvCxnSpPr/>
          <p:nvPr/>
        </p:nvCxnSpPr>
        <p:spPr>
          <a:xfrm flipH="1" flipV="1">
            <a:off x="4214160" y="2499480"/>
            <a:ext cx="214920" cy="143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99" name="Прямая соединительная линия 27"/>
          <p:cNvSpPr/>
          <p:nvPr/>
        </p:nvSpPr>
        <p:spPr>
          <a:xfrm>
            <a:off x="285840" y="2786040"/>
            <a:ext cx="17143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00" name="Прямая соединительная линия 29"/>
          <p:cNvSpPr/>
          <p:nvPr/>
        </p:nvSpPr>
        <p:spPr>
          <a:xfrm flipH="1">
            <a:off x="283680" y="2786040"/>
            <a:ext cx="1800" cy="214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01" name="Прямая соединительная линия 31"/>
          <p:cNvSpPr/>
          <p:nvPr/>
        </p:nvSpPr>
        <p:spPr>
          <a:xfrm flipH="1">
            <a:off x="712800" y="2786040"/>
            <a:ext cx="1440" cy="214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02" name="Прямая соединительная линия 33"/>
          <p:cNvSpPr/>
          <p:nvPr/>
        </p:nvSpPr>
        <p:spPr>
          <a:xfrm flipH="1">
            <a:off x="1283760" y="2786040"/>
            <a:ext cx="1800" cy="214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03" name="Прямая соединительная линия 35"/>
          <p:cNvSpPr/>
          <p:nvPr/>
        </p:nvSpPr>
        <p:spPr>
          <a:xfrm flipH="1">
            <a:off x="1998720" y="2786040"/>
            <a:ext cx="1440" cy="214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04" name="Прямоугольник 36"/>
          <p:cNvSpPr/>
          <p:nvPr/>
        </p:nvSpPr>
        <p:spPr>
          <a:xfrm>
            <a:off x="214200" y="3000240"/>
            <a:ext cx="214560" cy="21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05" name="Прямоугольник 37"/>
          <p:cNvSpPr/>
          <p:nvPr/>
        </p:nvSpPr>
        <p:spPr>
          <a:xfrm>
            <a:off x="1143000" y="3000240"/>
            <a:ext cx="214200" cy="21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06" name="Овал 38"/>
          <p:cNvSpPr/>
          <p:nvPr/>
        </p:nvSpPr>
        <p:spPr>
          <a:xfrm>
            <a:off x="642960" y="3000240"/>
            <a:ext cx="285840" cy="285840"/>
          </a:xfrm>
          <a:prstGeom prst="ellipse">
            <a:avLst/>
          </a:prstGeom>
          <a:solidFill>
            <a:srgbClr val="00051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07" name="Овал 39"/>
          <p:cNvSpPr/>
          <p:nvPr/>
        </p:nvSpPr>
        <p:spPr>
          <a:xfrm>
            <a:off x="1857240" y="3000240"/>
            <a:ext cx="285840" cy="285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08" name="TextBox 40"/>
          <p:cNvSpPr/>
          <p:nvPr/>
        </p:nvSpPr>
        <p:spPr>
          <a:xfrm>
            <a:off x="2286000" y="285768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e5ff"/>
                </a:solidFill>
                <a:latin typeface="Arial"/>
              </a:rPr>
              <a:t>- дети (сибсы)</a:t>
            </a:r>
            <a:endParaRPr b="1" lang="en-US" sz="18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09" name="Прямоугольник 41"/>
          <p:cNvSpPr/>
          <p:nvPr/>
        </p:nvSpPr>
        <p:spPr>
          <a:xfrm>
            <a:off x="142920" y="3643200"/>
            <a:ext cx="4357800" cy="2928960"/>
          </a:xfrm>
          <a:prstGeom prst="rect">
            <a:avLst/>
          </a:prstGeom>
          <a:solidFill>
            <a:srgbClr val="00b0f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10" name="Овал 42"/>
          <p:cNvSpPr/>
          <p:nvPr/>
        </p:nvSpPr>
        <p:spPr>
          <a:xfrm>
            <a:off x="1428840" y="3786120"/>
            <a:ext cx="357120" cy="357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11" name="Прямоугольник 43"/>
          <p:cNvSpPr/>
          <p:nvPr/>
        </p:nvSpPr>
        <p:spPr>
          <a:xfrm>
            <a:off x="2286000" y="3786120"/>
            <a:ext cx="357120" cy="357120"/>
          </a:xfrm>
          <a:prstGeom prst="rect">
            <a:avLst/>
          </a:prstGeom>
          <a:solidFill>
            <a:srgbClr val="000514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12" name="Прямая соединительная линия 45"/>
          <p:cNvSpPr/>
          <p:nvPr/>
        </p:nvSpPr>
        <p:spPr>
          <a:xfrm>
            <a:off x="1857240" y="4000680"/>
            <a:ext cx="3574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13" name="Прямая соединительная линия 47"/>
          <p:cNvSpPr/>
          <p:nvPr/>
        </p:nvSpPr>
        <p:spPr>
          <a:xfrm flipH="1">
            <a:off x="1998720" y="4002120"/>
            <a:ext cx="1440" cy="285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14" name="Прямая соединительная линия 49"/>
          <p:cNvSpPr/>
          <p:nvPr/>
        </p:nvSpPr>
        <p:spPr>
          <a:xfrm>
            <a:off x="1143000" y="4286160"/>
            <a:ext cx="157176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15" name="Прямая соединительная линия 51"/>
          <p:cNvSpPr/>
          <p:nvPr/>
        </p:nvSpPr>
        <p:spPr>
          <a:xfrm flipH="1">
            <a:off x="1141560" y="4287960"/>
            <a:ext cx="1440" cy="214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16" name="Прямая соединительная линия 53"/>
          <p:cNvSpPr/>
          <p:nvPr/>
        </p:nvSpPr>
        <p:spPr>
          <a:xfrm flipH="1">
            <a:off x="1998720" y="4287960"/>
            <a:ext cx="1440" cy="214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17" name="Прямая соединительная линия 55"/>
          <p:cNvSpPr/>
          <p:nvPr/>
        </p:nvSpPr>
        <p:spPr>
          <a:xfrm flipH="1">
            <a:off x="2712600" y="4287960"/>
            <a:ext cx="1800" cy="214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18" name="Прямоугольник 56"/>
          <p:cNvSpPr/>
          <p:nvPr/>
        </p:nvSpPr>
        <p:spPr>
          <a:xfrm>
            <a:off x="1000080" y="4500720"/>
            <a:ext cx="285840" cy="28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19" name="Овал 57"/>
          <p:cNvSpPr/>
          <p:nvPr/>
        </p:nvSpPr>
        <p:spPr>
          <a:xfrm>
            <a:off x="1857240" y="4500720"/>
            <a:ext cx="357480" cy="357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0" name="Овал 58"/>
          <p:cNvSpPr/>
          <p:nvPr/>
        </p:nvSpPr>
        <p:spPr>
          <a:xfrm>
            <a:off x="2571840" y="4500720"/>
            <a:ext cx="357120" cy="357120"/>
          </a:xfrm>
          <a:prstGeom prst="ellipse">
            <a:avLst/>
          </a:prstGeom>
          <a:solidFill>
            <a:srgbClr val="00051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1" name="Прямоугольник 59"/>
          <p:cNvSpPr/>
          <p:nvPr/>
        </p:nvSpPr>
        <p:spPr>
          <a:xfrm>
            <a:off x="3214800" y="4500720"/>
            <a:ext cx="285480" cy="28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2" name="Овал 60"/>
          <p:cNvSpPr/>
          <p:nvPr/>
        </p:nvSpPr>
        <p:spPr>
          <a:xfrm>
            <a:off x="357120" y="4429080"/>
            <a:ext cx="357120" cy="357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3" name="Прямая соединительная линия 62"/>
          <p:cNvSpPr/>
          <p:nvPr/>
        </p:nvSpPr>
        <p:spPr>
          <a:xfrm>
            <a:off x="3000240" y="4714920"/>
            <a:ext cx="1429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4" name="Прямая соединительная линия 64"/>
          <p:cNvSpPr/>
          <p:nvPr/>
        </p:nvSpPr>
        <p:spPr>
          <a:xfrm flipH="1">
            <a:off x="3069720" y="4716360"/>
            <a:ext cx="1800" cy="428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5" name="Прямая соединительная линия 66"/>
          <p:cNvSpPr/>
          <p:nvPr/>
        </p:nvSpPr>
        <p:spPr>
          <a:xfrm>
            <a:off x="2928960" y="4572000"/>
            <a:ext cx="2142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6" name="Прямая соединительная линия 68"/>
          <p:cNvSpPr/>
          <p:nvPr/>
        </p:nvSpPr>
        <p:spPr>
          <a:xfrm>
            <a:off x="714240" y="4643280"/>
            <a:ext cx="28584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7" name="Прямая соединительная линия 70"/>
          <p:cNvSpPr/>
          <p:nvPr/>
        </p:nvSpPr>
        <p:spPr>
          <a:xfrm flipH="1">
            <a:off x="855720" y="4645080"/>
            <a:ext cx="1440" cy="500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8" name="Прямая соединительная линия 72"/>
          <p:cNvSpPr/>
          <p:nvPr/>
        </p:nvSpPr>
        <p:spPr>
          <a:xfrm>
            <a:off x="571680" y="5143680"/>
            <a:ext cx="6426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9" name="Прямоугольник 73"/>
          <p:cNvSpPr/>
          <p:nvPr/>
        </p:nvSpPr>
        <p:spPr>
          <a:xfrm>
            <a:off x="428760" y="5357880"/>
            <a:ext cx="28548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30" name="Прямоугольник 74"/>
          <p:cNvSpPr/>
          <p:nvPr/>
        </p:nvSpPr>
        <p:spPr>
          <a:xfrm>
            <a:off x="1071720" y="5357880"/>
            <a:ext cx="28548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31" name="Овал 75"/>
          <p:cNvSpPr/>
          <p:nvPr/>
        </p:nvSpPr>
        <p:spPr>
          <a:xfrm>
            <a:off x="2428920" y="5429160"/>
            <a:ext cx="357120" cy="357120"/>
          </a:xfrm>
          <a:prstGeom prst="ellipse">
            <a:avLst/>
          </a:prstGeom>
          <a:solidFill>
            <a:srgbClr val="00051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32" name="Овал 76"/>
          <p:cNvSpPr/>
          <p:nvPr/>
        </p:nvSpPr>
        <p:spPr>
          <a:xfrm>
            <a:off x="4000680" y="5429160"/>
            <a:ext cx="357120" cy="357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33" name="Прямоугольник 77"/>
          <p:cNvSpPr/>
          <p:nvPr/>
        </p:nvSpPr>
        <p:spPr>
          <a:xfrm>
            <a:off x="3000240" y="5500800"/>
            <a:ext cx="285840" cy="285480"/>
          </a:xfrm>
          <a:prstGeom prst="rect">
            <a:avLst/>
          </a:prstGeom>
          <a:solidFill>
            <a:srgbClr val="000514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34" name="Прямоугольник 78"/>
          <p:cNvSpPr/>
          <p:nvPr/>
        </p:nvSpPr>
        <p:spPr>
          <a:xfrm>
            <a:off x="3500280" y="5500800"/>
            <a:ext cx="285840" cy="28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35" name="Прямая соединительная линия 80"/>
          <p:cNvSpPr/>
          <p:nvPr/>
        </p:nvSpPr>
        <p:spPr>
          <a:xfrm>
            <a:off x="2571840" y="5143680"/>
            <a:ext cx="15714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36" name="Прямая соединительная линия 82"/>
          <p:cNvSpPr/>
          <p:nvPr/>
        </p:nvSpPr>
        <p:spPr>
          <a:xfrm flipH="1">
            <a:off x="569520" y="5145120"/>
            <a:ext cx="1800" cy="214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37" name="Прямая соединительная линия 84"/>
          <p:cNvSpPr/>
          <p:nvPr/>
        </p:nvSpPr>
        <p:spPr>
          <a:xfrm flipH="1">
            <a:off x="1212840" y="5145120"/>
            <a:ext cx="1440" cy="214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38" name="Прямая соединительная линия 86"/>
          <p:cNvSpPr/>
          <p:nvPr/>
        </p:nvSpPr>
        <p:spPr>
          <a:xfrm flipH="1">
            <a:off x="2569680" y="5145120"/>
            <a:ext cx="1800" cy="285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39" name="Прямая соединительная линия 88"/>
          <p:cNvSpPr/>
          <p:nvPr/>
        </p:nvSpPr>
        <p:spPr>
          <a:xfrm flipH="1">
            <a:off x="3141720" y="5145120"/>
            <a:ext cx="1440" cy="357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40" name="Прямая соединительная линия 90"/>
          <p:cNvSpPr/>
          <p:nvPr/>
        </p:nvSpPr>
        <p:spPr>
          <a:xfrm flipH="1">
            <a:off x="3641760" y="5145120"/>
            <a:ext cx="1440" cy="285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41" name="Прямая соединительная линия 92"/>
          <p:cNvSpPr/>
          <p:nvPr/>
        </p:nvSpPr>
        <p:spPr>
          <a:xfrm flipH="1">
            <a:off x="4141800" y="5145120"/>
            <a:ext cx="1440" cy="285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cxnSp>
        <p:nvCxnSpPr>
          <p:cNvPr id="842" name="Прямая со стрелкой 94"/>
          <p:cNvCxnSpPr/>
          <p:nvPr/>
        </p:nvCxnSpPr>
        <p:spPr>
          <a:xfrm flipV="1">
            <a:off x="3927960" y="5785920"/>
            <a:ext cx="143640" cy="2152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843" name="TextBox 98"/>
          <p:cNvSpPr/>
          <p:nvPr/>
        </p:nvSpPr>
        <p:spPr>
          <a:xfrm>
            <a:off x="2643120" y="3786120"/>
            <a:ext cx="57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5e5ff"/>
                </a:solidFill>
                <a:latin typeface="Arial"/>
              </a:rPr>
              <a:t>аа</a:t>
            </a:r>
            <a:endParaRPr b="1" lang="en-US" sz="1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44" name="TextBox 99"/>
          <p:cNvSpPr/>
          <p:nvPr/>
        </p:nvSpPr>
        <p:spPr>
          <a:xfrm>
            <a:off x="928800" y="3786120"/>
            <a:ext cx="5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5e5ff"/>
                </a:solidFill>
                <a:latin typeface="Arial"/>
              </a:rPr>
              <a:t>Аа</a:t>
            </a:r>
            <a:endParaRPr b="1" lang="en-US" sz="1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45" name="TextBox 100"/>
          <p:cNvSpPr/>
          <p:nvPr/>
        </p:nvSpPr>
        <p:spPr>
          <a:xfrm>
            <a:off x="3643200" y="4429080"/>
            <a:ext cx="5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5e5ff"/>
                </a:solidFill>
                <a:latin typeface="Arial"/>
              </a:rPr>
              <a:t>Аа</a:t>
            </a:r>
            <a:endParaRPr b="1" lang="en-US" sz="1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46" name="TextBox 101"/>
          <p:cNvSpPr/>
          <p:nvPr/>
        </p:nvSpPr>
        <p:spPr>
          <a:xfrm>
            <a:off x="4000680" y="5857920"/>
            <a:ext cx="5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Аа</a:t>
            </a:r>
            <a:endParaRPr b="1" lang="en-US" sz="1600" spc="-1" strike="noStrike">
              <a:solidFill>
                <a:srgbClr val="e5e5ff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Близнецовый метод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285800" y="857160"/>
            <a:ext cx="464364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войни встречаются 1/84 новорожденных, 1/3 из них –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монозиготны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однояйцовые – близнецы), остальные -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дизиготные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двуяйцовые – двойняшки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ходные признаки у близнецов называются –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конкордантны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тод используется для оценки степени влияния наследственности и среды на развитие признаков. Поскольку у монозиготных близнецов генотип одинаков, то различия появляются в результате влияния среды обитания (Н – менее 0,5). Этот метод позволил установить наследственно-предрасположенные болезни: туберкулез, шизофрению, умственную отсталость, сахарный диабет и д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9" name="Содержимое 7" descr="file_6190-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214200" y="4000680"/>
            <a:ext cx="3857760" cy="2222280"/>
          </a:xfrm>
          <a:prstGeom prst="rect">
            <a:avLst/>
          </a:prstGeom>
          <a:ln w="0">
            <a:noFill/>
          </a:ln>
        </p:spPr>
      </p:pic>
      <p:sp>
        <p:nvSpPr>
          <p:cNvPr id="850" name="TextBox 8"/>
          <p:cNvSpPr/>
          <p:nvPr/>
        </p:nvSpPr>
        <p:spPr>
          <a:xfrm>
            <a:off x="285840" y="1214280"/>
            <a:ext cx="407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Коэффициент наследственности:</a:t>
            </a:r>
            <a:endParaRPr b="1" lang="en-US" sz="1800" spc="-1" strike="noStrike">
              <a:solidFill>
                <a:srgbClr val="e5e5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5e5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              </a:t>
            </a: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МБ  -  ДБ</a:t>
            </a:r>
            <a:endParaRPr b="1" lang="en-US" sz="18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51" name="Прямая соединительная линия 10"/>
          <p:cNvSpPr/>
          <p:nvPr/>
        </p:nvSpPr>
        <p:spPr>
          <a:xfrm>
            <a:off x="1071720" y="2143080"/>
            <a:ext cx="142848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52" name="TextBox 11"/>
          <p:cNvSpPr/>
          <p:nvPr/>
        </p:nvSpPr>
        <p:spPr>
          <a:xfrm>
            <a:off x="357120" y="192888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Н  =</a:t>
            </a:r>
            <a:endParaRPr b="1" lang="en-US" sz="18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53" name="TextBox 12"/>
          <p:cNvSpPr/>
          <p:nvPr/>
        </p:nvSpPr>
        <p:spPr>
          <a:xfrm>
            <a:off x="1071720" y="221472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100  -  ДБ</a:t>
            </a:r>
            <a:endParaRPr b="1" lang="en-US" sz="18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54" name="TextBox 13"/>
          <p:cNvSpPr/>
          <p:nvPr/>
        </p:nvSpPr>
        <p:spPr>
          <a:xfrm>
            <a:off x="2571840" y="20001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 где</a:t>
            </a:r>
            <a:endParaRPr b="1" lang="en-US" sz="18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55" name="TextBox 14"/>
          <p:cNvSpPr/>
          <p:nvPr/>
        </p:nvSpPr>
        <p:spPr>
          <a:xfrm>
            <a:off x="428760" y="2643120"/>
            <a:ext cx="3857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МБ</a:t>
            </a:r>
            <a:r>
              <a:rPr b="1" lang="ru-RU" sz="1800" spc="-1" strike="noStrike">
                <a:solidFill>
                  <a:srgbClr val="e5e5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e5e5ff"/>
                </a:solidFill>
                <a:latin typeface="Arial"/>
              </a:rPr>
              <a:t>– % сходства у монозиготных близнецов</a:t>
            </a:r>
            <a:endParaRPr b="1" lang="en-US" sz="1800" spc="-1" strike="noStrike">
              <a:solidFill>
                <a:srgbClr val="e5e5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ДБ</a:t>
            </a:r>
            <a:r>
              <a:rPr b="1" lang="ru-RU" sz="1800" spc="-1" strike="noStrike">
                <a:solidFill>
                  <a:srgbClr val="e5e5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e5e5ff"/>
                </a:solidFill>
                <a:latin typeface="Arial"/>
              </a:rPr>
              <a:t>– % сходства у дизиготных близнецов</a:t>
            </a:r>
            <a:endParaRPr b="1" lang="en-US" sz="1800" spc="-1" strike="noStrike">
              <a:solidFill>
                <a:srgbClr val="e5e5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5e5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56" name="TextBox 15"/>
          <p:cNvSpPr/>
          <p:nvPr/>
        </p:nvSpPr>
        <p:spPr>
          <a:xfrm>
            <a:off x="214200" y="6286680"/>
            <a:ext cx="44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Близнецы с глазо-кожным альбинизмом</a:t>
            </a:r>
            <a:endParaRPr b="1" lang="en-US" sz="1600" spc="-1" strike="noStrike">
              <a:solidFill>
                <a:srgbClr val="e5e5ff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7" name="Содержимое 5" descr="ум 2.jpg"/>
          <p:cNvPicPr/>
          <p:nvPr/>
        </p:nvPicPr>
        <p:blipFill>
          <a:blip r:embed="rId1"/>
          <a:stretch/>
        </p:blipFill>
        <p:spPr>
          <a:xfrm>
            <a:off x="285840" y="1143000"/>
            <a:ext cx="3000240" cy="2987640"/>
          </a:xfrm>
          <a:prstGeom prst="rect">
            <a:avLst/>
          </a:prstGeom>
          <a:ln w="0">
            <a:noFill/>
          </a:ln>
        </p:spPr>
      </p:pic>
      <p:pic>
        <p:nvPicPr>
          <p:cNvPr id="858" name="Содержимое 6" descr="ум.jpg"/>
          <p:cNvPicPr/>
          <p:nvPr/>
        </p:nvPicPr>
        <p:blipFill>
          <a:blip r:embed="rId2"/>
          <a:stretch/>
        </p:blipFill>
        <p:spPr>
          <a:xfrm>
            <a:off x="285840" y="4286160"/>
            <a:ext cx="2973240" cy="2286000"/>
          </a:xfrm>
          <a:prstGeom prst="rect">
            <a:avLst/>
          </a:prstGeom>
          <a:ln w="0">
            <a:noFill/>
          </a:ln>
        </p:spPr>
      </p:pic>
      <p:pic>
        <p:nvPicPr>
          <p:cNvPr id="859" name="Рисунок 7" descr="ум 3.jpg"/>
          <p:cNvPicPr/>
          <p:nvPr/>
        </p:nvPicPr>
        <p:blipFill>
          <a:blip r:embed="rId3"/>
          <a:stretch/>
        </p:blipFill>
        <p:spPr>
          <a:xfrm>
            <a:off x="4143240" y="1143000"/>
            <a:ext cx="4761000" cy="5362560"/>
          </a:xfrm>
          <a:prstGeom prst="rect">
            <a:avLst/>
          </a:prstGeom>
          <a:ln w="0">
            <a:noFill/>
          </a:ln>
        </p:spPr>
      </p:pic>
      <p:sp>
        <p:nvSpPr>
          <p:cNvPr id="860" name="TextBox 8"/>
          <p:cNvSpPr/>
          <p:nvPr/>
        </p:nvSpPr>
        <p:spPr>
          <a:xfrm>
            <a:off x="214200" y="142920"/>
            <a:ext cx="857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e5ff"/>
                </a:solidFill>
                <a:latin typeface="Arial"/>
              </a:rPr>
              <a:t>Коэффициент интеллекта, или</a:t>
            </a:r>
            <a:r>
              <a:rPr b="0" lang="en-US" sz="1800" spc="-1" strike="noStrike">
                <a:solidFill>
                  <a:srgbClr val="e5e5ff"/>
                </a:solidFill>
                <a:latin typeface="Arial"/>
              </a:rPr>
              <a:t> IQ</a:t>
            </a:r>
            <a:r>
              <a:rPr b="0" lang="ru-RU" sz="1800" spc="-1" strike="noStrike">
                <a:solidFill>
                  <a:srgbClr val="e5e5ff"/>
                </a:solidFill>
                <a:latin typeface="Arial"/>
              </a:rPr>
              <a:t>, позволяет количественно измерить генетически обусловленные  умственные способности людей ( у дизиготных близнецов  слабоумие : Н = 0,25, а у монозиготных – 0,95)</a:t>
            </a:r>
            <a:endParaRPr b="1" lang="en-US" sz="1800" spc="-1" strike="noStrike">
              <a:solidFill>
                <a:srgbClr val="e5e5ff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Дерматоглифический метод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pic>
        <p:nvPicPr>
          <p:cNvPr id="862" name="Содержимое 5" descr="дерма.jpg"/>
          <p:cNvPicPr/>
          <p:nvPr/>
        </p:nvPicPr>
        <p:blipFill>
          <a:blip r:embed="rId1">
            <a:lum contrast="-10000"/>
          </a:blip>
          <a:stretch/>
        </p:blipFill>
        <p:spPr>
          <a:xfrm>
            <a:off x="214200" y="785880"/>
            <a:ext cx="4100760" cy="1500120"/>
          </a:xfrm>
          <a:prstGeom prst="rect">
            <a:avLst/>
          </a:prstGeom>
          <a:ln w="0">
            <a:noFill/>
          </a:ln>
        </p:spPr>
      </p:pic>
      <p:pic>
        <p:nvPicPr>
          <p:cNvPr id="863" name="Содержимое 6" descr="file_6194-.jpg"/>
          <p:cNvPicPr/>
          <p:nvPr/>
        </p:nvPicPr>
        <p:blipFill>
          <a:blip r:embed="rId2">
            <a:lum contrast="-10000"/>
          </a:blip>
          <a:stretch/>
        </p:blipFill>
        <p:spPr>
          <a:xfrm>
            <a:off x="2214720" y="2857680"/>
            <a:ext cx="2274840" cy="2500200"/>
          </a:xfrm>
          <a:prstGeom prst="rect">
            <a:avLst/>
          </a:prstGeom>
          <a:ln w="0">
            <a:noFill/>
          </a:ln>
        </p:spPr>
      </p:pic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647960" y="785880"/>
            <a:ext cx="42814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генетике используются разделы: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дактилоскоп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рис. на подушечках пальцев), </a:t>
            </a: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пальмоскопия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рис. на ладонях) и </a:t>
            </a: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плантоскоп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рис. на подошве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зличают 4 типа узоров:                  А – дуги (6%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петли (60%),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W 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завитки (30%),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рисунок  (4%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провести линии от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к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о образуется ладонный  угол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(трирадиус)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который в норме не должен превышать 5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º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.                   У Даунов угол равен 89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º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и выше, а 2 ладонные поперечные линии сливаются в одн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По линиям рук можно установить более 100 наследственных болезней.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5" name="Рисунок 7" descr="file_6195-.jpg"/>
          <p:cNvPicPr/>
          <p:nvPr/>
        </p:nvPicPr>
        <p:blipFill>
          <a:blip r:embed="rId3">
            <a:lum contrast="-10000"/>
          </a:blip>
          <a:stretch/>
        </p:blipFill>
        <p:spPr>
          <a:xfrm>
            <a:off x="214200" y="2857680"/>
            <a:ext cx="1857600" cy="3614400"/>
          </a:xfrm>
          <a:prstGeom prst="rect">
            <a:avLst/>
          </a:prstGeom>
          <a:ln w="0">
            <a:noFill/>
          </a:ln>
        </p:spPr>
      </p:pic>
      <p:sp>
        <p:nvSpPr>
          <p:cNvPr id="866" name="TextBox 8"/>
          <p:cNvSpPr/>
          <p:nvPr/>
        </p:nvSpPr>
        <p:spPr>
          <a:xfrm>
            <a:off x="1857240" y="2286000"/>
            <a:ext cx="242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5e5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e5e5ff"/>
                </a:solidFill>
                <a:latin typeface="Arial"/>
              </a:rPr>
              <a:t>W            L             A</a:t>
            </a:r>
            <a:endParaRPr b="1" lang="en-US" sz="1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67" name="TextBox 9"/>
          <p:cNvSpPr/>
          <p:nvPr/>
        </p:nvSpPr>
        <p:spPr>
          <a:xfrm>
            <a:off x="2071800" y="5929200"/>
            <a:ext cx="2571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5e5ff"/>
                </a:solidFill>
                <a:latin typeface="Arial"/>
              </a:rPr>
              <a:t>Болезнь Дауна: лицо больного и ладонь (б)</a:t>
            </a:r>
            <a:endParaRPr b="1" lang="en-US" sz="1600" spc="-1" strike="noStrike">
              <a:solidFill>
                <a:srgbClr val="e5e5ff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Цитогенетический метод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pic>
        <p:nvPicPr>
          <p:cNvPr id="869" name="Содержимое 5" descr="кариотип.jpg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285840" y="785880"/>
            <a:ext cx="3155760" cy="4643280"/>
          </a:xfrm>
          <a:prstGeom prst="rect">
            <a:avLst/>
          </a:prstGeom>
          <a:ln w="0">
            <a:noFill/>
          </a:ln>
        </p:spPr>
      </p:pic>
      <p:pic>
        <p:nvPicPr>
          <p:cNvPr id="870" name="Содержимое 6" descr="хромосомы 2.jpg"/>
          <p:cNvPicPr/>
          <p:nvPr/>
        </p:nvPicPr>
        <p:blipFill>
          <a:blip r:embed="rId2"/>
          <a:stretch/>
        </p:blipFill>
        <p:spPr>
          <a:xfrm>
            <a:off x="6407280" y="4121280"/>
            <a:ext cx="2577960" cy="2663640"/>
          </a:xfrm>
          <a:prstGeom prst="rect">
            <a:avLst/>
          </a:prstGeom>
          <a:ln w="0">
            <a:noFill/>
          </a:ln>
        </p:spPr>
      </p:pic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3500280" y="785880"/>
            <a:ext cx="542952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1956 г. швед. ученые Д. Тийо и А Левин разработали метод культивирования человеческих лейкоцитов и останавливать их деление в стадии метафазы с помощью колхицина. Это позволило  точно изучить кариотип человека. У человека 23 пары хромосом и 24 группы сцепления (22 в аутосомах и две в половых – ХХ и ХУ).          Аутосомные хромосомы делятся на 7 групп (номера идут от крупных к мелким): А, В, С – крупные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, E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средние и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, G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мелки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TextBox 8"/>
          <p:cNvSpPr/>
          <p:nvPr/>
        </p:nvSpPr>
        <p:spPr>
          <a:xfrm>
            <a:off x="3643200" y="4000680"/>
            <a:ext cx="2714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e5ff"/>
                </a:solidFill>
                <a:latin typeface="Arial"/>
              </a:rPr>
              <a:t>Половые хромосомы самые крупные. Многие гены в Х-хромосоме не имеют гомологичного участка в У-хромосоме</a:t>
            </a:r>
            <a:endParaRPr b="1" lang="en-US" sz="18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73" name="TextBox 9"/>
          <p:cNvSpPr/>
          <p:nvPr/>
        </p:nvSpPr>
        <p:spPr>
          <a:xfrm>
            <a:off x="214200" y="5786280"/>
            <a:ext cx="621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Цитогенетический метод позволяет установить хромосомные болезни человека (моносомии, трисомии, </a:t>
            </a:r>
            <a:endParaRPr b="1" lang="en-US" sz="1800" spc="-1" strike="noStrike">
              <a:solidFill>
                <a:srgbClr val="e5e5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делеции и др.)</a:t>
            </a:r>
            <a:endParaRPr b="1" lang="en-US" sz="1800" spc="-1" strike="noStrike">
              <a:solidFill>
                <a:srgbClr val="e5e5ff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9T02:48:54Z</dcterms:created>
  <dc:creator>Д.Л. Белоусов</dc:creator>
  <dc:description/>
  <dc:language>en-US</dc:language>
  <cp:lastModifiedBy>11</cp:lastModifiedBy>
  <dcterms:modified xsi:type="dcterms:W3CDTF">2013-02-11T18:33:54Z</dcterms:modified>
  <cp:revision>137</cp:revision>
  <dc:subject/>
  <dc:title>НАСЛЕДСТВЕННЫЕ БОЛЕЗНИ ЧЕЛОВЕКА</dc:title>
</cp:coreProperties>
</file>