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644-9AE2-464F-AA70-303083A3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C1B-260E-4EE8-A66D-554C2EE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A4B-A654-4688-AC99-908D4E54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43E-4D8B-4219-B1B0-A3B5136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7DDD-D7C1-4CA9-8EB6-DE8ACF5E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9DF3-0937-46D1-8E58-932CC43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EF7-50AF-44DB-97DC-00D7C75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C58-D5FC-4E57-A050-BFD15A81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98A8-ABA0-4EC6-AB45-3BD6DDE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0F7-EF37-4D6D-971C-DB09268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8DD6-7F92-484D-BD5C-B7CA27C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1E5-94F5-4758-9E34-91510B0D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071-75FD-42E8-A8BF-54D5F4E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6F6-4839-4735-926C-416DCD5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D57-E209-4E56-8B9E-496CC9F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47C2-4C91-4A61-854F-3F35198B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F62-8B03-4C43-8246-BCFDFC25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A3D-6585-477A-B439-687983EA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755-E5FC-488D-9C2D-A2F0E19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94B-0216-42FE-9AF9-1CF7ADB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1F6-ED74-4C73-B117-29C52491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3CF-7EA7-42E3-A5A5-FFEB8C3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E61-5BFB-4C0F-83CF-E1D1F10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CAD-6A43-4380-AB2F-07C0C35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9F40-8B4E-418A-8C5E-A2A5E548EA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DA3-22CF-487A-9E72-BE38BCD4AD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My room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y Anton Klimanov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aven’t got a room of my own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share it with my grandmother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 is a table next to the door. There is a computer, a printer, a globe and many CDs on it. There is a chair in front of the tabl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are two beds in the room.  There is a blue carpet on the floor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13440" cy="45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is a big window in my room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867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room is the best place in my ho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</cp:lastModifiedBy>
  <dcterms:modified xsi:type="dcterms:W3CDTF">2013-02-24T13:49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