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0E2-7885-436A-BC1C-E6268AEB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C74-0ECF-4851-A81B-6F06B7B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AD6-45F7-4215-8B1D-3B121031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D92-59A5-4701-9B0B-BFEDF8F8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9A38-3025-4ED9-8FFD-13F13700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8E9-E764-434F-A8D6-46D3423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4448-ED55-4190-B389-4D9DA20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204-4B96-407C-8126-E5AECBB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C0FC-03DA-4667-B224-4655285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7EB-EF26-4B76-A0C6-1E345B47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041-8DE2-4E5D-96FE-C83D3D9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511-9399-4D0A-9F2E-613516CB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8FC-F5E7-445E-9351-793B5E7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4F86-623C-4827-97D2-4751B9C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655-2CD5-43C3-B7E2-4B2D7B86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178-10FB-4186-9C8D-E546C091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BD1F-BACB-4D16-B581-46B0DBAB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B3C-88E3-4011-86E7-23C4ABA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F83-0212-44F7-B264-4058BF9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991-7B74-4198-88C1-2E74320E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5C0-8EB0-46CE-BE0E-43F75FB2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BD3-B66F-488E-A72B-9C8977B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3B5-9365-4A75-AC86-310E0C2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D2F-4943-4B64-8FCE-1F83FED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6E5-1A8F-46E9-A8E7-9F33EE9A49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9F4-736D-4011-A1FD-3B5FD17F8B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My room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y Anton Klimanov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haven’t got a room of my own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 share it with my grandmother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 is a table next to the door. There is a computer, a printer, a globe and many CDs on it. There is a chair in front of the tabl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are two beds in the room.  There is a blue carpet on the floor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013440" cy="4510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re is a big window in my room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867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room is the best place in my ho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</cp:lastModifiedBy>
  <dcterms:modified xsi:type="dcterms:W3CDTF">2013-02-24T13:49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