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867D-BE35-4B4A-A65F-1D4B9F97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9296-30AF-41CA-8176-BB500A5A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26D-D46A-4F84-9810-86DAB8AC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654F-5D7F-4C3C-89F9-9E6D97DB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FDC2-7D39-4759-B9C2-42ACCB58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9FEE-5BA2-4700-A1F9-0BD2C4F4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3BF-45BD-40C7-AC58-02FBBD02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07BF-AE85-4110-8B20-02E8648D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E0F4-C242-480E-8476-27E13A12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4330-C9D5-4FA0-A874-211FFB16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E58-78C5-42B3-B03A-200E90B4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9085-E66A-4015-BDAB-2FEBFDE3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E948-AF43-4EAB-9694-D53355BF7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0&amp;text=&#1075;&#1083;&#1072;&#1079;&#1072;%20&#1076;&#1077;&#1090;&#1077;&#1081;%20&#1079;&#1072;&#1082;&#1088;&#1099;&#1090;&#1099;&#1077;%20&#1092;&#1086;&#1090;&#1086;&amp;img_url=http%3A%2F%2Fi96.mindmix.ru%2F3%2F72%2F217203%2F39%2F3570039%2Fx_f4863204.jpeg&amp;pos=310&amp;rpt=simage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6960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Andalus"/>
              </a:rPr>
              <a:t>Helping Around the House: Laying the Table. Table Manners”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14600" y="5029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dalus"/>
              </a:rPr>
              <a:t>A lesson by O.V. Taseny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dalus"/>
              </a:rPr>
              <a:t>Grade 6-A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88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Situational task #2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What do you know about table manners?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ndalus"/>
              </a:rPr>
              <a:t>Match the picture and the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1. I am going to eat more.        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2. I’m finished.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3. The table is s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20723" t="12724" r="0" b="0"/>
          <a:stretch/>
        </p:blipFill>
        <p:spPr>
          <a:xfrm>
            <a:off x="1981080" y="47242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6705720" y="17524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2143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dalus"/>
              </a:rPr>
              <a:t>Contextual Tas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#1 – giving adv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#2 – giving 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64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</a:rPr>
              <a:t>DYNAMIC P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38880" y="457200"/>
            <a:ext cx="16192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3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6000"/>
                            </p:stCondLst>
                            <p:childTnLst>
                              <p:par>
                                <p:cTn id="3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</a:rPr>
              <a:t>Setting th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581280" cy="3276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38098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31520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alus"/>
              </a:rPr>
              <a:t>What is “GOOD” and what is “RUDE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181480" y="2743200"/>
            <a:ext cx="3048120" cy="2057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14400" y="3809880"/>
            <a:ext cx="2971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124440" cy="2362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029200" y="533520"/>
            <a:ext cx="3276720" cy="2514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029200" y="3657600"/>
            <a:ext cx="3276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276720" cy="2109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400800" y="9907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419720" y="3962520"/>
            <a:ext cx="3809880" cy="2495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143000" y="3581280"/>
            <a:ext cx="24382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2162160" cy="2133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248520" y="762120"/>
            <a:ext cx="164772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038480" y="3352680"/>
            <a:ext cx="18669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</a:rPr>
              <a:t>RELAXING PAU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ndalus"/>
              </a:rPr>
              <a:t>(for ey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rcRect l="49532" t="10658" r="0" b="62686"/>
          <a:stretch/>
        </p:blipFill>
        <p:spPr>
          <a:xfrm>
            <a:off x="7543800" y="685800"/>
            <a:ext cx="990720" cy="609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0" t="10658" r="50486" b="62686"/>
          <a:stretch/>
        </p:blipFill>
        <p:spPr>
          <a:xfrm>
            <a:off x="7467480" y="68580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rcRect l="0" t="10658" r="50486" b="62686"/>
          <a:stretch/>
        </p:blipFill>
        <p:spPr>
          <a:xfrm>
            <a:off x="7467480" y="685800"/>
            <a:ext cx="1067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0"/>
                            </p:stCondLst>
                            <p:childTnLst>
                              <p:par>
                                <p:cTn id="5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7000"/>
                            </p:stCondLst>
                            <p:childTnLst>
                              <p:par>
                                <p:cTn id="51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7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9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dalus"/>
              </a:rPr>
              <a:t>WARMING-UP 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alus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ndalus"/>
              </a:rPr>
              <a:t>Organizing the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alus"/>
              </a:rPr>
              <a:t>Gr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alus"/>
              </a:rPr>
              <a:t>Immer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alus"/>
              </a:rPr>
              <a:t>Setting ai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76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12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2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ndalus"/>
              </a:rPr>
              <a:t>FOLLOW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ndalus"/>
              </a:rPr>
              <a:t>Summing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ndalus"/>
              </a:rPr>
              <a:t>Ref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ndalus"/>
              </a:rPr>
              <a:t>Home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ndalus"/>
              </a:rPr>
              <a:t>Ending of the les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400"/>
                            </p:stCondLst>
                            <p:childTnLst>
                              <p:par>
                                <p:cTn id="5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840"/>
                            </p:stCondLst>
                            <p:childTnLst>
                              <p:par>
                                <p:cTn id="5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200"/>
                            </p:stCondLst>
                            <p:childTnLst>
                              <p:par>
                                <p:cTn id="5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dalus"/>
              </a:rPr>
              <a:t>THANK YOU FOR YOUR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WARMING-UP 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Phonetic  Drilling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419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e00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008e"/>
                </a:solidFill>
                <a:latin typeface="Arial"/>
              </a:rPr>
              <a:t>napkin</a:t>
            </a:r>
            <a:r>
              <a:rPr b="1" lang="en-US" sz="2400" spc="-1" strike="noStrike">
                <a:solidFill>
                  <a:srgbClr val="8e008e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лф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e00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008e"/>
                </a:solidFill>
                <a:latin typeface="Arial"/>
              </a:rPr>
              <a:t>lap</a:t>
            </a:r>
            <a:r>
              <a:rPr b="1" lang="en-US" sz="2400" spc="-1" strike="noStrike">
                <a:solidFill>
                  <a:srgbClr val="8e008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e008e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e00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008e"/>
                </a:solidFill>
                <a:latin typeface="Arial"/>
              </a:rPr>
              <a:t>pass</a:t>
            </a:r>
            <a:r>
              <a:rPr b="1" lang="ru-RU" sz="2400" spc="-1" strike="noStrike">
                <a:solidFill>
                  <a:srgbClr val="8e008e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да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e00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008e"/>
                </a:solidFill>
                <a:latin typeface="Arial"/>
              </a:rPr>
              <a:t>strait</a:t>
            </a:r>
            <a:r>
              <a:rPr b="1" lang="en-US" sz="2400" spc="-1" strike="noStrike">
                <a:solidFill>
                  <a:srgbClr val="8e008e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й, пря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e00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008e"/>
                </a:solidFill>
                <a:latin typeface="Arial"/>
              </a:rPr>
              <a:t>elbows</a:t>
            </a:r>
            <a:r>
              <a:rPr b="1" lang="en-US" sz="2400" spc="-1" strike="noStrike">
                <a:solidFill>
                  <a:srgbClr val="8e008e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к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e00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008e"/>
                </a:solidFill>
                <a:latin typeface="Arial"/>
              </a:rPr>
              <a:t>bite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с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e00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008e"/>
                </a:solidFill>
                <a:latin typeface="Arial"/>
              </a:rPr>
              <a:t>chew</a:t>
            </a:r>
            <a:r>
              <a:rPr b="1" lang="en-US" sz="2400" spc="-1" strike="noStrike">
                <a:solidFill>
                  <a:srgbClr val="8e008e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e00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008e"/>
                </a:solidFill>
                <a:latin typeface="Arial"/>
              </a:rPr>
              <a:t>stew</a:t>
            </a:r>
            <a:r>
              <a:rPr b="1" lang="en-US" sz="2400" spc="-1" strike="noStrike">
                <a:solidFill>
                  <a:srgbClr val="8e008e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ар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e00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008e"/>
                </a:solidFill>
                <a:latin typeface="Arial"/>
              </a:rPr>
              <a:t>rude</a:t>
            </a:r>
            <a:r>
              <a:rPr b="1" lang="en-US" sz="2400" spc="-1" strike="noStrike">
                <a:solidFill>
                  <a:srgbClr val="8e008e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бый, неприли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5520" y="13712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[‘n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æ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pki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[l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æ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[pa:s]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[strait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[‘elbouz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[bait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[t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∫u: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[stju: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[rud]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</a:rPr>
              <a:t>LEXICAL ACTIVIT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The ways you can help your parents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</a:rPr>
              <a:t>MAIN B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alus"/>
              </a:rPr>
              <a:t>Laying the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alu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ndalus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the way you d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- situational task # 2 (Matc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alus"/>
              </a:rPr>
              <a:t>Table man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- situational task # 1 (True/Fal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- contextual task</a:t>
            </a:r>
            <a:r>
              <a:rPr b="1" lang="ru-RU" sz="32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#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- contextual task</a:t>
            </a:r>
            <a:r>
              <a:rPr b="0" lang="ru-RU" sz="32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#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60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76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28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52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24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Situational task #1</a:t>
            </a:r>
            <a:r>
              <a:rPr b="1" lang="en-US" sz="4000" spc="-1" strike="noStrike">
                <a:solidFill>
                  <a:srgbClr val="000000"/>
                </a:solidFill>
                <a:latin typeface="Andalus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What do you know about table manners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Say 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1. You should eat with your fork and sp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2. You shouldn’t talk when you are at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3. You shouldn’t talk when you are e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4. You can eat your cake with a sp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5. You can eat chips with you fin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6. You should keep your napkin on the table near the p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7. The knife goes on the right of your p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8. If something on the table is too far away, you can stand up and tak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44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92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36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60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88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984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132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Situational task #1 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Andalus"/>
              </a:rPr>
              <a:t>Check 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</a:rPr>
              <a:t>1. You should eat with your fork and spoon. </a:t>
            </a:r>
            <a:r>
              <a:rPr b="1" lang="ru-RU" sz="2400" spc="-1" strike="noStrike">
                <a:solidFill>
                  <a:srgbClr val="000000"/>
                </a:solidFill>
                <a:latin typeface="Andalus"/>
              </a:rPr>
              <a:t>     </a:t>
            </a:r>
            <a:r>
              <a:rPr b="1" lang="en-US" sz="2000" spc="-1" strike="noStrike">
                <a:solidFill>
                  <a:srgbClr val="cc3300"/>
                </a:solidFill>
                <a:latin typeface="Andalu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</a:rPr>
              <a:t>2. You shouldn’t talk when you are at table.   </a:t>
            </a:r>
            <a:r>
              <a:rPr b="1" lang="ru-RU" sz="2400" spc="-1" strike="noStrike">
                <a:solidFill>
                  <a:srgbClr val="000000"/>
                </a:solidFill>
                <a:latin typeface="Andalus"/>
              </a:rPr>
              <a:t>    </a:t>
            </a:r>
            <a:r>
              <a:rPr b="1" lang="en-US" sz="2000" spc="-1" strike="noStrike">
                <a:solidFill>
                  <a:srgbClr val="cc3300"/>
                </a:solidFill>
                <a:latin typeface="Andalu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</a:rPr>
              <a:t>3. You shouldn’t talk when you are eating. </a:t>
            </a:r>
            <a:r>
              <a:rPr b="1" lang="ru-RU" sz="2400" spc="-1" strike="noStrike">
                <a:solidFill>
                  <a:srgbClr val="000000"/>
                </a:solidFill>
                <a:latin typeface="Andalus"/>
              </a:rPr>
              <a:t>        </a:t>
            </a:r>
            <a:r>
              <a:rPr b="1" lang="en-US" sz="2000" spc="-1" strike="noStrike">
                <a:solidFill>
                  <a:srgbClr val="009900"/>
                </a:solidFill>
                <a:latin typeface="Andalus"/>
              </a:rPr>
              <a:t>TR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</a:rPr>
              <a:t>4. You can eat your cake with a spoon. </a:t>
            </a:r>
            <a:r>
              <a:rPr b="1" lang="ru-RU" sz="2400" spc="-1" strike="noStrike">
                <a:solidFill>
                  <a:srgbClr val="000000"/>
                </a:solidFill>
                <a:latin typeface="Andalus"/>
              </a:rPr>
              <a:t>              </a:t>
            </a:r>
            <a:r>
              <a:rPr b="1" lang="en-US" sz="2000" spc="-1" strike="noStrike">
                <a:solidFill>
                  <a:srgbClr val="cc3300"/>
                </a:solidFill>
                <a:latin typeface="Andalu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</a:rPr>
              <a:t>5. You can eat chips with you fingers. </a:t>
            </a:r>
            <a:r>
              <a:rPr b="1" lang="ru-RU" sz="2400" spc="-1" strike="noStrike">
                <a:solidFill>
                  <a:srgbClr val="000000"/>
                </a:solidFill>
                <a:latin typeface="Andalus"/>
              </a:rPr>
              <a:t>               </a:t>
            </a:r>
            <a:r>
              <a:rPr b="1" lang="en-US" sz="2000" spc="-1" strike="noStrike">
                <a:solidFill>
                  <a:srgbClr val="cc3300"/>
                </a:solidFill>
                <a:latin typeface="Andalu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</a:rPr>
              <a:t>6. You should keep your napkin on the table near the plate. </a:t>
            </a:r>
            <a:r>
              <a:rPr b="1" lang="en-US" sz="2000" spc="-1" strike="noStrike">
                <a:solidFill>
                  <a:srgbClr val="cc3300"/>
                </a:solidFill>
                <a:latin typeface="Andalu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</a:rPr>
              <a:t>7. The knife goes on the right of your plate. </a:t>
            </a:r>
            <a:r>
              <a:rPr b="1" lang="ru-RU" sz="2400" spc="-1" strike="noStrike">
                <a:solidFill>
                  <a:srgbClr val="000000"/>
                </a:solidFill>
                <a:latin typeface="Andalus"/>
              </a:rPr>
              <a:t>      </a:t>
            </a:r>
            <a:r>
              <a:rPr b="1" lang="en-US" sz="2000" spc="-1" strike="noStrike">
                <a:solidFill>
                  <a:srgbClr val="009900"/>
                </a:solidFill>
                <a:latin typeface="Andalus"/>
              </a:rPr>
              <a:t>TR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</a:rPr>
              <a:t>8. If something on the table is too far away, you can stand up and take it.           </a:t>
            </a:r>
            <a:r>
              <a:rPr b="1" lang="ru-RU" sz="2400" spc="-1" strike="noStrike">
                <a:solidFill>
                  <a:srgbClr val="000000"/>
                </a:solidFill>
                <a:latin typeface="Andalus"/>
              </a:rPr>
              <a:t>       </a:t>
            </a:r>
            <a:r>
              <a:rPr b="1" lang="en-US" sz="2000" spc="-1" strike="noStrike">
                <a:solidFill>
                  <a:srgbClr val="cc3300"/>
                </a:solidFill>
                <a:latin typeface="Andalu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Situational task #2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ndalus"/>
              </a:rPr>
              <a:t>What do you know about table manners?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ndalus"/>
              </a:rPr>
              <a:t>Match the picture and the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1. I am going to eat more.        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2. I’m finished.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3. The table is s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20723" t="12724" r="0" b="0"/>
          <a:stretch/>
        </p:blipFill>
        <p:spPr>
          <a:xfrm>
            <a:off x="1981080" y="47242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6705720" y="17524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2143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</a:rPr>
              <a:t>Situational task #2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Andalus"/>
              </a:rPr>
              <a:t> Check 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9900"/>
                </a:solidFill>
                <a:latin typeface="Andalus"/>
              </a:rPr>
              <a:t>1 –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4400" spc="-1" strike="noStrike">
                <a:solidFill>
                  <a:srgbClr val="009900"/>
                </a:solidFill>
                <a:latin typeface="Andalus"/>
              </a:rPr>
              <a:t>2 –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4400" spc="-1" strike="noStrike">
                <a:solidFill>
                  <a:srgbClr val="009900"/>
                </a:solidFill>
                <a:latin typeface="Andalus"/>
              </a:rPr>
              <a:t>3 –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09:55:50Z</dcterms:created>
  <dc:creator>123</dc:creator>
  <dc:description/>
  <dc:language>en-US</dc:language>
  <cp:lastModifiedBy>Ольга</cp:lastModifiedBy>
  <dcterms:modified xsi:type="dcterms:W3CDTF">2013-02-24T14:34:1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