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0E1-6C24-4A65-869D-8A6AD04F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AA8-8BF6-4089-BD6D-2BB6ECA9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0E0-E811-4CC2-8D63-D3315FEB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995-B54B-4B7C-9341-564E7E73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C65-234E-411E-9583-01ABFDF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CC0-1124-44B9-BCFC-1E37721E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3DA-4879-43D7-9EA5-20A42A6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EB8-D79B-47E0-98D0-B6477B61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5BD-2417-4B31-BB13-3B86D26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091-9F1D-47A0-AB93-3443992E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00F-686D-47B7-8E34-36560D22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1A7-07C8-4664-9B23-6EA9A7C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037A-C518-4473-B676-EC0B905D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0&amp;text=&#1075;&#1083;&#1072;&#1079;&#1072;%20&#1076;&#1077;&#1090;&#1077;&#1081;%20&#1079;&#1072;&#1082;&#1088;&#1099;&#1090;&#1099;&#1077;%20&#1092;&#1086;&#1090;&#1086;&amp;img_url=http%3A%2F%2Fi96.mindmix.ru%2F3%2F72%2F217203%2F39%2F3570039%2Fx_f4863204.jpeg&amp;pos=310&amp;rpt=simage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Helping Around the House: Laying the Table. Table Manners”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A lesson by O.V. Taseny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Grade 6-A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2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What do you know about table manners?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Match the picture and th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1. I am going to eat more.       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2. I’m finished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3. The table is s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0723" t="12724" r="0" b="0"/>
          <a:stretch/>
        </p:blipFill>
        <p:spPr>
          <a:xfrm>
            <a:off x="1981080" y="4724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705720" y="17524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</a:rPr>
              <a:t>Contextual Tas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#1 – giving ad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#2 – giving 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6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DYNAMIC 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619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Setting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581280" cy="32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8098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What is “GOOD” and what is “RUD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274320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276720" cy="2109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00800" y="990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19720" y="396252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43000" y="35812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16216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762120"/>
            <a:ext cx="164772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038480" y="3352680"/>
            <a:ext cx="1866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RELAXING PA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(for ey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rcRect l="49532" t="10658" r="0" b="62686"/>
          <a:stretch/>
        </p:blipFill>
        <p:spPr>
          <a:xfrm>
            <a:off x="7543800" y="68580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10658" r="50486" b="62686"/>
          <a:stretch/>
        </p:blipFill>
        <p:spPr>
          <a:xfrm>
            <a:off x="7467480" y="68580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10658" r="50486" b="62686"/>
          <a:stretch/>
        </p:blipFill>
        <p:spPr>
          <a:xfrm>
            <a:off x="7467480" y="685800"/>
            <a:ext cx="1067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</a:rPr>
              <a:t>WARMING-UP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Organizing the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Imm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Setting 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ndalus"/>
              </a:rPr>
              <a:t>FOLLOW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Summing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Home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Ending of the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84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20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</a:rPr>
              <a:t>THANK YOU FOR YOUR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WARMING-UP 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Phonetic  Drilling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napkin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ф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lap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008e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pass</a:t>
            </a:r>
            <a:r>
              <a:rPr b="1" lang="ru-RU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а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strait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, пря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elbows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bit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chew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stew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р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rude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бый, неприл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52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‘n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æ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ki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l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æ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pa:s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strait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‘elbou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bai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t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∫u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stju: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rud]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LEXICAL ACTIV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The ways you can help your parents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MAIN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Laying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ndalus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the way you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situational task # 2 (Matc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Table man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situational task # 1 (True/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contextual task</a:t>
            </a:r>
            <a:r>
              <a:rPr b="1" lang="ru-RU" sz="32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#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contextual task</a:t>
            </a:r>
            <a:r>
              <a:rPr b="0" lang="ru-RU" sz="32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#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76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2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2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24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Situational task #1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What do you know about table manners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Say 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1. You should eat with your fork and sp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2. You shouldn’t talk when you are at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3. You shouldn’t talk when you are e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4. You can eat your cake with a sp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5. You can eat chips with you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6. You should keep your napkin on the table near the 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7. The knife goes on the right of your 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8. If something on the table is too far away, you can stand up and ta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44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92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3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6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88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8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32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1 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Check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1. You should eat with your fork and spoon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2. You shouldn’t talk when you are at table.  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3. You shouldn’t talk when you are eating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Andalus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4. You can eat your cake with a spoon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  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5. You can eat chips with you fingers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   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6. You should keep your napkin on the table near the plate.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7. The knife goes on the right of your plate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ndalus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8. If something on the table is too far away, you can stand up and take it.          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2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What do you know about table manners?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Match the picture and th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1. I am going to eat more.       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2. I’m finished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3. The table is s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723" t="12724" r="0" b="0"/>
          <a:stretch/>
        </p:blipFill>
        <p:spPr>
          <a:xfrm>
            <a:off x="1981080" y="4724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705720" y="17524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2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Check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9900"/>
                </a:solidFill>
                <a:latin typeface="Andalus"/>
              </a:rPr>
              <a:t>1 –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4400" spc="-1" strike="noStrike">
                <a:solidFill>
                  <a:srgbClr val="009900"/>
                </a:solidFill>
                <a:latin typeface="Andalus"/>
              </a:rPr>
              <a:t>2 –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4400" spc="-1" strike="noStrike">
                <a:solidFill>
                  <a:srgbClr val="009900"/>
                </a:solidFill>
                <a:latin typeface="Andalus"/>
              </a:rPr>
              <a:t>3 –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9:55:50Z</dcterms:created>
  <dc:creator>123</dc:creator>
  <dc:description/>
  <dc:language>en-US</dc:language>
  <cp:lastModifiedBy>Ольга</cp:lastModifiedBy>
  <dcterms:modified xsi:type="dcterms:W3CDTF">2013-02-24T14:34:1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