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A231-4A4D-4A3C-9C71-CB4ED67B3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19D6-5273-44E5-B39C-79D93CFD2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4585-4C83-44A1-89FF-691FD6A64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80B2-6648-4E2C-8E97-1C727EBC4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F67D-4B4B-4842-8E85-13DA71750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D51C-EF09-44F5-88A5-052B8CB12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D31-1EC6-4A27-8C94-E806624FF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DED2-B044-496B-81C2-C46FA9C8D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390A-8AFA-4D5D-A034-4181CF871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687A-1CC9-4DA3-B7B3-4B03ED908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10D-A8C0-43ED-BCC8-F5028F44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932-AF79-45A9-8FFB-35D677E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494-C8A8-49D8-994F-62AA2ACD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89E-9447-4D2A-B8BB-E129B2A3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5BE-1811-449C-929D-B06FEC96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9F4-0195-4121-9377-E0E40402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F13-0A33-425D-8F05-7A76ED0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25B-31D4-4868-AB8F-D15B1A03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454-1AFB-4798-BAC9-7ED10F9D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E6B-183B-4AB1-8BDD-7E7C2C4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2B3-053F-42B2-ACF2-2FF4672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8FF-DC46-45DA-876C-EE582EB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E299-5B95-4EFD-A637-7B01442F2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214280" y="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Ил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aterfall and stream.mp3" descr=""/>
          <p:cNvPicPr/>
          <p:nvPr/>
        </p:nvPicPr>
        <p:blipFill>
          <a:blip r:embed="rId2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48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ll Users\Документы\Аля\Красная Книга Марий Эл\животные\беркут3.jpeg"/>
          <p:cNvPicPr/>
          <p:nvPr/>
        </p:nvPicPr>
        <p:blipFill>
          <a:blip r:embed="rId1"/>
          <a:stretch/>
        </p:blipFill>
        <p:spPr>
          <a:xfrm>
            <a:off x="357120" y="1428840"/>
            <a:ext cx="400068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All Users\Документы\Аля\Красная Книга Марий Эл\животные\орлан.jpg"/>
          <p:cNvPicPr/>
          <p:nvPr/>
        </p:nvPicPr>
        <p:blipFill>
          <a:blip r:embed="rId2"/>
          <a:stretch/>
        </p:blipFill>
        <p:spPr>
          <a:xfrm>
            <a:off x="4929120" y="1428840"/>
            <a:ext cx="3894120" cy="5143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4292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циональном парке «Марий Чодыра» –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64 вида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сную книгу Российской Федерации занесен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2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сную книгу Республики Марий Эл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2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00040" y="59292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072040" y="6000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лан-белохво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ll Users\Документы\Аля\Красная Книга Марий Эл\животные\зимородок.jpg"/>
          <p:cNvPicPr/>
          <p:nvPr/>
        </p:nvPicPr>
        <p:blipFill>
          <a:blip r:embed="rId1"/>
          <a:stretch/>
        </p:blipFill>
        <p:spPr>
          <a:xfrm>
            <a:off x="4429080" y="3357720"/>
            <a:ext cx="449748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ll Users\Документы\Аля\Красная Книга Марий Эл\животные\змееяд.jpg"/>
          <p:cNvPicPr/>
          <p:nvPr/>
        </p:nvPicPr>
        <p:blipFill>
          <a:blip r:embed="rId2"/>
          <a:stretch/>
        </p:blipFill>
        <p:spPr>
          <a:xfrm>
            <a:off x="214200" y="3357720"/>
            <a:ext cx="4071960" cy="3214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429080" y="33577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ро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4200" y="3357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14200" y="214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C:\Documents and Settings\All Users\Документы\Аля\Красная Книга Марий Эл\животные\аист.jpg"/>
          <p:cNvPicPr/>
          <p:nvPr/>
        </p:nvPicPr>
        <p:blipFill>
          <a:blip r:embed="rId4"/>
          <a:stretch/>
        </p:blipFill>
        <p:spPr>
          <a:xfrm>
            <a:off x="4429080" y="214200"/>
            <a:ext cx="4500720" cy="2908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4429080" y="214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ист че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All Users\Документы\Аля\Красная Книга Марий Эл\зеленый ключ.jpg"/>
          <p:cNvPicPr/>
          <p:nvPr/>
        </p:nvPicPr>
        <p:blipFill>
          <a:blip r:embed="rId1"/>
          <a:stretch/>
        </p:blipFill>
        <p:spPr>
          <a:xfrm>
            <a:off x="285840" y="214200"/>
            <a:ext cx="4786200" cy="6429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286240" y="214200"/>
            <a:ext cx="364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одножия Кленовой горы свыше 20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крупный минеральный источник – «Зеленый ключ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и воды впадают в реку Ил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ll Users\Документы\Аля\Красная Книга Марий Эл\надпись дуб пугачева.jpg"/>
          <p:cNvPicPr/>
          <p:nvPr/>
        </p:nvPicPr>
        <p:blipFill>
          <a:blip r:embed="rId1"/>
          <a:stretch/>
        </p:blipFill>
        <p:spPr>
          <a:xfrm>
            <a:off x="214200" y="214200"/>
            <a:ext cx="4143600" cy="6429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ll Users\Документы\Аля\Красная Книга Марий Эл\дуб пугачева.jpg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101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 клубочком шли, ш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 полянку мы при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 полянка не про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нцем   ярко зал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75912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714240" y="476280"/>
            <a:ext cx="7715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ноября - 90 лет Республике Марий Эл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5640" y="15717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 ноября 1920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 подписан декрет об образовании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Марийской Автономной обла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 декабря 1936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а преобразована в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Марийскую Автономную республ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йская республика дважды (в 1919 и 1928 гг.) менял свое название – первоначально н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ококшайс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 затем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Йошкар – 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5"/>
          <p:cNvSpPr txBox="1"/>
          <p:nvPr/>
        </p:nvSpPr>
        <p:spPr>
          <a:xfrm>
            <a:off x="1571760" y="428760"/>
            <a:ext cx="6335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 "Самое, самое..."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85840" y="1500120"/>
            <a:ext cx="564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ый 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е первое название сто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амую крупную р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мую длинную р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Самое большое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амое глубокое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амое прозрачное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Самое крупное лесное жив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Самого крупного хищ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Самую маленькую пти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143760" y="1643040"/>
            <a:ext cx="285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Козьмодемья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Краснококшай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Малая Кокш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.Яль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Зры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.Нужь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.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9.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0.кор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408760" y="1093320"/>
            <a:ext cx="4894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Марий Эл, ты - как мат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Для каждого в судьб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Где бы ни был - вспоминат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Твой сын будет о т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:  Славься, наш край родной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Цвети в счастье и в труд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Гордимся всегда тоб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И поём, Марий Эл, о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вою честь сохрани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Народ наш на ве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И дружба как грани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Всегда с братьями кре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:  Славься, наш край родной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Цвети в счастье и в труд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Гордимся всегда тоб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И поём, Марий Эл, о т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357280" y="357120"/>
            <a:ext cx="33912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мн Марий Эл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d0f0c3ec870a.mp3" descr=""/>
          <p:cNvPicPr/>
          <p:nvPr/>
        </p:nvPicPr>
        <p:blipFill>
          <a:blip r:embed="rId1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3323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5:56:16Z</dcterms:created>
  <dc:creator>User</dc:creator>
  <dc:description/>
  <dc:language>en-US</dc:language>
  <cp:lastModifiedBy>Аля</cp:lastModifiedBy>
  <dcterms:modified xsi:type="dcterms:W3CDTF">2013-02-24T16:44:42Z</dcterms:modified>
  <cp:revision>149</cp:revision>
  <dc:subject/>
  <dc:title>Слайд 1</dc:title>
</cp:coreProperties>
</file>