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91B1-AC18-4BB0-A3C2-97ACA049BD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ADCF-7863-48F2-B61A-D333AB3359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0EEE-C207-4CDB-9123-1E911A362A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DB89-9DEF-4B0E-946F-79B074747D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2D3C-7E8B-4CA0-957E-ECD34AFC0C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266B-FC63-4043-B473-2A87AF3EEC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89F1-393A-49F7-8F01-D8BE848023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0A39-BA55-4ADA-B3C7-5E3E676B5D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FEFE-A9DA-48FF-8C4C-424BAEC505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EB3D-A1CB-4D32-8908-D494949A3E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B44-9F3B-44B7-A93D-E44DEAB6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3A7-98CE-4E9A-B240-13C7F066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B81-E517-46D4-819F-5DC375F6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2E3-F309-4567-B2C8-889911FA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2877-675D-4FEB-947B-AD19E2A3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9A9-2E29-4C83-9F92-AD61F38C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08A-2F7B-4DD1-A34C-1A084D90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4C2-16BF-41B4-9DEC-6CF08EBB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1B9-F947-4E93-839C-426B8530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268-A778-4DBD-B5B0-40AD7BA7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58D-5FDD-4D81-AECA-C1C22FB6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0700-9EEF-4613-9F66-F402E8A2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5DA5-F45D-4D7D-BE47-59677A9AD5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1214280" y="0"/>
            <a:ext cx="67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а Ил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Waterfall and stream.mp3" descr=""/>
          <p:cNvPicPr/>
          <p:nvPr/>
        </p:nvPicPr>
        <p:blipFill>
          <a:blip r:embed="rId2"/>
          <a:stretch/>
        </p:blipFill>
        <p:spPr>
          <a:xfrm>
            <a:off x="28584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48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ll Users\Документы\Аля\Красная Книга Марий Эл\животные\беркут3.jpeg"/>
          <p:cNvPicPr/>
          <p:nvPr/>
        </p:nvPicPr>
        <p:blipFill>
          <a:blip r:embed="rId1"/>
          <a:stretch/>
        </p:blipFill>
        <p:spPr>
          <a:xfrm>
            <a:off x="357120" y="1428840"/>
            <a:ext cx="4000680" cy="5143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All Users\Документы\Аля\Красная Книга Марий Эл\животные\орлан.jpg"/>
          <p:cNvPicPr/>
          <p:nvPr/>
        </p:nvPicPr>
        <p:blipFill>
          <a:blip r:embed="rId2"/>
          <a:stretch/>
        </p:blipFill>
        <p:spPr>
          <a:xfrm>
            <a:off x="4929120" y="1428840"/>
            <a:ext cx="3894120" cy="5143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142920" y="14292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циональном парке «Марий Чодыра» –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164 вида п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расную книгу Российской Федерации занесены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2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расную книгу Республики Марий Эл 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2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00040" y="59292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к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5072040" y="600084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лан-белохвос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All Users\Документы\Аля\Красная Книга Марий Эл\животные\зимородок.jpg"/>
          <p:cNvPicPr/>
          <p:nvPr/>
        </p:nvPicPr>
        <p:blipFill>
          <a:blip r:embed="rId1"/>
          <a:stretch/>
        </p:blipFill>
        <p:spPr>
          <a:xfrm>
            <a:off x="4429080" y="3357720"/>
            <a:ext cx="4497480" cy="3143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All Users\Документы\Аля\Красная Книга Марий Эл\животные\змееяд.jpg"/>
          <p:cNvPicPr/>
          <p:nvPr/>
        </p:nvPicPr>
        <p:blipFill>
          <a:blip r:embed="rId2"/>
          <a:stretch/>
        </p:blipFill>
        <p:spPr>
          <a:xfrm>
            <a:off x="214200" y="3357720"/>
            <a:ext cx="4071960" cy="3214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4429080" y="335772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имород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14200" y="335772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ее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214200" y="214200"/>
            <a:ext cx="4071960" cy="292896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214200" y="214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C:\Documents and Settings\All Users\Документы\Аля\Красная Книга Марий Эл\животные\аист.jpg"/>
          <p:cNvPicPr/>
          <p:nvPr/>
        </p:nvPicPr>
        <p:blipFill>
          <a:blip r:embed="rId4"/>
          <a:stretch/>
        </p:blipFill>
        <p:spPr>
          <a:xfrm>
            <a:off x="4429080" y="214200"/>
            <a:ext cx="4500720" cy="2908440"/>
          </a:xfrm>
          <a:prstGeom prst="rect">
            <a:avLst/>
          </a:prstGeom>
          <a:ln w="0">
            <a:noFill/>
          </a:ln>
        </p:spPr>
      </p:pic>
      <p:sp>
        <p:nvSpPr>
          <p:cNvPr id="63" name="TextBox 11"/>
          <p:cNvSpPr/>
          <p:nvPr/>
        </p:nvSpPr>
        <p:spPr>
          <a:xfrm>
            <a:off x="4429080" y="21420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ист че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Documents and Settings\All Users\Документы\Аля\Красная Книга Марий Эл\зеленый ключ.jpg"/>
          <p:cNvPicPr/>
          <p:nvPr/>
        </p:nvPicPr>
        <p:blipFill>
          <a:blip r:embed="rId1"/>
          <a:stretch/>
        </p:blipFill>
        <p:spPr>
          <a:xfrm>
            <a:off x="285840" y="214200"/>
            <a:ext cx="4786200" cy="64296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5286240" y="214200"/>
            <a:ext cx="3643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подножия Кленовой горы свыше 20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й крупный минеральный источник – «Зеленый ключ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ки воды впадают в реку Иле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All Users\Документы\Аля\Красная Книга Марий Эл\надпись дуб пугачева.jpg"/>
          <p:cNvPicPr/>
          <p:nvPr/>
        </p:nvPicPr>
        <p:blipFill>
          <a:blip r:embed="rId1"/>
          <a:stretch/>
        </p:blipFill>
        <p:spPr>
          <a:xfrm>
            <a:off x="214200" y="214200"/>
            <a:ext cx="4143600" cy="6429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All Users\Документы\Аля\Красная Книга Марий Эл\дуб пугачева.jpg"/>
          <p:cNvPicPr/>
          <p:nvPr/>
        </p:nvPicPr>
        <p:blipFill>
          <a:blip r:embed="rId2"/>
          <a:stretch/>
        </p:blipFill>
        <p:spPr>
          <a:xfrm>
            <a:off x="4572000" y="214200"/>
            <a:ext cx="42861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P1010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 клубочком шли, ш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 полянку мы приш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 полянка не прос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нцем   ярко зали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759120" y="150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714240" y="476280"/>
            <a:ext cx="77155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ноября - 90 лет Республике Марий Эл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55640" y="157176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 ноября 1920 г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ыл подписан декрет об образовании 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Марийской Автономной обла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 декабря 1936 г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ыла преобразована в 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Марийскую Автономную республ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ийская республика дважды (в 1919 и 1928 гг.) менял свое название – первоначально н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раснококшайс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а  затем –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Йошкар – 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5"/>
          <p:cNvSpPr txBox="1"/>
          <p:nvPr/>
        </p:nvSpPr>
        <p:spPr>
          <a:xfrm>
            <a:off x="1571760" y="428760"/>
            <a:ext cx="63356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кторина "Самое, самое..."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85840" y="1500120"/>
            <a:ext cx="5643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амый древний 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амое первое название сто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амую крупную ре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амую длинную ре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Самое большое оз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Самое глубокое оз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Самое прозрачное оз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Самое крупное лесное живот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Самого крупного хищ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е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 Самую маленькую птич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6143760" y="1643040"/>
            <a:ext cx="285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1.Козьмодемья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2.Краснококшай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3.Вол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4.Малая Кокш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5.Яль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6.Зры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7.Нужья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8.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9.медв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10.корол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2408760" y="1093320"/>
            <a:ext cx="48945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Марий Эл, ты - как мать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 Для каждого в судьб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 Где бы ни был - вспоминать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 Твой сын будет о т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пев:  Славься, наш край родной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             Цвети в счастье и в труд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             Гордимся всегда тобо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             И поём, Марий Эл, о теб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Свою честь сохранит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 Народ наш на век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 И дружба как гранит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 Всегда с братьями креп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пев:  Славься, наш край родной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             Цвети в счастье и в труд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             Гордимся всегда тобо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             И поём, Марий Эл, о т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357280" y="357120"/>
            <a:ext cx="3391200" cy="523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имн Марий Эл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d0f0c3ec870a.mp3" descr=""/>
          <p:cNvPicPr/>
          <p:nvPr/>
        </p:nvPicPr>
        <p:blipFill>
          <a:blip r:embed="rId1"/>
          <a:stretch/>
        </p:blipFill>
        <p:spPr>
          <a:xfrm>
            <a:off x="42876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33233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5:56:16Z</dcterms:created>
  <dc:creator>User</dc:creator>
  <dc:description/>
  <dc:language>en-US</dc:language>
  <cp:lastModifiedBy>Аля</cp:lastModifiedBy>
  <dcterms:modified xsi:type="dcterms:W3CDTF">2013-02-24T16:44:42Z</dcterms:modified>
  <cp:revision>149</cp:revision>
  <dc:subject/>
  <dc:title>Слайд 1</dc:title>
</cp:coreProperties>
</file>