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D5E6-1ED3-48B5-A873-671A4165A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чок эпишура — эндемик Байкала — составляет до 80 % биомассы зоопланктона озера и является важнейшим звеном в пищевой цепи водоёма. Это мелкие, размером около 1-1,5 мм, ракообразные, ("веслоногие рачки"), обитающие в открытом Байкале, практически во всей его водной толще. Эпишура выполняет функцию фильтра: пропускает через густую сеть щетинок и волосков, расположенных на конечностях ротового аппарата, воду, очищая её. Ученые насчитали до 3 миллионов рачков на один квадратный метр поверхности озе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год армада эпишуры способна трижды очистить верхний пятидесятиметровый слой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4DA-70D5-4D03-A549-EC00E1DB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371-F3EE-4E27-B653-2817C5F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194-C79A-4B2F-BC9A-81357420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E62-6EFE-4D33-A3AD-5275F3A3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1B9-864D-4720-9242-A0AC70A9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3CA-DD93-4B63-825A-874D68C4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9B8-17FD-4E07-8FA4-0944B194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C06-9B18-44C8-9C27-DE4E53A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118-6EB2-4447-A3C2-079B2696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223-4622-4DF2-ACE3-7BF65425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0CF-3CB2-4E84-91BB-8A30B7F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652-A3C6-4032-ACC8-35864B0B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7707-1999-450F-9902-2F9F2DCC1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eorgia"/>
              </a:rPr>
              <a:t>Класс Ракообраз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&quot;Ракообразные&quot;&#13;&#13;&#10;Подавляющее большинство ракообразных живет в воде. Среди них встречаются как морские жители, так и обитатели пресных рек и озер. Некоторые ракообразные даже приспособились к жизни на суше и навсегда утратили связь с водой."/>
          <p:cNvPicPr/>
          <p:nvPr/>
        </p:nvPicPr>
        <p:blipFill>
          <a:blip r:embed="rId2"/>
          <a:stretch/>
        </p:blipFill>
        <p:spPr>
          <a:xfrm>
            <a:off x="533520" y="9144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Georgia"/>
              </a:rPr>
              <a:t>Жаброногие ра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eorgia"/>
              </a:rPr>
              <a:t>Высшие ракообраз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Десятиногие р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Рак-отше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&quot;Рак-отшельник&quot;&#13;&#13;&#10;В морях и океанах живут удивительные раки, устраивающие свой дом в пустых раковинах моллюсков. Это раки-отшельники. Неторопливо передвигаясь по дну, они несут на себе свой домик. Некоторые из них сажают на свою раковину актинию, которая защищает рака от хищников, а взамен получает возможность перемещаться с места на место. Вырастая, рак-отшельник меняет раковину на более крупную, но никогда не оставляет свою актинию на старой, а бережно переносит ее на крышу нового дома.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Georgia"/>
              </a:rPr>
              <a:t>Кревет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3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47280" y="83628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чок эпишура —составляет до 80 % биомассы зоопланктона озера и является важнейшим звеном в пищевой цепи водоёма. Это мелкие, размером около 1-1,5 мм, ракообразные. Эпишура выполняет функцию филь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2147760"/>
            <a:ext cx="7129440" cy="4413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11280" y="260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ПИШ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92360" y="76500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ю чистильщика озера выполняет рачок бокоплав макрогептоус (длина до 3 см), который уничтожает все, что может загрязнить воду - утонувших насекомых, погибшую рыбу и даже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919160"/>
            <a:ext cx="7777080" cy="49388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5616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крогектоп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eed_XP</cp:lastModifiedBy>
  <dcterms:modified xsi:type="dcterms:W3CDTF">2012-04-22T14:09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