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25BF-7EEB-47E3-9532-7EED45C131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чок эпишура — эндемик Байкала — составляет до 80 % биомассы зоопланктона озера и является важнейшим звеном в пищевой цепи водоёма. Это мелкие, размером около 1-1,5 мм, ракообразные, ("веслоногие рачки"), обитающие в открытом Байкале, практически во всей его водной толще. Эпишура выполняет функцию фильтра: пропускает через густую сеть щетинок и волосков, расположенных на конечностях ротового аппарата, воду, очищая её. Ученые насчитали до 3 миллионов рачков на один квадратный метр поверхности озера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год армада эпишуры способна трижды очистить верхний пятидесятиметровый слой вод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E657-6344-47DD-BD45-AAB2D62C1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B2DA-FA49-438D-96F3-0815567E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A9A4-C306-495F-935A-5E939ABD9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160A-BE07-43AA-BABF-A3BBE05F8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1174-2AF4-4456-ADB9-7F6F985F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3ABA-9F3E-44FD-A72B-8250AF84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4369-1C6E-4D29-940C-E3D3D3FD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5E6E-4853-40B1-9EC1-D17EB7E8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3642-E629-4E3F-96D8-9AD809F5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4068-0372-4822-A913-7422A513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2802-357C-42D8-84A8-F7B0D7CB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F3E2-840A-4097-A1C2-30329E6C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82EB-3502-49B7-92FA-CB08111D55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Georgia"/>
              </a:rPr>
              <a:t>Класс Ракообраз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&quot;Ракообразные&quot;&#13;&#13;&#10;Подавляющее большинство ракообразных живет в воде. Среди них встречаются как морские жители, так и обитатели пресных рек и озер. Некоторые ракообразные даже приспособились к жизни на суше и навсегда утратили связь с водой."/>
          <p:cNvPicPr/>
          <p:nvPr/>
        </p:nvPicPr>
        <p:blipFill>
          <a:blip r:embed="rId2"/>
          <a:stretch/>
        </p:blipFill>
        <p:spPr>
          <a:xfrm>
            <a:off x="533520" y="914400"/>
            <a:ext cx="80769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Georgia"/>
              </a:rPr>
              <a:t>Жаброногие рач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Georgia"/>
              </a:rPr>
              <a:t>Высшие ракообраз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Georgia"/>
              </a:rPr>
              <a:t>Десятиногие ра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Рак-отшель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&quot;Рак-отшельник&quot;&#13;&#13;&#10;В морях и океанах живут удивительные раки, устраивающие свой дом в пустых раковинах моллюсков. Это раки-отшельники. Неторопливо передвигаясь по дну, они несут на себе свой домик. Некоторые из них сажают на свою раковину актинию, которая защищает рака от хищников, а взамен получает возможность перемещаться с места на место. Вырастая, рак-отшельник меняет раковину на более крупную, но никогда не оставляет свою актинию на старой, а бережно переносит ее на крышу нового дома.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00"/>
                </a:solidFill>
                <a:latin typeface="Georgia"/>
              </a:rPr>
              <a:t>Креветк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9232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547280" y="836280"/>
            <a:ext cx="7272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чок эпишура —составляет до 80 % биомассы зоопланктона озера и является важнейшим звеном в пищевой цепи водоёма. Это мелкие, размером около 1-1,5 мм, ракообразные. Эпишура выполняет функцию фильт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19280" y="2147760"/>
            <a:ext cx="7129440" cy="4413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411280" y="26028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ПИШ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92360" y="765000"/>
            <a:ext cx="698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ункцию чистильщика озера выполняет рачок бокоплав макрогептоус (длина до 3 см), который уничтожает все, что может загрязнить воду - утонувших насекомых, погибшую рыбу и даже живот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58920" y="1919160"/>
            <a:ext cx="7777080" cy="49388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55640" y="-360"/>
            <a:ext cx="561636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акрогектоп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peed_XP</cp:lastModifiedBy>
  <dcterms:modified xsi:type="dcterms:W3CDTF">2012-04-22T14:09:33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