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A830-1937-4F5C-AB94-B7B88A9A7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4886-8E2F-4437-B74A-34FD258C0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2970-3040-417E-BEC9-DD75063BB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219A-3985-439C-88E1-D1C0062F2C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08D-E79D-43EC-9C8A-E83A3C68B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BD6-4AC6-4E89-B40B-998CCD21E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6F85-CE70-42B7-9BE7-109283663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FB12-AB9D-4717-A65E-58F37560C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66F1-868D-4657-8B74-5819F24AE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860B-3440-47E7-B2D9-C9A21CDFB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443-F3D7-41D5-ABDC-DF92BF4E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F78-7DAD-406D-A7A5-CC0898C9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AE9-AF9B-448C-84F9-0A6F2B3D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1CB-35FE-4159-9C31-8C663172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C8B-9196-44CB-AB6B-5B6DA36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1B1-287D-4988-A8F2-2DDEFB0B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50F-3042-4749-BDC8-34B47893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68E-D85C-4D77-AD13-F3D13D61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8D2-1077-49E7-9214-81493C8D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A38-5623-4C5A-B434-BF30623B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832-C185-419D-BBF1-D3172BC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64A-4AE1-4D23-9977-0F5E166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48E-AE42-422C-AF0D-8742805B6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00160" y="3286080"/>
            <a:ext cx="53802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е Марий Эл 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476360" y="1500120"/>
            <a:ext cx="63532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Impact"/>
              </a:rPr>
              <a:t>На земле Онар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3214800" y="2714760"/>
            <a:ext cx="21193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 лет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357120" y="2858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разования 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образования администрации Волж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Приволж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357720" y="3857760"/>
            <a:ext cx="207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572000" y="485784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Сидорова Алевт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714840" y="6215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All Users\Документы\Аля\Красная Книга Марий Эл\животные\лет. мышь-прудовая ночница.jpg"/>
          <p:cNvPicPr/>
          <p:nvPr/>
        </p:nvPicPr>
        <p:blipFill>
          <a:blip r:embed="rId1"/>
          <a:stretch/>
        </p:blipFill>
        <p:spPr>
          <a:xfrm>
            <a:off x="357120" y="1428840"/>
            <a:ext cx="3757680" cy="5143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14200" y="28584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учая мы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антская вечер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All Users\Документы\Аля\Красная Книга Марий Эл\животные\норка.jpg"/>
          <p:cNvPicPr/>
          <p:nvPr/>
        </p:nvPicPr>
        <p:blipFill>
          <a:blip r:embed="rId2"/>
          <a:stretch/>
        </p:blipFill>
        <p:spPr>
          <a:xfrm>
            <a:off x="4786200" y="3643200"/>
            <a:ext cx="3714840" cy="2571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4857840" y="357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озубка крош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78620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ка европ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Documents and Settings\All Users\Документы\Аля\Красная Книга Марий Эл\животные\бурозуб.jpg"/>
          <p:cNvPicPr/>
          <p:nvPr/>
        </p:nvPicPr>
        <p:blipFill>
          <a:blip r:embed="rId3"/>
          <a:stretch/>
        </p:blipFill>
        <p:spPr>
          <a:xfrm>
            <a:off x="4857840" y="100008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SC_0065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SC02918"/>
          <p:cNvPicPr/>
          <p:nvPr/>
        </p:nvPicPr>
        <p:blipFill>
          <a:blip r:embed="rId3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SC_0426"/>
          <p:cNvPicPr/>
          <p:nvPr/>
        </p:nvPicPr>
        <p:blipFill>
          <a:blip r:embed="rId4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adanov-44"/>
          <p:cNvPicPr/>
          <p:nvPr/>
        </p:nvPicPr>
        <p:blipFill>
          <a:blip r:embed="rId1"/>
          <a:stretch/>
        </p:blipFill>
        <p:spPr>
          <a:xfrm>
            <a:off x="46836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Badanov_Alex_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4714920" y="428760"/>
            <a:ext cx="4249800" cy="46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 потомков Он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й былью согр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д Волгой старой молодеет расс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онки гусли сед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итмах- юности страс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великой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зры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Вишн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8512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ll Users\Документы\Аля\Красная Книга Марий Эл\марий чодра -надп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solovej.mp3" descr=""/>
          <p:cNvPicPr/>
          <p:nvPr/>
        </p:nvPicPr>
        <p:blipFill>
          <a:blip r:embed="rId2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19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ll Users\Документы\Аля\Красная Книга Марий Эл\растения\венерин башмачок.jpg"/>
          <p:cNvPicPr/>
          <p:nvPr/>
        </p:nvPicPr>
        <p:blipFill>
          <a:blip r:embed="rId1"/>
          <a:stretch/>
        </p:blipFill>
        <p:spPr>
          <a:xfrm>
            <a:off x="4714920" y="1785960"/>
            <a:ext cx="4143240" cy="492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ll Users\Документы\Аля\Красная Книга Марий Эл\растения\ковыль.jpg"/>
          <p:cNvPicPr/>
          <p:nvPr/>
        </p:nvPicPr>
        <p:blipFill>
          <a:blip r:embed="rId2"/>
          <a:stretch/>
        </p:blipFill>
        <p:spPr>
          <a:xfrm>
            <a:off x="214200" y="1785960"/>
            <a:ext cx="414360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428760" y="61437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ыль пер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714920" y="614376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14200" y="21420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2920" y="3600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Флора парка насчитывает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1155 видов 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несены в Красную книгу Республики Марий Эл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115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Красную книгу России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6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ll Users\Документы\Аля\Красная Книга Марий Эл\растения\неоттианте.jpg"/>
          <p:cNvPicPr/>
          <p:nvPr/>
        </p:nvPicPr>
        <p:blipFill>
          <a:blip r:embed="rId1"/>
          <a:stretch/>
        </p:blipFill>
        <p:spPr>
          <a:xfrm>
            <a:off x="5072040" y="285840"/>
            <a:ext cx="3786120" cy="61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All Users\Документы\Аля\Красная Книга Марий Эл\растения\пыльцеголовник красный.jpg"/>
          <p:cNvPicPr/>
          <p:nvPr/>
        </p:nvPicPr>
        <p:blipFill>
          <a:blip r:embed="rId2"/>
          <a:stretch/>
        </p:blipFill>
        <p:spPr>
          <a:xfrm>
            <a:off x="357120" y="285840"/>
            <a:ext cx="4143600" cy="6143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428760" y="578628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ыльцеголовник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143680" y="578628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ттианте клобучк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ll Users\Документы\Аля\Красная Книга Марий Эл\животные\выхухоль.jpg"/>
          <p:cNvPicPr/>
          <p:nvPr/>
        </p:nvPicPr>
        <p:blipFill>
          <a:blip r:embed="rId1"/>
          <a:stretch/>
        </p:blipFill>
        <p:spPr>
          <a:xfrm>
            <a:off x="4572000" y="164304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4714920" y="61437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All Users\Документы\Аля\Красная Книга Марий Эл\животные\бобр.jpg"/>
          <p:cNvPicPr/>
          <p:nvPr/>
        </p:nvPicPr>
        <p:blipFill>
          <a:blip r:embed="rId2"/>
          <a:stretch/>
        </p:blipFill>
        <p:spPr>
          <a:xfrm>
            <a:off x="285840" y="1643040"/>
            <a:ext cx="4071960" cy="4429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28760" y="61437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57120" y="21420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14200" y="147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бщее число млекопитающих в национальном парке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  <a:ea typeface="Calibri"/>
              </a:rPr>
              <a:t>–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несены в Красную Книгу Российской Федерации–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2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Красную книгу Республики Марий Эл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17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5:56:16Z</dcterms:created>
  <dc:creator>User</dc:creator>
  <dc:description/>
  <dc:language>en-US</dc:language>
  <cp:lastModifiedBy>Аля</cp:lastModifiedBy>
  <dcterms:modified xsi:type="dcterms:W3CDTF">2013-02-24T16:43:26Z</dcterms:modified>
  <cp:revision>149</cp:revision>
  <dc:subject/>
  <dc:title>Слайд 1</dc:title>
</cp:coreProperties>
</file>