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5654-738F-49B4-840C-21600A6212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A09A-2DD2-4DA7-910C-39CBF312CC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E5F2-F8FF-4702-8372-2D47475ECF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0770-E6AD-4504-9490-D1743EF26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4990-EC7B-46BE-97E2-F126B223D0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642A-F0A6-4EBB-99CF-E356E7369D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5A5A-CAF0-4908-9115-A7D7AF1D3F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0341-F5FB-4C36-AB03-CB783F9680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3043-BA33-4F15-BB3B-ECEA13FAD9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2528-AFAE-4CE2-A08D-84A30F5E31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5B4-09AD-4243-9BBA-4678E691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646-CAFD-4794-A4A6-E550AB14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41F-FA5B-4017-99E4-60FE620A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02E-BA1C-443B-B9AA-06C9B2F7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221-F1D8-417A-8941-6E6FBDDC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B12-EEB3-4910-B2FE-8CE39D0C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5B5-999F-4E27-91F4-3832B3B3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08F-BF6B-4FEE-A23A-313E3461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40DE-F179-4BE5-B6CD-76CE64B5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71C-4282-4B72-8E49-A1341EC9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645-7C57-4E1B-B177-8C27B409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8B6-96C3-4951-8E19-314B8B7A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68BB-4D72-49AA-B4B5-EFB58BEEE3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2000160" y="3286080"/>
            <a:ext cx="53802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спублике Марий Эл 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476360" y="1500120"/>
            <a:ext cx="635328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Impact"/>
              </a:rPr>
              <a:t>На земле Онар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Impact"/>
              <a:ea typeface="Impact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3214800" y="2714760"/>
            <a:ext cx="21193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0 лет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357120" y="2858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ерство образования Республики Марий Э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 образования администрации Волжского муниципальн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Приволж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3357720" y="3857760"/>
            <a:ext cx="207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еше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4572000" y="485784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Сидорова Алевт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3714840" y="621504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Documents and Settings\All Users\Документы\Аля\Красная Книга Марий Эл\животные\лет. мышь-прудовая ночница.jpg"/>
          <p:cNvPicPr/>
          <p:nvPr/>
        </p:nvPicPr>
        <p:blipFill>
          <a:blip r:embed="rId1"/>
          <a:stretch/>
        </p:blipFill>
        <p:spPr>
          <a:xfrm>
            <a:off x="357120" y="1428840"/>
            <a:ext cx="3757680" cy="514332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214200" y="28584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учая мы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гантская вечер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:\Documents and Settings\All Users\Документы\Аля\Красная Книга Марий Эл\животные\норка.jpg"/>
          <p:cNvPicPr/>
          <p:nvPr/>
        </p:nvPicPr>
        <p:blipFill>
          <a:blip r:embed="rId2"/>
          <a:stretch/>
        </p:blipFill>
        <p:spPr>
          <a:xfrm>
            <a:off x="4786200" y="3643200"/>
            <a:ext cx="3714840" cy="2571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4857840" y="3571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озубка кроше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786200" y="62866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ка европей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C:\Documents and Settings\All Users\Документы\Аля\Красная Книга Марий Эл\животные\бурозуб.jpg"/>
          <p:cNvPicPr/>
          <p:nvPr/>
        </p:nvPicPr>
        <p:blipFill>
          <a:blip r:embed="rId3"/>
          <a:stretch/>
        </p:blipFill>
        <p:spPr>
          <a:xfrm>
            <a:off x="4857840" y="1000080"/>
            <a:ext cx="3643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SC_0065"/>
          <p:cNvPicPr/>
          <p:nvPr/>
        </p:nvPicPr>
        <p:blipFill>
          <a:blip r:embed="rId1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DSC02918"/>
          <p:cNvPicPr/>
          <p:nvPr/>
        </p:nvPicPr>
        <p:blipFill>
          <a:blip r:embed="rId3"/>
          <a:stretch/>
        </p:blipFill>
        <p:spPr>
          <a:xfrm>
            <a:off x="4572000" y="3483000"/>
            <a:ext cx="4572000" cy="337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SC_0426"/>
          <p:cNvPicPr/>
          <p:nvPr/>
        </p:nvPicPr>
        <p:blipFill>
          <a:blip r:embed="rId4"/>
          <a:stretch/>
        </p:blipFill>
        <p:spPr>
          <a:xfrm>
            <a:off x="0" y="3500280"/>
            <a:ext cx="4500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adanov-44"/>
          <p:cNvPicPr/>
          <p:nvPr/>
        </p:nvPicPr>
        <p:blipFill>
          <a:blip r:embed="rId1"/>
          <a:stretch/>
        </p:blipFill>
        <p:spPr>
          <a:xfrm>
            <a:off x="468360" y="40464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Badanov_Alex_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4714920" y="428760"/>
            <a:ext cx="4249800" cy="46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 потомков Она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й былью согр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д Волгой старой молодеет расс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онки гусли сед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итмах- юности страс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великой Росс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азрывн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Вишн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38512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All Users\Документы\Аля\Красная Книга Марий Эл\марий чодра -надпис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solovej.mp3" descr=""/>
          <p:cNvPicPr/>
          <p:nvPr/>
        </p:nvPicPr>
        <p:blipFill>
          <a:blip r:embed="rId2"/>
          <a:stretch/>
        </p:blipFill>
        <p:spPr>
          <a:xfrm>
            <a:off x="28584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5192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ll Users\Документы\Аля\Красная Книга Марий Эл\растения\венерин башмачок.jpg"/>
          <p:cNvPicPr/>
          <p:nvPr/>
        </p:nvPicPr>
        <p:blipFill>
          <a:blip r:embed="rId1"/>
          <a:stretch/>
        </p:blipFill>
        <p:spPr>
          <a:xfrm>
            <a:off x="4714920" y="1785960"/>
            <a:ext cx="4143240" cy="4929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All Users\Документы\Аля\Красная Книга Марий Эл\растения\ковыль.jpg"/>
          <p:cNvPicPr/>
          <p:nvPr/>
        </p:nvPicPr>
        <p:blipFill>
          <a:blip r:embed="rId2"/>
          <a:stretch/>
        </p:blipFill>
        <p:spPr>
          <a:xfrm>
            <a:off x="214200" y="1785960"/>
            <a:ext cx="4143600" cy="492912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428760" y="61437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выль пер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714920" y="614376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нерин башм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214200" y="21420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42920" y="36000"/>
            <a:ext cx="871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Флора парка насчитывает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1155 видов  раст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анесены в Красную книгу Республики Марий Эл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115 ви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 Красную книгу России -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6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All Users\Документы\Аля\Красная Книга Марий Эл\растения\неоттианте.jpg"/>
          <p:cNvPicPr/>
          <p:nvPr/>
        </p:nvPicPr>
        <p:blipFill>
          <a:blip r:embed="rId1"/>
          <a:stretch/>
        </p:blipFill>
        <p:spPr>
          <a:xfrm>
            <a:off x="5072040" y="285840"/>
            <a:ext cx="3786120" cy="614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All Users\Документы\Аля\Красная Книга Марий Эл\растения\пыльцеголовник красный.jpg"/>
          <p:cNvPicPr/>
          <p:nvPr/>
        </p:nvPicPr>
        <p:blipFill>
          <a:blip r:embed="rId2"/>
          <a:stretch/>
        </p:blipFill>
        <p:spPr>
          <a:xfrm>
            <a:off x="357120" y="285840"/>
            <a:ext cx="4143600" cy="614340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428760" y="578628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ыльцеголовник к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5143680" y="578628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ттианте клобучк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All Users\Документы\Аля\Красная Книга Марий Эл\животные\выхухоль.jpg"/>
          <p:cNvPicPr/>
          <p:nvPr/>
        </p:nvPicPr>
        <p:blipFill>
          <a:blip r:embed="rId1"/>
          <a:stretch/>
        </p:blipFill>
        <p:spPr>
          <a:xfrm>
            <a:off x="4572000" y="1643040"/>
            <a:ext cx="4286160" cy="44290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4714920" y="614376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ух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:\Documents and Settings\All Users\Документы\Аля\Красная Книга Марий Эл\животные\бобр.jpg"/>
          <p:cNvPicPr/>
          <p:nvPr/>
        </p:nvPicPr>
        <p:blipFill>
          <a:blip r:embed="rId2"/>
          <a:stretch/>
        </p:blipFill>
        <p:spPr>
          <a:xfrm>
            <a:off x="285840" y="1643040"/>
            <a:ext cx="4071960" cy="4429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428760" y="614376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б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357120" y="21420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14200" y="1472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бщее число млекопитающих в национальном парке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–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анесены в Красную Книгу Российской Федерации–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2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 Красную книгу Республики Марий Эл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17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5:56:16Z</dcterms:created>
  <dc:creator>User</dc:creator>
  <dc:description/>
  <dc:language>en-US</dc:language>
  <cp:lastModifiedBy>Аля</cp:lastModifiedBy>
  <dcterms:modified xsi:type="dcterms:W3CDTF">2013-02-24T16:43:26Z</dcterms:modified>
  <cp:revision>149</cp:revision>
  <dc:subject/>
  <dc:title>Слайд 1</dc:title>
</cp:coreProperties>
</file>