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8.gif" ContentType="image/gif"/>
  <Override PartName="/ppt/media/image1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04BA-D432-4CC5-8DB4-07F32D8F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2B4F-E1A3-453E-A1C1-BCD89B5D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E43C-A42D-4659-9E31-5B79EB376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BB97-2C04-41E8-85D4-16BE3BC41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D553-5DAB-4558-8AEF-7C94CA121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8748-0D1D-4479-9853-27119EDA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3332-79B1-4ED3-B717-C9F07AEF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33BA-AFE3-41E4-8951-A4B86374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DF68-5A1C-427E-80D4-BDCCC277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F62F-118F-4E26-ABE6-864293C6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76E4-A052-4EA5-A12A-2FE0C876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F937-1D75-4862-8742-72C361C3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9B87-6330-4975-8943-D5D0F1C5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A9B9-5B21-4560-AC1E-9942BEE7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5CAB-397D-40E1-9279-CF5D81F9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56CC-4128-4802-9F3A-52536937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BC29-3907-4A20-A6CF-29BA123E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D2EF-18CF-4C3F-86E3-05ABFC76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88D9-B3CA-4575-A490-AD59FFA9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0966-8AA1-4F8D-B82C-032C9063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30EA-0404-436E-BC1C-E5B91ED0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D0E8-1C0B-4342-82A4-296B9EE6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4BA5-6F45-4406-BA36-6BF33360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5DF3-ABEC-43C7-A9C9-48F89B05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0746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Click to edit the outline text format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Second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Third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Fourth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Fifth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Sixth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Seventh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aur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entaur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au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00D0-4AFD-48FF-9A22-266DA6354640}" type="slidenum">
              <a:rPr b="0" lang="ru-RU" sz="1200" spc="-1" strike="noStrike">
                <a:solidFill>
                  <a:srgbClr val="898989"/>
                </a:solidFill>
                <a:latin typeface="Centau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0746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Click to edit the outline text format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Second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Third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Fourth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Fifth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Sixth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Corbel"/>
              </a:rPr>
              <a:t>Seventh Outline Level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1919"/>
                </a:solidFill>
                <a:latin typeface="Centaur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1919"/>
                </a:solidFill>
                <a:latin typeface="Centaur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1919"/>
                </a:solidFill>
                <a:latin typeface="Centau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0D71-6331-4527-9ECD-889D6E75C56B}" type="slidenum">
              <a:rPr b="0" lang="ru-RU" sz="1200" spc="-1" strike="noStrike">
                <a:solidFill>
                  <a:srgbClr val="4f1919"/>
                </a:solidFill>
                <a:latin typeface="Centau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DE97-8D51-4188-A7E4-52D812F97685}" type="datetime3">
              <a:rPr b="0" lang="en-US" sz="1200" spc="-1" strike="noStrike">
                <a:solidFill>
                  <a:srgbClr val="4f1919"/>
                </a:solidFill>
                <a:latin typeface="Centaur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87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0746"/>
                </a:solidFill>
                <a:latin typeface="Corbel"/>
              </a:rPr>
              <a:t>«Определи класс членистоногих»</a:t>
            </a: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pic>
        <p:nvPicPr>
          <p:cNvPr id="84" name="Picture 8" descr="3"/>
          <p:cNvPicPr/>
          <p:nvPr/>
        </p:nvPicPr>
        <p:blipFill>
          <a:blip r:embed="rId2"/>
          <a:stretch/>
        </p:blipFill>
        <p:spPr>
          <a:xfrm>
            <a:off x="6012000" y="3933720"/>
            <a:ext cx="21524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0746"/>
                </a:solidFill>
                <a:latin typeface="Corbel"/>
              </a:rPr>
              <a:t>Животное №8</a:t>
            </a: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pic>
        <p:nvPicPr>
          <p:cNvPr id="109" name="Содержимое 3" descr="Колорадский жук.jpg"/>
          <p:cNvPicPr/>
          <p:nvPr/>
        </p:nvPicPr>
        <p:blipFill>
          <a:blip r:embed="rId1"/>
          <a:stretch/>
        </p:blipFill>
        <p:spPr>
          <a:xfrm>
            <a:off x="1000080" y="1285920"/>
            <a:ext cx="7040520" cy="52801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1242360" y="5530680"/>
            <a:ext cx="41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0746"/>
                </a:solidFill>
                <a:latin typeface="Arial"/>
              </a:rPr>
              <a:t>Колорадский жу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0746"/>
                </a:solidFill>
                <a:latin typeface="Corbel"/>
              </a:rPr>
              <a:t>Животное № 9</a:t>
            </a: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pic>
        <p:nvPicPr>
          <p:cNvPr id="112" name="Содержимое 3" descr="Лангуст.jpg"/>
          <p:cNvPicPr/>
          <p:nvPr/>
        </p:nvPicPr>
        <p:blipFill>
          <a:blip r:embed="rId1"/>
          <a:stretch/>
        </p:blipFill>
        <p:spPr>
          <a:xfrm>
            <a:off x="1143000" y="1428840"/>
            <a:ext cx="6835680" cy="5059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456920" y="1569960"/>
            <a:ext cx="19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0746"/>
                </a:solidFill>
                <a:latin typeface="Arial"/>
              </a:rPr>
              <a:t>Лангу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0746"/>
                </a:solidFill>
                <a:latin typeface="Corbel"/>
              </a:rPr>
              <a:t>Животное №10</a:t>
            </a: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pic>
        <p:nvPicPr>
          <p:cNvPr id="115" name="Содержимое 3" descr="Муха.jpg"/>
          <p:cNvPicPr/>
          <p:nvPr/>
        </p:nvPicPr>
        <p:blipFill>
          <a:blip r:embed="rId1"/>
          <a:stretch/>
        </p:blipFill>
        <p:spPr>
          <a:xfrm>
            <a:off x="1000080" y="1214280"/>
            <a:ext cx="6973920" cy="53406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1096560" y="5811840"/>
            <a:ext cx="38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0746"/>
                </a:solidFill>
                <a:latin typeface="Arial"/>
              </a:rPr>
              <a:t>Муха комнат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0746"/>
                </a:solidFill>
                <a:latin typeface="Corbel"/>
              </a:rPr>
              <a:t>Животное №11</a:t>
            </a:r>
            <a:endParaRPr b="1" lang="en-US" sz="4000" spc="-1" strike="noStrike">
              <a:solidFill>
                <a:srgbClr val="e30746"/>
              </a:solidFill>
              <a:latin typeface="Corbel"/>
            </a:endParaRPr>
          </a:p>
        </p:txBody>
      </p:sp>
      <p:pic>
        <p:nvPicPr>
          <p:cNvPr id="118" name="Содержимое 3" descr="Паук - крестовик.jpg"/>
          <p:cNvPicPr/>
          <p:nvPr/>
        </p:nvPicPr>
        <p:blipFill>
          <a:blip r:embed="rId1"/>
          <a:stretch/>
        </p:blipFill>
        <p:spPr>
          <a:xfrm>
            <a:off x="1042920" y="1285920"/>
            <a:ext cx="4070520" cy="5211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5635080" y="3298680"/>
            <a:ext cx="289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0746"/>
                </a:solidFill>
                <a:latin typeface="Arial"/>
              </a:rPr>
              <a:t>Пау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074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e30746"/>
                </a:solidFill>
                <a:latin typeface="Arial"/>
              </a:rPr>
              <a:t>- крестов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0746"/>
                </a:solidFill>
                <a:latin typeface="Corbel"/>
              </a:rPr>
              <a:t>Животное №12</a:t>
            </a: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pic>
        <p:nvPicPr>
          <p:cNvPr id="121" name="Содержимое 3" descr="Омар.jpg"/>
          <p:cNvPicPr/>
          <p:nvPr/>
        </p:nvPicPr>
        <p:blipFill>
          <a:blip r:embed="rId1"/>
          <a:stretch/>
        </p:blipFill>
        <p:spPr>
          <a:xfrm>
            <a:off x="1187280" y="1125360"/>
            <a:ext cx="4902480" cy="54514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6834240" y="3225960"/>
            <a:ext cx="140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0746"/>
                </a:solidFill>
                <a:latin typeface="Arial"/>
              </a:rPr>
              <a:t>Ом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0746"/>
                </a:solidFill>
                <a:latin typeface="Corbel"/>
              </a:rPr>
              <a:t>Животное №13</a:t>
            </a: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pic>
        <p:nvPicPr>
          <p:cNvPr id="124" name="Содержимое 3" descr="таракан.jpg"/>
          <p:cNvPicPr/>
          <p:nvPr/>
        </p:nvPicPr>
        <p:blipFill>
          <a:blip r:embed="rId1"/>
          <a:stretch/>
        </p:blipFill>
        <p:spPr>
          <a:xfrm>
            <a:off x="1027080" y="1214280"/>
            <a:ext cx="7116840" cy="53406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1096920" y="567540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0746"/>
                </a:solidFill>
                <a:latin typeface="Arial"/>
              </a:rPr>
              <a:t>Тарак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0746"/>
                </a:solidFill>
                <a:latin typeface="Corbel"/>
              </a:rPr>
              <a:t>Животное №14</a:t>
            </a: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pic>
        <p:nvPicPr>
          <p:cNvPr id="127" name="Содержимое 3" descr="Сенокосец.jpg"/>
          <p:cNvPicPr/>
          <p:nvPr/>
        </p:nvPicPr>
        <p:blipFill>
          <a:blip r:embed="rId1"/>
          <a:stretch/>
        </p:blipFill>
        <p:spPr>
          <a:xfrm>
            <a:off x="1042920" y="1052640"/>
            <a:ext cx="7358040" cy="55180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1744560" y="517032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0746"/>
                </a:solidFill>
                <a:latin typeface="Arial"/>
              </a:rPr>
              <a:t>Сенокос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0746"/>
                </a:solidFill>
                <a:latin typeface="Corbel"/>
              </a:rPr>
              <a:t>Животное №15</a:t>
            </a: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pic>
        <p:nvPicPr>
          <p:cNvPr id="130" name="Содержимое 3" descr="Скорпион.jpg"/>
          <p:cNvPicPr/>
          <p:nvPr/>
        </p:nvPicPr>
        <p:blipFill>
          <a:blip r:embed="rId1"/>
          <a:stretch/>
        </p:blipFill>
        <p:spPr>
          <a:xfrm>
            <a:off x="801720" y="1071720"/>
            <a:ext cx="7342200" cy="55069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261800" y="5667480"/>
            <a:ext cx="240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0746"/>
                </a:solidFill>
                <a:latin typeface="Arial"/>
              </a:rPr>
              <a:t>Скорпи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Схема 3" descr=""/>
          <p:cNvPicPr/>
          <p:nvPr/>
        </p:nvPicPr>
        <p:blipFill>
          <a:blip r:embed="rId1"/>
          <a:stretch/>
        </p:blipFill>
        <p:spPr>
          <a:xfrm>
            <a:off x="176040" y="566640"/>
            <a:ext cx="8766360" cy="57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214200"/>
            <a:ext cx="822960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orbel"/>
              </a:rPr>
              <a:t>Распределите предложенных вам животных на классы</a:t>
            </a: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Corbel"/>
            </a:endParaRPr>
          </a:p>
        </p:txBody>
      </p:sp>
      <p:pic>
        <p:nvPicPr>
          <p:cNvPr id="86" name="Схема 5" descr=""/>
          <p:cNvPicPr/>
          <p:nvPr/>
        </p:nvPicPr>
        <p:blipFill>
          <a:blip r:embed="rId2"/>
          <a:stretch/>
        </p:blipFill>
        <p:spPr>
          <a:xfrm>
            <a:off x="85680" y="1712880"/>
            <a:ext cx="895500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0746"/>
                </a:solidFill>
                <a:latin typeface="Corbel"/>
              </a:rPr>
              <a:t>Животное №1</a:t>
            </a: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pic>
        <p:nvPicPr>
          <p:cNvPr id="88" name="Содержимое 3" descr="Каракурт.jpg"/>
          <p:cNvPicPr/>
          <p:nvPr/>
        </p:nvPicPr>
        <p:blipFill>
          <a:blip r:embed="rId1"/>
          <a:stretch/>
        </p:blipFill>
        <p:spPr>
          <a:xfrm>
            <a:off x="857160" y="1285920"/>
            <a:ext cx="7432920" cy="51181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129280" y="509904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0746"/>
                </a:solidFill>
                <a:latin typeface="Arial"/>
              </a:rPr>
              <a:t>Каракур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0746"/>
                </a:solidFill>
                <a:latin typeface="Corbel"/>
              </a:rPr>
              <a:t>Животное №2</a:t>
            </a: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pic>
        <p:nvPicPr>
          <p:cNvPr id="91" name="Содержимое 3" descr="Креветка.jpg"/>
          <p:cNvPicPr/>
          <p:nvPr/>
        </p:nvPicPr>
        <p:blipFill>
          <a:blip r:embed="rId1"/>
          <a:stretch/>
        </p:blipFill>
        <p:spPr>
          <a:xfrm>
            <a:off x="928800" y="1143000"/>
            <a:ext cx="7119720" cy="53402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3976560" y="5315040"/>
            <a:ext cx="22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0746"/>
                </a:solidFill>
                <a:latin typeface="Arial"/>
              </a:rPr>
              <a:t>Креве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0746"/>
                </a:solidFill>
                <a:latin typeface="Corbel"/>
              </a:rPr>
              <a:t>Животное №3</a:t>
            </a: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pic>
        <p:nvPicPr>
          <p:cNvPr id="94" name="Содержимое 3" descr="Махаон.jpg"/>
          <p:cNvPicPr/>
          <p:nvPr/>
        </p:nvPicPr>
        <p:blipFill>
          <a:blip r:embed="rId1"/>
          <a:stretch/>
        </p:blipFill>
        <p:spPr>
          <a:xfrm>
            <a:off x="1000080" y="1214280"/>
            <a:ext cx="7151760" cy="53643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3112920" y="1282680"/>
            <a:ext cx="18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0746"/>
                </a:solidFill>
                <a:latin typeface="Arial"/>
              </a:rPr>
              <a:t>Маха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0746"/>
                </a:solidFill>
                <a:latin typeface="Corbel"/>
              </a:rPr>
              <a:t>Животное №4</a:t>
            </a: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pic>
        <p:nvPicPr>
          <p:cNvPr id="97" name="Содержимое 3" descr="Краб.jpg"/>
          <p:cNvPicPr/>
          <p:nvPr/>
        </p:nvPicPr>
        <p:blipFill>
          <a:blip r:embed="rId1"/>
          <a:stretch/>
        </p:blipFill>
        <p:spPr>
          <a:xfrm>
            <a:off x="642960" y="1285920"/>
            <a:ext cx="7758000" cy="50594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5561640" y="193032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0746"/>
                </a:solidFill>
                <a:latin typeface="Arial"/>
              </a:rPr>
              <a:t>Кра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0746"/>
                </a:solidFill>
                <a:latin typeface="Corbel"/>
              </a:rPr>
              <a:t>Животное №5</a:t>
            </a: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pic>
        <p:nvPicPr>
          <p:cNvPr id="100" name="Содержимое 3" descr="Клещ.png"/>
          <p:cNvPicPr/>
          <p:nvPr/>
        </p:nvPicPr>
        <p:blipFill>
          <a:blip r:embed="rId1"/>
          <a:stretch/>
        </p:blipFill>
        <p:spPr>
          <a:xfrm>
            <a:off x="1143000" y="1214280"/>
            <a:ext cx="6823080" cy="53326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1601640" y="5315040"/>
            <a:ext cx="13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0746"/>
                </a:solidFill>
                <a:latin typeface="Arial"/>
              </a:rPr>
              <a:t>Кле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0746"/>
                </a:solidFill>
                <a:latin typeface="Corbel"/>
              </a:rPr>
              <a:t>Животное №6</a:t>
            </a: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pic>
        <p:nvPicPr>
          <p:cNvPr id="103" name="Содержимое 3" descr="Тарантул.jpg"/>
          <p:cNvPicPr/>
          <p:nvPr/>
        </p:nvPicPr>
        <p:blipFill>
          <a:blip r:embed="rId1"/>
          <a:stretch/>
        </p:blipFill>
        <p:spPr>
          <a:xfrm>
            <a:off x="928800" y="1214280"/>
            <a:ext cx="7304040" cy="54784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1817280" y="5818320"/>
            <a:ext cx="229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0746"/>
                </a:solidFill>
                <a:latin typeface="Arial"/>
              </a:rPr>
              <a:t>Таранту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0746"/>
                </a:solidFill>
                <a:latin typeface="Corbel"/>
              </a:rPr>
              <a:t>Животное №7</a:t>
            </a:r>
            <a:endParaRPr b="1" lang="en-US" sz="4400" spc="-1" strike="noStrike">
              <a:solidFill>
                <a:srgbClr val="e30746"/>
              </a:solidFill>
              <a:latin typeface="Corbel"/>
            </a:endParaRPr>
          </a:p>
        </p:txBody>
      </p:sp>
      <p:pic>
        <p:nvPicPr>
          <p:cNvPr id="106" name="Содержимое 3" descr="Рак.bmp"/>
          <p:cNvPicPr/>
          <p:nvPr/>
        </p:nvPicPr>
        <p:blipFill>
          <a:blip r:embed="rId1"/>
          <a:stretch/>
        </p:blipFill>
        <p:spPr>
          <a:xfrm>
            <a:off x="928800" y="1143000"/>
            <a:ext cx="7307280" cy="54831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1529640" y="5530680"/>
            <a:ext cx="27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0746"/>
                </a:solidFill>
                <a:latin typeface="Arial"/>
              </a:rPr>
              <a:t>Речной р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0:54:38Z</dcterms:created>
  <dc:creator>user</dc:creator>
  <dc:description/>
  <dc:language>en-US</dc:language>
  <cp:lastModifiedBy>Speed_XP</cp:lastModifiedBy>
  <dcterms:modified xsi:type="dcterms:W3CDTF">2012-04-22T14:04:55Z</dcterms:modified>
  <cp:revision>14</cp:revision>
  <dc:subject/>
  <dc:title>Игра «Кто я?»</dc:title>
</cp:coreProperties>
</file>