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D8E-DDDA-4A75-8A55-32C7BC6D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910-5643-41AE-847A-E2DE86F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B11-417D-45F7-85A4-6A1ED881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44E-8BBC-43B2-A9AF-E2C40AC6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D87-589E-4D9E-8F59-3F6D062B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0D6-2EC7-4404-BEB3-ECE8E18F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71C-7619-424F-80A5-F835F5D7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97E-6ECF-4370-8782-B37BEC63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064-EF5B-428C-8397-516C0AD4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A72-D702-4BC5-BFDC-C2B998EA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9B4-DD95-476A-8091-96048AD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DE7-A48F-4E19-9404-B71C579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217B-4A0F-4A1B-A931-1AC3AE177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5" descr=""/>
          <p:cNvPicPr/>
          <p:nvPr/>
        </p:nvPicPr>
        <p:blipFill>
          <a:blip r:embed="rId1"/>
          <a:stretch/>
        </p:blipFill>
        <p:spPr>
          <a:xfrm>
            <a:off x="12600" y="1652760"/>
            <a:ext cx="91440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71720" y="0"/>
            <a:ext cx="692928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928880" y="214200"/>
            <a:ext cx="5572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564336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71680" y="0"/>
            <a:ext cx="77151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-638" t="0" r="0" b="0"/>
          <a:stretch/>
        </p:blipFill>
        <p:spPr>
          <a:xfrm>
            <a:off x="71280" y="209520"/>
            <a:ext cx="8929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643280" cy="623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1000080"/>
            <a:ext cx="44528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42920" y="0"/>
            <a:ext cx="3286080" cy="379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857760" y="0"/>
            <a:ext cx="3000240" cy="341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1000080" y="3500280"/>
            <a:ext cx="3868920" cy="300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5357880" y="3286080"/>
            <a:ext cx="344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-573" t="0" r="0" b="0"/>
          <a:stretch/>
        </p:blipFill>
        <p:spPr>
          <a:xfrm>
            <a:off x="71280" y="571680"/>
            <a:ext cx="9072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692928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28800" y="214200"/>
            <a:ext cx="70722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59:04Z</dcterms:created>
  <dc:creator>Admin</dc:creator>
  <dc:description/>
  <dc:language>en-US</dc:language>
  <cp:lastModifiedBy>Ирина</cp:lastModifiedBy>
  <dcterms:modified xsi:type="dcterms:W3CDTF">2013-02-24T16:37:38Z</dcterms:modified>
  <cp:revision>9</cp:revision>
  <dc:subject/>
  <dc:title>Слайд 1</dc:title>
</cp:coreProperties>
</file>