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D1C-7EEF-4BB1-B8E4-1A82D681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8A5-B179-41A1-BCCC-003B12E4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31A-0D95-4968-B24D-5622D6A5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118-CAF4-4638-8A86-EF094EC4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47A-A74D-4838-93B1-4B0C889F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8BA-3768-44B5-9042-54A69B1F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F0D-DE2F-40A0-8521-7AD64E79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1EA-0B80-45D7-A45B-40B6B9B7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2AE-3B67-48D7-855A-9351C445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7B9-D3CC-450D-93DA-053CEF7C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6B1-B378-4DE8-ADF0-FE1CDCBD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8E0-83E1-47C5-8D51-B526A55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F01C-E00A-4734-8C57-B3E99FC9C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5" descr=""/>
          <p:cNvPicPr/>
          <p:nvPr/>
        </p:nvPicPr>
        <p:blipFill>
          <a:blip r:embed="rId1"/>
          <a:stretch/>
        </p:blipFill>
        <p:spPr>
          <a:xfrm>
            <a:off x="12600" y="1652760"/>
            <a:ext cx="91440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71720" y="0"/>
            <a:ext cx="692928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928880" y="214200"/>
            <a:ext cx="5572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564336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71680" y="0"/>
            <a:ext cx="77151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-638" t="0" r="0" b="0"/>
          <a:stretch/>
        </p:blipFill>
        <p:spPr>
          <a:xfrm>
            <a:off x="71280" y="209520"/>
            <a:ext cx="8929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643280" cy="623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1000080"/>
            <a:ext cx="44528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42920" y="0"/>
            <a:ext cx="3286080" cy="379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857760" y="0"/>
            <a:ext cx="3000240" cy="341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1000080" y="3500280"/>
            <a:ext cx="3868920" cy="300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5357880" y="3286080"/>
            <a:ext cx="344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-573" t="0" r="0" b="0"/>
          <a:stretch/>
        </p:blipFill>
        <p:spPr>
          <a:xfrm>
            <a:off x="71280" y="571680"/>
            <a:ext cx="9072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692928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28800" y="214200"/>
            <a:ext cx="70722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59:04Z</dcterms:created>
  <dc:creator>Admin</dc:creator>
  <dc:description/>
  <dc:language>en-US</dc:language>
  <cp:lastModifiedBy>Ирина</cp:lastModifiedBy>
  <dcterms:modified xsi:type="dcterms:W3CDTF">2013-02-24T16:37:38Z</dcterms:modified>
  <cp:revision>9</cp:revision>
  <dc:subject/>
  <dc:title>Слайд 1</dc:title>
</cp:coreProperties>
</file>