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B6DC-AC29-4868-A43F-9383F0879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6F55-A274-46D8-AB31-10B180D8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D26D-50C9-4C7B-B1EB-51A65899F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5DE2-4AA5-4134-A141-6E62D5745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239C-EB7E-4749-A967-BDE35DC1C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39770-CA92-4F15-9BB7-05818AEE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DD3D-CA90-4CD0-B47B-C6211088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03126-CBCA-4183-BE92-46B0EC2A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F3BA3-7D28-4C36-AD5A-70E2B6E8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952B-369D-466E-861D-45374415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BB0E-837D-43AE-B90D-082F7FF8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B737-4BB3-47CD-8FCE-8DE140FB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CBDF-74D4-4A52-98C9-6775A12C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BC633-4B5F-4352-A968-9C8BDECF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121A0-3A69-4308-90AF-E4840680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BB8C-88D9-413A-A157-2F2162682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CF7A-563D-4727-B85D-51F6EB605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9B6D-5457-4EE8-AC96-D78AEE6F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6E75-CE7E-4D85-B237-ABB2961F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12D9-1600-4B3C-88D9-F85A7C36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7E11-3845-41C1-993F-ED01DB4E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135F-5639-481C-A473-A5BAB71F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1A07-5A0A-4BAD-BB94-C88E6040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BF4A-7A54-4EB4-B3FC-30572952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D7D9-6EC9-4649-BAC1-A3DB9E4978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A12F-B17C-40C9-8627-4100E25AAFE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ПЕДАГОГИКА</a:t>
            </a:r>
            <a:br>
              <a:rPr sz="38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                   СОТРУДНИЧЕСТВА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800" spc="-1" strike="noStrike">
                <a:solidFill>
                  <a:srgbClr val="330033"/>
                </a:solidFill>
                <a:latin typeface="Arial"/>
              </a:rPr>
              <a:t>ШКОЛА --- СЕМЬ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мья и школа – это берег и мор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берегу ребёнок делает свои первые шаг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учает первые уроки жизни, а по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д ним открывается целое необозримо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ре знаний, и курс в этом море 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кладывает школа. Это не значит, 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 должен совсем отказаться от бере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.А.Касси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Результаты сотрудничества</a:t>
            </a:r>
            <a:br>
              <a:rPr sz="38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для учителей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ышение уважения со стороны родителей, обще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лучшение межличностных отношений с родителя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ышение авторитета в глазах детей, родител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ышение удовлетворённости своей рабо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Результаты сотрудничества</a:t>
            </a:r>
            <a:br>
              <a:rPr sz="38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для родителей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шение самооценки и самоодобр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учшее знание школьных програм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веренность, что при обучении учитывает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я мнения и пожелания родител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щущение своей значимости в школ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шение компетентности родител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учшение общения с ребёнком вообще и в школе в част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Результаты сотрудничества</a:t>
            </a:r>
            <a:br>
              <a:rPr sz="38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для детей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2437920"/>
            <a:ext cx="77724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лучшение посещаемости школ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лучшение знаний, развитие уме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циальное станов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Формы общения школы и семьи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ностороннее (предполагает инициативу школы, включает записи в дневники и чёткие рекомендации родителям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вустороннее (предполагает инициативу как со стороны школы, так и со стороны семь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Подходы к организации </a:t>
            </a:r>
            <a:br>
              <a:rPr sz="38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взаимодействия школа — семья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адиционный (школа определяет роль родителей и их функции во взаимодействии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тнёрский (основан на совместной ответственности и её разделении между семьёй и школой в процессе обучения и социализации дете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Положения успешного взаимодействия с семьёй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нить, что все семьи имеют сильные сторо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ринимать ошибки семьи как ошибки социальной системы в создании возможностей обучения и компетентности семь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вать работу с семьями на основании всего положительного, что у них е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емиться, чтобы семья как можно меньше зависела от педагогов,психолог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Эффективные формы работы</a:t>
            </a:r>
            <a:br>
              <a:rPr sz="38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с родителями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рганизация родительских собраний (не монолог учителя, а взаимный обмен мнениями, идеями, совместный поиск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дительский лектор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матические конферен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дивидуальная рабо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ни открытых двер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зентация работы школы, лучшего семейного опы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N</cp:lastModifiedBy>
  <dcterms:modified xsi:type="dcterms:W3CDTF">2008-11-27T18:02:1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