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8B10-7150-46C1-AB25-1149AFF0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A35-D82E-4CD4-8605-DF905A03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60C-7C21-466F-B481-195DEC1F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199-A011-4516-8C89-152F1CB8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2CEB-AD89-4DB1-8B27-EAB249E8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827B-76B3-481E-B36B-0AA05D3D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E524-FAA4-42F2-9984-F17502CD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C213-230B-435B-B462-34C48203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A3BE-3417-4FA6-AC14-7CF61E97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0D5C-7D5A-4744-AB81-B8B59B6F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C5F3-E6CD-400B-B2D3-5CFD89EB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517-E306-4E64-8D31-28D08163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FF2D-84E3-4E16-9BCC-0C18D90D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A107-197B-45B9-BEC8-6E681A64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01E6-650C-438D-BC61-94B79749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CDFE-9DC2-46DE-BBF1-83C03DE0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C50B-A17E-43E6-87E8-29D7DF31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A632-387B-46BE-A9A1-554E3D19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8B8-6449-4BA3-8DAF-CB3DA2E5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31F-D9B2-4D8A-8FA6-C3F9995A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A01-EB12-4238-9FE6-BF399658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150-34B7-4078-AE3A-30D4E6B4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69A-A32F-41A5-8AFF-BDC0FF3B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6D7F-31CE-4EE3-857F-7E7C2755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AF0C-647C-4AB6-AB87-D714C534CC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7B9B-48DC-4FC7-ABC9-E1EE708F92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ПЕДАГОГИКА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                  СОТРУДНИЧЕСТВА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800" spc="-1" strike="noStrike">
                <a:solidFill>
                  <a:srgbClr val="330033"/>
                </a:solidFill>
                <a:latin typeface="Arial"/>
              </a:rPr>
              <a:t>ШКОЛА --- СЕМЬ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ья и школа – это берег и мо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берегу ребёнок делает свои первые шаг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ает первые уроки жизни, а по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 ним открывается целое необозримо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ре знаний, и курс в этом море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кладывает школа. Это не значит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должен совсем отказаться от бер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.А.Касс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Результаты сотрудничества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для учителе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ение уважения со стороны родителей, общ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лучшение межличностных отношений с родител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ение авторитета в глазах детей, род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ение удовлетворённости своей раб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Результаты сотрудничества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для родителе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самооценки и самоодобр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ее знание школьных програм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ренность, что при обучении учитывае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я мнения и пожелания род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щущение своей значимости в шко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компетентности род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е общения с ребёнком вообще и в школе в час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Результаты сотрудничества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для дете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7724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лучшение посещаемости шко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лучшение знаний, развитие ум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циальное стано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Формы общения школы и семь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стороннее (предполагает инициативу школы, включает записи в дневники и чёткие рекомендации родителя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устороннее (предполагает инициативу как со стороны школы, так и со стороны семь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Подходы к организации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взаимодействия школа — семь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адиционный (школа определяет роль родителей и их функции во взаимодействи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тнёрский (основан на совместной ответственности и её разделении между семьёй и школой в процессе обучения и социализации дет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Положения успешного взаимодействия с семьёй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ь, что все семьи имеют сильные сто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ринимать ошибки семьи как ошибки социальной системы в создании возможностей обучения и компетентности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работу с семьями на основании всего положительного, что у них 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миться, чтобы семья как можно меньше зависела от педагогов,психолог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Эффективные формы работы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с родителям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ация родительских собраний (не монолог учителя, а взаимный обмен мнениями, идеями, совместный поиск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ительский лектор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атические конферен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видуальная рабо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ни открытых двер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зентация работы школы, лучшего семейного опы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N</cp:lastModifiedBy>
  <dcterms:modified xsi:type="dcterms:W3CDTF">2008-11-27T18:02:1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